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7F7-D748-4BCD-AF58-ED8C2999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3B-C13C-4D4B-9962-CB11119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93A-25B9-439C-B14F-07029039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0C0-32DF-4A4C-A669-0FDE3C55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393-5F7C-4F9A-B939-8C85C6A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6E9-1E86-4AB2-AE3E-11C5B1F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9C4-0B5A-40F4-BC5D-B5A54080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BAD-2D5E-44DD-9E6B-01BC99F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239-FFB0-4CC5-8430-BE02285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396-779C-4858-BD5A-5E732FC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289-0074-4087-8216-0A7D965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434-D82B-42B9-9D4D-8943615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CBC-8827-43B4-9DAD-3CAAB080B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b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ной заочный конкурс электронных презентаций «Великая Победа», посвящённый 70-летию Побе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 1941 – 1945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ден Красной Звез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68980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Орден красной звезды"/>
          <p:cNvPicPr/>
          <p:nvPr/>
        </p:nvPicPr>
        <p:blipFill>
          <a:blip r:embed="rId2"/>
          <a:stretch/>
        </p:blipFill>
        <p:spPr>
          <a:xfrm>
            <a:off x="176040" y="1916280"/>
            <a:ext cx="1371600" cy="13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ден Красной Звез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Орден красной звезды"/>
          <p:cNvPicPr/>
          <p:nvPr/>
        </p:nvPicPr>
        <p:blipFill>
          <a:blip r:embed="rId1"/>
          <a:stretch/>
        </p:blipFill>
        <p:spPr>
          <a:xfrm>
            <a:off x="176040" y="1916280"/>
            <a:ext cx="137160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438200" y="2637000"/>
            <a:ext cx="770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ёдор Петрович дошёл до Берлина и расписался на стенах Рейхстаг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6337080" cy="47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63356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7164360" y="2133720"/>
            <a:ext cx="216396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56 году  Фёдор Петрович окончил партшколу в Воронеже. В 1959 году – заочно Высшую Партийную школ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пел поработать вторым секретарем райкома в Воробьёвском, Хохольском и Панинском района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313080" cy="20779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74" name="Picture 2" descr="Изображение 026"/>
          <p:cNvPicPr/>
          <p:nvPr/>
        </p:nvPicPr>
        <p:blipFill>
          <a:blip r:embed="rId2"/>
          <a:stretch/>
        </p:blipFill>
        <p:spPr>
          <a:xfrm>
            <a:off x="1116000" y="4508640"/>
            <a:ext cx="2170080" cy="1842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1962 год -  Эртильский район, председатель колхоза «Иск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ил. оплат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ратил штат конторских служащ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г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олхоз полностью погасил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все долги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нимаясь производством, Фёдор Петрович всегда помнил о простых люд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ой работы за двенадцать лет в «Искр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ли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ордена «Знак Почёт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едседателя. Колхоз построи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добротные ферм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Дом культур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комбинат бытового обслуживани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ась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целая улица новых дом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я колхозни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252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74 по 1984 год Фёдор Петрович -директор  совхоза «Красноармейский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а полей стала высок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ли постоянно хорошие урожа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дор Петрович считал своим глав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лгом рассчитаться с государством  продаж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ьскохозяйственной проду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856560" y="2276640"/>
            <a:ext cx="21794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заповед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еб государству не просто отправи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бы совхоз рассчитался первым досроч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него это был зак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же в 1976 году совхозу «Красноармейск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присужде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за наивысши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жай зерна в Эртильском райо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ереходящее Красное знам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ечатлял и размах жилищного строитель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75 году было сдано 37 кварти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Винникове в совхозе возникли целые улицы из добротных домов во всех шести отделениях хозяй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и заасфальтированы улицы центрального отде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34880" y="3933360"/>
            <a:ext cx="5672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з 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нникове  Фёдоре Петровиче, замечательном человеке, талантливом руководителе и смелом солдате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Изображение 034"/>
          <p:cNvPicPr/>
          <p:nvPr/>
        </p:nvPicPr>
        <p:blipFill>
          <a:blip r:embed="rId1"/>
          <a:stretch/>
        </p:blipFill>
        <p:spPr>
          <a:xfrm>
            <a:off x="6084720" y="2421000"/>
            <a:ext cx="2325960" cy="366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08000" y="170028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ной заочный конкурс электронных презентаций «Великая Победа», посвящённый 70-летию Победы </a:t>
            </a: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 1941 – 1945 гг.</a:t>
            </a: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250920" y="1557360"/>
            <a:ext cx="612144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н  брал  Берли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ази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лова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осительная систе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рното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то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уб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й сад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ша шко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DSC05049"/>
          <p:cNvPicPr/>
          <p:nvPr/>
        </p:nvPicPr>
        <p:blipFill>
          <a:blip r:embed="rId1"/>
          <a:stretch/>
        </p:blipFill>
        <p:spPr>
          <a:xfrm>
            <a:off x="5867280" y="2781360"/>
            <a:ext cx="2828880" cy="2124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годы руководства Фёдора Петровича была создана приличная производственная база: авто- и тракторный пар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отворный труд Фёдора Петровича в совхозе «Красноармейский» в 1976 году был оценён орденом Трудового Красного Знамен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народе – подлинным уважением и людской благодар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нников  Фёдор    Петрович   родился  19  июля  1921 года  в  селе  Елизаветов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евского  района  в  крестьянской  семье.  Семнадцатилетним юношей   начал  трудовую 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826920" y="3865680"/>
            <a:ext cx="1873440" cy="244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020000" y="3860640"/>
            <a:ext cx="185256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C:\Users\Gromov\AppData\Local\Microsoft\Windows\Temporary Internet Files\Content.Word\Изображение 024.jpg"/>
          <p:cNvPicPr/>
          <p:nvPr/>
        </p:nvPicPr>
        <p:blipFill>
          <a:blip r:embed="rId3"/>
          <a:stretch/>
        </p:blipFill>
        <p:spPr>
          <a:xfrm>
            <a:off x="3298680" y="3865680"/>
            <a:ext cx="32893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 ему   исполнилось 19 лет, он  был  призван  на  службу  в  Красную  Армию.  Первого  октября  1940  года  Фёдор принял  военную  присягу.  Служба  была  сложной, трудной, долг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Изображение 083"/>
          <p:cNvPicPr/>
          <p:nvPr/>
        </p:nvPicPr>
        <p:blipFill>
          <a:blip r:embed="rId1"/>
          <a:stretch/>
        </p:blipFill>
        <p:spPr>
          <a:xfrm>
            <a:off x="2278080" y="3902040"/>
            <a:ext cx="4094280" cy="2551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8208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долгих лет отдал он военной службе, из которых большая часть приходится на годы войны, которую Фёдор Петрович прошёл от первого до последнего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сентября 1941 по март 1944 года в качестве старшего моториста – регулировщика он воевал на Волховском фронте, а затем – на первом Белорусс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Изображение 047"/>
          <p:cNvPicPr/>
          <p:nvPr/>
        </p:nvPicPr>
        <p:blipFill>
          <a:blip r:embed="rId1"/>
          <a:stretch/>
        </p:blipFill>
        <p:spPr>
          <a:xfrm>
            <a:off x="4788000" y="1989000"/>
            <a:ext cx="3889440" cy="2275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ставе танкового экипажа он горел и терял фронтовых друзей, прошёл через всю войну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дважды ранен, но смерть щадила танкиста и он возвращался в ст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наград Федора Петровича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ордена Красной Звезд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ден «Знак Почета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аль «За взятие Берлина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аль «За Победу над Германи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6872400" y="2160720"/>
            <a:ext cx="216360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6872400" y="2160720"/>
            <a:ext cx="216360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даль «За боевые заслуги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медаль За боевые заслуги"/>
          <p:cNvPicPr/>
          <p:nvPr/>
        </p:nvPicPr>
        <p:blipFill>
          <a:blip r:embed="rId2"/>
          <a:stretch/>
        </p:blipFill>
        <p:spPr>
          <a:xfrm>
            <a:off x="826920" y="2492280"/>
            <a:ext cx="990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9:55:20Z</dcterms:created>
  <dc:creator>ws</dc:creator>
  <dc:description/>
  <dc:language>en-US</dc:language>
  <cp:lastModifiedBy>Gromov</cp:lastModifiedBy>
  <dcterms:modified xsi:type="dcterms:W3CDTF">2015-04-04T12:37:35Z</dcterms:modified>
  <cp:revision>19</cp:revision>
  <dc:subject/>
  <dc:title>Он  брал  Берлин.  </dc:title>
</cp:coreProperties>
</file>