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66F-74C3-4ECB-9BCB-BDBC9EE4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C14-2330-455C-888C-1BBFB756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1D69-16DC-40A3-B056-E3D36BE0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BD6-2BBA-4C00-9AF4-CF2218D2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8131-A9E1-417C-BD37-15ABF6D8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03D-6269-41A7-B5EB-3BE8B358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3868-857A-48FF-9C22-4B98FDAB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F863-8810-44F5-9CCC-52F8AF5D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B4F-54D4-4863-9BEF-EE178194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540C-D1ED-4339-8E0D-4634C722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8956-83D0-480D-B106-5CDE774F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A27-16E4-4254-9638-0E32700B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8270-DB04-4A8F-81C7-8CA1CF3256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b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астной заочный конкурс электронных презентаций «Великая Победа», посвящённый 70-летию Побе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Великой Отечественной войне 1941 – 1945 г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рден Красной Звез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1763640" y="2637000"/>
            <a:ext cx="5689800" cy="1655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Орден красной звезды"/>
          <p:cNvPicPr/>
          <p:nvPr/>
        </p:nvPicPr>
        <p:blipFill>
          <a:blip r:embed="rId2"/>
          <a:stretch/>
        </p:blipFill>
        <p:spPr>
          <a:xfrm>
            <a:off x="176040" y="1916280"/>
            <a:ext cx="1371600" cy="132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рден Красной Звез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Орден красной звезды"/>
          <p:cNvPicPr/>
          <p:nvPr/>
        </p:nvPicPr>
        <p:blipFill>
          <a:blip r:embed="rId1"/>
          <a:stretch/>
        </p:blipFill>
        <p:spPr>
          <a:xfrm>
            <a:off x="176040" y="1916280"/>
            <a:ext cx="1371600" cy="1320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438200" y="2637000"/>
            <a:ext cx="7705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177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ёдор Петрович дошёл до Берлина и расписался на стенах Рейхстага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6337080" cy="470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2"/>
          <a:stretch/>
        </p:blipFill>
        <p:spPr>
          <a:xfrm>
            <a:off x="2556000" y="1700280"/>
            <a:ext cx="633564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Изображение 034"/>
          <p:cNvPicPr/>
          <p:nvPr/>
        </p:nvPicPr>
        <p:blipFill>
          <a:blip r:embed="rId1"/>
          <a:stretch/>
        </p:blipFill>
        <p:spPr>
          <a:xfrm>
            <a:off x="7164360" y="2133720"/>
            <a:ext cx="2163960" cy="39322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1956 году  Фёдор Петрович окончил партшколу в Воронеже. В 1959 году – заочно Высшую Партийную школ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пел поработать вторым секретарем райкома в Воробьёвском, Хохольском и Панинском районах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5076720" y="4292640"/>
            <a:ext cx="3313080" cy="20779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pic>
        <p:nvPicPr>
          <p:cNvPr id="74" name="Picture 2" descr="Изображение 026"/>
          <p:cNvPicPr/>
          <p:nvPr/>
        </p:nvPicPr>
        <p:blipFill>
          <a:blip r:embed="rId2"/>
          <a:stretch/>
        </p:blipFill>
        <p:spPr>
          <a:xfrm>
            <a:off x="1116000" y="4508640"/>
            <a:ext cx="2170080" cy="184284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184464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1962 год -  Эртильский район, председатель колхоза «Искр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величил. оплату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кратил штат конторских служащ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рез </a:t>
            </a: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три год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олхоз полностью погасил </a:t>
            </a: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все долги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нимаясь производством, Фёдор Петрович всегда помнил о простых люд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ценкой работы за двенадцать лет в «Искр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ли </a:t>
            </a: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три ордена «Знак Почёта»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председателя. Колхоз построи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три добротные фермы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Дом культур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комбинат бытового обслуживания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явилась </a:t>
            </a:r>
            <a:r>
              <a:rPr b="1" lang="ru-RU" sz="2800" spc="-1" strike="noStrike">
                <a:solidFill>
                  <a:srgbClr val="fe2424"/>
                </a:solidFill>
                <a:latin typeface="Times New Roman"/>
              </a:rPr>
              <a:t>целая улица новых домо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для колхозник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-252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10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 1974 по 1984 год Фёдор Петрович -директор  совхоза «Красноармейский»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10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льтура полей стала высока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10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учали постоянно хорошие урожа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10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едор Петрович считал своим главны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лгом рассчитаться с государством  продаж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ельскохозяйственной продук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6856560" y="2276640"/>
            <a:ext cx="217944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ая заповед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хлеб государству не просто отправи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чтобы совхоз рассчитался первым досроч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ля него это был зако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же в 1976 году совхозу «Красноармейский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о присуждено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 за наивысший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рожай зерна в Эртильском район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ереходящее Красное знам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6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печатлял и размах жилищного строитель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106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1975 году было сдано 37 кварти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106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Винникове в совхозе возникли целые улицы из добротных домов во всех шести отделениях хозяй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106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и заасфальтированы улицы центрального отдел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34880" y="3933360"/>
            <a:ext cx="5672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ссказ о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нникове  Фёдоре Петровиче, замечательном человеке, талантливом руководителе и смелом солдате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Изображение 034"/>
          <p:cNvPicPr/>
          <p:nvPr/>
        </p:nvPicPr>
        <p:blipFill>
          <a:blip r:embed="rId1"/>
          <a:stretch/>
        </p:blipFill>
        <p:spPr>
          <a:xfrm>
            <a:off x="6084720" y="2421000"/>
            <a:ext cx="2325960" cy="3665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08000" y="1700280"/>
            <a:ext cx="82296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ластной заочный конкурс электронных презентаций «Великая Победа», посвящённый 70-летию Победы </a:t>
            </a:r>
            <a:endParaRPr b="0" lang="en-US" sz="2400" spc="-1" strike="noStrike">
              <a:solidFill>
                <a:srgbClr val="b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Великой Отечественной войне 1941 – 1945 гг.</a:t>
            </a:r>
            <a:endParaRPr b="0" lang="en-US" sz="2400" spc="-1" strike="noStrike">
              <a:solidFill>
                <a:srgbClr val="b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b00000"/>
              </a:solidFill>
              <a:latin typeface="Times New Roman"/>
            </a:endParaRPr>
          </a:p>
        </p:txBody>
      </p:sp>
      <p:sp>
        <p:nvSpPr>
          <p:cNvPr id="46" name="WordArt 10"/>
          <p:cNvSpPr txBox="1"/>
          <p:nvPr/>
        </p:nvSpPr>
        <p:spPr>
          <a:xfrm>
            <a:off x="250920" y="1557360"/>
            <a:ext cx="6121440" cy="25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Impact"/>
              </a:rPr>
              <a:t>Он  брал  Берлин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роен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газины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лова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осительная систем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рното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то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луб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тский сад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наша школ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DSC05049"/>
          <p:cNvPicPr/>
          <p:nvPr/>
        </p:nvPicPr>
        <p:blipFill>
          <a:blip r:embed="rId1"/>
          <a:stretch/>
        </p:blipFill>
        <p:spPr>
          <a:xfrm>
            <a:off x="5867280" y="2781360"/>
            <a:ext cx="2828880" cy="21240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 годы руководства Фёдора Петровича была создана приличная производственная база: авто- и тракторный пар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лодотворный труд Фёдора Петровича в совхозе «Красноармейский» в 1976 году был оценён орденом Трудового Красного Знамени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 в народе – подлинным уважением и людской благодарност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69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нников  Фёдор    Петрович   родился  19  июля  1921 года  в  селе  Елизаветовк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робьевского  района  в  крестьянской  семье.  Семнадцатилетним юношей   начал  трудовую  дея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826920" y="3865680"/>
            <a:ext cx="1873440" cy="2447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020000" y="3860640"/>
            <a:ext cx="1852560" cy="244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C:\Users\Gromov\AppData\Local\Microsoft\Windows\Temporary Internet Files\Content.Word\Изображение 024.jpg"/>
          <p:cNvPicPr/>
          <p:nvPr/>
        </p:nvPicPr>
        <p:blipFill>
          <a:blip r:embed="rId3"/>
          <a:stretch/>
        </p:blipFill>
        <p:spPr>
          <a:xfrm>
            <a:off x="3298680" y="3865680"/>
            <a:ext cx="328932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гда  ему   исполнилось 19 лет, он  был  призван  на  службу  в  Красную  Армию.  Первого  октября  1940  года  Фёдор принял  военную  присягу.  Служба  была  сложной, трудной, долгой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Изображение 083"/>
          <p:cNvPicPr/>
          <p:nvPr/>
        </p:nvPicPr>
        <p:blipFill>
          <a:blip r:embed="rId1"/>
          <a:stretch/>
        </p:blipFill>
        <p:spPr>
          <a:xfrm>
            <a:off x="2278080" y="3902040"/>
            <a:ext cx="4094280" cy="255132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820872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мь долгих лет отдал он военной службе, из которых большая часть приходится на годы войны, которую Фёдор Петрович прошёл от первого до последнего д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-360" y="1916280"/>
            <a:ext cx="47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сентября 1941 по март 1944 года в качестве старшего моториста – регулировщика он воевал на Волховском фронте, а затем – на первом Белорусск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Изображение 047"/>
          <p:cNvPicPr/>
          <p:nvPr/>
        </p:nvPicPr>
        <p:blipFill>
          <a:blip r:embed="rId1"/>
          <a:stretch/>
        </p:blipFill>
        <p:spPr>
          <a:xfrm>
            <a:off x="4788000" y="1989000"/>
            <a:ext cx="3889440" cy="227520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составе танкового экипажа он горел и терял фронтовых друзей, прошёл через всю войну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ыл дважды ранен, но смерть щадила танкиста и он возвращался в стр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еди наград Федора Петровича  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ва ордена Красной Звезд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рден «Знак Почета»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аль «За взятие Берлина»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даль «За Победу над Германи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Великой Отечественной войне»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" descr="Изображение 034"/>
          <p:cNvPicPr/>
          <p:nvPr/>
        </p:nvPicPr>
        <p:blipFill>
          <a:blip r:embed="rId1"/>
          <a:stretch/>
        </p:blipFill>
        <p:spPr>
          <a:xfrm>
            <a:off x="6872400" y="2160720"/>
            <a:ext cx="2163600" cy="39322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Изображение 034"/>
          <p:cNvPicPr/>
          <p:nvPr/>
        </p:nvPicPr>
        <p:blipFill>
          <a:blip r:embed="rId1"/>
          <a:stretch/>
        </p:blipFill>
        <p:spPr>
          <a:xfrm>
            <a:off x="6872400" y="2160720"/>
            <a:ext cx="2163600" cy="3932280"/>
          </a:xfrm>
          <a:prstGeom prst="rect">
            <a:avLst/>
          </a:prstGeom>
          <a:ln w="28440">
            <a:solidFill>
              <a:srgbClr val="80000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едаль «За боевые заслуги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медаль За боевые заслуги"/>
          <p:cNvPicPr/>
          <p:nvPr/>
        </p:nvPicPr>
        <p:blipFill>
          <a:blip r:embed="rId2"/>
          <a:stretch/>
        </p:blipFill>
        <p:spPr>
          <a:xfrm>
            <a:off x="826920" y="2492280"/>
            <a:ext cx="990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4T09:55:20Z</dcterms:created>
  <dc:creator>ws</dc:creator>
  <dc:description/>
  <dc:language>en-US</dc:language>
  <cp:lastModifiedBy>Gromov</cp:lastModifiedBy>
  <dcterms:modified xsi:type="dcterms:W3CDTF">2015-04-04T12:37:35Z</dcterms:modified>
  <cp:revision>19</cp:revision>
  <dc:subject/>
  <dc:title>Он  брал  Берлин.  </dc:title>
</cp:coreProperties>
</file>