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509B-A0BC-4E97-8FA1-41C09773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9D75-6EBE-44A3-8165-8A19D76C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46A-D05C-431A-817B-366EC39B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F0B-A32C-4339-A474-CAE680D4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A19-E60C-4890-B031-2D89D6C2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A5DC-9B29-4505-9443-7092E92A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6B59-783A-49D2-9E4C-6C74A877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5D46-349E-4914-BB9C-545BC804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441F-3A4C-4939-A264-0C919DA1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AEA-DDEC-44BD-9F5B-94C49829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342-F453-4438-B6E5-ABF0785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AC1C-0871-48A5-B620-011326A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8F0E-4456-4964-B43D-D8F3EF186F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0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«О правилах дорожного движения с Робокаром По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8212"/>
          <p:cNvPicPr/>
          <p:nvPr/>
        </p:nvPicPr>
        <p:blipFill>
          <a:blip r:embed="rId1"/>
          <a:stretch/>
        </p:blipFill>
        <p:spPr>
          <a:xfrm>
            <a:off x="2819520" y="1447920"/>
            <a:ext cx="3504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Движение пешеходов запрещен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орог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4952880"/>
            <a:ext cx="784872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Осторожно, ДЕТ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40997_deti_3"/>
          <p:cNvPicPr/>
          <p:nvPr/>
        </p:nvPicPr>
        <p:blipFill>
          <a:blip r:embed="rId1"/>
          <a:stretch/>
        </p:blipFill>
        <p:spPr>
          <a:xfrm>
            <a:off x="3276720" y="2514600"/>
            <a:ext cx="35049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95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Светофорное регулиров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hello_html_78f301b1 (1)"/>
          <p:cNvPicPr/>
          <p:nvPr/>
        </p:nvPicPr>
        <p:blipFill>
          <a:blip r:embed="rId1"/>
          <a:stretch/>
        </p:blipFill>
        <p:spPr>
          <a:xfrm>
            <a:off x="3048120" y="1143000"/>
            <a:ext cx="29718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0" y="4419360"/>
            <a:ext cx="457200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znatok_dorozhnykh_pravil"/>
          <p:cNvPicPr/>
          <p:nvPr/>
        </p:nvPicPr>
        <p:blipFill>
          <a:blip r:embed="rId1"/>
          <a:stretch/>
        </p:blipFill>
        <p:spPr>
          <a:xfrm>
            <a:off x="5943600" y="21337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547da4165288f402d749ada0f2e1be8"/>
          <p:cNvPicPr/>
          <p:nvPr/>
        </p:nvPicPr>
        <p:blipFill>
          <a:blip r:embed="rId2"/>
          <a:stretch/>
        </p:blipFill>
        <p:spPr>
          <a:xfrm>
            <a:off x="685800" y="20574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ило 1</a:t>
            </a: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«Дорога только для машин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авило 2</a:t>
            </a:r>
            <a:br>
              <a:rPr sz="36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Тротуар для пешеходов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3504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3</a:t>
            </a:r>
            <a:br>
              <a:rPr sz="32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Переходи дорогу правильно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14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4876920" y="220968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авило 4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е играй около дорог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2743200" y="1600200"/>
            <a:ext cx="32767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бери зна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1"/>
          <a:stretch/>
        </p:blipFill>
        <p:spPr>
          <a:xfrm>
            <a:off x="5791320" y="3089160"/>
            <a:ext cx="1676160" cy="99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352680" y="3048120"/>
            <a:ext cx="1143000" cy="1676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5943600" y="1309680"/>
            <a:ext cx="1676520" cy="1433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04831159"/>
          <p:cNvPicPr/>
          <p:nvPr/>
        </p:nvPicPr>
        <p:blipFill>
          <a:blip r:embed="rId4"/>
          <a:stretch/>
        </p:blipFill>
        <p:spPr>
          <a:xfrm>
            <a:off x="609480" y="3117960"/>
            <a:ext cx="1676520" cy="122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324000" y="1371600"/>
            <a:ext cx="2209680" cy="1219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орог"/>
          <p:cNvPicPr/>
          <p:nvPr/>
        </p:nvPicPr>
        <p:blipFill>
          <a:blip r:embed="rId6"/>
          <a:stretch/>
        </p:blipFill>
        <p:spPr>
          <a:xfrm>
            <a:off x="3200400" y="1371600"/>
            <a:ext cx="1104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181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ожный знак «Пешеходный перех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erehod"/>
          <p:cNvPicPr/>
          <p:nvPr/>
        </p:nvPicPr>
        <p:blipFill>
          <a:blip r:embed="rId1"/>
          <a:stretch/>
        </p:blipFill>
        <p:spPr>
          <a:xfrm>
            <a:off x="3124080" y="2286000"/>
            <a:ext cx="2438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02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рожный знак «Пункт первой медицинской помощ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7-1"/>
          <p:cNvPicPr/>
          <p:nvPr/>
        </p:nvPicPr>
        <p:blipFill>
          <a:blip r:embed="rId1"/>
          <a:stretch/>
        </p:blipFill>
        <p:spPr>
          <a:xfrm>
            <a:off x="3581280" y="19810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рожный знак «Место стоян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905778ca8b603d1f4b8ce6757e757dcf"/>
          <p:cNvPicPr/>
          <p:nvPr/>
        </p:nvPicPr>
        <p:blipFill>
          <a:blip r:embed="rId1"/>
          <a:stretch/>
        </p:blipFill>
        <p:spPr>
          <a:xfrm>
            <a:off x="3657600" y="1828800"/>
            <a:ext cx="2666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9:36:43Z</dcterms:created>
  <dc:creator>Лена</dc:creator>
  <dc:description/>
  <dc:language>en-US</dc:language>
  <cp:lastModifiedBy>Лена</cp:lastModifiedBy>
  <dcterms:modified xsi:type="dcterms:W3CDTF">2017-10-11T17:15:5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