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5E7-C4F3-4642-A65B-A923EBF0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6DA-AF1B-454D-B089-AA860C3A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31A-0952-400F-96C4-61F14994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CAC-C8D8-44A5-B2F9-E4428076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E5E-42D2-4388-8F78-12E1953B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141-A4B6-44B2-A58B-70EEEBF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53A-0341-4B69-AE0E-99C35222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8C9-21A9-41D4-B4D5-9F5F8761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3BB-B8E8-4122-A031-78B224FB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E17-4B02-48F7-B188-04788DE7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D49-A10D-43A3-B46E-9D756822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206-FC26-418F-86E9-6F5DFD6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5FC-2AEA-48DB-B5D2-73FB13128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О правилах дорожного движения с Робокаром По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8212"/>
          <p:cNvPicPr/>
          <p:nvPr/>
        </p:nvPicPr>
        <p:blipFill>
          <a:blip r:embed="rId1"/>
          <a:stretch/>
        </p:blipFill>
        <p:spPr>
          <a:xfrm>
            <a:off x="2819520" y="1447920"/>
            <a:ext cx="3504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Движение пешеходов запреще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орог"/>
          <p:cNvPicPr/>
          <p:nvPr/>
        </p:nvPicPr>
        <p:blipFill>
          <a:blip r:embed="rId1"/>
          <a:stretch/>
        </p:blipFill>
        <p:spPr>
          <a:xfrm>
            <a:off x="3352680" y="152388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952880"/>
            <a:ext cx="78487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Осторожно, ДЕ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40997_deti_3"/>
          <p:cNvPicPr/>
          <p:nvPr/>
        </p:nvPicPr>
        <p:blipFill>
          <a:blip r:embed="rId1"/>
          <a:stretch/>
        </p:blipFill>
        <p:spPr>
          <a:xfrm>
            <a:off x="3276720" y="2514600"/>
            <a:ext cx="3504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Светофорное регул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ello_html_78f301b1 (1)"/>
          <p:cNvPicPr/>
          <p:nvPr/>
        </p:nvPicPr>
        <p:blipFill>
          <a:blip r:embed="rId1"/>
          <a:stretch/>
        </p:blipFill>
        <p:spPr>
          <a:xfrm>
            <a:off x="3048120" y="1143000"/>
            <a:ext cx="29718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4419360"/>
            <a:ext cx="4572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znatok_dorozhnykh_pravil"/>
          <p:cNvPicPr/>
          <p:nvPr/>
        </p:nvPicPr>
        <p:blipFill>
          <a:blip r:embed="rId1"/>
          <a:stretch/>
        </p:blipFill>
        <p:spPr>
          <a:xfrm>
            <a:off x="5943600" y="21337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547da4165288f402d749ada0f2e1be8"/>
          <p:cNvPicPr/>
          <p:nvPr/>
        </p:nvPicPr>
        <p:blipFill>
          <a:blip r:embed="rId2"/>
          <a:stretch/>
        </p:blipFill>
        <p:spPr>
          <a:xfrm>
            <a:off x="685800" y="2057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ило 1</a:t>
            </a:r>
            <a:br>
              <a:rPr sz="36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Дорога только для маш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ило 2</a:t>
            </a:r>
            <a:br>
              <a:rPr sz="36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Тротуар для пешеходов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3504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о 3</a:t>
            </a: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Переходи дорогу правильно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о 4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 играй около доро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бери зна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5791320" y="3089160"/>
            <a:ext cx="167616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352680" y="30481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5943600" y="130968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04831159"/>
          <p:cNvPicPr/>
          <p:nvPr/>
        </p:nvPicPr>
        <p:blipFill>
          <a:blip r:embed="rId4"/>
          <a:stretch/>
        </p:blipFill>
        <p:spPr>
          <a:xfrm>
            <a:off x="609480" y="3117960"/>
            <a:ext cx="167652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324000" y="1371600"/>
            <a:ext cx="220968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орог"/>
          <p:cNvPicPr/>
          <p:nvPr/>
        </p:nvPicPr>
        <p:blipFill>
          <a:blip r:embed="rId6"/>
          <a:stretch/>
        </p:blipFill>
        <p:spPr>
          <a:xfrm>
            <a:off x="3200400" y="1371600"/>
            <a:ext cx="110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рожный знак «Пешеходный перех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erehod"/>
          <p:cNvPicPr/>
          <p:nvPr/>
        </p:nvPicPr>
        <p:blipFill>
          <a:blip r:embed="rId1"/>
          <a:stretch/>
        </p:blipFill>
        <p:spPr>
          <a:xfrm>
            <a:off x="3124080" y="228600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рожный знак «Пункт перв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7-1"/>
          <p:cNvPicPr/>
          <p:nvPr/>
        </p:nvPicPr>
        <p:blipFill>
          <a:blip r:embed="rId1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Место стоя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905778ca8b603d1f4b8ce6757e757dcf"/>
          <p:cNvPicPr/>
          <p:nvPr/>
        </p:nvPicPr>
        <p:blipFill>
          <a:blip r:embed="rId1"/>
          <a:stretch/>
        </p:blipFill>
        <p:spPr>
          <a:xfrm>
            <a:off x="3657600" y="182880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9:36:43Z</dcterms:created>
  <dc:creator>Лена</dc:creator>
  <dc:description/>
  <dc:language>en-US</dc:language>
  <cp:lastModifiedBy>Лена</cp:lastModifiedBy>
  <dcterms:modified xsi:type="dcterms:W3CDTF">2017-10-11T17:15:5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