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637-E7A8-4ADC-814B-7DD287CB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AEE-A040-4050-892A-75A0A01C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A74-09FE-4E53-B5FC-F55CE1FE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DC7-ECE8-41CB-BB2C-F36BA5D9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0E21-7A89-440B-ABF4-5F2DCF1F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BECF-93D4-4D3A-B2B4-C47736B3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7E52-142E-4481-B97A-5D9F24C0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C7FA-B173-49D4-B02D-F194EDC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88BC-9965-4057-802C-F5D519D5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FF78-ACB7-4DE9-9D99-B1128E3E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B65C-0864-4CD5-B9DC-6371FFE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E7C-AB46-4E79-B846-584BAB82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B7F5-F8AA-41C7-AFE8-867D8D49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C892-C018-40E8-A050-230FFF1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86D-1B9C-46D8-B738-C6D61047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635F-7DCC-4800-A954-A7C93091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1FAB-6C44-449D-BF52-272A7C4F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870E-BEDC-435E-AB22-C2469972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F731-68B0-41A6-B9A1-A5A2CCC8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CE2BD-48F7-49B0-AF1A-24827CA6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1338-A260-4DBA-9506-DF2B0B34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8FB9-55EE-4A61-9224-A08E9DA3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665-E57D-4D29-966B-9B0F1947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6110-2770-47E3-96D5-D055CE1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EDA8-8C15-48E3-AACA-B58897DB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3FAA-0860-470E-9AAE-09C1BE33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E73D-50E6-4EC7-8317-192B8263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2D82-7331-4252-A71C-61961016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1E48-EC52-485C-B10C-C899DB5D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47F65-CACF-4A2C-AB7D-918D0DFF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56B5-D70B-4445-8D48-E42E9E90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7560-8941-4CBD-800B-85D8F53F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F0B5-7BA4-4397-937A-01159D0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211-DBF6-46C7-B305-B3EB3F80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1D7C3-FDF3-4090-96AF-0BB34A20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42816-75D7-453E-91E7-67471A46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2B2B-91D8-4ABF-99D7-203A4F9B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F6062-6466-4229-AE38-3EAD15B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B660-71DD-4CE6-9120-00A6DCB9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B95F-DA41-4B22-B122-485673E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7778-B8EE-4091-B388-DA79D67A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0A0AD-181A-43FD-84EA-2C9612F7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5D6B-14E7-4D61-A566-0ABFF96C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3DB6-1B49-4251-BBCD-96EE5341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0FF-F5E0-4700-8A4E-A07708E9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9AA40-BB7C-4E8A-9F35-9E383975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22C9D-1FE5-4247-B611-6499086A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352F-4489-4DEB-A27D-7B3DCC5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3843-5346-47A9-AFE9-3F02DDE1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44B17-8934-4969-8B41-7FCCDC0F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1B301-B7E3-476F-B47C-FC45416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0618-7585-4AB3-8527-1B17395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0A147-90E7-4873-8105-6A11F9E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248B8-FCE4-43D2-9822-F02B4A0D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4DC0-D6D2-43A3-A06D-FBE80B3B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991-598F-465E-B059-DAAF4E48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36630-DF25-4D74-BD32-FA1AA0D3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805D-F0AF-49BD-8ACE-ECDF8A9D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134BF-EA92-45D4-9EF2-16F37AEF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62B0D-3B41-4EF6-888F-DAF47D71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414AC-E036-4758-AB03-76FA663D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161B0-14EE-4A2E-AED8-70D8FD55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96369-02D4-4023-BE64-10CE782C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A25A6-19B7-41D6-82F4-557C3374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76690-F03E-4429-9F76-5C262009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19A80-5E48-49DE-AAF9-D328BF01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B95-19B8-4A21-B3B3-A31059E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E103D-9ED3-49E8-8AB2-AB7BB766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3FC53-498A-4697-8EE7-F71950F4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7CB3-3B45-49DD-993F-B712CAB4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984CB-03A5-43A9-9E58-C686C98C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411CE-7BBF-46CE-B9F0-C1D80BDB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1CBFD-AB08-4DF4-BC56-FD27FC2C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8739B-4DEB-41C4-9EFE-B30BA88F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14036-B151-4F96-812A-F5F5D699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7511-F4F1-4AE8-AC36-A5444FB8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07193-5A66-4892-8DEC-568EC598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379-BE7B-45CF-8F1C-3FB398CA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1372-6965-4506-AD5C-18218F5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F5D6D-158A-4504-873C-5434BEC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62676-07B1-45DC-B7B3-88642090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8F354-02D2-4D7D-8403-0F14819B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C065B-E63E-468E-93BC-14D60B51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F3C-6FEC-4DA1-A454-62A551D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36A-3ECE-44F5-8B91-E39DF99B0B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3F1-E848-4295-98C4-6D8F1F6386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10F4-2B26-4C89-B3EC-ECB5F5E01B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7886-83F3-485B-A181-2CA9AA7083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8E32-515D-440A-A0B9-B85F1C21439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CC67-3717-4C15-9C1D-C23927F75B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C26F-C4CA-4E59-A646-455B079C68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407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работка адаптированной образовательной программы  дошкольного образования для детей с ограниченными возможностями (ОВЗ) по нозологической группе: слабослышащих детей и детей, после кохлеарной имплантации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7407360" cy="1224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спитатели: Чемакина В.С., Марченко Л.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БДОУ «Детский сад № 12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. Торжок, Тверская обла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476360" y="5589720"/>
            <a:ext cx="4203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C:\Users\Борис\Desktop\Развитие-детей-с-нарушением-слуха-768x484.jpg"/>
          <p:cNvPicPr/>
          <p:nvPr/>
        </p:nvPicPr>
        <p:blipFill>
          <a:blip r:embed="rId1"/>
          <a:stretch/>
        </p:blipFill>
        <p:spPr>
          <a:xfrm>
            <a:off x="6345360" y="1484280"/>
            <a:ext cx="2073240" cy="1306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238040" y="309240"/>
            <a:ext cx="7623000" cy="628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держатель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Общие положени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Описание образовательной деятельности в соответствии с направлениями развития ребёнка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1. Младенческий возра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 Дошкольный возра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1 Социально-коммуникативн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2 Познавательн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3 Речев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4 Художественно-эстетическ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5 Физическ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 Описание вариативных форм, способов, методов и средств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Особенности образо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Взаимодействие взрослых с деть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Способы и направления поддержки детской инициатив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Взаимодействие педагогического коллектива с семьями воспитанников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1. По направлениям:  участие в жизни ДОУ, педагогическое просвещение родителей, совместная творческая деятельност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2. Коррекционно-реабилитационная и психолого-педагогическая работа с семьями детей с нарушениями слуха (слабослышащими и дети, перенесшие кохлеарную имплантацию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8. Психологическое сопровождение образовательного проц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9. Логопедическое сопровождение образовательного проц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0. Коррекционно-развивающее сопровождение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C:\Users\Борис\Desktop\i2.jpg"/>
          <p:cNvPicPr/>
          <p:nvPr/>
        </p:nvPicPr>
        <p:blipFill>
          <a:blip r:embed="rId1"/>
          <a:stretch/>
        </p:blipFill>
        <p:spPr>
          <a:xfrm>
            <a:off x="7164360" y="3860640"/>
            <a:ext cx="1609920" cy="10843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3"/>
          <p:cNvSpPr/>
          <p:nvPr/>
        </p:nvSpPr>
        <p:spPr>
          <a:xfrm>
            <a:off x="1187280" y="260280"/>
            <a:ext cx="770580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риемы работы со слабослышащими детьми и детьми, после кохлеарной имплант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нетическая ритмика, артикуляционные и дыхательные упражнения, игры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ка звуков по методике Слезиной Н. Ф.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экрана, обучение слухозрительному и слуховому восприятию реч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ы развития активного и пассивного словаря: тематические альбомы, карточки, дидактические игры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имуляция речевой деятельности на режимных моментах и при непосредственной образовательной деятельност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ктильная (ручная) азбук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онимания слабослышащими детьми слов и словосочетаний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чное овладение звуковым составом слов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Ограниченность словарного запаса.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нимание переносного смысла выражения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ое значение для таких детей приобретает зрительное восприятие речи.  Чтение и анализ прочитанного текста в значительной степени способствуют компенсации недостаточной речевой практики, влияют на развитие и совершенствование устной, обогащают словарный запас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15640" y="468000"/>
            <a:ext cx="7651800" cy="6119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и коррекционно-реабилитационной и психолого-педагогической работы с семьями детей с нарушениями слуха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слабослышащими детьми и дети, перенесшие кохлеарную имплантацию):</a:t>
            </a:r>
            <a:r>
              <a:rPr b="0" lang="ru-RU" sz="15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беспечение адекватных микро социальных условий развития ребенка с нарушениями слуха в семь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реодоление состояния фрустрации и оптимизация самосознания родителе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формирование позитивного отношения близких лиц к ребенку с нарушениями слуха и оптимистического взгляда в будуще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достижения целей необходимо решить следующие задачи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формировать у родителей мотивацию к взаимодействию со специалистами образовательной организа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установить причины, дестабилизирующие внутрисемейную атмосферу и межличностные отношения и способствовать их коррек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выявить социально-психологические внутрисемейные факторы, способствующие гармоничному развитию ребенка с нарушениями слуха в семь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добиваться оптимизации самосознания родителе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пособствовать оптимизации личностного развития детей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бучить родителей приемам формирования в семье реабилитационных условий, методам воспитания, обучения и реабилитации детей, обеспечивающим оптимальное развитие ребенка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овысить психолого-педагогическую компетентность родителей в вопросах воспитания, обучения, развития и социальной адаптации ребенка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корректировать воспитательские позиции родителей, оказать им помощь в выборе адекватных мер воздейств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081080" y="187200"/>
            <a:ext cx="22320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15560"/>
            <a:ext cx="8280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уществление квалифицированной коррекции нарушений развития детей с нарушениями слуха (слабослышащими детьми и дети, перенесшие кохлеарную имплантацию):</a:t>
            </a:r>
            <a:r>
              <a:rPr b="0" lang="ru-RU" sz="15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258920" y="616572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ординация реализации программ образования осуществляется на заседаниях психолого-медико-педагогического консилиума ДОУ с участием всех педагогов и специалистов, задействованных в реализации образовательных программ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87280" y="907920"/>
          <a:ext cx="7777440" cy="5153040"/>
        </p:xfrm>
        <a:graphic>
          <a:graphicData uri="http://schemas.openxmlformats.org/drawingml/2006/table">
            <a:tbl>
              <a:tblPr/>
              <a:tblGrid>
                <a:gridCol w="1403640"/>
                <a:gridCol w="637380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циал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валифицированной коррекции нару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онная гимнастика с элементами дыхательной и голосовой гимнаст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; корригирующая и мини гимнастика после с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о-развивающая раб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развитием высших психических функций (внимание, память, мышление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социально-бытовыми, игровыми, коммуникативными, потребительскими навыками, навыками самообслуживания, личной гигиены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мотивации к обуч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подгрупповые занятия: работа с аудиограммой; корректировка речевого дыхания; работа над внятностью речи; расширение словарного запаса; активизация слуховой деятельности; постановка зву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й руководи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релаксация, выравнивание психоэмоционального состоя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чувства рит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вижений на музыкальных заняти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 по физической культу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ррекционные занятия на развитие общей моторики, координации движ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е упражнения, связанные со слухом и реч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ая и ритмическая гимна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ечный масса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25600" y="188640"/>
            <a:ext cx="740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ый раздел АОП ДО: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7280" y="54900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1. Психолого-педагогические условия, обеспечивающие развитие ребенка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2. Организация развивающей предметно-пространственной сред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3. Кадровые условия реализации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4. Материально-техническое обеспечение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5. Финансовые условия реализации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6. Планирование образовательной деятельности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7. Режим дня и распорядок 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8. Перспективы работы по совершенствованию и развитию содержания Программы и обеспечивающих ее реализацию нормативно-правовых, финансовых, научно-методических, кадровых, информационных и материально-технических ресурс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9. Перечень нормативных и нормативно-методических документов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10. Перечень литературных источник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1017720" y="3357720"/>
            <a:ext cx="799128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детей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чностно-порождающее взаимодействие взрослых с детьм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риентированность педагогической оценки на относительные показатели детской успеш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игры как важнейшего фактора развития слабослышащих детей и детей, после кохлеарной имплант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развивающей образовательной среды, способствующей физическому, социально-коммуникативному, познавательному, речевому, художественно-эстетическому развитию ребенка и сохранению его индивидуаль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балансированность репродуктивной (воспроизводящей готовый образец) и продуктивной (производящей субъективно новый продукт) деятель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частие семьи как необходимое условие для полноценного развития слабослышащего ребенка раннего и дошкольного возраста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фессиональное развитие педагогов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6948360" y="115920"/>
            <a:ext cx="196848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318680" y="333360"/>
            <a:ext cx="7656840" cy="396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рганизация развивающей предметно-пространственной среды (ППС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звивающая предметно-пространственная среда детского сада является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держательно-насыщенной, развивающе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трансформируем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лифункциональ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ариатив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доступ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безопас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здоровье сберегающе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эстетически-привлекательной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едметная среда удовлетворяет следующим требованиям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Качествен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Развивающ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Комфорт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Индивидуально-направлен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оррекционна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1198440" y="4149720"/>
            <a:ext cx="777744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ые условия реализации АОП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 обучение дошкольников с нарушением слуха должны осуществлять специально подготовленные высококвалифицированные кадры: учителя-дефектологи (сурдопедагоги), учителя-логопеды, педагоги-психологи, воспитатели прошедшие профессиональную подготовку, знающие психофизические особенности детей с нарушениями слуха и владеющие методиками дифференцированной коррекционной работы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ая обеспеченность ДОО во многом будет зависеть от наличия руководителей, педагогов, специалистов, прошедших профессиональную подготовку в области инклюзивного образования детей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187280" y="260280"/>
            <a:ext cx="7848720" cy="295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териально-техническое обеспечение АОП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нитарно-гигиенических норм образовательного процесса с учетом потребностей детей с нарушением слуха (требования к водоснабжению, канализации, освещению, воздушно-тепловому режиму и т.д.)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зможности для беспрепятственного доступа детей, в том числе детей с ОВЗ, к объектам инфраструктуры образовательной организа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нитарно-бытовых условий с учетом потребностей детей, воспитывающихся в данной организации (наличие оборудованных гардеробов, санузлов, мест личной гигиены, включающих в себя кушетки т.д.)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циально-бытовых условий с учетом конкретных потребностей ребенка с нарушениями слуха, в данной организации (наличие адекватно оборудованного пространства организации, рабочего места ребенка и т.д.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одзаголовок 2"/>
          <p:cNvSpPr/>
          <p:nvPr/>
        </p:nvSpPr>
        <p:spPr>
          <a:xfrm>
            <a:off x="1150920" y="3284640"/>
            <a:ext cx="7777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ля осуществления психолого-педагогической работы по коррекции и реабилитации детей с нарушением слуха рабочее место (специальный кабинет)  должно быть оснащено следующими средствами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Электроакустическая аппаратура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Сурдотехнические средства обучения и реабилитации, например, специальная аппаратура для практической работы, предназначенная для специалистов по реабилитации: преподавателей, а также родителей (в случае участия последних), представленная обычно в виде настольных аппаратов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Электроакустические комплексы (для индивидуальной и групповой работы, слухоречевой реабилитации, индивидуальной и групповой работы детей с кохлеарными имплантами, определения оптимального слухового поля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Средства наглядности (предметно-образные и динамические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Различные технические средства обучения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ИКТ-технологии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195200" y="260280"/>
            <a:ext cx="7553160" cy="165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инансовые условия реализации Программ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инансовое обеспечение</a:t>
            </a: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ализации АООП ДО, разработанной для  детей с нарушением слуха, осуществляется в соответствии с потребностями ДОО на осуществление всех необходимых расходов на обеспечение конституционного права на бесплатное и общедоступное дошкольное образование с учетом направленности группы, режима пребывания детей в группе, возрастом воспитанников и прочими особенностями реализации Программы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одзаголовок 2"/>
          <p:cNvSpPr/>
          <p:nvPr/>
        </p:nvSpPr>
        <p:spPr>
          <a:xfrm>
            <a:off x="971640" y="1916280"/>
            <a:ext cx="7921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ова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но-методическое обеспечение образовательного процесса как одно из основных условий реализации индивидуальной образовательной программы ориентировано на возможность постоянного и устойчивого доступа для всех субъектов образовательного процесса к любой информ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О реализовывает различные программы: коррекционные, вариативные, дополнитель-ного образования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школьные образовательные организации выбирают для работы программы из числа рекомендованных к применению в ДОО и адаптируют их с учетом особенностей контингента конкретной группы или организ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ля детей с ОВЗ (слабослышащих детей и детей, после кохлеарной имплантации) предусмотрены занятия по коррекции недостатков сенсорных, двигательных, речевых и психических функций, в зависимости от имеющихся у детей нарушений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рекционно-развивающее воздействие осуществляется на основе использования разнообразных практических, наглядных и словесных, двигательно-кинестетических методов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ыделяются следующие формы работы с детьми с нарушением слуха: индивидуальные, подгрупповые и фронтальные в соответствие с медицинскими показаниям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зависимости от структуры нарушений коррекционно-развивающая работа с детьми данной категории строится дифференцированно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90160" y="40176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жим дня и распоряд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оставляет за ДОО право на самостоятельное определение режима и распорядка дня, устанавливаемых с учетом условий реализации программы ДОО, потребностей участников образовательных отношений, особенностей реализуемых авторских вариативных образовательных программ, в том числе программ дополнительного образования дошкольников и других особенностей образовательной деятельности, а также санитарно-эпидемиологических требований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одзаголовок 2"/>
          <p:cNvSpPr/>
          <p:nvPr/>
        </p:nvSpPr>
        <p:spPr>
          <a:xfrm>
            <a:off x="1116000" y="2060640"/>
            <a:ext cx="7777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спективы работы по совершенствованию и развитию содержания Программы и обеспечивающих ее реализацию нормативно-правовых, финансовых, научно-методических, кадровых, информационных и материально-технических ресурсов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соответствии с требованиями ФГОС ДО конкретное содержание образовательных областей может реализовываться в различных видах деятельности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гровой (включая сюжетно-ролевую игру, игры с правилами и др.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коммуникативной (общение и взаимодействие со взрослыми и сверстниками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знавательно-исследовательской (исследование объектов окружающего мира и экспериментирование с ними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сприятии художественной литературы и фольклора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мообслуживании и элементарном бытовом труде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конструировании из различного материала, включая конструкторы, модули, бумагу, природный и иной материал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зобразительной (рисование, лепка, аппликация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музыкальной (восприятие и понимание смысла музыкальных произведений, пение, музыкально-ритмические движения, театрализованная деятельность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двигательной (овладение основными движениями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дбор игрушек и оборудования для организации данных видов деятельности в дошкольном возрасте представлен перечнями, составленными по возрастным группам, отраженными в организационном раздел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055520" y="139680"/>
            <a:ext cx="2575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116000" y="115560"/>
            <a:ext cx="7848720" cy="6481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ечень нормативных и нормативно-методических документ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онвенция о правах ребенка» (одобрена Генеральной Ассамблеей ООН 20.11.1989) (вступила в силу для СССР 15.09.1990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онституция Российской Федерации» (принята всенародным голосованием 12.12.1993) (с учетом поправок, внесенных Законами РФ о поправках к Конституции РФ от 30.12.2008 N 6-ФКЗ, от 30.12.2008 № 7-ФКЗ, от 05.02.2014 № 2-ФКЗ, от 21.07.2014 № 11-ФКЗ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едеральный закон от 29.12.2012 № 273-ФЗ «Об образовании в Российской Федерации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едеральный закон «О социальной защите инвалидов в Российской Федерации» (с изменениями на 28.06.2014г)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от 08.04.2014 № 293 «Об утверждении Порядка приема на обучение по образовательным программам дошкольного образования» (Зарегистрировано в Минюсте России 12.05.2014 № 32220)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(Минобрнауки России) от 30.08.2013г. №1014  г. Москва «Об утверждении Порядка организации и осуществления образовательной деятельности по основным общеобразовательным программам – образовательным программам дошкольного образования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(Минобрнауки России) от 17.10.2013г. №1155   г. Москва «Об утверждении федерального государственного образовательного стандарта дошкольного образования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труда России № 664н от 29.09.2014г. «О классификациях и критериях, используемых при осуществлении медико-социальной экспертизы граждан федеральными государственными учреждениями медико-социальной экспертизы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исьмо Министерства образования и науки Российской Федерации от 7.06.2013г. № ИР-535/07 «О коррекционном и инклюзивном образовании детей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анитарно-эпидемиологические требования к устройству, содержанию и организации режима работы дошкольных образовательных организаций» (Утверждены постановлением Главного государственного санитарного врача Российской от 15.05.2013г. № 26 «Об утверждении СаНПиН» 2.4.3049-13);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мерная основная образовательная программа дошкольного образования (одобрена решением федерального учебно-методического объединения по общему образованию (протокол от 20.05.2015г. № 2/15)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01680" y="259920"/>
            <a:ext cx="78343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детей с ограниченными возможностями (ОВЗ) должна быть разработана адаптированная образовательная программа (АОП). Исключительным правом на разработку и утверждение адаптированной программы обладает образовательная организация согласно ч.5 ст.12 Федерального закона №273-ФЗ. Образование обучающихся с ОВЗ 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» (ст.79, п.4).</a:t>
            </a:r>
            <a:endParaRPr b="0" lang="en-US" sz="1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87280" y="1844640"/>
            <a:ext cx="7777440" cy="220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удовые действия педагогического коллектива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Разработка адоптированной образовательной программы в рамках основной общеобразовательной программы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Аудит разработанной адоптированной образовательной программы (АОП) на соответствие федеральному государственному образовательному стандарту дошкольного образования  (ФГОС ДО) и примерной адоптированной основной образовательной программы (ПрАООП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 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Calibri"/>
              </a:rPr>
              <a:t>Осуществление профессиональной деятельности в соответствии с требованиями федеральных государственных образовательных стандартов дошкольного образова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971640" y="414972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ализация АОП ребенка с нарушением слуха строится с учетом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собенностей и содержания взаимодействия с родителями (законными представителями) на каждом этапе включения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собенностей и содержания взаимодействия между сотрудниками ДОУ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вариативности и технологий выбора форм и методов подготовки ребенка с нарушением слуха к включению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критериев готовности ребенка с нарушениями слуха к продвижению по этапам инклюзивного процесса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рганизации условий для максимального развития и эффективной адаптации ребенка в инклюзивной групп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40880" cy="626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ечень литературных источник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Основная программа: </a:t>
            </a: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«От рождения до школы» под ред. Н.Е.Вераксы, Т.С. Комаровой, М.А. Васильевой (примерная общеобразовательная программа ДО (пилотный вариант)) М.: Мозаика-Синтез, 2014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ополнительная литература</a:t>
            </a: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 Программа «Воспитание и обучение слабослышащих детей дошкольного возраста. Авторы Головчиц Л. А, Носкова Л. П и др. Москва. Прсвещение. 2012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дошкольных образовательных учреждений компенсирующего вида для детей с нарушением слуха «Коррекционно-развивающее обучение и воспитание» Е.А. Екжанова, Е.А.Стребелева М.: Просвещение, 2003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ре Р.С. Дошкольник и труд, М., Детство - Пресс, 2004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ренина А.И. Ритмическая мозаика, С-П., ЛОИРО, 2000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оловчиц Л. А., Гаврилушкина О. П., Дмитриева О. П. Методические рекомендации к программе «Воспитание и обучение слабослышащих дошкольников со сложными (комплексными) нарушениями развития» [текст] / Л. А. Головчиц, О. П. Гаврилушкина., О. П. Дмитри − М.: ГНОМ и Д, 2006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идактические игры для дошкольников с нарушениями слуха: сборник игр для педагогов и родителей / Л.А. Головчиц, Л. В. Дмитриева, В. Л. Казанская, Е. В. Каширская, Т. А. Осипова и др. – М.: УМИЦ «Граф-пресс», 2003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Зонтова О.В. Коррекционно - педагогическая помощь детям после КИ,С-П., 2009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олева И.В. «Слухоречевая реабилитация глухих детей с кохлеарными имплантами». С-П.: НИИ уха, горла, носа и речи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олева И.В. Абилитация детей младшего возраста с КИ, С-П.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рюкова С.В., Слободяник Н.П. «Удивляюсь, злюсь, боюсь, хвастаюсь и радуюсь»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рциновской Г. А. Аудиовизуальный курс верботонального метод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зарова Л.П. «Методика развития слухового восприятия у детей с нарушениями слуха». М.: «Владос», 2001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овикова О.О., Шматко Н.Д. «Речевая ритмика для малышей». Методическое пособие для педагогов и родителей. М.: «Владос», 2003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бухова Т.И. Методика формирования речи детей раннего и дошкольного возраста с нарушением слуха, Мн.. БГПУ, 2005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лымская Т.В., Шматко Н. Д. Формирование устной речи дошкольников с нарушенным слухом: методическое пособие для учителей дефектологов и родителей [текст] / Т. В. Пелымская, Н. Д. Шматко. – М.: Владос, 2003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нзулаева Л.И. "Физическая культура в детском саду«. – М.: Мозаика- Синтез, 2014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трова В.А. Музыка - малышам, М., Мозаика - Синтез, 2001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фафенродт А. Н. Фонетическая ритмика – М.: Учебная литература, 1997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Шматко Н.Д., Новикова О.О. Речевая ритмика для дошкольников, ИКП РАО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Яхнина Е.З. Методика музыкально-ритмических занятий с детьми, имеющими нарушения слуха: учебное пособие для студ. высш. учеб.заведений [текст] / Под ред. Б. П. Пузанова. – М.: Гуманит. изд. центр ВЛАДОС, 2003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31640" y="5444640"/>
            <a:ext cx="7405560" cy="427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лагодарим за внимание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6" descr="C:\Users\Борис\Desktop\Учеба 2017 год\i.jpg"/>
          <p:cNvPicPr/>
          <p:nvPr/>
        </p:nvPicPr>
        <p:blipFill>
          <a:blip r:embed="rId1"/>
          <a:stretch/>
        </p:blipFill>
        <p:spPr>
          <a:xfrm>
            <a:off x="1042920" y="549360"/>
            <a:ext cx="7850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6920" y="360000"/>
            <a:ext cx="76518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обые образовательные потребности детей с ОВЗ (слабослышащие дети и дети, после кохлеарной имплантации):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7407360" cy="223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мотивированное употребле­ние единиц язык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членораздельное, внятное произношение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развитие слухового восприятия и его использова­ние в образовательных, познавательных и коммуникативных си­туациях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обогащение жизненного опыта и формирование житейских понятий как основы овладения знаниями, умениями и навыками;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ндивидуальный подход к каждому обучаемому, включающий конкретную дозированную педагогическую помощь, специальные методы и средства (слуховые аппараты) обучения, компенсации и коррекции дефект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C:\Users\Борис\Desktop\i.jpg"/>
          <p:cNvPicPr/>
          <p:nvPr/>
        </p:nvPicPr>
        <p:blipFill>
          <a:blip r:embed="rId1"/>
          <a:stretch/>
        </p:blipFill>
        <p:spPr>
          <a:xfrm>
            <a:off x="1692360" y="3716280"/>
            <a:ext cx="6767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360000"/>
            <a:ext cx="7777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держание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доптированной образовательной программы дошкольного образования (АОП ДО) для слабослышащих детей и детей, после кохлеарной имплантации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405560" cy="302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Целево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держатель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рганизацион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5" descr="C:\Users\Борис\Desktop\i1.jpg"/>
          <p:cNvPicPr/>
          <p:nvPr/>
        </p:nvPicPr>
        <p:blipFill>
          <a:blip r:embed="rId1"/>
          <a:stretch/>
        </p:blipFill>
        <p:spPr>
          <a:xfrm>
            <a:off x="5364000" y="3213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5840" y="260280"/>
            <a:ext cx="71388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евой раздел АОП  ДО: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216080" y="907560"/>
            <a:ext cx="7407360" cy="180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пределяет цели и задачи работы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нципы и подходы к формированию АОП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уемые результаты ее освоения в виде целевых ориентиро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звивающее оценивание качества образовательной деятельности по Программ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одзаголовок 2"/>
          <p:cNvSpPr/>
          <p:nvPr/>
        </p:nvSpPr>
        <p:spPr>
          <a:xfrm>
            <a:off x="1908000" y="2781360"/>
            <a:ext cx="69548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Подзаголовок 2"/>
          <p:cNvSpPr/>
          <p:nvPr/>
        </p:nvSpPr>
        <p:spPr>
          <a:xfrm>
            <a:off x="1204920" y="2781360"/>
            <a:ext cx="76741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стоящая АОП предназначена для работы со слабослышащими детьми и детьми, после кохлеарной имплантации, дошкольного возраст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содержит необходимый материал для организации воспитательно-образовательной работы со слабослышащими детьми и детьми, после кохлеарной имплантации, в каждой возрастной группе детей по всем образовательным областям, обеспечивающим разностороннее развитие дошкольника и подготовку его к дальнейшему школьному обучени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Цель программы 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– создание условий для всестороннего развития ребенка с ОВЗ, с целью обогащения его социального опыта и гармоничного включения в коллектив сверстников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Заголовок 1"/>
          <p:cNvSpPr/>
          <p:nvPr/>
        </p:nvSpPr>
        <p:spPr>
          <a:xfrm>
            <a:off x="1187280" y="189000"/>
            <a:ext cx="7705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, решение которых необходимо для реализации цели</a:t>
            </a:r>
            <a:r>
              <a:rPr b="0" lang="ru-RU" sz="14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храна и укрепление физического и психического здоровья детей, их эмоционального благополучия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равных возможностей для полноценного развития каждого ребёнка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преемственности целей, задач и содержания образования, реализуемых в рамках образовательных программ различных уровней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создание благоприятных условий развития детей в соответствии с их возрастными и индивидуальными особенностями и склонностями, развитие способностей и творческого потенциала каждого ребёнка как субъекта отношений с самим собой, другими детьми, взрослыми и миром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ъединение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формирование общей культуры личности детей, в том числе ценностей здорового образа жизни, развитие их социальных, нравственных, эстетических, физических, интеллектуальных качеств, инициативности, самостоятельности и ответственности ребёнка, формирование предпосылок учебной деятельности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формирование социокультурной среды, соответствующей возрастным, индивидуальным, психологическим и физиологическим особенностям детей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е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 коррекционные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коррекции нарушений развития детей с ограниченными возможностями здоровья (нарушения слуха), оказание им квалифицированной помощи в освоении АОП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своение слабослышащими детьми и детьми, после кохлеарной имплантации, АОП ДО, их разностороннее развитие с учётом возрастных и индивидуальных особенностей и особых образовательных потребностей, социальной адаптаци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457200">
              <a:lnSpc>
                <a:spcPct val="100000"/>
              </a:lnSpc>
              <a:buClr>
                <a:srgbClr val="5723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одзаголовок 2"/>
          <p:cNvSpPr/>
          <p:nvPr/>
        </p:nvSpPr>
        <p:spPr>
          <a:xfrm>
            <a:off x="1258920" y="404640"/>
            <a:ext cx="76341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Программа основывается на следующих научно обоснованных подходах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коммуникативны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последовательность формирования речи как средства общения и познания окружающего мира, использование в обучении детей с ОВЗ разных форм словесной речи в зависимости от этапа обучения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еятельностный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троится на признании того факта, что развитие личности детей с ОВЗ, определяется характером организации доступной им деятельности: частично речевой, предметно-практической, игровой, изобразительной, конструктивной, трудовой; полноценное формирование этих видов деятельности у детей с ОВЗ происходит в процессе целенаправленного воздействия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личностный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редполагает отношение к каждому ребёнку как к самостоятельной ценности, принятие его таким, каков он есть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культурологически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ориентирует образование на формирование общей культуры ребёнка, освоение им общечеловеческих культурных ценностей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ифференцированны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предполагает учет особых образовательных потребностей детей с ОВЗ, которые проявляются в неоднородности по возможностям освоения содержания образования; применение данного подхода к созданию образовательных программ обеспечивает разнообразие содержания, предоставляя детям с ОВЗ возможность реализовать индивидуальный потенциал развития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основывается также на универсальных ценностях, зафиксированных в Федеральном Законе «Об образовании в Российской Федерации», Конвенции ООН о правах ребёнка, в которых установлено право каждого ребёнка на качественное образование, на развитие личности, на раскрытие индивидуальных способностей и дарований; образовательная деятельность ДОО должна строиться на уважении к личности ребёнка, к родителям как первым воспитателям и к укладу семьи как первичного места социализации ребёнка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187280" y="189000"/>
            <a:ext cx="777744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нципы и подходы к формированию программ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лноценное проживание ребёнком всех этапов детства (младенческого, раннего и дошкольного возраста), обогащение (амплификация) детского развития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строение образовательной деятельности на основе индивидуальных особенностей каждого ребенка, при котором сам ребенок становится активным в выборе содержания своего образования, становится субъектом образования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действие и сотрудничество детей и взрослых (партнерство), признание ребенка полноценным участником (субъектом) образовательных отношений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ддержка инициативы детей в различных видах деятельности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тесное сотрудничество ДОУ с семьёй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риобщение детей к социокультурным нормам, традициям семьи, общества и государства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формирование познавательных интересов и познавательных действий ребенка в различных видах деятельности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зрастная адекватность дошкольного образования (соответствие условий, требований, методов возрасту и особенностям развития ребенка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пецифические принципы формирования программы: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единство развития и коррекции (коррекционная работа осуществляется только на основе анализа внутренних и внешних условий развития ребенка, с учетом возрастных закономерностей развития и характера нарушений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единство диагностики и коррекции развития (цели и содержание коррекционной работы могут определяться на основе комплексного, системного, целостного, динамического изучения ребенка)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заимосвязь коррекции и компенсации (система коррекционной работы призвана компенсировать нарушения в развитии и направлена на реабилитацию и социальную адаптацию ребенка с проблемами слуха)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учет возрастных психологических и индивидуальных особенностей развития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организация атмосферы успеха для ребенка, веру в ее положительный результат, поощрение его малейших достижен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238040" y="309600"/>
            <a:ext cx="7623000" cy="196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уемые результаты освоения АОП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соответствии с ФГОС ДО специфика дошкольного детства и системные особенности дошкольного образования делают неправомерными требования от дошкольника конкретных образовательных достижений. Поэтому результаты освоения Программы представлены в виде целевых ориентиров и представляют собой возрастные характеристики возможных достижений слабослышащих и позднооглохших детей к концу дошкольного образова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одзаголовок 2"/>
          <p:cNvSpPr/>
          <p:nvPr/>
        </p:nvSpPr>
        <p:spPr>
          <a:xfrm>
            <a:off x="1100160" y="2276640"/>
            <a:ext cx="7761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истема оценки качества дошкольного образования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лжна быть сфокусирована на оценивании психолого-педагогических и других условий реализации АООП в ДОУ в пяти образовательных областях (по ФГОС ДО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учитывает образовательные предпочтения и удовлетворенность дошкольным образованием со стороны семьи слабослышащих детей и детей, после кохлеарной имплантаци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ключает использование оценки индивидуального развития ребенка в контексте оценки работы ДОУ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ключает унификацию и поддерживает вариативность программ, форм и методов дошкольного образования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пособствует открытости по отношению к ожиданиям слабослышащих детей и детей,  после кохлеарной имплантации, семьи, педагогов, общества и государства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ключает как оценку педагогами ДОУ собственной работы, так и независимую профессиональную и общественную оценку условий образовательной деятельности в ДОУ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пользует единые инструменты, оценивающие условия реализации программы в ДОУ, как для самоанализа, так и для внешнего оценивания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5T11:08:42Z</dcterms:created>
  <dc:creator>Борис</dc:creator>
  <dc:description/>
  <dc:language>en-US</dc:language>
  <cp:lastModifiedBy>Борис</cp:lastModifiedBy>
  <dcterms:modified xsi:type="dcterms:W3CDTF">2017-10-11T14:53:44Z</dcterms:modified>
  <cp:revision>28</cp:revision>
  <dc:subject/>
  <dc:title>Разработка адаптированной образовательной программы  дошкольного образования для детей с ограниченными возможностями (ОВЗ) по нозологической группе: слабослышащих детей и детей, после кохлеарной имплантации.</dc:title>
</cp:coreProperties>
</file>