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D9C8-749A-4DFD-AFC9-D76B9440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2B5-4A30-4E8F-B256-6FCE2E82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EC6-E445-4CDB-8D2F-747EC499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BC6-57A4-40FD-A9DB-5FAEDBC0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45E3-1860-4DAB-9F76-490E55106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1C1D1-E33B-45B5-B0D2-2E1DDA26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7A71-4298-450E-804F-B82063A9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4B0F-1040-4E8A-BE22-9840D9CC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B0B2-B00E-420C-80E3-4A2AC0E3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0192-5F3F-411A-8379-133889B7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37CE-1463-491B-A787-21F55F65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C789-5814-4D5B-8D5B-4A2437B80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9FBF-CB05-425E-9815-6C6A93C0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EE12-417E-47DE-9E07-48E30B5C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30FF-53A3-4FC9-8D36-731219D4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71DE-8D13-43BF-8645-E80A37375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E8FC-820C-4A0A-A6DC-910AC81E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D785-08C3-45FE-9CC2-93C071B9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6B6E2-857C-4B8D-B6F9-E893B4B7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9FE38-3121-4DA4-91EE-464CA59D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CCD0F-A657-42F2-8536-0F7D83C2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81272-08C2-4912-8E97-D4ECB932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3ED9-10C1-4FC1-A1FC-7A981FC2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5404B-626D-4864-B74D-354683DA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30E74-A2C9-4990-87EF-68142919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EF56F-AB1E-4D5A-85FC-6803C483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3CA34-6707-4AEC-A458-070D6C36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BF074-AA36-4F2A-A81B-91E02CDF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5B8D1-E281-449C-8CA6-0714E2E79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44F32-5B7E-49CD-B404-D467A3FCE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78085-D764-4689-938A-49D82B88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9A166-418D-4B5F-98B8-96F93233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F426D-E27D-410A-9036-624CF93E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89A6-9377-44D3-A604-6B323423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795F6-1E67-41C4-A6C2-F9A2CEF65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7D794-8894-459F-94BA-8893363D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1BBF7-8609-40C7-935E-6DE19E80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4F8BE-5A82-48E4-898B-E0648C20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A807C-F572-4891-90C5-DACB6B6C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B7BC1-ED56-4455-8D92-7DDB7600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8356C-3800-4803-B962-F8B86A9A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8115B-4426-4F7F-AF1B-5C372377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ABB11-E1B8-4235-BCE1-10E7979D4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73821-2163-419C-AD13-930EA261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DB65-E94A-4944-9B3E-E3F9AD76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FF89A-68EF-4025-B1A9-B01FADAE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5F2E7-F71A-48DE-94BD-2399BDDC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53791-C64E-4658-8C5C-B1CAD3EF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0EABE-8091-45DB-A832-CC0E61E7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F2AAF-40C2-4254-8207-05471C2A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2D3A7-1EC8-4EC4-98CB-44A57D45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1BDDD-C420-4813-857F-3299FC66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FBA0B-E7CC-4DCA-BC09-FF098474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003DD-8B49-40C4-B88A-EB062DB74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EFF8F-BEBD-49D4-BF13-F623E838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899-9454-47B1-89DB-95365D28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E2019-BB29-4211-85FA-467B99C6C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5A1BA-4065-49AD-BE11-31C3D128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4AE94-F3F3-4B03-BAF7-161E2346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FEF59-44C3-486E-BB7D-10774E1C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8A2CE-3FB7-445B-89FC-9DC737F55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9AAAD-D839-48A5-AC24-8EFE2B5A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1943E-D124-4C83-A8D9-76BC0C5F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C81DC-31A4-4758-8E35-17557C6B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95901-D839-41FA-8E21-43768681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7B365-1C3C-40A8-9758-71DB8ED6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BF9D-4ACF-48CF-88CA-9E24949A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93D1C-2F28-4FA1-95A8-56CC850D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74566-564A-4BD2-A4D9-9ADD9D4A5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52570-1A55-48F6-816F-34F67C08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C586F-3057-4F0C-95F9-2A8F9C99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E2744-BF81-444B-BBDE-FB4FD484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7BBF3-AC45-4147-8D0F-9A785872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F860FE-73C1-4447-BDC2-D204AC6E7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07160-3769-4015-99CC-36439249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48A69-0FEB-46A1-9BF0-46E0F53C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517BD-131B-4F5D-9D90-7DED0084C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C88C-735C-4D2A-BD41-ABC5E8C3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96C47-0C90-4F1B-AAA1-7B5C69AF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8E51C-B8CD-445F-86DC-5C0D47AF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8D060-F971-4F69-A902-701CE01B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BB10F-8A56-4CF3-91E0-A0B678D45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EE0B6-B772-474D-9E26-5056B5088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51C0-1803-4B32-BE60-2C79545C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96695-A520-46FE-8A72-7A1F0C02BD8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8542-2A3F-4059-A9CB-A5F7A622088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F572-16A8-4D0D-9155-EB82EEDD688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9B26-9C74-4CEA-A360-B400B68E70E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E6AF-61C4-46B4-ABFC-C7E2A7D98FC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2578-5F5A-4F01-A38E-81998F2B4BB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8BD0-9786-4364-A6EA-9558010CFFB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74073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Разработка адаптированной образовательной программы  дошкольного образования для детей с ограниченными возможностями (ОВЗ) по нозологической группе: слабослышащих детей и детей, после кохлеарной имплантации.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03280" y="4365720"/>
            <a:ext cx="7407360" cy="1224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оспитатели: Чемакина В.С., Марченко Л.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БДОУ «Детский сад № 12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. Торжок, Тверская область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C:\Users\Борис\Desktop\i111.jpg"/>
          <p:cNvPicPr/>
          <p:nvPr/>
        </p:nvPicPr>
        <p:blipFill>
          <a:blip r:embed="rId1"/>
          <a:stretch/>
        </p:blipFill>
        <p:spPr>
          <a:xfrm>
            <a:off x="1476360" y="5589720"/>
            <a:ext cx="42037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5" descr="C:\Users\Борис\Desktop\Развитие-детей-с-нарушением-слуха-768x484.jpg"/>
          <p:cNvPicPr/>
          <p:nvPr/>
        </p:nvPicPr>
        <p:blipFill>
          <a:blip r:embed="rId1"/>
          <a:stretch/>
        </p:blipFill>
        <p:spPr>
          <a:xfrm>
            <a:off x="6345360" y="1484280"/>
            <a:ext cx="2073240" cy="13064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238040" y="309240"/>
            <a:ext cx="7623000" cy="6288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одержательный разд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 Общие положения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Описание образовательной деятельности в соответствии с направлениями развития ребёнка: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1. Младенческий возра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 Дошкольный возра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1 Социально-коммуникативн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2 Познавательн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3 Речев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4 Художественно-эстетическ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2.5 Физическое развити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 Описание вариативных форм, способов, методов и средств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Особенности образовательной деятельност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Взаимодействие взрослых с деть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6. Способы и направления поддержки детской инициативы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 Взаимодействие педагогического коллектива с семьями воспитанников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1. По направлениям:  участие в жизни ДОУ, педагогическое просвещение родителей, совместная творческая деятельность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7.2. Коррекционно-реабилитационная и психолого-педагогическая работа с семьями детей с нарушениями слуха (слабослышащими и дети, перенесшие кохлеарную имплантацию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8. Психологическое сопровождение образовательного процесс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9. Логопедическое сопровождение образовательного процесс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0. Коррекционно-развивающее сопровождение образовательного процесс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4" descr="C:\Users\Борис\Desktop\i2.jpg"/>
          <p:cNvPicPr/>
          <p:nvPr/>
        </p:nvPicPr>
        <p:blipFill>
          <a:blip r:embed="rId1"/>
          <a:stretch/>
        </p:blipFill>
        <p:spPr>
          <a:xfrm>
            <a:off x="7164360" y="3860640"/>
            <a:ext cx="1609920" cy="1084320"/>
          </a:xfrm>
          <a:prstGeom prst="rect">
            <a:avLst/>
          </a:prstGeom>
          <a:ln w="0">
            <a:noFill/>
          </a:ln>
        </p:spPr>
      </p:pic>
      <p:sp>
        <p:nvSpPr>
          <p:cNvPr id="342" name="Прямоугольник 3"/>
          <p:cNvSpPr/>
          <p:nvPr/>
        </p:nvSpPr>
        <p:spPr>
          <a:xfrm>
            <a:off x="1187280" y="260280"/>
            <a:ext cx="7705800" cy="60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ые приемы работы со слабослышащими детьми и детьми, после кохлеарной имплант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нетическая ритмика, артикуляционные и дыхательные упражнения, игры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ановка звуков по методике Слезиной Н. Ф.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 экрана, обучение слухозрительному и слуховому восприятию речи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тоды развития активного и пассивного словаря: тематические альбомы, карточки, дидактические игры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имуляция речевой деятельности на режимных моментах и при непосредственной образовательной деятельности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ктильная (ручная) азбук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понимания слабослышащими детьми слов и словосочетаний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достаточное овладение звуковым составом слова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Ограниченность словарного запаса. 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нимание переносного смысла выражения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остепенное значение для таких детей приобретает зрительное восприятие речи.  Чтение и анализ прочитанного текста в значительной степени способствуют компенсации недостаточной речевой практики, влияют на развитие и совершенствование устной, обогащают словарный запас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1115640" y="468000"/>
            <a:ext cx="7651800" cy="61196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Цели коррекционно-реабилитационной и психолого-педагогической работы с семьями детей с нарушениями слуха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слабослышащими детьми и дети, перенесшие кохлеарную имплантацию):</a:t>
            </a:r>
            <a:r>
              <a:rPr b="0" lang="ru-RU" sz="15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беспечение адекватных микро социальных условий развития ребенка с нарушениями слуха в семье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преодоление состояния фрустрации и оптимизация самосознания родителей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формирование позитивного отношения близких лиц к ребенку с нарушениями слуха и оптимистического взгляда в будущее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ля достижения целей необходимо решить следующие задачи: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формировать у родителей мотивацию к взаимодействию со специалистами образовательной организации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установить причины, дестабилизирующие внутрисемейную атмосферу и межличностные отношения и способствовать их коррекции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выявить социально-психологические внутрисемейные факторы, способствующие гармоничному развитию ребенка с нарушениями слуха в семье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добиваться оптимизации самосознания родителей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пособствовать оптимизации личностного развития детей с нарушениями слуха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бучить родителей приемам формирования в семье реабилитационных условий, методам воспитания, обучения и реабилитации детей, обеспечивающим оптимальное развитие ребенка с нарушениями слуха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повысить психолого-педагогическую компетентность родителей в вопросах воспитания, обучения, развития и социальной адаптации ребенка с нарушениями слуха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скорректировать воспитательские позиции родителей, оказать им помощь в выборе адекватных мер воздейств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4" descr="C:\Users\Борис\Desktop\i111.jpg"/>
          <p:cNvPicPr/>
          <p:nvPr/>
        </p:nvPicPr>
        <p:blipFill>
          <a:blip r:embed="rId1"/>
          <a:stretch/>
        </p:blipFill>
        <p:spPr>
          <a:xfrm>
            <a:off x="1081080" y="187200"/>
            <a:ext cx="2232000" cy="4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115560"/>
            <a:ext cx="828036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существление квалифицированной коррекции нарушений развития детей с нарушениями слуха (слабослышащими детьми и дети, перенесшие кохлеарную имплантацию):</a:t>
            </a:r>
            <a:r>
              <a:rPr b="0" lang="ru-RU" sz="15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258920" y="6165720"/>
            <a:ext cx="7632720" cy="503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ординация реализации программ образования осуществляется на заседаниях психолого-медико-педагогического консилиума ДОУ с участием всех педагогов и специалистов, задействованных в реализации образовательных программ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187280" y="907920"/>
          <a:ext cx="7777440" cy="5153040"/>
        </p:xfrm>
        <a:graphic>
          <a:graphicData uri="http://schemas.openxmlformats.org/drawingml/2006/table">
            <a:tbl>
              <a:tblPr/>
              <a:tblGrid>
                <a:gridCol w="1403640"/>
                <a:gridCol w="6373800"/>
              </a:tblGrid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циали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квалифицированной коррекции наруш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5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тикуляционная гимнастика с элементами дыхательной и голосовой гимнасти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иковая гимнастика; корригирующая и мини гимнастика после с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о-развивающая рабо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22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развитием высших психических функций (внимание, память, мышление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бота над социально-бытовыми, игровыми, коммуникативными, потребительскими навыками, навыками самообслуживания, личной гигиены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мотивации к обучению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гопе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ые подгрупповые занятия: работа с аудиограммой; корректировка речевого дыхания; работа над внятностью речи; расширение словарного запаса; активизация слуховой деятельности; постановка звук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6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ый руководит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льная релаксация, выравнивание психоэмоционального состоя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чувства рит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ординация движений на музыкальных занятиях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14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ктор по физической культур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ррекционные занятия на развитие общей моторики, координации движе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ьные упражнения, связанные со слухом и реч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ые 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ыхательная и ритмическая гимна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чечный массаж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25600" y="188640"/>
            <a:ext cx="7407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ый раздел АОП ДО: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7280" y="549000"/>
            <a:ext cx="7848720" cy="2808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1. Психолого-педагогические условия, обеспечивающие развитие ребенка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2. Организация развивающей предметно-пространственной среды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3. Кадровые условия реализации Программы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4. Материально-техническое обеспечение Программы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5. Финансовые условия реализации Программы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6. Планирование образовательной деятельности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7. Режим дня и распорядок 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8. Перспективы работы по совершенствованию и развитию содержания Программы и обеспечивающих ее реализацию нормативно-правовых, финансовых, научно-методических, кадровых, информационных и материально-технических ресурс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9. Перечень нормативных и нормативно-методических документов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3.10. Перечень литературных источников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Прямоугольник 3"/>
          <p:cNvSpPr/>
          <p:nvPr/>
        </p:nvSpPr>
        <p:spPr>
          <a:xfrm>
            <a:off x="1017720" y="3357720"/>
            <a:ext cx="799128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ие условия, обеспечивающие развитие детей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Личностно-порождающее взаимодействие взрослых с детьм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риентированность педагогической оценки на относительные показатели детской успешност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Формирование игры как важнейшего фактора развития слабослышащих детей и детей, после кохлеарной имплантаци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здание развивающей образовательной среды, способствующей физическому, социально-коммуникативному, познавательному, речевому, художественно-эстетическому развитию ребенка и сохранению его индивидуальност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Сбалансированность репродуктивной (воспроизводящей готовый образец) и продуктивной (производящей субъективно новый продукт) деятельност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Участие семьи как необходимое условие для полноценного развития слабослышащего ребенка раннего и дошкольного возраста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рофессиональное развитие педагогов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1" name="Picture 4" descr="C:\Users\Борис\Desktop\i111.jpg"/>
          <p:cNvPicPr/>
          <p:nvPr/>
        </p:nvPicPr>
        <p:blipFill>
          <a:blip r:embed="rId1"/>
          <a:stretch/>
        </p:blipFill>
        <p:spPr>
          <a:xfrm>
            <a:off x="6948360" y="115920"/>
            <a:ext cx="196848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318680" y="333360"/>
            <a:ext cx="7656840" cy="3960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рганизация развивающей предметно-пространственной среды (ППС)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азвивающая предметно-пространственная среда детского сада является: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одержательно-насыщенной, развивающе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трансформируем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лифункциональн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ариативн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доступн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безопасно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здоровье сберегающей;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эстетически-привлекательной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едметная среда удовлетворяет следующим требованиям: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 Качественная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Развивающая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 Комфортная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Индивидуально-направленная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Коррекционна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Прямоугольник 4"/>
          <p:cNvSpPr/>
          <p:nvPr/>
        </p:nvSpPr>
        <p:spPr>
          <a:xfrm>
            <a:off x="1198440" y="4149720"/>
            <a:ext cx="7777440" cy="21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ые условия реализации АОП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 и обучение дошкольников с нарушением слуха должны осуществлять специально подготовленные высококвалифицированные кадры: учителя-дефектологи (сурдопедагоги), учителя-логопеды, педагоги-психологи, воспитатели прошедшие профессиональную подготовку, знающие психофизические особенности детей с нарушениями слуха и владеющие методиками дифференцированной коррекционной работы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овая обеспеченность ДОО во многом будет зависеть от наличия руководителей, педагогов, специалистов, прошедших профессиональную подготовку в области инклюзивного образования детей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187280" y="260280"/>
            <a:ext cx="7848720" cy="2952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атериально-техническое обеспечение АОП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анитарно-гигиенических норм образовательного процесса с учетом потребностей детей с нарушением слуха (требования к водоснабжению, канализации, освещению, воздушно-тепловому режиму и т.д.)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озможности для беспрепятственного доступа детей, в том числе детей с ОВЗ, к объектам инфраструктуры образовательной организации;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анитарно-бытовых условий с учетом потребностей детей, воспитывающихся в данной организации (наличие оборудованных гардеробов, санузлов, мест личной гигиены, включающих в себя кушетки т.д.). 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оциально-бытовых условий с учетом конкретных потребностей ребенка с нарушениями слуха, в данной организации (наличие адекватно оборудованного пространства организации, рабочего места ребенка и т.д.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Подзаголовок 2"/>
          <p:cNvSpPr/>
          <p:nvPr/>
        </p:nvSpPr>
        <p:spPr>
          <a:xfrm>
            <a:off x="1150920" y="3284640"/>
            <a:ext cx="777708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ля осуществления психолого-педагогической работы по коррекции и реабилитации детей с нарушением слуха рабочее место (специальный кабинет)  должно быть оснащено следующими средствами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: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1.Электроакустическая аппаратура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2. Сурдотехнические средства обучения и реабилитации, например, специальная аппаратура для практической работы, предназначенная для специалистов по реабилитации: преподавателей, а также родителей (в случае участия последних), представленная обычно в виде настольных аппаратов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3. Электроакустические комплексы (для индивидуальной и групповой работы, слухоречевой реабилитации, индивидуальной и групповой работы детей с кохлеарными имплантами, определения оптимального слухового поля)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4. Средства наглядности (предметно-образные и динамические)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5. Различные технические средства обучения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6. ИКТ-технологии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1195200" y="260280"/>
            <a:ext cx="7553160" cy="1656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инансовые условия реализации Программы</a:t>
            </a:r>
            <a:endParaRPr b="0" lang="en-US" sz="19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инансовое обеспечение</a:t>
            </a:r>
            <a:r>
              <a:rPr b="1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еализации АООП ДО, разработанной для  детей с нарушением слуха, осуществляется в соответствии с потребностями ДОО на осуществление всех необходимых расходов на обеспечение конституционного права на бесплатное и общедоступное дошкольное образование с учетом направленности группы, режима пребывания детей в группе, возрастом воспитанников и прочими особенностями реализации Программы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Подзаголовок 2"/>
          <p:cNvSpPr/>
          <p:nvPr/>
        </p:nvSpPr>
        <p:spPr>
          <a:xfrm>
            <a:off x="971640" y="1916280"/>
            <a:ext cx="792144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ланирование образовательной деятельности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но-методическое обеспечение образовательного процесса как одно из основных условий реализации индивидуальной образовательной программы ориентировано на возможность постоянного и устойчивого доступа для всех субъектов образовательного процесса к любой информаци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ОО реализовывает различные программы: коррекционные, вариативные, дополнитель-ного образования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ошкольные образовательные организации выбирают для работы программы из числа рекомендованных к применению в ДОО и адаптируют их с учетом особенностей контингента конкретной группы или организаци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ля детей с ОВЗ (слабослышащих детей и детей, после кохлеарной имплантации) предусмотрены занятия по коррекции недостатков сенсорных, двигательных, речевых и психических функций, в зависимости от имеющихся у детей нарушений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оррекционно-развивающее воздействие осуществляется на основе использования разнообразных практических, наглядных и словесных, двигательно-кинестетических методов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ыделяются следующие формы работы с детьми с нарушением слуха: индивидуальные, подгрупповые и фронтальные в соответствие с медицинскими показаниями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 зависимости от структуры нарушений коррекционно-развивающая работа с детьми данной категории строится дифференцированно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190160" y="401760"/>
            <a:ext cx="770580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ежим дня и распорядок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оставляет за ДОО право на самостоятельное определение режима и распорядка дня, устанавливаемых с учетом условий реализации программы ДОО, потребностей участников образовательных отношений, особенностей реализуемых авторских вариативных образовательных программ, в том числе программ дополнительного образования дошкольников и других особенностей образовательной деятельности, а также санитарно-эпидемиологических требований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Подзаголовок 2"/>
          <p:cNvSpPr/>
          <p:nvPr/>
        </p:nvSpPr>
        <p:spPr>
          <a:xfrm>
            <a:off x="1116000" y="2060640"/>
            <a:ext cx="77770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рспективы работы по совершенствованию и развитию содержания Программы и обеспечивающих ее реализацию нормативно-правовых, финансовых, научно-методических, кадровых, информационных и материально-технических ресурсов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 соответствии с требованиями ФГОС ДО конкретное содержание образовательных областей может реализовываться в различных видах деятельности: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гровой (включая сюжетно-ролевую игру, игры с правилами и др.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коммуникативной (общение и взаимодействие со взрослыми и сверстниками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знавательно-исследовательской (исследование объектов окружающего мира и экспериментирование с ними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осприятии художественной литературы и фольклора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амообслуживании и элементарном бытовом труде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конструировании из различного материала, включая конструкторы, модули, бумагу, природный и иной материал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зобразительной (рисование, лепка, аппликация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музыкальной (восприятие и понимание смысла музыкальных произведений, пение, музыкально-ритмические движения, театрализованная деятельность),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двигательной (овладение основными движениями).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одбор игрушек и оборудования для организации данных видов деятельности в дошкольном возрасте представлен перечнями, составленными по возрастным группам, отраженными в организационном разделе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4" descr="C:\Users\Борис\Desktop\i111.jpg"/>
          <p:cNvPicPr/>
          <p:nvPr/>
        </p:nvPicPr>
        <p:blipFill>
          <a:blip r:embed="rId1"/>
          <a:stretch/>
        </p:blipFill>
        <p:spPr>
          <a:xfrm>
            <a:off x="1055520" y="139680"/>
            <a:ext cx="2575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116000" y="115560"/>
            <a:ext cx="7848720" cy="6481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речень нормативных и нормативно-методических документов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Конвенция о правах ребенка» (одобрена Генеральной Ассамблеей ООН 20.11.1989) (вступила в силу для СССР 15.09.1990)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«Конституция Российской Федерации» (принята всенародным голосованием 12.12.1993) (с учетом поправок, внесенных Законами РФ о поправках к Конституции РФ от 30.12.2008 N 6-ФКЗ, от 30.12.2008 № 7-ФКЗ, от 05.02.2014 № 2-ФКЗ, от 21.07.2014 № 11-ФКЗ)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едеральный закон от 29.12.2012 № 273-ФЗ «Об образовании в Российской Федерации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Федеральный закон «О социальной защите инвалидов в Российской Федерации» (с изменениями на 28.06.2014г)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каз Министерства образования и науки Российской Федерации от 08.04.2014 № 293 «Об утверждении Порядка приема на обучение по образовательным программам дошкольного образования» (Зарегистрировано в Минюсте России 12.05.2014 № 32220)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каз Министерства образования и науки Российской Федерации (Минобрнауки России) от 30.08.2013г. №1014  г. Москва «Об утверждении Порядка организации и осуществления образовательной деятельности по основным общеобразовательным программам – образовательным программам дошкольного образования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каз Министерства образования и науки Российской Федерации (Минобрнауки России) от 17.10.2013г. №1155   г. Москва «Об утверждении федерального государственного образовательного стандарта дошкольного образования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каз Минтруда России № 664н от 29.09.2014г. «О классификациях и критериях, используемых при осуществлении медико-социальной экспертизы граждан федеральными государственными учреждениями медико-социальной экспертизы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исьмо Министерства образования и науки Российской Федерации от 7.06.2013г. № ИР-535/07 «О коррекционном и инклюзивном образовании детей»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анитарно-эпидемиологические требования к устройству, содержанию и организации режима работы дошкольных образовательных организаций» (Утверждены постановлением Главного государственного санитарного врача Российской от 15.05.2013г. № 26 «Об утверждении СаНПиН» 2.4.3049-13);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мерная основная образовательная программа дошкольного образования (одобрена решением федерального учебно-методического объединения по общему образованию (протокол от 20.05.2015г. № 2/15))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01680" y="259920"/>
            <a:ext cx="783432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ля детей с ограниченными возможностями (ОВЗ) должна быть разработана адаптированная образовательная программа (АОП). Исключительным правом на разработку и утверждение адаптированной программы обладает образовательная организация согласно ч.5 ст.12 Федерального закона №273-ФЗ. Образование обучающихся с ОВЗ  может быть организовано как совместно с другими обучающимися, так и в отдельных классах, группах или в отдельных организациях, осуществляющих образовательную деятельность» (ст.79, п.4).</a:t>
            </a:r>
            <a:endParaRPr b="0" lang="en-US" sz="1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87280" y="1844640"/>
            <a:ext cx="7777440" cy="2201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рудовые действия педагогического коллектива</a:t>
            </a: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Разработка адоптированной образовательной программы в рамках основной общеобразовательной программы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Аудит разработанной адоптированной образовательной программы (АОП) на соответствие федеральному государственному образовательному стандарту дошкольного образования  (ФГОС ДО) и примерной адоптированной основной образовательной программы (ПрАООП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 </a:t>
            </a: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Calibri"/>
              </a:rPr>
              <a:t>Осуществление профессиональной деятельности в соответствии с требованиями федеральных государственных образовательных стандартов дошкольного образования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971640" y="4149720"/>
            <a:ext cx="79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ализация АОП ребенка с нарушением слуха строится с учетом: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собенностей и содержания взаимодействия с родителями (законными представителями) на каждом этапе включения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собенностей и содержания взаимодействия между сотрудниками ДОУ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вариативности и технологий выбора форм и методов подготовки ребенка с нарушением слуха к включению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критериев готовности ребенка с нарушениями слуха к продвижению по этапам инклюзивного процесса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организации условий для максимального развития и эффективной адаптации ребенка в инклюзивной группе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042920" y="188640"/>
            <a:ext cx="7940880" cy="6264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речень литературных источников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Основная программа: </a:t>
            </a: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«От рождения до школы» под ред. Н.Е.Вераксы, Т.С. Комаровой, М.А. Васильевой (примерная общеобразовательная программа ДО (пилотный вариант)) М.: Мозаика-Синтез, 2014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Дополнительная литература</a:t>
            </a: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: Программа «Воспитание и обучение слабослышащих детей дошкольного возраста. Авторы Головчиц Л. А, Носкова Л. П и др. Москва. Прсвещение. 2012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дошкольных образовательных учреждений компенсирующего вида для детей с нарушением слуха «Коррекционно-развивающее обучение и воспитание» Е.А. Екжанова, Е.А.Стребелева М.: Просвещение, 2003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уре Р.С. Дошкольник и труд, М., Детство - Пресс, 2004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уренина А.И. Ритмическая мозаика, С-П., ЛОИРО, 2000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Головчиц Л. А., Гаврилушкина О. П., Дмитриева О. П. Методические рекомендации к программе «Воспитание и обучение слабослышащих дошкольников со сложными (комплексными) нарушениями развития» [текст] / Л. А. Головчиц, О. П. Гаврилушкина., О. П. Дмитри − М.: ГНОМ и Д, 2006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идактические игры для дошкольников с нарушениями слуха: сборник игр для педагогов и родителей / Л.А. Головчиц, Л. В. Дмитриева, В. Л. Казанская, Е. В. Каширская, Т. А. Осипова и др. – М.: УМИЦ «Граф-пресс», 2003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Зонтова О.В. Коррекционно - педагогическая помощь детям после КИ,С-П., 2009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оролева И.В. «Слухоречевая реабилитация глухих детей с кохлеарными имплантами». С-П.: НИИ уха, горла, носа и речи, 2006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оролева И.В. Абилитация детей младшего возраста с КИ, С-П., 2006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Крюкова С.В., Слободяник Н.П. «Удивляюсь, злюсь, боюсь, хвастаюсь и радуюсь»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Марциновской Г. А. Аудиовизуальный курс верботонального метода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азарова Л.П. «Методика развития слухового восприятия у детей с нарушениями слуха». М.: «Владос», 2001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овикова О.О., Шматко Н.Д. «Речевая ритмика для малышей». Методическое пособие для педагогов и родителей. М.: «Владос», 2003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бухова Т.И. Методика формирования речи детей раннего и дошкольного возраста с нарушением слуха, Мн.. БГПУ, 2005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лымская Т.В., Шматко Н. Д. Формирование устной речи дошкольников с нарушенным слухом: методическое пособие для учителей дефектологов и родителей [текст] / Т. В. Пелымская, Н. Д. Шматко. – М.: Владос, 2003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нзулаева Л.И. "Физическая культура в детском саду«. – М.: Мозаика- Синтез, 2014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етрова В.А. Музыка - малышам, М., Мозаика - Синтез, 2001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фафенродт А. Н. Фонетическая ритмика – М.: Учебная литература, 1997.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Шматко Н.Д., Новикова О.О. Речевая ритмика для дошкольников, ИКП РАО, 2006 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Яхнина Е.З. Методика музыкально-ритмических занятий с детьми, имеющими нарушения слуха: учебное пособие для студ. высш. учеб.заведений [текст] / Под ред. Б. П. Пузанова. – М.: Гуманит. изд. центр ВЛАДОС, 2003.</a:t>
            </a: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331640" y="5444640"/>
            <a:ext cx="7405560" cy="427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Благодарим за внимание!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6" descr="C:\Users\Борис\Desktop\Учеба 2017 год\i.jpg"/>
          <p:cNvPicPr/>
          <p:nvPr/>
        </p:nvPicPr>
        <p:blipFill>
          <a:blip r:embed="rId1"/>
          <a:stretch/>
        </p:blipFill>
        <p:spPr>
          <a:xfrm>
            <a:off x="1042920" y="549360"/>
            <a:ext cx="78501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86920" y="360000"/>
            <a:ext cx="76518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собые образовательные потребности детей с ОВЗ (слабослышащие дети и дети, после кохлеарной имплантации):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7407360" cy="223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мотивированное употребле­ние единиц языка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членораздельное, внятное произношение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развитие слухового восприятия и его использова­ние в образовательных, познавательных и коммуникативных си­туациях;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обогащение жизненного опыта и формирование житейских понятий как основы овладения знаниями, умениями и навыками;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ндивидуальный подход к каждому обучаемому, включающий конкретную дозированную педагогическую помощь, специальные методы и средства (слуховые аппараты) обучения, компенсации и коррекции дефекта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4" descr="C:\Users\Борис\Desktop\i.jpg"/>
          <p:cNvPicPr/>
          <p:nvPr/>
        </p:nvPicPr>
        <p:blipFill>
          <a:blip r:embed="rId1"/>
          <a:stretch/>
        </p:blipFill>
        <p:spPr>
          <a:xfrm>
            <a:off x="1692360" y="3716280"/>
            <a:ext cx="6767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5640" y="360000"/>
            <a:ext cx="777708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держание </a:t>
            </a: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доптированной образовательной программы дошкольного образования (АОП ДО) для слабослышащих детей и детей, после кохлеарной имплантации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31640" y="2565000"/>
            <a:ext cx="7405560" cy="3024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Целевой разд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одержательный разд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рганизационный раздел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5" descr="C:\Users\Борис\Desktop\i1.jpg"/>
          <p:cNvPicPr/>
          <p:nvPr/>
        </p:nvPicPr>
        <p:blipFill>
          <a:blip r:embed="rId1"/>
          <a:stretch/>
        </p:blipFill>
        <p:spPr>
          <a:xfrm>
            <a:off x="5364000" y="321300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55840" y="260280"/>
            <a:ext cx="71388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Целевой раздел АОП  ДО: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216080" y="907560"/>
            <a:ext cx="7407360" cy="18003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Определяет цели и задачи работы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нципы и подходы к формированию АОП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ланируемые результаты ее освоения в виде целевых ориентиров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Развивающее оценивание качества образовательной деятельности по Программе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Подзаголовок 2"/>
          <p:cNvSpPr/>
          <p:nvPr/>
        </p:nvSpPr>
        <p:spPr>
          <a:xfrm>
            <a:off x="1908000" y="2781360"/>
            <a:ext cx="695484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Corbe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20e04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27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Подзаголовок 2"/>
          <p:cNvSpPr/>
          <p:nvPr/>
        </p:nvSpPr>
        <p:spPr>
          <a:xfrm>
            <a:off x="1204920" y="2781360"/>
            <a:ext cx="76741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Настоящая АОП предназначена для работы со слабослышащими детьми и детьми, после кохлеарной имплантации, дошкольного возраста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содержит необходимый материал для организации воспитательно-образовательной работы со слабослышащими детьми и детьми, после кохлеарной имплантации, в каждой возрастной группе детей по всем образовательным областям, обеспечивающим разностороннее развитие дошкольника и подготовку его к дальнейшему школьному обучению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Цель программы </a:t>
            </a:r>
            <a:r>
              <a:rPr b="0" lang="ru-RU" sz="18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– создание условий для всестороннего развития ребенка с ОВЗ, с целью обогащения его социального опыта и гармоничного включения в коллектив сверстников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Заголовок 1"/>
          <p:cNvSpPr/>
          <p:nvPr/>
        </p:nvSpPr>
        <p:spPr>
          <a:xfrm>
            <a:off x="1187280" y="189000"/>
            <a:ext cx="77058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дачи, решение которых необходимо для реализации цели</a:t>
            </a:r>
            <a:r>
              <a:rPr b="0" lang="ru-RU" sz="1400" spc="-1" strike="noStrike" u="sng">
                <a:solidFill>
                  <a:srgbClr val="572314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храна и укрепление физического и психического здоровья детей, их эмоционального благополучия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беспечение равных возможностей для полноценного развития каждого ребёнка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беспечение преемственности целей, задач и содержания образования, реализуемых в рамках образовательных программ различных уровней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создание благоприятных условий развития детей в соответствии с их возрастными и индивидуальными особенностями и склонностями, развитие способностей и творческого потенциала каждого ребёнка как субъекта отношений с самим собой, другими детьми, взрослыми и миром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бъединение обучения и воспитания в целостный образовательный процесс на основе духовно-нравственных и социокультурных ценностей и принятых в обществе правил и норм поведения в интересах человека, семьи, общества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формирование общей культуры личности детей, в том числе ценностей здорового образа жизни, развитие их социальных, нравственных, эстетических, физических, интеллектуальных качеств, инициативности, самостоятельности и ответственности ребёнка, формирование предпосылок учебной деятельности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формирование социокультурной среды, соответствующей возрастным, индивидуальным, психологическим и физиологическим особенностям детей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беспечение психолого-педагогической поддержки семьи и повышение компетентности родителей (законных представителей) в вопросах развития и образования, охраны и укрепления здоровья детей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Задачи коррекционные: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беспечение коррекции нарушений развития детей с ограниченными возможностями здоровья (нарушения слуха), оказание им квалифицированной помощи в освоении АОП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- освоение слабослышащими детьми и детьми, после кохлеарной имплантации, АОП ДО, их разностороннее развитие с учётом возрастных и индивидуальных особенностей и особых образовательных потребностей, социальной адаптации.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457200">
              <a:lnSpc>
                <a:spcPct val="100000"/>
              </a:lnSpc>
              <a:buClr>
                <a:srgbClr val="572314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одзаголовок 2"/>
          <p:cNvSpPr/>
          <p:nvPr/>
        </p:nvSpPr>
        <p:spPr>
          <a:xfrm>
            <a:off x="1258920" y="404640"/>
            <a:ext cx="763416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Программа основывается на следующих научно обоснованных подходах: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коммуникативный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- последовательность формирования речи как средства общения и познания окружающего мира, использование в обучении детей с ОВЗ разных форм словесной речи в зависимости от этапа обучения;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деятельностный 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троится на признании того факта, что развитие личности детей с ОВЗ, определяется характером организации доступной им деятельности: частично речевой, предметно-практической, игровой, изобразительной, конструктивной, трудовой; полноценное формирование этих видов деятельности у детей с ОВЗ происходит в процессе целенаправленного воздействия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личностный 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редполагает отношение к каждому ребёнку как к самостоятельной ценности, принятие его таким, каков он есть;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культурологический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- ориентирует образование на формирование общей культуры ребёнка, освоение им общечеловеческих культурных ценностей; 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500" spc="-1" strike="noStrike" u="sng">
                <a:solidFill>
                  <a:srgbClr val="320e04"/>
                </a:solidFill>
                <a:uFillTx/>
                <a:latin typeface="Times New Roman"/>
                <a:ea typeface="Times New Roman"/>
              </a:rPr>
              <a:t>дифференцированный</a:t>
            </a: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 - предполагает учет особых образовательных потребностей детей с ОВЗ, которые проявляются в неоднородности по возможностям освоения содержания образования; применение данного подхода к созданию образовательных программ обеспечивает разнообразие содержания, предоставляя детям с ОВЗ возможность реализовать индивидуальный потенциал развития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ограмма основывается также на универсальных ценностях, зафиксированных в Федеральном Законе «Об образовании в Российской Федерации», Конвенции ООН о правах ребёнка, в которых установлено право каждого ребёнка на качественное образование, на развитие личности, на раскрытие индивидуальных способностей и дарований; образовательная деятельность ДОО должна строиться на уважении к личности ребёнка, к родителям как первым воспитателям и к укладу семьи как первичного места социализации ребёнка.</a:t>
            </a:r>
            <a:endParaRPr b="0" lang="en-US" sz="15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187280" y="189000"/>
            <a:ext cx="7777440" cy="6480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ринципы и подходы к формированию программы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лноценное проживание ребёнком всех этапов детства (младенческого, раннего и дошкольного возраста), обогащение (амплификация) детского развития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строение образовательной деятельности на основе индивидуальных особенностей каждого ребенка, при котором сам ребенок становится активным в выборе содержания своего образования, становится субъектом образования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одействие и сотрудничество детей и взрослых (партнерство), признание ребенка полноценным участником (субъектом) образовательных отношений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оддержка инициативы детей в различных видах деятельности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тесное сотрудничество ДОУ с семьёй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приобщение детей к социокультурным нормам, традициям семьи, общества и государства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формирование познавательных интересов и познавательных действий ребенка в различных видах деятельности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озрастная адекватность дошкольного образования (соответствие условий, требований, методов возрасту и особенностям развития ребенка).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пецифические принципы формирования программы: 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единство развития и коррекции (коррекционная работа осуществляется только на основе анализа внутренних и внешних условий развития ребенка, с учетом возрастных закономерностей развития и характера нарушений);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единство диагностики и коррекции развития (цели и содержание коррекционной работы могут определяться на основе комплексного, системного, целостного, динамического изучения ребенка)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заимосвязь коррекции и компенсации (система коррекционной работы призвана компенсировать нарушения в развитии и направлена на реабилитацию и социальную адаптацию ребенка с проблемами слуха)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учет возрастных психологических и индивидуальных особенностей развития; 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27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организация атмосферы успеха для ребенка, веру в ее положительный результат, поощрение его малейших достижений.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238040" y="309600"/>
            <a:ext cx="7623000" cy="1967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Планируемые результаты освоения АОП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В соответствии с ФГОС ДО специфика дошкольного детства и системные особенности дошкольного образования делают неправомерными требования от дошкольника конкретных образовательных достижений. Поэтому результаты освоения Программы представлены в виде целевых ориентиров и представляют собой возрастные характеристики возможных достижений слабослышащих и позднооглохших детей к концу дошкольного образования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Подзаголовок 2"/>
          <p:cNvSpPr/>
          <p:nvPr/>
        </p:nvSpPr>
        <p:spPr>
          <a:xfrm>
            <a:off x="1100160" y="2276640"/>
            <a:ext cx="77612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Система оценки качества дошкольного образования: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должна быть сфокусирована на оценивании психолого-педагогических и других условий реализации АООП в ДОУ в пяти образовательных областях (по ФГОС ДО)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учитывает образовательные предпочтения и удовлетворенность дошкольным образованием со стороны семьи слабослышащих детей и детей, после кохлеарной имплантации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сключает использование оценки индивидуального развития ребенка в контексте оценки работы ДОУ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сключает унификацию и поддерживает вариативность программ, форм и методов дошкольного образования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способствует открытости по отношению к ожиданиям слабослышащих детей и детей,  после кохлеарной имплантации, семьи, педагогов, общества и государства;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включает как оценку педагогами ДОУ собственной работы, так и независимую профессиональную и общественную оценку условий образовательной деятельности в ДОУ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20e04"/>
                </a:solidFill>
                <a:latin typeface="Times New Roman"/>
                <a:ea typeface="Times New Roman"/>
              </a:rPr>
              <a:t>- использует единые инструменты, оценивающие условия реализации программы в ДОУ, как для самоанализа, так и для внешнего оценивания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25T11:08:42Z</dcterms:created>
  <dc:creator>Борис</dc:creator>
  <dc:description/>
  <dc:language>en-US</dc:language>
  <cp:lastModifiedBy>Борис</cp:lastModifiedBy>
  <dcterms:modified xsi:type="dcterms:W3CDTF">2017-10-11T14:53:44Z</dcterms:modified>
  <cp:revision>28</cp:revision>
  <dc:subject/>
  <dc:title>Разработка адаптированной образовательной программы  дошкольного образования для детей с ограниченными возможностями (ОВЗ) по нозологической группе: слабослышащих детей и детей, после кохлеарной имплантации.</dc:title>
</cp:coreProperties>
</file>