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9F2D-199D-47CC-9F3C-1105564C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909-C59F-4D8C-AEAE-53B70072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537-A375-44C2-B86E-A024BB29C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B4F-4407-40FD-BE18-E350E4DD6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314D-D946-4A3B-BBB1-C82E438DE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622-9ED6-410B-98FC-86E00F9A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F94F-A7E6-4C16-9FE2-A30C4B96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4A95-FD2F-4994-8379-7309AC8A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11C-C248-4ACD-BE0D-A1FCF67A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E424-63F7-4682-9B21-C23F5E6D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8DFD-4E61-4FF6-8B13-F659E66B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479-5D27-4E2A-AED7-24C81B56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549C-480F-4142-95C1-C78E4C353DA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55;&#1088;&#1077;&#1086;&#1073;&#1088;&#1072;&#1079;&#1086;&#1074;&#1072;&#1085;&#1080;&#1103;%20&#1075;&#1088;&#1072;&#1092;&#1080;&#1082;&#1086;&#1074;.%20&#1041;&#1072;&#1081;&#1073;&#1091;&#1088;&#1086;&#1074;.pptx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357120"/>
            <a:ext cx="734400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68bc7"/>
                </a:solidFill>
                <a:latin typeface="Monotype Corsiva"/>
                <a:ea typeface="Malgun Gothic"/>
              </a:rPr>
              <a:t>Графический способ решения уравнений с параметрам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Решим задачу.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000" y="1599840"/>
            <a:ext cx="82184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368bc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Найдите все положительные значения параметра а, при каждом из которых уравнение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|2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х + 2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|+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3=|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х - а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|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имеет единственное решение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7812000" y="5445000"/>
            <a:ext cx="1152720" cy="360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8bc7"/>
                </a:solidFill>
                <a:latin typeface="Monotype Corsiva"/>
              </a:rPr>
              <a:t>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368bc7"/>
              </a:solidFill>
              <a:latin typeface="Monotype Corsiv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Ответ: </a:t>
            </a:r>
            <a:r>
              <a:rPr b="1" lang="en-US" sz="5400" spc="-1" strike="noStrike">
                <a:solidFill>
                  <a:srgbClr val="368bc7"/>
                </a:solidFill>
                <a:latin typeface="Monotype Corsiva"/>
              </a:rPr>
              <a:t>a </a:t>
            </a:r>
            <a:r>
              <a:rPr b="1" lang="en-US" sz="5400" spc="-1" strike="noStrike">
                <a:solidFill>
                  <a:srgbClr val="368bc7"/>
                </a:solidFill>
                <a:latin typeface="Monotype Corsiva"/>
                <a:ea typeface="Verdana"/>
              </a:rPr>
              <a:t>= 2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876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Закончите фразу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14200" y="178596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Я умею (знаю)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Для того, чтобы решать задачи уровня сложности сегодняшних заданий, я должен хорошо знать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Мне необходимо еще раз вернуться к  таким темам, как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Домашнее задание</a:t>
            </a:r>
            <a:r>
              <a:rPr b="1" lang="en-US" sz="5400" spc="-1" strike="noStrike">
                <a:solidFill>
                  <a:srgbClr val="368bc7"/>
                </a:solidFill>
                <a:latin typeface="Monotype Corsiva"/>
              </a:rPr>
              <a:t>.</a:t>
            </a: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-360" y="150012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  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Найдите все значения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a,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</a:rPr>
              <a:t> при каждом из которых график функции 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</a:rPr>
              <a:t>f(x) = x</a:t>
            </a:r>
            <a:r>
              <a:rPr b="0" lang="en-US" sz="4800" spc="-1" strike="noStrike">
                <a:solidFill>
                  <a:srgbClr val="368bc7"/>
                </a:solidFill>
                <a:latin typeface="Monotype Corsiva"/>
                <a:ea typeface="Verdana"/>
              </a:rPr>
              <a:t>² - |x² + 2x - 3|- a 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  <a:ea typeface="Verdana"/>
              </a:rPr>
              <a:t>пересекает ось абсцисс более, чем в двух различных точках (</a:t>
            </a:r>
            <a:r>
              <a:rPr b="0" lang="ru-RU" sz="4800" spc="-1" strike="noStrike" u="sng">
                <a:solidFill>
                  <a:srgbClr val="368bc7"/>
                </a:solidFill>
                <a:uFillTx/>
                <a:latin typeface="Monotype Corsiva"/>
                <a:ea typeface="Verdana"/>
              </a:rPr>
              <a:t>решить графически)</a:t>
            </a:r>
            <a:r>
              <a:rPr b="0" lang="ru-RU" sz="4800" spc="-1" strike="noStrike">
                <a:solidFill>
                  <a:srgbClr val="368bc7"/>
                </a:solidFill>
                <a:latin typeface="Monotype Corsiva"/>
                <a:ea typeface="Verdana"/>
              </a:rPr>
              <a:t>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95280" y="999720"/>
            <a:ext cx="844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3cddd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368bc7"/>
                </a:solidFill>
                <a:latin typeface="Monotype Corsiva"/>
              </a:rPr>
              <a:t>Математик так же, как   художник  или поэт, создает узоры. И если его узоры более устойчивы, то лишь потому, что они созданы из идей </a:t>
            </a:r>
            <a:r>
              <a:rPr b="1" lang="ru-RU" sz="4400" spc="-1" strike="noStrike">
                <a:solidFill>
                  <a:srgbClr val="368bc7"/>
                </a:solidFill>
                <a:latin typeface="Monotype Corsiva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5857920" y="471492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68bc7"/>
                </a:solidFill>
                <a:latin typeface="Arial"/>
              </a:rPr>
              <a:t>Г. Х. Хар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Повтори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определение функ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определение графика функции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что значит решить уравнени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что значит решить уравнение с параметр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графический способ решения уравнени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368bc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графический способ решения уравнений с параметр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2876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Вспомним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68bc7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4280" y="2356920"/>
            <a:ext cx="6972480" cy="256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Основные способы преобразования графиков функц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42560" y="3716280"/>
            <a:ext cx="7559640" cy="21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440" y="928440"/>
            <a:ext cx="7343640" cy="36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68bc7"/>
                </a:solidFill>
                <a:latin typeface="Monotype Corsiva"/>
                <a:ea typeface="Malgun Gothic"/>
              </a:rPr>
              <a:t>Графический способ решения уравнений с параметрам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68bc7"/>
                </a:solidFill>
                <a:latin typeface="Monotype Corsiva"/>
              </a:rPr>
              <a:t>Применим</a:t>
            </a:r>
            <a:r>
              <a:rPr b="1" lang="ru-RU" sz="6600" spc="-1" strike="noStrike">
                <a:solidFill>
                  <a:srgbClr val="368bc7"/>
                </a:solidFill>
                <a:latin typeface="Monotype Corsiva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60020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3cdd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0" descr="Scan0002"/>
          <p:cNvPicPr/>
          <p:nvPr/>
        </p:nvPicPr>
        <p:blipFill>
          <a:blip r:embed="rId1"/>
          <a:stretch/>
        </p:blipFill>
        <p:spPr>
          <a:xfrm>
            <a:off x="1258920" y="1557360"/>
            <a:ext cx="7111800" cy="5111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0" descr="Scan0002"/>
          <p:cNvPicPr/>
          <p:nvPr/>
        </p:nvPicPr>
        <p:blipFill>
          <a:blip r:embed="rId1"/>
          <a:stretch/>
        </p:blipFill>
        <p:spPr>
          <a:xfrm>
            <a:off x="0" y="404640"/>
            <a:ext cx="8964720" cy="6453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13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68bc7"/>
                </a:solidFill>
                <a:latin typeface="Monotype Corsiva"/>
              </a:rPr>
              <a:t>Проекты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13:30:22Z</dcterms:created>
  <dc:creator>AlinaSt</dc:creator>
  <dc:description/>
  <dc:language>en-US</dc:language>
  <cp:lastModifiedBy>АБАК</cp:lastModifiedBy>
  <dcterms:modified xsi:type="dcterms:W3CDTF">2014-12-10T13:07:05Z</dcterms:modified>
  <cp:revision>78</cp:revision>
  <dc:subject/>
  <dc:title>Применение понятия функции в решении функциональных уравнений и систем уравнений</dc:title>
</cp:coreProperties>
</file>