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CAC-EA8A-47F2-95D6-078AEF5A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3FA-92AE-42CF-82E2-04D3F465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C59-5DDC-490E-B135-B4A52FCC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84A-98C6-4634-B048-90801A42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144-04B0-4966-88A6-6FABADC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74F-E31A-4431-8F43-C8DE07FC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693-9D52-4351-ACDD-88D0F490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FE5-9C58-4CBF-8B65-72E751AD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20B-4205-436C-B7C9-F9B43D53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975-2F89-4E48-AC77-7C3FADF8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2AF-B3FE-43ED-A46F-2C57C81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4AA-A567-40ED-BF04-E3A6860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8A61-978D-499E-BF20-D10050204F2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86;&#1073;&#1088;&#1072;&#1079;&#1086;&#1074;&#1072;&#1085;&#1080;&#1103;%20&#1075;&#1088;&#1072;&#1092;&#1080;&#1082;&#1086;&#1074;.%20&#1041;&#1072;&#1081;&#1073;&#1091;&#1088;&#1086;&#1074;.pptx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57120"/>
            <a:ext cx="73440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68bc7"/>
                </a:solidFill>
                <a:latin typeface="Monotype Corsiva"/>
                <a:ea typeface="Malgun Gothic"/>
              </a:rPr>
              <a:t>Графический способ решения уравнений с параметрам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Решим задачу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368bc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Найдите все положительные значения параметра а, при каждом из которых уравнение 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|2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х + 2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|+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3=|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х - а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|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 имеет единственное решени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7812000" y="5445000"/>
            <a:ext cx="1152720" cy="360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68bc7"/>
                </a:solidFill>
                <a:latin typeface="Monotype Corsiva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368bc7"/>
              </a:solidFill>
              <a:latin typeface="Monotype Corsiv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160020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Ответ: </a:t>
            </a:r>
            <a:r>
              <a:rPr b="1" lang="en-US" sz="5400" spc="-1" strike="noStrike">
                <a:solidFill>
                  <a:srgbClr val="368bc7"/>
                </a:solidFill>
                <a:latin typeface="Monotype Corsiva"/>
              </a:rPr>
              <a:t>a </a:t>
            </a:r>
            <a:r>
              <a:rPr b="1" lang="en-US" sz="5400" spc="-1" strike="noStrike">
                <a:solidFill>
                  <a:srgbClr val="368bc7"/>
                </a:solidFill>
                <a:latin typeface="Monotype Corsiva"/>
                <a:ea typeface="Verdana"/>
              </a:rPr>
              <a:t>= 2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Закончите фразу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4200" y="178596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Я умею (знаю)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Для того, чтобы решать задачи уровня сложности сегодняшних заданий, я должен хорошо знать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Мне необходимо еще раз вернуться к  таким темам, как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Домашнее задание</a:t>
            </a:r>
            <a:r>
              <a:rPr b="1" lang="en-US" sz="5400" spc="-1" strike="noStrike">
                <a:solidFill>
                  <a:srgbClr val="368bc7"/>
                </a:solidFill>
                <a:latin typeface="Monotype Corsiva"/>
              </a:rPr>
              <a:t>.</a:t>
            </a: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150012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   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Найдите все значения 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a,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 при каждом из которых график функции 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f(x) = x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  <a:ea typeface="Verdana"/>
              </a:rPr>
              <a:t>² - |x² + 2x - 3|- a 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  <a:ea typeface="Verdana"/>
              </a:rPr>
              <a:t>пересекает ось абсцисс более, чем в двух различных точках (</a:t>
            </a:r>
            <a:r>
              <a:rPr b="0" lang="ru-RU" sz="4800" spc="-1" strike="noStrike" u="sng">
                <a:solidFill>
                  <a:srgbClr val="368bc7"/>
                </a:solidFill>
                <a:uFillTx/>
                <a:latin typeface="Monotype Corsiva"/>
                <a:ea typeface="Verdana"/>
              </a:rPr>
              <a:t>решить графически)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  <a:ea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95280" y="999720"/>
            <a:ext cx="844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3cddd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368bc7"/>
                </a:solidFill>
                <a:latin typeface="Monotype Corsiva"/>
              </a:rPr>
              <a:t>Математик так же, как   художник  или поэт, создает узоры. И если его узоры более устойчивы, то лишь потому, что они созданы из идей </a:t>
            </a:r>
            <a:r>
              <a:rPr b="1" lang="ru-RU" sz="4400" spc="-1" strike="noStrike">
                <a:solidFill>
                  <a:srgbClr val="368bc7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857920" y="47149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8bc7"/>
                </a:solidFill>
                <a:latin typeface="Arial"/>
              </a:rPr>
              <a:t>Г. Х. Хар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Повтори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160020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определение функ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определение графика функ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что значит решить уравнени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что значит решить уравнение с параметр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графический способ решения уравнен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графический способ решения уравнений с параметр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Вспомним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160020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4280" y="2356920"/>
            <a:ext cx="6972480" cy="25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сновные способы преобразования графиков функц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3716280"/>
            <a:ext cx="755964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440" y="928440"/>
            <a:ext cx="7343640" cy="36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68bc7"/>
                </a:solidFill>
                <a:latin typeface="Monotype Corsiva"/>
                <a:ea typeface="Malgun Gothic"/>
              </a:rPr>
              <a:t>Графический способ решения уравнений с параметрам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Применим</a:t>
            </a:r>
            <a:r>
              <a:rPr b="1" lang="ru-RU" sz="6600" spc="-1" strike="noStrike">
                <a:solidFill>
                  <a:srgbClr val="368bc7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160020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3c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0" descr="Scan0002"/>
          <p:cNvPicPr/>
          <p:nvPr/>
        </p:nvPicPr>
        <p:blipFill>
          <a:blip r:embed="rId1"/>
          <a:stretch/>
        </p:blipFill>
        <p:spPr>
          <a:xfrm>
            <a:off x="1258920" y="1557360"/>
            <a:ext cx="7111800" cy="511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0" descr="Scan0002"/>
          <p:cNvPicPr/>
          <p:nvPr/>
        </p:nvPicPr>
        <p:blipFill>
          <a:blip r:embed="rId1"/>
          <a:stretch/>
        </p:blipFill>
        <p:spPr>
          <a:xfrm>
            <a:off x="0" y="404640"/>
            <a:ext cx="8964720" cy="645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68bc7"/>
                </a:solidFill>
                <a:latin typeface="Monotype Corsiva"/>
              </a:rPr>
              <a:t>Проект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3:30:22Z</dcterms:created>
  <dc:creator>AlinaSt</dc:creator>
  <dc:description/>
  <dc:language>en-US</dc:language>
  <cp:lastModifiedBy>АБАК</cp:lastModifiedBy>
  <dcterms:modified xsi:type="dcterms:W3CDTF">2014-12-10T13:07:05Z</dcterms:modified>
  <cp:revision>78</cp:revision>
  <dc:subject/>
  <dc:title>Применение понятия функции в решении функциональных уравнений и систем уравнений</dc:title>
</cp:coreProperties>
</file>