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E040-A832-45E5-8189-D8D9FD084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C871-CB76-4412-95A8-60B58A41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7E1D-976C-4FAD-B02F-FA461D25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057B-6E7B-4378-9773-F1C287818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A04FBC-2203-44A2-8477-AF26F2DD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1FD80-D7E8-469E-9442-4F5CBAC3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86B30-11F0-4B58-8B41-1002E43B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EEF9F-C637-4279-8BCD-CDEAA990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3DF28-1442-4CE9-AC32-839D543E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C5844-1C1D-4C4A-9F8C-4BE6F00D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9FFD1-DF8B-4DFF-AEA5-DA90C95D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93EB-CDDD-4DE6-8DFF-566694D4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A0400-7364-4223-9043-BD64F2DA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1697D-9D8D-4982-9C0D-73890386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DD28E-BE8F-49A9-8ECE-CA239872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2D53D-D118-4769-89EB-52A4F26F7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47430-FCB7-4CCF-B895-CCEA90BD3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FB7F5-2430-4935-91F1-1B03ADDC8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EB398-1A69-42ED-B2FE-4A3C67F6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E5E61-5E43-4413-86F9-05D680ED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DF20E-7106-4E35-8DD2-89F1ED24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F8BCC-389A-4B67-AC51-18737871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FFA2-5529-4156-8A87-A5B54D88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97433-BA9C-4741-98DD-8A50A531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9F5DB-87BF-40A9-B593-717A2E94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F8435-7C3E-488D-B4FD-4AA0D0FB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E16AB-B18C-42FE-9B9A-ABEFD98E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C18E0-9F1C-44BC-B4CA-5624D9D1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66D1E-128B-4C47-87F0-12D9D25D5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4D56B-F1A7-4B7C-8F21-D480231E4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42F5A6-9D85-4E48-ADE3-67B5D819A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E87CF1-89DB-4A03-B42E-5659EB65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0F9ACA-7D3E-48F1-986F-DAD9E4ED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993B-348E-4DD1-997B-4A260BC0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53A345-2554-4B89-85F6-DD87E9FE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FB1ADB-29AE-4F1C-899A-50A0BF9B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2AC2B7-2156-4EEC-A668-A8F7925B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F024F1-39D8-4431-A078-2BFB89C4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C54B26-77B9-4A6A-9373-703B43EC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B4D31E-48DF-46EB-B871-0BE864EC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A60AAD-756F-4975-8560-8DCBBB9C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5D01E1-C817-49BE-9C94-14AA8D728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53ACA8-8698-4A03-84C9-EB558A511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9ED997-81A5-459C-A1DC-C3822D3DA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0782-4697-45E7-89CB-03802FA4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EB8FA5-95BF-42EE-85E3-835FB7BD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53CA5D-B3B7-4332-BA7A-4F8E3EF2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B659B5-6EA7-4A57-99E6-D53404E5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D9F663-CC42-4744-B23E-31A200F4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3FB4F1-0D0D-4269-A355-D99D7439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DC5C5B-F2B9-47BA-AA3B-9FC3BA3E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F55731-FF0D-4C14-B1F4-CDC4870A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0EBEF2-5338-44A4-95F0-CED2FB19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BA131D-5D74-40BC-A792-39181C9A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E5325E-D252-463D-AE39-6E6421018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0E7B-CFE4-4C76-8288-D0F57A1B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73E6E2-EACD-4567-8FCC-7D4EAC443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3A3C4B-D926-43B9-B16D-5B4DE8B5C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B64433-6B7E-4B5B-B2D2-F9D87E4D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2DB984-F5DE-49EE-BDF8-043A2D7C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FD8284-6F91-45C6-8BD7-71FF9C32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F70728-0308-4669-A351-19F2E407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2B708D-F1BA-422A-925B-74EBFE24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3FE945-670C-42B2-94D7-7E117C34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93BC78-5EB7-48B8-A8C6-BE886FFF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2CDF7C-CA32-4449-BE37-A54E1CC1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4C02-C4E6-421D-A761-073F0185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3C7641-19E3-4F22-8FF8-84C5E688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0038B7-8E83-455B-9C82-EFDD57BFD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8C0D49-8065-4BCF-A0E3-1B859713D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B2AE-135C-49A6-9181-45816E3F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7E38-C9A6-41C1-A4A6-93A85628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0AE1-3225-4EBF-BABC-8E6FBB077052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0B36-2E91-46E3-8CB1-8429B860D64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E406-96B0-450D-A5B0-1914AC4818E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4F2A-D109-47B9-8138-8AB52044014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EC01-9C93-4E5F-9281-9A891943DBB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B6C4-1A1C-4F5A-A3BF-BF43D73A77D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28760" y="500040"/>
            <a:ext cx="8143920" cy="61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613"/>
                </a:solidFill>
                <a:latin typeface="Times New Roman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222613"/>
                </a:solidFill>
                <a:latin typeface="Times New Roman"/>
                <a:ea typeface="Times New Roman"/>
              </a:rPr>
              <a:t>In Greece, the winters are quite </a:t>
            </a:r>
            <a:r>
              <a:rPr b="1" lang="en-US" sz="2400" spc="-1" strike="noStrike" u="sng">
                <a:solidFill>
                  <a:srgbClr val="222613"/>
                </a:solidFill>
                <a:uFillTx/>
                <a:latin typeface="Times New Roman"/>
                <a:ea typeface="Times New Roman"/>
              </a:rPr>
              <a:t>mild 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613"/>
                </a:solidFill>
                <a:latin typeface="Times New Roman"/>
                <a:ea typeface="Times New Roman"/>
              </a:rPr>
              <a:t>2. The pollution in this city is terrible when we have a </a:t>
            </a:r>
            <a:r>
              <a:rPr b="1" lang="en-US" sz="2400" spc="-1" strike="noStrike" u="sng">
                <a:solidFill>
                  <a:srgbClr val="222613"/>
                </a:solidFill>
                <a:uFillTx/>
                <a:latin typeface="Times New Roman"/>
                <a:ea typeface="Times New Roman"/>
              </a:rPr>
              <a:t>heatwave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613"/>
                </a:solidFill>
                <a:latin typeface="Times New Roman"/>
                <a:ea typeface="Times New Roman"/>
              </a:rPr>
              <a:t>3. I think I`ll wear a scarf  because it`s a little </a:t>
            </a:r>
            <a:r>
              <a:rPr b="1" lang="en-US" sz="2400" spc="-1" strike="noStrike" u="sng">
                <a:solidFill>
                  <a:srgbClr val="222613"/>
                </a:solidFill>
                <a:uFillTx/>
                <a:latin typeface="Times New Roman"/>
                <a:ea typeface="Times New Roman"/>
              </a:rPr>
              <a:t>chilly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613"/>
                </a:solidFill>
                <a:latin typeface="Times New Roman"/>
                <a:ea typeface="Times New Roman"/>
              </a:rPr>
              <a:t>4.When the weather is wet and hot, it feels very </a:t>
            </a:r>
            <a:r>
              <a:rPr b="1" lang="en-US" sz="2400" spc="-1" strike="noStrike" u="sng">
                <a:solidFill>
                  <a:srgbClr val="222613"/>
                </a:solidFill>
                <a:uFillTx/>
                <a:latin typeface="Times New Roman"/>
                <a:ea typeface="Times New Roman"/>
              </a:rPr>
              <a:t>humid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613"/>
                </a:solidFill>
                <a:latin typeface="Times New Roman"/>
                <a:ea typeface="Times New Roman"/>
              </a:rPr>
              <a:t>5.Don`t forget your </a:t>
            </a:r>
            <a:r>
              <a:rPr b="1" lang="en-US" sz="2400" spc="-1" strike="noStrike" u="sng">
                <a:solidFill>
                  <a:srgbClr val="222613"/>
                </a:solidFill>
                <a:uFillTx/>
                <a:latin typeface="Times New Roman"/>
                <a:ea typeface="Times New Roman"/>
              </a:rPr>
              <a:t>raincoat / mac </a:t>
            </a:r>
            <a:r>
              <a:rPr b="0" lang="en-US" sz="2400" spc="-1" strike="noStrike">
                <a:solidFill>
                  <a:srgbClr val="222613"/>
                </a:solidFill>
                <a:latin typeface="Times New Roman"/>
                <a:ea typeface="Times New Roman"/>
              </a:rPr>
              <a:t>if you`re going out in this rain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613"/>
                </a:solidFill>
                <a:latin typeface="Times New Roman"/>
                <a:ea typeface="Times New Roman"/>
              </a:rPr>
              <a:t>6.I  prefer wearing a </a:t>
            </a:r>
            <a:r>
              <a:rPr b="1" lang="en-US" sz="2400" spc="-1" strike="noStrike" u="sng">
                <a:solidFill>
                  <a:srgbClr val="222613"/>
                </a:solidFill>
                <a:uFillTx/>
                <a:latin typeface="Times New Roman"/>
                <a:ea typeface="Times New Roman"/>
              </a:rPr>
              <a:t>bikini</a:t>
            </a:r>
            <a:r>
              <a:rPr b="0" lang="en-US" sz="2400" spc="-1" strike="noStrike">
                <a:solidFill>
                  <a:srgbClr val="222613"/>
                </a:solidFill>
                <a:latin typeface="Times New Roman"/>
                <a:ea typeface="Times New Roman"/>
              </a:rPr>
              <a:t> to an all-in-one swimsuit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613"/>
                </a:solidFill>
                <a:latin typeface="Times New Roman"/>
                <a:ea typeface="Times New Roman"/>
              </a:rPr>
              <a:t>7. </a:t>
            </a:r>
            <a:r>
              <a:rPr b="1" lang="en-US" sz="2400" spc="-1" strike="noStrike" u="sng">
                <a:solidFill>
                  <a:srgbClr val="222613"/>
                </a:solidFill>
                <a:uFillTx/>
                <a:latin typeface="Times New Roman"/>
                <a:ea typeface="Times New Roman"/>
              </a:rPr>
              <a:t>Wellingtons/ wellies </a:t>
            </a:r>
            <a:r>
              <a:rPr b="0" lang="en-US" sz="2400" spc="-1" strike="noStrike">
                <a:solidFill>
                  <a:srgbClr val="222613"/>
                </a:solidFill>
                <a:latin typeface="Times New Roman"/>
                <a:ea typeface="Times New Roman"/>
              </a:rPr>
              <a:t>are the best boots when it`s raining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613"/>
                </a:solidFill>
                <a:latin typeface="Times New Roman"/>
                <a:ea typeface="Times New Roman"/>
              </a:rPr>
              <a:t>8.I  know it`s raining but it`s only a </a:t>
            </a:r>
            <a:r>
              <a:rPr b="1" lang="en-US" sz="2400" spc="-1" strike="noStrike" u="sng">
                <a:solidFill>
                  <a:srgbClr val="222613"/>
                </a:solidFill>
                <a:uFillTx/>
                <a:latin typeface="Times New Roman"/>
                <a:ea typeface="Times New Roman"/>
              </a:rPr>
              <a:t>shower</a:t>
            </a:r>
            <a:r>
              <a:rPr b="0" lang="en-US" sz="2400" spc="-1" strike="noStrike">
                <a:solidFill>
                  <a:srgbClr val="222613"/>
                </a:solidFill>
                <a:latin typeface="Times New Roman"/>
                <a:ea typeface="Times New Roman"/>
              </a:rPr>
              <a:t>? It`ll stop in a minute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613"/>
                </a:solidFill>
                <a:latin typeface="Times New Roman"/>
                <a:ea typeface="Times New Roman"/>
              </a:rPr>
              <a:t>9. The forecast said that the rain should </a:t>
            </a:r>
            <a:r>
              <a:rPr b="1" lang="en-US" sz="2400" spc="-1" strike="noStrike" u="sng">
                <a:solidFill>
                  <a:srgbClr val="222613"/>
                </a:solidFill>
                <a:uFillTx/>
                <a:latin typeface="Times New Roman"/>
                <a:ea typeface="Times New Roman"/>
              </a:rPr>
              <a:t>clear up </a:t>
            </a:r>
            <a:r>
              <a:rPr b="0" lang="en-US" sz="2400" spc="-1" strike="noStrike">
                <a:solidFill>
                  <a:srgbClr val="222613"/>
                </a:solidFill>
                <a:latin typeface="Times New Roman"/>
                <a:ea typeface="Times New Roman"/>
              </a:rPr>
              <a:t>by this  afternoon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613"/>
                </a:solidFill>
                <a:latin typeface="Times New Roman"/>
                <a:ea typeface="Times New Roman"/>
              </a:rPr>
              <a:t>10.We`ll be going to the beach? So don`t forget your </a:t>
            </a:r>
            <a:r>
              <a:rPr b="1" lang="en-US" sz="2400" spc="-1" strike="noStrike" u="sng">
                <a:solidFill>
                  <a:srgbClr val="222613"/>
                </a:solidFill>
                <a:uFillTx/>
                <a:latin typeface="Times New Roman"/>
                <a:ea typeface="Times New Roman"/>
              </a:rPr>
              <a:t>suncream</a:t>
            </a:r>
            <a:r>
              <a:rPr b="0" lang="en-US" sz="2400" spc="-1" strike="noStrike">
                <a:solidFill>
                  <a:srgbClr val="222613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1214280" y="-463680"/>
            <a:ext cx="68580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Your penfriend is planning to visit you in February and has written to you asking what weather to expect and what clothes or other things he/she should bring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42560" y="571320"/>
            <a:ext cx="8543880" cy="60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36142"/>
                </a:solidFill>
                <a:latin typeface="Constantia"/>
              </a:rPr>
              <a:t>Greeting                                                   Dear+first name,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36142"/>
                </a:solidFill>
                <a:latin typeface="Constantia"/>
              </a:rPr>
              <a:t>Asking about  your friend                      Hi! How are things? How are you? How`s it going?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36142"/>
                </a:solidFill>
                <a:latin typeface="Constantia"/>
              </a:rPr>
              <a:t>Reffering to the news                             Great news about...Glad to hear that....Sorry to hear about...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36142"/>
                </a:solidFill>
                <a:latin typeface="Constantia"/>
              </a:rPr>
              <a:t>Giving news                                              Listen, did I tell you about...You`ll never believe that...Oh, and another thing.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36142"/>
                </a:solidFill>
                <a:latin typeface="Constantia"/>
              </a:rPr>
              <a:t>Making suggestions                                 Why don`t you...?  Maybe you could...  How about...?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36142"/>
                </a:solidFill>
                <a:latin typeface="Constantia"/>
              </a:rPr>
              <a:t>Closing expressions                                 Well, got to go now. Give my love to... Say hello to... See you soon!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36142"/>
                </a:solidFill>
                <a:latin typeface="Constantia"/>
              </a:rPr>
              <a:t>Signing off                                                 Love,   Lots of love,   Yours,  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36142"/>
                </a:solidFill>
                <a:latin typeface="Constantia"/>
              </a:rPr>
              <a:t>Name                                                          Your first name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42960" y="40680"/>
            <a:ext cx="804384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a1d"/>
                </a:solidFill>
                <a:latin typeface="Constantia"/>
              </a:rPr>
              <a:t>1.          a. thank my penfriend fof his/her last  letter and refer to sth he/she                  said in it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a1d"/>
                </a:solidFill>
                <a:latin typeface="Constantia"/>
              </a:rPr>
              <a:t>2.          b. say why I have to stop and close the letter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a1d"/>
                </a:solidFill>
                <a:latin typeface="Constantia"/>
              </a:rPr>
              <a:t>3.          c.  Suggest other items I think my penfriend might need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a1d"/>
                </a:solidFill>
                <a:latin typeface="Constantia"/>
              </a:rPr>
              <a:t>4.          d.  Suggest clothes clothes I think my penfriend might need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a1d"/>
                </a:solidFill>
                <a:latin typeface="Constanti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00000"/>
                </a:solidFill>
                <a:uFillTx/>
                <a:latin typeface="Constantia"/>
              </a:rPr>
              <a:t>Now I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1" name="Rectangle 2" descr=""/>
          <p:cNvPicPr/>
          <p:nvPr/>
        </p:nvPicPr>
        <p:blipFill>
          <a:blip r:embed="rId1"/>
          <a:stretch/>
        </p:blipFill>
        <p:spPr>
          <a:xfrm>
            <a:off x="420840" y="189000"/>
            <a:ext cx="8424720" cy="1841400"/>
          </a:xfrm>
          <a:prstGeom prst="rect">
            <a:avLst/>
          </a:prstGeom>
          <a:ln w="0">
            <a:noFill/>
          </a:ln>
        </p:spPr>
      </p:pic>
      <p:sp>
        <p:nvSpPr>
          <p:cNvPr id="262" name="Line 5"/>
          <p:cNvSpPr/>
          <p:nvPr/>
        </p:nvSpPr>
        <p:spPr>
          <a:xfrm flipV="1">
            <a:off x="2057400" y="2971800"/>
            <a:ext cx="12952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Line 6"/>
          <p:cNvSpPr/>
          <p:nvPr/>
        </p:nvSpPr>
        <p:spPr>
          <a:xfrm>
            <a:off x="2209680" y="3809880"/>
            <a:ext cx="129564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3353760" y="269892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onstantia"/>
              </a:rPr>
              <a:t>know how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3548160" y="4299120"/>
            <a:ext cx="56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44e6d"/>
                </a:solidFill>
                <a:latin typeface="Constantia"/>
              </a:rPr>
              <a:t>can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6" name="Line 9"/>
          <p:cNvSpPr/>
          <p:nvPr/>
        </p:nvSpPr>
        <p:spPr>
          <a:xfrm>
            <a:off x="5029200" y="2895480"/>
            <a:ext cx="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7" name="Line 10"/>
          <p:cNvSpPr/>
          <p:nvPr/>
        </p:nvSpPr>
        <p:spPr>
          <a:xfrm flipV="1">
            <a:off x="5029200" y="2514240"/>
            <a:ext cx="6094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Line 11"/>
          <p:cNvSpPr/>
          <p:nvPr/>
        </p:nvSpPr>
        <p:spPr>
          <a:xfrm>
            <a:off x="5105520" y="31240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Line 12"/>
          <p:cNvSpPr/>
          <p:nvPr/>
        </p:nvSpPr>
        <p:spPr>
          <a:xfrm>
            <a:off x="5105520" y="38098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0" name="Line 13"/>
          <p:cNvSpPr/>
          <p:nvPr/>
        </p:nvSpPr>
        <p:spPr>
          <a:xfrm>
            <a:off x="5105520" y="44197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1" name="Line 14"/>
          <p:cNvSpPr/>
          <p:nvPr/>
        </p:nvSpPr>
        <p:spPr>
          <a:xfrm>
            <a:off x="5105520" y="4800600"/>
            <a:ext cx="76176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Text Box 15"/>
          <p:cNvSpPr/>
          <p:nvPr/>
        </p:nvSpPr>
        <p:spPr>
          <a:xfrm>
            <a:off x="5616000" y="224172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540a"/>
                </a:solidFill>
                <a:latin typeface="Constantia"/>
              </a:rPr>
              <a:t>to speak about…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5641560" y="3003480"/>
            <a:ext cx="323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540a"/>
                </a:solidFill>
                <a:latin typeface="Constantia"/>
              </a:rPr>
              <a:t>understand the information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540a"/>
                </a:solidFill>
                <a:latin typeface="Constantia"/>
              </a:rPr>
              <a:t>about…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5644080" y="3613320"/>
            <a:ext cx="27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540a"/>
                </a:solidFill>
                <a:latin typeface="Constantia"/>
              </a:rPr>
              <a:t>say my opinion about…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5" name="Text Box 18"/>
          <p:cNvSpPr/>
          <p:nvPr/>
        </p:nvSpPr>
        <p:spPr>
          <a:xfrm>
            <a:off x="5900760" y="4146480"/>
            <a:ext cx="20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540a"/>
                </a:solidFill>
                <a:latin typeface="Constantia"/>
              </a:rPr>
              <a:t>give arguments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Text Box 19"/>
          <p:cNvSpPr/>
          <p:nvPr/>
        </p:nvSpPr>
        <p:spPr>
          <a:xfrm>
            <a:off x="5726880" y="5060880"/>
            <a:ext cx="28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540a"/>
                </a:solidFill>
                <a:latin typeface="Constantia"/>
              </a:rPr>
              <a:t>express my opinion on..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55320" cy="12319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9360">
            <a:solidFill>
              <a:srgbClr val="a5b59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c354d"/>
                </a:solidFill>
                <a:latin typeface="Constantia"/>
              </a:rPr>
              <a:t>Weather is a great metaphor for life — sometimes it's good, sometimes it's bad, and there's nothing much you can do about it but carry an umbrella. ~Terri Guillemets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1" name="WordArt 5"/>
          <p:cNvSpPr txBox="1"/>
          <p:nvPr/>
        </p:nvSpPr>
        <p:spPr>
          <a:xfrm>
            <a:off x="1447920" y="1371600"/>
            <a:ext cx="5562360" cy="7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ank you for the lesson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2:36:23Z</dcterms:created>
  <dc:creator>evgeniya</dc:creator>
  <dc:description/>
  <dc:language>en-US</dc:language>
  <cp:lastModifiedBy>evgeniya</cp:lastModifiedBy>
  <dcterms:modified xsi:type="dcterms:W3CDTF">2014-01-31T07:28:32Z</dcterms:modified>
  <cp:revision>50</cp:revision>
  <dc:subject/>
  <dc:title>Слайд 1</dc:title>
</cp:coreProperties>
</file>