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C57F-CC80-4F69-87FF-4CFABDFA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B291-BD8D-4A53-A7EC-C21C217F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5B9A-D925-4F5E-8AF3-810485DF1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2A2A-D83A-4781-9C5D-74FBEB2AC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F3208-54E2-49BF-A571-C1FF3611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A83AC-15E4-4E67-B381-26EFD2A6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85D28-C1D5-4477-82E8-DBBD8C65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B9C9D-BCD7-49E7-A72F-826AA3C7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1F301-DBF7-449A-8009-2FD76ABD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AD8D1-98FD-4CFD-91CB-A3BC017A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79B62-C9D1-415B-B470-C7901110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1299-76B6-439E-8A9E-843A6DD1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DE5D7-5B54-474F-ADC0-C18BDCDD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0BBA0-C3A6-4E7B-88E3-5C74ACFE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EC06F4-EF82-43A7-B54A-10B0B318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353A7-0C22-4409-BDD4-A6A90BD0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20C71-C752-444C-8138-A7AE6E77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CE167-8918-4A70-B9BC-6D9B0889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89939-64A7-422C-9DED-F93A8F80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123F8-7E36-4FB2-80F3-8BB40A76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15FE7-6EFE-4F47-B540-8FC2A7ED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A9E34-224F-405B-B755-76D513572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DC50-92D4-4720-8594-E1ECE67E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6BB15-FE6F-47E3-A544-CD89F97E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7276E-B4BA-4C53-84A4-9D4B6EC5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F5CF0-99E2-4575-8B7D-024C0EDB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80884-5FB7-4076-AF5A-78D8C09A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6A4F0-A46A-4E52-B3EA-B65B3036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E37AE-18F6-4735-9543-531ACF43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AFF55-3381-4021-8BE8-F9E97FAC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52267C-495F-45D3-855F-8C8BDF493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FFB610-73E7-4FD1-B6EC-4D2F5F84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6C3721-C1AD-4D07-A7A3-B9F6F19C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5282-F261-40F8-9083-1C6F2D77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87EEB7-2C30-432B-A1CD-6481701F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C15C7A-CA52-4405-9826-80AB9969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370D00-29CB-4354-BBA1-80221390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E5DC02-95F0-49FE-AFAD-E1D82324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8A54EE-2662-43AC-865A-4AC84CEC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966446-2A47-4F36-B988-5B74FC12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591DF9-10DF-4394-AFC1-9BF73197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77D190-2EF4-4317-9F9D-71785603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A9D3BC-C6B5-41D0-BA8E-64A74757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5D98BE-C419-4304-9782-DD811FDB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DBF3-F047-4584-AA24-4C8443F5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3EE398-B3B0-428A-A80A-CD909A10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D0C90D-F0B6-4526-A710-3B908221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7F8329-129A-4464-94F6-6FB7F1F61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61286E-16BC-4526-B2FE-DE45CBD3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F09C07-6ADD-474B-8937-D9350E3A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320575-59C7-459E-8027-17510F55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15B0BC-A64D-45FE-A74B-F0B9C263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BC8BD4-3AD7-4A1C-88AA-9BE1A623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B81A5E-12F7-4FE8-B89A-C630F512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27A9BB-78C5-430E-89A4-4FAD6AEF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9422-A0DF-4696-A7A4-2584594E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4E9D3A-5367-4AA9-9F39-E0965F09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AB1914-FCCE-4630-9446-9E0727DF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C48A3F-F757-426B-A634-BB5FEFBF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0F5A06-4A3E-45B4-BDA6-3B76EF60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20E8C0-D2F9-400C-ADE5-A71B66F1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25ECB1-2B4D-4A0D-86DE-87D04FEB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09E146-C88E-407A-9EE7-8995B42C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ECF22E-F289-4C7B-B7F1-6AE3AC8B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A715DC-96A7-471E-9DA1-0AF770D7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EBBB74-A62C-4996-9D61-3D15C3F8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2923-9AF0-4F7D-B8D6-C3141497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D44741-6BEE-4D93-8B86-00073605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7C4937-587E-4927-97B1-E09D1795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2C1C4E-832B-427B-88B6-F6877A0B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BB2F-A5B9-47AA-8BFB-E686A240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CE93-E2B5-4B94-B94B-24F2A4A7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A7B0-D655-45D0-AAB0-6026B2EF54EE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EB6F-DCD0-4964-A9A2-B3A190E37D5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B1B5-CFDF-4530-90DB-5147B765214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0562-AD63-46F7-9D07-7E5BE9EE15D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29A0-7D0A-40B6-AA10-E1C64ED9BAF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6836-EB84-4A3F-AD54-15F68671F20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28760" y="500040"/>
            <a:ext cx="814392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In Greece, the winters are quite </a:t>
            </a:r>
            <a:r>
              <a:rPr b="1" lang="en-US" sz="2400" spc="-1" strike="noStrike" u="sng">
                <a:solidFill>
                  <a:srgbClr val="222613"/>
                </a:solidFill>
                <a:uFillTx/>
                <a:latin typeface="Times New Roman"/>
                <a:ea typeface="Times New Roman"/>
              </a:rPr>
              <a:t>mild 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2. The pollution in this city is terrible when we have a </a:t>
            </a:r>
            <a:r>
              <a:rPr b="1" lang="en-US" sz="2400" spc="-1" strike="noStrike" u="sng">
                <a:solidFill>
                  <a:srgbClr val="222613"/>
                </a:solidFill>
                <a:uFillTx/>
                <a:latin typeface="Times New Roman"/>
                <a:ea typeface="Times New Roman"/>
              </a:rPr>
              <a:t>heatwav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3. I think I`ll wear a scarf  because it`s a little </a:t>
            </a:r>
            <a:r>
              <a:rPr b="1" lang="en-US" sz="2400" spc="-1" strike="noStrike" u="sng">
                <a:solidFill>
                  <a:srgbClr val="222613"/>
                </a:solidFill>
                <a:uFillTx/>
                <a:latin typeface="Times New Roman"/>
                <a:ea typeface="Times New Roman"/>
              </a:rPr>
              <a:t>chilly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4.When the weather is wet and hot, it feels very </a:t>
            </a:r>
            <a:r>
              <a:rPr b="1" lang="en-US" sz="2400" spc="-1" strike="noStrike" u="sng">
                <a:solidFill>
                  <a:srgbClr val="222613"/>
                </a:solidFill>
                <a:uFillTx/>
                <a:latin typeface="Times New Roman"/>
                <a:ea typeface="Times New Roman"/>
              </a:rPr>
              <a:t>humid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5.Don`t forget your </a:t>
            </a:r>
            <a:r>
              <a:rPr b="1" lang="en-US" sz="2400" spc="-1" strike="noStrike" u="sng">
                <a:solidFill>
                  <a:srgbClr val="222613"/>
                </a:solidFill>
                <a:uFillTx/>
                <a:latin typeface="Times New Roman"/>
                <a:ea typeface="Times New Roman"/>
              </a:rPr>
              <a:t>raincoat / mac </a:t>
            </a:r>
            <a:r>
              <a:rPr b="0" lang="en-US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if you`re going out in this rain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6.I  prefer wearing a </a:t>
            </a:r>
            <a:r>
              <a:rPr b="1" lang="en-US" sz="2400" spc="-1" strike="noStrike" u="sng">
                <a:solidFill>
                  <a:srgbClr val="222613"/>
                </a:solidFill>
                <a:uFillTx/>
                <a:latin typeface="Times New Roman"/>
                <a:ea typeface="Times New Roman"/>
              </a:rPr>
              <a:t>bikini</a:t>
            </a:r>
            <a:r>
              <a:rPr b="0" lang="en-US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 to an all-in-one swimsuit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7. </a:t>
            </a:r>
            <a:r>
              <a:rPr b="1" lang="en-US" sz="2400" spc="-1" strike="noStrike" u="sng">
                <a:solidFill>
                  <a:srgbClr val="222613"/>
                </a:solidFill>
                <a:uFillTx/>
                <a:latin typeface="Times New Roman"/>
                <a:ea typeface="Times New Roman"/>
              </a:rPr>
              <a:t>Wellingtons/ wellies </a:t>
            </a:r>
            <a:r>
              <a:rPr b="0" lang="en-US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are the best boots when it`s raining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8.I  know it`s raining but it`s only a </a:t>
            </a:r>
            <a:r>
              <a:rPr b="1" lang="en-US" sz="2400" spc="-1" strike="noStrike" u="sng">
                <a:solidFill>
                  <a:srgbClr val="222613"/>
                </a:solidFill>
                <a:uFillTx/>
                <a:latin typeface="Times New Roman"/>
                <a:ea typeface="Times New Roman"/>
              </a:rPr>
              <a:t>shower</a:t>
            </a:r>
            <a:r>
              <a:rPr b="0" lang="en-US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? It`ll stop in a minut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9. The forecast said that the rain should </a:t>
            </a:r>
            <a:r>
              <a:rPr b="1" lang="en-US" sz="2400" spc="-1" strike="noStrike" u="sng">
                <a:solidFill>
                  <a:srgbClr val="222613"/>
                </a:solidFill>
                <a:uFillTx/>
                <a:latin typeface="Times New Roman"/>
                <a:ea typeface="Times New Roman"/>
              </a:rPr>
              <a:t>clear up </a:t>
            </a:r>
            <a:r>
              <a:rPr b="0" lang="en-US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by this  afternoon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10.We`ll be going to the beach? So don`t forget your </a:t>
            </a:r>
            <a:r>
              <a:rPr b="1" lang="en-US" sz="2400" spc="-1" strike="noStrike" u="sng">
                <a:solidFill>
                  <a:srgbClr val="222613"/>
                </a:solidFill>
                <a:uFillTx/>
                <a:latin typeface="Times New Roman"/>
                <a:ea typeface="Times New Roman"/>
              </a:rPr>
              <a:t>suncream</a:t>
            </a:r>
            <a:r>
              <a:rPr b="0" lang="en-US" sz="2400" spc="-1" strike="noStrike">
                <a:solidFill>
                  <a:srgbClr val="222613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1214280" y="-463680"/>
            <a:ext cx="68580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Your penfriend is planning to visit you in February and has written to you asking what weather to expect and what clothes or other things he/she should bring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42560" y="571320"/>
            <a:ext cx="8543880" cy="60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36142"/>
                </a:solidFill>
                <a:latin typeface="Constantia"/>
              </a:rPr>
              <a:t>Greeting                                                   Dear+first name,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36142"/>
                </a:solidFill>
                <a:latin typeface="Constantia"/>
              </a:rPr>
              <a:t>Asking about  your friend                      Hi! How are things? How are you? How`s it going?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36142"/>
                </a:solidFill>
                <a:latin typeface="Constantia"/>
              </a:rPr>
              <a:t>Reffering to the news                             Great news about...Glad to hear that....Sorry to hear about..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36142"/>
                </a:solidFill>
                <a:latin typeface="Constantia"/>
              </a:rPr>
              <a:t>Giving news                                              Listen, did I tell you about...You`ll never believe that...Oh, and another thing.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36142"/>
                </a:solidFill>
                <a:latin typeface="Constantia"/>
              </a:rPr>
              <a:t>Making suggestions                                 Why don`t you...?  Maybe you could...  How about...?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36142"/>
                </a:solidFill>
                <a:latin typeface="Constantia"/>
              </a:rPr>
              <a:t>Closing expressions                                 Well, got to go now. Give my love to... Say hello to... See you soon!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36142"/>
                </a:solidFill>
                <a:latin typeface="Constantia"/>
              </a:rPr>
              <a:t>Signing off                                                 Love,   Lots of love,   Yours,  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536142"/>
                </a:solidFill>
                <a:latin typeface="Constantia"/>
              </a:rPr>
              <a:t>Name                                                          Your first name</a:t>
            </a:r>
            <a:endParaRPr b="0" lang="en-US" sz="17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42960" y="40680"/>
            <a:ext cx="804384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a1d"/>
                </a:solidFill>
                <a:latin typeface="Constantia"/>
              </a:rPr>
              <a:t>1.          a. thank my penfriend fof his/her last  letter and refer to sth he/she                  said in i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a1d"/>
                </a:solidFill>
                <a:latin typeface="Constantia"/>
              </a:rPr>
              <a:t>2.          b. say why I have to stop and close the letter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a1d"/>
                </a:solidFill>
                <a:latin typeface="Constantia"/>
              </a:rPr>
              <a:t>3.          c.  Suggest other items I think my penfriend might need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a1d"/>
                </a:solidFill>
                <a:latin typeface="Constantia"/>
              </a:rPr>
              <a:t>4.          d.  Suggest clothes clothes I think my penfriend might need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a1d"/>
                </a:solidFill>
                <a:latin typeface="Constanti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00000"/>
                </a:solidFill>
                <a:uFillTx/>
                <a:latin typeface="Constantia"/>
              </a:rPr>
              <a:t>Now I 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420840" y="189000"/>
            <a:ext cx="8424720" cy="1841400"/>
          </a:xfrm>
          <a:prstGeom prst="rect">
            <a:avLst/>
          </a:prstGeom>
          <a:ln w="0">
            <a:noFill/>
          </a:ln>
        </p:spPr>
      </p:pic>
      <p:sp>
        <p:nvSpPr>
          <p:cNvPr id="262" name="Line 5"/>
          <p:cNvSpPr/>
          <p:nvPr/>
        </p:nvSpPr>
        <p:spPr>
          <a:xfrm flipV="1">
            <a:off x="2057400" y="297180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Line 6"/>
          <p:cNvSpPr/>
          <p:nvPr/>
        </p:nvSpPr>
        <p:spPr>
          <a:xfrm>
            <a:off x="2209680" y="3809880"/>
            <a:ext cx="129564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3353760" y="269892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Constantia"/>
              </a:rPr>
              <a:t>know how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3548160" y="4299120"/>
            <a:ext cx="56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44e6d"/>
                </a:solidFill>
                <a:latin typeface="Constantia"/>
              </a:rPr>
              <a:t>can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6" name="Line 9"/>
          <p:cNvSpPr/>
          <p:nvPr/>
        </p:nvSpPr>
        <p:spPr>
          <a:xfrm>
            <a:off x="5029200" y="2895480"/>
            <a:ext cx="0" cy="190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7" name="Line 10"/>
          <p:cNvSpPr/>
          <p:nvPr/>
        </p:nvSpPr>
        <p:spPr>
          <a:xfrm flipV="1">
            <a:off x="5029200" y="2514240"/>
            <a:ext cx="6094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Line 11"/>
          <p:cNvSpPr/>
          <p:nvPr/>
        </p:nvSpPr>
        <p:spPr>
          <a:xfrm>
            <a:off x="5105520" y="312408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9" name="Line 12"/>
          <p:cNvSpPr/>
          <p:nvPr/>
        </p:nvSpPr>
        <p:spPr>
          <a:xfrm>
            <a:off x="5105520" y="3809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0" name="Line 13"/>
          <p:cNvSpPr/>
          <p:nvPr/>
        </p:nvSpPr>
        <p:spPr>
          <a:xfrm>
            <a:off x="5105520" y="441972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Line 14"/>
          <p:cNvSpPr/>
          <p:nvPr/>
        </p:nvSpPr>
        <p:spPr>
          <a:xfrm>
            <a:off x="5105520" y="4800600"/>
            <a:ext cx="76176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5616000" y="224172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540a"/>
                </a:solidFill>
                <a:latin typeface="Constantia"/>
              </a:rPr>
              <a:t>to speak about…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5641560" y="3003480"/>
            <a:ext cx="323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540a"/>
                </a:solidFill>
                <a:latin typeface="Constantia"/>
              </a:rPr>
              <a:t>understand the information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540a"/>
                </a:solidFill>
                <a:latin typeface="Constantia"/>
              </a:rPr>
              <a:t>about…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5644080" y="3613320"/>
            <a:ext cx="27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540a"/>
                </a:solidFill>
                <a:latin typeface="Constantia"/>
              </a:rPr>
              <a:t>say my opinion about…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Text Box 18"/>
          <p:cNvSpPr/>
          <p:nvPr/>
        </p:nvSpPr>
        <p:spPr>
          <a:xfrm>
            <a:off x="5900760" y="414648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540a"/>
                </a:solidFill>
                <a:latin typeface="Constantia"/>
              </a:rPr>
              <a:t>give arguments</a:t>
            </a: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5726880" y="5060880"/>
            <a:ext cx="28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3540a"/>
                </a:solidFill>
                <a:latin typeface="Constantia"/>
              </a:rPr>
              <a:t>express my opinion on...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Rectangle 2" descr=""/>
          <p:cNvPicPr/>
          <p:nvPr/>
        </p:nvPicPr>
        <p:blipFill>
          <a:blip r:embed="rId1"/>
          <a:stretch/>
        </p:blipFill>
        <p:spPr>
          <a:xfrm>
            <a:off x="237960" y="146160"/>
            <a:ext cx="8455320" cy="12319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9360">
            <a:solidFill>
              <a:srgbClr val="a5b592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c354d"/>
                </a:solidFill>
                <a:latin typeface="Constantia"/>
              </a:rPr>
              <a:t>Weather is a great metaphor for life — sometimes it's good, sometimes it's bad, and there's nothing much you can do about it but carry an umbrella. ~Terri Guillemet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1" name="WordArt 5"/>
          <p:cNvSpPr txBox="1"/>
          <p:nvPr/>
        </p:nvSpPr>
        <p:spPr>
          <a:xfrm>
            <a:off x="1447920" y="1371600"/>
            <a:ext cx="5562360" cy="7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hank you for the lesson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2:36:23Z</dcterms:created>
  <dc:creator>evgeniya</dc:creator>
  <dc:description/>
  <dc:language>en-US</dc:language>
  <cp:lastModifiedBy>evgeniya</cp:lastModifiedBy>
  <dcterms:modified xsi:type="dcterms:W3CDTF">2014-01-31T07:28:32Z</dcterms:modified>
  <cp:revision>50</cp:revision>
  <dc:subject/>
  <dc:title>Слайд 1</dc:title>
</cp:coreProperties>
</file>