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FF3-D9DE-4319-BA27-EF43CC0B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D45-C680-4B40-89A9-7085E7AA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AB1F6-DB38-4298-93AA-64BCC280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A7608-E5FB-4CCD-8C9B-C1700F07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B66EE-4C7E-485D-BCBC-0E62FE41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C3641-9457-47AA-B2BF-AF6E84A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8DBE6-4BB6-491F-8CF3-56072A1B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7516-1DEB-4419-B732-03FF686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7E748-5670-4BFC-8C2F-ACA3D130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975A6-BED5-4080-BEC6-B9A7EAFF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064F-25D1-4CFA-A6D2-5C6AE6B6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584A8-DEAE-45FA-B61B-0E1B3BB3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CBB-A1BA-40BB-A3B4-0F3C7AD0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C66AA-43FE-44BC-9C32-CE861BB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791B4-257D-4A99-9B9B-6CD0B68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053E5-F53B-4E1D-88C1-CB5AE5BD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4B225-A62E-42C5-99F0-C0CA1D0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DDDE7-D920-4D0E-A0B6-01445E8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8ED40-8A8E-42BF-8791-1D275DFA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22B60-FEDB-4664-8A24-9B9B21C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72DB5-DFB2-49D4-BB77-2A6F15C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84620-5EF2-44E5-915E-6A9FD782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C26A0-4660-4365-9D0D-18D8296F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AF4-757D-4FD8-B4C2-0A385F62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70078-A845-42EB-955D-54397BEB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9C8BA-194E-487C-B33D-91B80DE0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09ADD-C58B-46B4-8A63-4DB0E93A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A5BC8-0EA8-4499-BB5F-D8D56B26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5B69C-47DE-40AE-9C99-050766C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D481C-9E2B-4D33-87FA-7901FECA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3AF0F-7FB2-443A-A422-6382F18C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380AD-0989-4762-94A3-79ECA668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A28F-553E-4BAA-99C5-341CE3C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63C4F-956A-45F1-81A7-85CDB91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7CBA-8AC8-45DE-80E7-69D370D8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1BE23-3491-4A74-BF3E-4CE68A39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00E8C-646C-4EA6-B273-88681708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2689C-47BA-45B5-8FC0-1FF0D26F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CA01C-44F3-4BAA-B0B1-9F751D45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29895-6C9D-4788-81A7-87DFEC4E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99CD2-F2E6-4F63-8594-78086EE8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BAE62-A3B0-4B80-BEDF-5F775C6F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DC6A3-4918-4FF5-BE9E-E8A6917D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B2FF7-C314-4FE0-91B1-962ED9B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20EDB-A607-474E-B4DE-ACD35BB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04BB-F761-44C5-B1C6-E193629E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208E9-943C-4C4C-A1F2-B0C4067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4183F-6BA5-4C6C-ACF0-A9478A9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0F236-49C8-4DB0-B0DC-F29D7F15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16F91-0FC5-486C-9C9A-A70007C0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3D29B-2008-49EA-8A52-886E66E8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2CDE0-3751-4433-88D8-2F8CB875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00755-4D96-4207-A0D9-ED25D298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926EF-41CB-40B5-BC23-FF4B0E4D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BA64B-8411-44DE-8B20-B1E6600C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D188E-C7B4-42D9-BE0C-09EC5841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6DE3-4C05-46F0-B4A3-03A7600C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0FF33-C06F-4789-9369-83D23E5D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14E82-4B61-4556-9E21-3E25E01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0BA02-DC99-4A65-9BE3-C9F0E75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2FDB8-34ED-401B-B969-F88BE21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24A5A-7EB5-435C-ACBB-CC5B981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AC4D7-EB23-4297-8D1E-682CDC05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53837-5854-465F-B392-C3EF2D05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5B60A-B027-4D15-85BC-FF45D5DB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C31A7-047A-4871-886A-FEBC4316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EE0A9-5B7B-40A0-9CFF-3C0E1232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024F-0ECD-4EAC-9664-3A7440A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3F342-F733-4434-A7BD-1551746C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C4401-4BDD-42DB-87A0-D478DAC6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28E67-3BCF-496A-A43C-7696E83F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41910-B623-4A92-A36F-7628F78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F239E-6E74-46FE-91D7-1BF13899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246FD-F56E-4C8E-9CFA-FAAED20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432C5-39EB-45ED-A3D9-32D87D1F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E10DE-815C-42F7-A5AD-BFDB405E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3E221-5D09-4484-AF23-D37FEC41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64498-D928-4530-ACF4-F10EBD7A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97EC-D3AB-47ED-A559-459658C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352C8-570C-427A-B3F7-B6EED316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AE518-2B73-44E0-8642-F898373E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345DB-B1F0-4A4A-8387-F91301F6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380D8-5ECC-4759-A37E-C8C1326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D1048-2064-4949-BECF-52ACF79B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F5ED3-E042-4312-93C5-0E9BE99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2446E-3691-4C28-A5C2-523AB15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3FE46-49A1-4E9E-93BB-131B75F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3BA59-E60F-4197-9CAD-2599F20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8AD3F-FF5C-408D-ACB7-896B36BF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DC38-EA4D-4084-AC0E-42BE10B4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0C2C9-F7DA-4C36-8F0C-354200A4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3CB63-54BC-41B5-AC60-738A1FE1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AC17B-B252-43EF-9630-B903EC4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D8D62-12D8-45F7-80D7-E1270091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560EE-BAAC-4E3C-B741-4E82A68C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98086-2561-4461-9702-1F272CA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958DF-7AA8-4370-97F8-55B1CE8B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8CDE1D-6D9F-4787-B73A-610A8961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0C972-D06B-4658-A00C-568C6A1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53C1F-F54D-4BD6-B128-B4BAB1E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34E3-F741-4967-A6BC-89600A2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A8E26-98E7-4AEC-BC11-3CB6850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69C29-E1A8-4CE5-9FEF-1A2FD8D9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937E9-806F-4F4A-8D61-3B86B442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2FF38-CD8D-49EF-B91B-06E0C4EB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02089-9954-466D-AB80-17A73030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BA096-EB02-483B-80D6-29DF1307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C1CD9-9A7D-47A9-AD21-5031FBD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98643-0126-40DE-A194-D185E17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F4CF5-9DD2-48BC-B94D-7E677E6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42B81-7146-4C7E-A9DF-BCF990FC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F62-45D1-44E1-ACCF-E7AB177C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20A0-6A4C-4EE1-AD21-D46E49AE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A2292-B509-45D7-926E-39F9B32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931E9-FE93-45A5-A525-E89DEFC2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180C4-65E3-41CD-8F9B-AF4118E0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05B8D-4214-419D-BC6C-71D8BB43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0C64A-4FCC-4B96-9629-49C03209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9ED6-4D2D-4249-90BE-97EA0A7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D558-78A5-44EC-B562-71DFE5B0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24F4-BD86-4EBA-B143-35C49111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C391-663D-4BDE-B28E-C12A4A24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BB2C-1947-4AA1-8160-3399ADF6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921E-2924-4472-9CC1-BB3261B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3FA4-BD00-4207-AEB9-7052A23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DEF5-F873-4F12-AE77-2B72DB10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BF53-0289-48C7-BA23-76BD9A8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0E7-585F-4127-911E-D1E9EB08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425B-AA3F-4C5C-8816-B2657F4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8D60-61B7-4AE1-AECD-B003BCC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D65A-2529-4625-B31A-5D93BC42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E3F9-067F-49FC-9144-D524F20A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796B-2829-48EA-A727-54AF588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2ACC-7F41-43D2-BE22-CDBC2667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B99C-5B36-468E-AD9D-3374A420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E438-C6BB-44F8-A100-7EEF541F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67A4-1CD5-4987-BF5F-3957A0B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BD0C-B0A3-4DB4-ABA0-B565B55B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56E-A174-481E-9D61-23EC5922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2C96-D2D7-4AC4-9245-4939C138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1A3B-B2F4-463F-AC7F-EE9F2304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15361-8F1B-4F40-A60D-FF9030FA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A5C2-39D5-4481-80B9-1DF13AC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37FC-A8B6-44BC-87FF-A639F57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BE4A-51FE-432E-AF95-7E6A9F0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1AA9-3D8C-4571-9727-40AE4E50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1E29-7A7D-4161-A8E9-7C8B2B5B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E5EDE-4D76-41E6-B6BC-4E69DB55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37C1F-EF4A-41A6-869C-1E80FEAC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BBF-B820-47A0-8C64-73F38C61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95FD-9159-4862-BE44-7594C4E8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49E6-A03D-491E-9D86-3F7CCC51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6A43B-15D6-49B8-AEB8-18415281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E2ED-CAFA-4F8C-8DAB-57E1C93C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C339-027D-473D-8BE1-3C1F471C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62474-8806-4C8E-8941-DB72708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061E-4C9B-477A-BE61-34BCFB0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03AA5-A347-4B32-B019-7A95E68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E9E1D-6FB5-4B9B-8A4D-4C1255C5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3F6A-C5EB-4046-BDF1-50724B5F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D0D-AB08-46A5-91B0-DFF19A72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AF10-9CC2-40F8-A957-D2BF33FA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166B-3919-45A9-B316-819D8BB5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92072-FE3D-4F86-A2D5-BA205B2E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64DF-EB0B-4815-B96E-4A683C0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B8CB-DD27-4A74-B679-D67CAA79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22E6-B729-4989-B200-EF5EB27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DD399-D474-4491-8A86-145FE90F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BBA0C-FE5E-4B0A-8A45-84F0B18B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DFE7B-D1BE-46E6-B67A-62680E6F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D180E-5B97-46BE-83F5-6535EB0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F9E-71EB-462C-AD21-5171A48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6071-B2A3-4FE9-A9AC-4712217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AA092-890D-468F-8306-9867127B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2B585-2800-4373-AB50-D1DAA75F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FFEB-18F1-4C67-A2C1-5B9C3C1A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7CB2-624B-49BC-9834-40A84A0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EEAA-3F1A-4A13-9057-1FC7021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B7D17-066D-4DD6-8F40-6BBBD01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2414-2A76-4896-A95C-48513AC8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011C-7808-45C2-8CD6-399C620D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7EAC2-573E-4C25-84DE-E678A5E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A00-A084-4DB6-AC32-EE98BCB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B3E57-84CA-45DA-BD1F-D8C1D1FC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E94E5-2BF4-404C-A1DD-8C8E4F3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840B5-AB6B-4341-91F1-766B19D0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DBAE-D359-4311-AE70-98813067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1E64A-66FF-4606-92D0-D996890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AE4A-931F-432E-B65B-F66FF981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D335C-9253-42B2-BB24-88D28F6F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DDB8C-711F-434E-AEDA-9D1C9517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7A293-32A9-490C-80D1-72958809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A2F84-F81D-4BD3-8F85-35A4D56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8C4-21D9-4802-8116-9C31EAA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2CD46-7749-4375-8A41-852342B9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F8C0D-42FC-4793-AF70-9558F99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FAB6B-C8AD-41B7-B171-188A5CC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185C-B649-4DC7-9B8A-EC1BBCC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F938-9849-4AEF-A590-9B7BF6B8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F5F8-66E9-4A7D-8DFC-0EB77BDD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9E376-2437-4D37-9CF7-480E5DF1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E6537-42FB-4BC9-B725-AD9DBC65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276F4-5D5B-4563-AF1D-E17F0E77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DF73D-B934-413E-9D34-51081ABE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61BD-CA0D-4D3F-9AE0-56FB5A06AC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433C-FDA9-4B2E-924B-4F9F4186D3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3A72-9D37-4201-8F78-84D47582187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CD9B-3DC3-4E38-A24A-E62C1B815F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396-AD63-4DE3-B497-C9856B368A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C6A0-702E-4623-ADEA-EB56ED0240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AC58-8504-4CE8-A69C-B51A031B8C6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213F-B75F-42B7-B90F-F2307130AB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309-5A98-4AD1-9ED5-DD40D79007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B312-0583-421C-8E22-5A462447186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7437-575A-4506-85C4-9E64D5447E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5435-78FB-49CF-B800-31279DE2DC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6D2D-AF34-4975-9C1A-468D21D1691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ECAC-F0A1-4350-ABAE-30FEA84F6B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B24A-F076-4BF9-B34A-A1CF9C6116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02D-0409-4FFF-B240-0C1B848ADE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6F24-037C-4336-B7B6-B5BB926D7A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869840" y="-360"/>
            <a:ext cx="9474120" cy="552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he is a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mous 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op star. </a:t>
            </a:r>
            <a:br>
              <a:rPr sz="5400"/>
            </a:b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You can do it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asily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                                   I can read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quickly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he book is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eresting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                            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-379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638000" y="125388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0070c0"/>
                </a:solidFill>
                <a:latin typeface="Century Gothic"/>
              </a:rPr>
              <a:t>             </a:t>
            </a:r>
            <a:r>
              <a:rPr b="1" i="1" lang="ru-RU" sz="5000" spc="-1" strike="noStrike">
                <a:solidFill>
                  <a:srgbClr val="0070c0"/>
                </a:solidFill>
                <a:latin typeface="Century Gothic"/>
              </a:rPr>
              <a:t>Прилагательные и наречия в английском языке.</a:t>
            </a:r>
            <a:endParaRPr b="0" lang="en-US" sz="5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0070c0"/>
                </a:solidFill>
                <a:latin typeface="Century Gothic"/>
              </a:rPr>
              <a:t>(</a:t>
            </a:r>
            <a:r>
              <a:rPr b="1" i="1" lang="en-US" sz="5000" spc="-1" strike="noStrike">
                <a:solidFill>
                  <a:srgbClr val="0070c0"/>
                </a:solidFill>
                <a:latin typeface="Century Gothic"/>
              </a:rPr>
              <a:t>Adjectives and adverbs in English).</a:t>
            </a:r>
            <a:endParaRPr b="0" lang="en-US" sz="5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185560" y="1353960"/>
            <a:ext cx="89154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Simpl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e</a:t>
            </a: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-simp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ly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Angr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y</a:t>
            </a: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-angr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ily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Carefu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l</a:t>
            </a: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-carefu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lly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722600" y="813960"/>
            <a:ext cx="988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Simon love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ast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cars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 can ru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ast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t`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hard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to do it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She has a v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hard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life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 get up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ear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 lik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ear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spring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He`s a v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riend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person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He greeted m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riend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She`s a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Gothic"/>
              </a:rPr>
              <a:t>good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singer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He can swim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Gothic"/>
              </a:rPr>
              <a:t>well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12:41:49Z</dcterms:created>
  <dc:creator>Евгения Лаврикова</dc:creator>
  <dc:description/>
  <dc:language>en-US</dc:language>
  <cp:lastModifiedBy>Пользователь</cp:lastModifiedBy>
  <dcterms:modified xsi:type="dcterms:W3CDTF">2016-01-28T08:08:10Z</dcterms:modified>
  <cp:revision>11</cp:revision>
  <dc:subject/>
  <dc:title>She is a famous pop star.                                     I can read quickly. The book is interesting.                                          </dc:title>
</cp:coreProperties>
</file>