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4F44-824A-459E-8D64-D8C35459D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5252-7AC2-4072-A363-EB97C190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05A57-777B-4C7D-B633-53BC8913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70F616-42AE-4533-AFFC-023A15DD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E0AE9-6F52-4BC5-9595-33EE40C4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ABD3C-EFF2-4CA6-B1DC-87A6D204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080F0-2428-48F2-BA9B-41CC7C07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7713A-811E-403F-A9B7-11854BFF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A32A1-20A7-4EBA-AB26-4E39BE50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4B4AB9-A7DD-4E57-993C-07BB1377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8E950-B1D6-4247-BA60-6D5BB8C98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FFC15-520B-4668-BEBA-21495788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809E-9FDE-4ACC-BC5E-87B35863F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465B91-CBAA-4F04-88A2-032F6932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B3EA6-90A2-4DC4-9577-2906D750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C94E1-12A6-457F-8556-D1F3109A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242D3-3D26-4249-AD39-3E99D720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FD089-A30E-4F17-A6C1-479D4555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F95AD-9431-4D73-AF23-75315ACF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4D17B-188B-43DA-9EB9-65D17463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38A5D-3EAD-4495-A790-29C52983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B62FE2-EDB5-4852-BA34-744FE90A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AF7AB-1056-4FAD-A7AD-9D1D667C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9B75-11C8-410C-A658-547B20CB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5A71F3-DDE7-48E8-970A-279DA1E4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814F0-D3D0-4EC0-BC1D-E85BE027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3D07F-CE95-430D-B1E4-71E3747F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875C3-E95A-44A9-A367-127CB21C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2C8DB-4FFB-49AE-AA2A-B41D81E3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91BC6-4587-4F3D-828B-78E687D0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C29BA-0516-4AE3-AFDE-57A50A60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79DD6-9CD8-4C4B-A385-9EFC22C8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BB9CC-F82B-4A2A-B2FA-DAEB11BC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95F55-DF5E-4E66-8F76-0B61F93B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495D-3B09-47BB-8D4B-A56AD109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DFA241-6B7E-490A-ABA2-11F06EA4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55B68-E042-4772-BB76-6F64607CA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50708-C690-471B-847B-BBFF8FC9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AFBA3-F0D4-4591-8BCC-4CB19B80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4AF04-C8D3-441F-BDCB-EB507AD6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AD50C1-5CED-4360-82A8-263DCA72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9A504-4B79-4C61-86AC-3C8F751D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E0349-9ECE-46F7-A4C7-F5762BA5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65D9E-1633-4343-B4D2-8F01FF2C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F866F-F8B6-4150-8DB9-EC30CA9D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2972-DF59-4BC1-B0A2-0E1542941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201570-94EB-4E6A-95F1-9D8015A0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02F10-A8A0-427F-84DA-A299E01F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5BBE3-115D-4472-A7BE-7598ABD19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117BE-B538-4A47-B1C5-B2CF0228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DA419-C636-4C85-8045-94DB89B46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547962-8E40-45BD-B03D-1602E013F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CAE67-6E86-4C3B-B621-47B73616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F3665-E98D-44F4-9ADE-948B38CF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25F01-3C83-49E6-A2B3-33207247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C2C29A-7E66-45CE-A9A4-F1D57D2B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A895-4090-48A4-9456-8370352D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4DCF93-B68F-448A-BFD1-6BB34C29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932A24-1871-421A-8D62-4945D076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AA1371-2BD3-42C6-A2B9-2E115286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A0929-DF96-4650-B941-0ACD20B3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28DE5E-DF79-47AC-A1E3-39DB4AC5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07401-5B50-4E7F-8320-8A7E2B55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D98E17-7EF1-48ED-A43D-7088C837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BB48B4-BA1C-4321-96F7-14C7FEC70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7DA636-9DF6-45AF-8A54-14EB42B4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298C77-A982-4BA5-BCC7-EB7875AF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6344-2C7F-4779-AC5F-ABE6CF07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747ED4-1DB0-4A9D-95C2-B710C3FB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559A72-19EC-4E3F-8C35-CF34D2A1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055227-1ECF-4A92-9941-3F5023F5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BF1CCD-66D4-40BB-AE1C-DC064B47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BBD38E-4B57-4708-A81B-28DA9F32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0B90AC-55D2-4566-A9C0-5015B74A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345F92-ABAE-4837-92CD-18F83C6C8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51FA68-1DDE-411B-BE9B-A6FB4848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05EE6C-2AA4-4D25-873E-A9867412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6DDA1F-2A74-404A-8367-2445605B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02952-A377-4493-B1ED-344C45AD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F369A7-7AD6-4B61-818F-2249F21F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0DD891-4D3F-4113-B705-0BA5D652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A04DAF-8602-4158-93BA-7F3D6FD5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1F4CDF-89DF-43C6-8753-988895B8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96AA98-AAB4-4D3E-82F5-BE1A8167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AEBBA6-15C8-4B11-9AFF-3F5083DF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BD2C52-EFBC-438C-BFD6-5A2D82DC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3DA66F-2665-40D8-8EA2-A5684958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12012D-E528-4F92-AF13-63621CB4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A1D0B9-0643-4D39-80E4-3A4A74A6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53FE-F157-44CA-A239-F0860715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03AEC3-5A03-4A0D-9261-3DA5CFF7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FBC913-7D61-49DB-9313-B969F7F2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021C4A-179F-42CE-89CB-BB98AC57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104BA6-6609-4BDB-AFA1-ECD73B39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5A534D-0E4D-4E04-A854-8BB5D941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EA01CB-7ECF-4FB0-81B7-1251F017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289CDB-E38E-4298-AA15-FC47EA37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EEB718-1DEE-4967-92CE-2E2B2F5A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088687-4538-4B5B-9824-CF654F97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2D4ECC-747A-48E0-AE80-BB264EBC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C724-9ED9-451F-A485-AB266DA7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4CD755-E0E3-470E-8CB0-4916AAD0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0E1442-FA72-4E7E-B750-37A14917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7BAA6E-4471-47F0-9375-070D0BDB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E94D40-AA08-4DE3-9DAA-5FA8904C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256F43-1417-4431-B872-34C2167D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27AB3A-9F31-4A5C-8CBB-5438BA4D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6D0E73-4BD1-4655-972E-14F8656F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165182-C4A7-41AA-9B01-11D9C3D9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B7E385-BC32-4562-8CAD-B43BAC80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AD31EC-CB9C-42DE-A11E-25C95461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C44-3C1B-4C0B-94DD-592825D2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9F6A-C532-4712-A8C1-7709D7325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AB4BA3-F896-49D4-8F16-79D4099D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70F0E1-E846-4051-970C-56FB85F7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A33962-E881-40DC-B817-500986F8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B4DD2D-05B9-4BE1-9849-C34DEA807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AD3393-FCA4-4DD0-8145-A3A49072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DC2B-57DA-49B5-8E79-E1634901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3AC6F-09E7-414F-BD05-1A2DECA3F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48C0-8E43-47F0-8456-19BB4EBE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1FE8-4011-4512-83EF-9A2C989E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20265-0B50-45E1-BF15-D679BD3FC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4EF2C-4C0B-49A1-B536-0B8B88B6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09CB1-D2F1-4673-AD8F-9E0348DD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B413D-ADFE-4BC1-9D3C-B186011D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9890D-2DA7-4068-9AFD-4B188038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637E-9B6C-492A-9366-2B45FB70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1F661-355C-4109-84C5-C9932D48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A8B8E-C549-4C08-B7F9-7DD19210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9AE9E-7948-4542-BF1E-A856DF58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9083D-0E1F-4C5E-B571-B013FE54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1E86C-B2A9-49E4-9707-7D37C6C0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AAF9D-671C-4AE8-BA81-63F0AAC6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0023D-0897-416D-9804-7F0309279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A422F-5BD3-403A-84CC-B116959E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37108-87D7-48D9-9D57-E8449C525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561AC-E92E-4F6D-8F77-EA3B698A6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0056-0484-46D0-930F-C891E9FA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725DE-1163-43A7-9B0E-E46E3C60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E528A-FAC1-4B5B-9BDB-1CE8D601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A97B6-20E4-44C4-948F-1D7787330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B1EB4-2F4D-4789-B35D-0F35FDB0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22835-D8F2-48D2-8F8F-A1AE4267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58D5C-BEAF-4E99-9F86-99B8EAE5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7C928-3566-43A0-A8BA-4D14F147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48357-7B67-4613-BC37-010402FE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F55EC-3F6C-4748-93AB-2E58FAD0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9E2DC-134F-4897-A3FF-8C14E421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7B15-D295-4CDB-95F2-DA1AA29A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403B1-EECF-417E-B24E-39412BE6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641B8-B454-41DA-80CF-4674D0C6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6A119-656B-4C88-A050-3487449C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46FBF-E3B4-4967-BC09-285E7662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FBA70-089F-435F-AEB9-BB8C9EC5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15FFC-F8EA-45A5-B935-AC9B280B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75655-9964-4A95-9944-8E5F3982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404F6-2115-4E35-8CF6-16B16680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0AF2A-25A0-43DC-9247-100470EA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015E0-292F-416E-B0A1-26B4EC60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455E-251F-42FB-A771-7693309F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4713A-14D2-40B1-9C19-3EF521AA5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894BC-F2ED-443C-940D-115A6169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663B3-8701-414C-AC75-C406F435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67AD3-1F07-4B86-81F6-7C6DECEB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A1751-54A6-4AE3-9881-FBF6465A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7DB60-B5BA-47B4-BC37-CD0C7512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DFEAB-E21D-4315-AA77-BA152EE5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211F7-CAFB-458E-97A1-2BE1172A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40C80-A865-4381-8078-1DE8EC33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C465F-8C4E-4709-A096-5853D250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173-1145-4852-AC21-3BD844FE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E474C-A1F2-4514-917C-750942674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C75BC-D5A1-4D71-B85A-98B0CBE49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F474F-36ED-424F-A344-DBAA1D7C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29176-E42E-43A5-8FED-C54990E5D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5A27F-C5EB-4D64-A4C7-748F5EFC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0926C-349E-4EAA-B153-0FB1E27B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DA4C3-CE94-4394-996C-E10AC1C3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62CAB-DA30-4985-88E4-8F81807D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5BE22-4A29-4973-B25B-DEDCDDF8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E95984-AF11-4530-A100-BEB1784C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1E6C-0B7D-4433-B7D7-2D50C36A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1628B-6BC8-4E55-9ACB-C1E40681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C6F78-2D02-41A0-B761-BC96F666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81D11-1F14-4E8D-ADFE-D99581A4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CAA2F-2B48-493C-8ED9-66FA165B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67990-9827-451F-B15A-C3C15DE5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129B9-83A8-42FC-AFD6-5F892A28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A7B7F-8584-4D51-866E-2E33D6D4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F55EFB-F14B-45F4-BE35-C813B2F5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F0DBD-3CF4-4E3E-805D-63D05142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141AF-4579-41BE-A456-1FF77991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F12E-BC22-43D8-9356-D2AC7696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23CE8C-AC73-4ABF-9718-FF97903F4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D0731-436B-4D6F-8E5F-0F84730D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5C425-FB63-4C44-ACF9-7C40D048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61343-E6EF-4DFF-943A-E0A39448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48E52-63D3-428E-AB9D-CA3765EE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E5E41-9EF9-4018-8131-4603D5C4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8B50F-74F2-4000-860F-9A608A55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79CE0-E8B4-449A-A238-41D00E56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720DA-9E57-4952-8141-7A593E80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4B676-802F-443B-933D-31C8493E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CF4D-CF26-47CB-BAFE-AFE678C4AFD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6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-4320" y="491112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4D92-3ECB-466F-8944-FE9045706B6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-4320" y="31773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9B75-F622-4E40-AF43-C4A2592E822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7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-4320" y="31773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C04A-C76F-4AAF-90DC-21234821FB2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4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5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-4320" y="491112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DB3C-355F-4BAA-A80A-B4B7603DAA9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1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2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-4320" y="491112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6" name="TextBox 1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TextBox 1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FD72-A661-474A-A2A5-5CDFF4F0361A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98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9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-4320" y="491112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D210-FD37-4C52-9E20-F2B2272C5B9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5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6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DAD7-A689-4821-AE22-C221DEC152C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12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3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FFBE-6EF8-4AAB-A5E5-6D8F12A8782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0" y="4324320"/>
            <a:ext cx="1744560" cy="77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D37D-AAA0-4B18-9D68-A02EEB20E1E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792A-A878-4937-A1C7-6FC6725399D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-4320" y="31773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1EC7-0EA4-42D0-A71F-AEB912E2FB5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2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D2F2-45F9-436E-8519-66BBA308174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3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CA27-B215-4D14-BA94-1ECA3883350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9EAA-300D-482A-89DF-524B7423DB5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C722-705F-49A3-8280-BEF1AFB8D31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100440" cy="6260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128520" y="3156480"/>
              <a:ext cx="646560" cy="23223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806760" y="5447160"/>
              <a:ext cx="609120" cy="1420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959760" y="6504120"/>
              <a:ext cx="171360" cy="3632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100440" y="3201120"/>
              <a:ext cx="821880" cy="33285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22320" y="228600"/>
              <a:ext cx="106200" cy="292788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78120" y="2944080"/>
              <a:ext cx="78120" cy="493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769680" y="5478840"/>
              <a:ext cx="190080" cy="10249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775080" y="1398960"/>
              <a:ext cx="2076120" cy="404820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922320" y="6530040"/>
              <a:ext cx="162000" cy="33732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769680" y="5359680"/>
              <a:ext cx="37080" cy="22176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849600" y="6244920"/>
              <a:ext cx="238320" cy="622440"/>
            </a:xfrm>
            <a:prstGeom prst="pie">
              <a:avLst/>
            </a:pr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5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7000" y="0"/>
              <a:ext cx="494280" cy="440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550080" y="4316760"/>
              <a:ext cx="423360" cy="15804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1006200" y="5862960"/>
              <a:ext cx="430920" cy="9903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521280" y="4364640"/>
              <a:ext cx="551880" cy="22356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467640" y="1289880"/>
              <a:ext cx="174240" cy="3026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1111680" y="6571800"/>
              <a:ext cx="133920" cy="2815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502200" y="4107960"/>
              <a:ext cx="82080" cy="51120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973800" y="3146400"/>
              <a:ext cx="1410480" cy="271656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1073520" y="6600600"/>
              <a:ext cx="120600" cy="25272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973800" y="5897520"/>
              <a:ext cx="137880" cy="6742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973800" y="5772960"/>
              <a:ext cx="38160" cy="22788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1006200" y="6322680"/>
              <a:ext cx="210600" cy="530640"/>
            </a:xfrm>
            <a:prstGeom prst="pie">
              <a:avLst/>
            </a:pr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-4320" y="713160"/>
            <a:ext cx="1589040" cy="507960"/>
          </a:xfrm>
          <a:prstGeom prst="pie">
            <a:avLst/>
          </a:pr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98F6-38B1-4258-8003-7E2B3530A3B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869840" y="-360"/>
            <a:ext cx="9474120" cy="552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She is a 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mous </a:t>
            </a:r>
            <a:r>
              <a:rPr b="0" lang="en-US" sz="5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pop star. </a:t>
            </a:r>
            <a:br>
              <a:rPr sz="5400"/>
            </a:br>
            <a:r>
              <a:rPr b="0" lang="en-US" sz="5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You can do it 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easily</a:t>
            </a:r>
            <a:r>
              <a:rPr b="0" lang="en-US" sz="5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                                    I can read 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quickly</a:t>
            </a:r>
            <a:r>
              <a:rPr b="0" lang="en-US" sz="5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</a:t>
            </a:r>
            <a:br>
              <a:rPr sz="5400"/>
            </a:br>
            <a:r>
              <a:rPr b="0" lang="en-US" sz="5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The book is 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interesting</a:t>
            </a:r>
            <a:r>
              <a:rPr b="0" lang="en-US" sz="5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</a:t>
            </a:r>
            <a:r>
              <a:rPr b="1" lang="en-US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                                       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 type="subTitle"/>
          </p:nvPr>
        </p:nvSpPr>
        <p:spPr>
          <a:xfrm>
            <a:off x="2588760" y="4776480"/>
            <a:ext cx="8915400" cy="112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838080" y="-3794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1638000" y="125388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000" spc="-1" strike="noStrike">
                <a:solidFill>
                  <a:srgbClr val="0070c0"/>
                </a:solidFill>
                <a:latin typeface="Century Gothic"/>
              </a:rPr>
              <a:t>             </a:t>
            </a:r>
            <a:r>
              <a:rPr b="1" i="1" lang="ru-RU" sz="5000" spc="-1" strike="noStrike">
                <a:solidFill>
                  <a:srgbClr val="0070c0"/>
                </a:solidFill>
                <a:latin typeface="Century Gothic"/>
              </a:rPr>
              <a:t>Прилагательные и наречия в английском языке.</a:t>
            </a:r>
            <a:endParaRPr b="0" lang="en-US" sz="5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000" spc="-1" strike="noStrike">
                <a:solidFill>
                  <a:srgbClr val="0070c0"/>
                </a:solidFill>
                <a:latin typeface="Century Gothic"/>
              </a:rPr>
              <a:t>(</a:t>
            </a:r>
            <a:r>
              <a:rPr b="1" i="1" lang="en-US" sz="5000" spc="-1" strike="noStrike">
                <a:solidFill>
                  <a:srgbClr val="0070c0"/>
                </a:solidFill>
                <a:latin typeface="Century Gothic"/>
              </a:rPr>
              <a:t>Adjectives and adverbs in English).</a:t>
            </a:r>
            <a:endParaRPr b="0" lang="en-US" sz="5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2185560" y="1353960"/>
            <a:ext cx="8915400" cy="37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6600" spc="-1" strike="noStrike">
                <a:solidFill>
                  <a:srgbClr val="404040"/>
                </a:solidFill>
                <a:latin typeface="Century Gothic"/>
              </a:rPr>
              <a:t>Simpl</a:t>
            </a:r>
            <a:r>
              <a:rPr b="1" i="1" lang="en-US" sz="6600" spc="-1" strike="noStrike">
                <a:solidFill>
                  <a:srgbClr val="ff0000"/>
                </a:solidFill>
                <a:latin typeface="Century Gothic"/>
              </a:rPr>
              <a:t>e</a:t>
            </a:r>
            <a:r>
              <a:rPr b="1" i="1" lang="en-US" sz="6600" spc="-1" strike="noStrike">
                <a:solidFill>
                  <a:srgbClr val="404040"/>
                </a:solidFill>
                <a:latin typeface="Century Gothic"/>
              </a:rPr>
              <a:t>-simp</a:t>
            </a:r>
            <a:r>
              <a:rPr b="1" i="1" lang="en-US" sz="6600" spc="-1" strike="noStrike">
                <a:solidFill>
                  <a:srgbClr val="ff0000"/>
                </a:solidFill>
                <a:latin typeface="Century Gothic"/>
              </a:rPr>
              <a:t>ly</a:t>
            </a: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6600" spc="-1" strike="noStrike">
                <a:solidFill>
                  <a:srgbClr val="404040"/>
                </a:solidFill>
                <a:latin typeface="Century Gothic"/>
              </a:rPr>
              <a:t>Angr</a:t>
            </a:r>
            <a:r>
              <a:rPr b="1" i="1" lang="en-US" sz="6600" spc="-1" strike="noStrike">
                <a:solidFill>
                  <a:srgbClr val="ff0000"/>
                </a:solidFill>
                <a:latin typeface="Century Gothic"/>
              </a:rPr>
              <a:t>y</a:t>
            </a:r>
            <a:r>
              <a:rPr b="1" i="1" lang="en-US" sz="6600" spc="-1" strike="noStrike">
                <a:solidFill>
                  <a:srgbClr val="404040"/>
                </a:solidFill>
                <a:latin typeface="Century Gothic"/>
              </a:rPr>
              <a:t>-angr</a:t>
            </a:r>
            <a:r>
              <a:rPr b="1" i="1" lang="en-US" sz="6600" spc="-1" strike="noStrike">
                <a:solidFill>
                  <a:srgbClr val="ff0000"/>
                </a:solidFill>
                <a:latin typeface="Century Gothic"/>
              </a:rPr>
              <a:t>ily</a:t>
            </a: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6600" spc="-1" strike="noStrike">
                <a:solidFill>
                  <a:srgbClr val="404040"/>
                </a:solidFill>
                <a:latin typeface="Century Gothic"/>
              </a:rPr>
              <a:t>Carefu</a:t>
            </a:r>
            <a:r>
              <a:rPr b="1" i="1" lang="en-US" sz="6600" spc="-1" strike="noStrike">
                <a:solidFill>
                  <a:srgbClr val="ff0000"/>
                </a:solidFill>
                <a:latin typeface="Century Gothic"/>
              </a:rPr>
              <a:t>l</a:t>
            </a:r>
            <a:r>
              <a:rPr b="1" i="1" lang="en-US" sz="6600" spc="-1" strike="noStrike">
                <a:solidFill>
                  <a:srgbClr val="404040"/>
                </a:solidFill>
                <a:latin typeface="Century Gothic"/>
              </a:rPr>
              <a:t>-carefu</a:t>
            </a:r>
            <a:r>
              <a:rPr b="1" i="1" lang="en-US" sz="6600" spc="-1" strike="noStrike">
                <a:solidFill>
                  <a:srgbClr val="ff0000"/>
                </a:solidFill>
                <a:latin typeface="Century Gothic"/>
              </a:rPr>
              <a:t>lly</a:t>
            </a:r>
            <a:endParaRPr b="0" lang="en-US" sz="6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1722600" y="813960"/>
            <a:ext cx="9888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Simon love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Gothic"/>
              </a:rPr>
              <a:t>fast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 cars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I can run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Gothic"/>
              </a:rPr>
              <a:t>fast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It`s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Gothic"/>
              </a:rPr>
              <a:t>hard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 to do it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She has a very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Gothic"/>
              </a:rPr>
              <a:t>hard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 life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I get up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Gothic"/>
              </a:rPr>
              <a:t>early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I lik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Gothic"/>
              </a:rPr>
              <a:t>early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 spring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He`s a very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Gothic"/>
              </a:rPr>
              <a:t>friendly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 person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He greeted me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Century Gothic"/>
              </a:rPr>
              <a:t>friendly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She`s a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Century Gothic"/>
              </a:rPr>
              <a:t>good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 singer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He can swim 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Century Gothic"/>
              </a:rPr>
              <a:t>well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6T12:41:49Z</dcterms:created>
  <dc:creator>Евгения Лаврикова</dc:creator>
  <dc:description/>
  <dc:language>en-US</dc:language>
  <cp:lastModifiedBy>Пользователь</cp:lastModifiedBy>
  <dcterms:modified xsi:type="dcterms:W3CDTF">2016-01-28T08:08:10Z</dcterms:modified>
  <cp:revision>11</cp:revision>
  <dc:subject/>
  <dc:title>She is a famous pop star.                                     I can read quickly. The book is interesting.                                          </dc:title>
</cp:coreProperties>
</file>