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752-4FCF-479E-8546-C5CC772F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63D-C21D-47B5-9626-87DB800C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BB77B-7522-47B0-9A05-DB6F6FA1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EAB1D4-FDED-4119-A0F2-ACF53D8C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2D4AB-60B5-477D-9DF7-A27EE0B5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51300-0D2A-41A3-B6BF-E822851C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B65A51-8468-4A3A-8366-503FA4FE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F29C4-2753-451A-8FC7-F6B7A28D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30413-0D71-47A1-BAA9-42F42FDE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09100-EBB1-4C0D-A401-639B0701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CA5C9-F80F-41EC-A628-E2516286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D2971-C521-494F-B6F6-FEC264BC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4D5-BC8C-4711-AFA2-EF49E907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D8F1C-0E84-456F-842E-EC0E1261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69759-240A-4CAA-BC29-49BB28D2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65706-84D9-40BB-8778-CC38441EC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879F9-E9B7-40A7-B474-FE3B060B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D18A0-07E5-484C-BDAC-B895CE4F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7E22A-ED5D-48D7-98B6-BD7E363E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D469D-E194-49D4-B9A0-5FBC50B8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48886-CFDA-4007-AA14-CA08A233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289495-C3F3-4814-9995-EC2B5554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AA70A-16AA-4F3F-BBF4-3AA4CCDF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576-A486-48FA-AC59-747A34C9F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732871-B390-4FC5-AEF5-E169CE30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EC37D-2907-43C3-9CB6-0E040845B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FEF0C-3683-493C-B543-36C2871E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866C2-25D5-438E-A535-FA986F46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D41E5-CB12-4396-82AD-05633502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FF72A-7311-4ACE-A0C1-4EADA800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430A8-2FEB-435B-B986-F946184C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07DCD-AD7F-4337-AF04-B6CD4381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C3B47-E6A3-4088-BEFD-28B8AE99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E7C3F-80B3-4E25-9331-30A1C7B8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CAF1-A425-4161-83E3-9C1C1B8A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41F20-20F8-4B85-85FA-5476A268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63D0C7-7937-4D87-8903-CCD5906C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ECF24-1014-4A97-88DE-E933B99E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81800-F29B-4022-82C6-491CB82F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CB7F2B-058A-4958-9F93-C5E29574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0890C4-0D74-457C-B884-A2B6FF8F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CB43B-8A09-4DEB-AA43-45E717EF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66B3B-2B30-48ED-8B94-558AF822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C4F69-908D-41DC-9CCA-F1553BC6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4D3B1-E977-4983-AF10-A02552AA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4EFD5-3CBB-4613-8F07-6A0BFB06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997843-978A-4B48-80D1-5C7F091A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82015-3375-412D-8B3E-CEC68584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B247D-4826-4097-B347-975B3244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34AD7-87C8-4801-9FF9-E8418CED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9B633-A9D8-451E-9C54-D74C5124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2ACCCD-368C-49EB-8649-561D1047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5BBA9-6ED4-41A1-B05B-273C1CE7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182834-BDBB-4088-BB92-88C97413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5518E-580F-48AC-A1F7-BC7724E4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0C079-328C-474D-92D8-297CF78F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ACA8-853B-4294-8C3D-CE62DB36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441F14-06BE-4361-94A4-0496E819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731E8-9BAB-4AEF-8470-28D8A3D8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E7579-08AF-4204-9B96-C1197DE6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4DE46-A2E6-47C4-B775-3E231D06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5CF5C-192C-4414-ACA9-CFAAC3451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C3585-0472-4094-81B6-1EE918F80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5CDA4-253D-4111-89B2-7D1BD6513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23D02D-618D-4ED0-9952-4AD38384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A404E9-1931-4793-8F29-512FD217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BC595-9EA6-432E-9415-BC1B075B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67AA-9E08-45D9-BE9B-E0D54EC3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DDEBD7-F61D-4DA8-AB70-25A2BD5F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FE5D41-EEE3-4FD7-BAAA-E371F966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423F66-F119-4BD0-AF9A-78433418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08BB9F-5F00-44DC-9CD3-804BA5E8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5921E3-83C0-4DCB-AEC4-47D2EC13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EA0D57-52BC-40DB-9F0C-D0F981F4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8E7AEE-6D39-449C-BA7F-A12C911F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FEE4CC-A26F-4E62-9847-3C334146A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958C6F-3D74-4238-821B-F2C7B01EF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9F28-ADAD-4E2A-BB0B-9B21D654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45DA-1152-4EAD-AE35-F841A4E7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ECBD-33D8-473A-8D2A-A7F0581D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B78E-D390-4906-A4DD-C9B33072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7BE7-A355-4291-9FC8-45D9DE82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4FE7-E423-4A41-B0AF-7EFDA236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4E6B-ABD1-4243-8C97-28253D6E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8028-F080-4F95-AE0D-60647D9C6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1ED3-4285-49A9-A679-CF50A6A0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C5453-625B-4901-9B90-9A220AE34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D6052-7E8D-4CCE-BFF6-EBC8B51B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CDD35-103B-41C8-9504-089ADB8E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DBE57-D025-4781-81B9-95F1C77B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C1DF2-FD58-4990-AA10-0EE212CB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C6AA-58BF-4C00-9DBA-8A0FCCA6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7F411-7E66-4B0A-8F32-67C32264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67101-CCA6-4206-9FE2-536928F4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77A54-2201-49A8-97F7-D74E42EF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271C1-FBAA-45FB-9042-52A7CE5D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F3271-DBC3-4AFC-AE29-CFC1883E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5C563-F8C4-4B0D-AD17-BAF82C4F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717EE-DE3E-4BF3-ABD7-E43F0C4CA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B2BCE-7CD3-4AC0-8C6C-8856386C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F10F1-B1C8-4A8A-8FB0-4E9B8DFA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94DCC-6413-428B-84D5-C353E740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7A66-E1A4-4DB0-B65A-EA047413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212BE-7967-4D02-920E-DD3EE758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DDCD0-22C2-4735-B809-1FCF4671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FB75A-FCA6-48F4-B2B8-F504F3AF8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F9C86-B9DA-46AA-A0ED-B25FDC53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DB3F3-9752-4140-8B24-46E25FA8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88B00-0CD7-4E02-852E-7A329DA7E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77697-F9C9-4E92-B264-C9EFAE6C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810EC-1C0D-4A53-B571-B487943E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D9E71-C80F-431E-B205-BE8FD20B7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09A6E-D914-49FA-8CA2-5879A68B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F77E-7ED4-42EA-9A01-37508052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E57AB-3C44-4282-93F1-4A6D0D189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B263E-90D9-4EBE-891E-2D343C4C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A40B8-12F6-436C-809B-3BCC2BCA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AF28E-FBA5-4167-AE5A-3A79C725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F26A2-3BC1-4F99-BB4B-8DC23732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B90589-46CF-49DA-9108-232E9A1E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DF21C-C9CC-416E-B1CD-A86D6F46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3DBD2-7470-4D9B-8ABE-5930CCB2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6F9EC-0E88-4F82-83D2-6CF69CC1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1D6F2-22F5-4F45-9462-2A4C37FDC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7680-98FC-434A-B3B6-DDD76E48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15E2C-7611-4A4E-8376-B98C9219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195AC-4EA2-4F91-8FD9-FC947E9B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80587-201B-42C2-ADC7-F3DAED33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9B172-DF4C-4FAA-874B-72C0CA02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BAFF5-3ABB-4F88-95D0-53F6CCA52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A8BCC-6119-4B2D-A128-E3692EE1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697D9-1556-40CD-853B-EFCA3A2D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8CC38-3A26-404D-A838-8C40E61C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BCE38-A6B2-4A95-BFA4-8E989C74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91374-6CB7-4D4D-AFE1-DBDF8F1A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388C-D9F2-4C1F-BEFA-BC3EB38B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41E0D-A32A-494D-A09C-5F77F765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9D746-C815-42BB-A141-39494379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C7BC3-105D-42B1-ADA6-5D15CEA6B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A54CE-189C-4064-BFA5-5352B71CD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BB7A8-1B4A-4ABC-AB0A-BF5C5C7A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E911E-E584-4287-A2F3-4584EFB74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4A2A2-3C08-4C26-9900-F31BD50C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73A39-DC64-43CB-BE24-D716D161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F972D-D7B0-4A8B-AA56-F589679D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BCC4C-3278-4CCB-A22B-C30B83B7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7525-039E-4FD5-8DED-BB3DF8C91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8301C-98CD-4BCC-AF51-7B92921A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59E81-C3E0-43F0-97DE-F788F60D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3311A-194F-4534-AFBC-681B6BD6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9F8BF-E6A5-4ED9-B59F-A73ED192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AA734-25A4-4E82-AA79-4058485E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51FF7-80A0-4FD6-AEF5-9115F1AB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6A642-F044-43F8-A336-AEA42DF2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3A432-725A-4675-A47B-C0ABD8C7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56263-0EE1-43BD-BDBB-2EA4FD01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687D1-EB78-4C5E-9CCF-A2996172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20A8-2FFB-4EE3-9DDD-5E383C8F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D073A-5DC6-449D-8BE0-ECFBDF6B3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ACB9BA-9A47-4028-A550-251E2365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0DA44-2B0D-4E05-AA94-1032A254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C7FEA-A4BD-4601-A970-E06D9B00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675294-1565-4E11-BE33-EB91DC71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1B79D-63F4-4DF7-8BF2-79705827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CDC88-7212-4402-BC15-C701CCC3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84B60-702D-4DB4-99B7-B6C2FDB7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C3A66-EDBF-4035-9E3F-3B886EBB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728E9-0A97-4D9E-95A5-37C846B2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100000">
                <a:srgbClr val="865ae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69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69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69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69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69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6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6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A377-8C93-4A92-B14F-5B70553D3C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8465-BCF0-45E6-9D7D-BB0312E9DB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0C69-8EA2-4780-A12B-3CA30F6FE16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C1332-71C2-48AB-87A9-46675CB4C1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39B1-D276-4813-8AC9-E72DA9C66C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7C62-F33C-4A54-91B3-19BB5784762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6DD0-B57B-4F23-857B-DC024E98EE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4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b69ff"/>
                </a:solidFill>
                <a:latin typeface="Arial"/>
              </a:endParaRPr>
            </a:p>
          </p:txBody>
        </p:sp>
        <p:grpSp>
          <p:nvGrpSpPr>
            <p:cNvPr id="14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5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5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5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5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5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5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56d8"/>
                  </a:gs>
                  <a:gs pos="100000">
                    <a:srgbClr val="9966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5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5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5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6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6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6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6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6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6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865ae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6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6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b5de8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256d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b5de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7d54d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865a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7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8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8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f6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8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8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8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8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8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99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8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9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9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9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9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9c6b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9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9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9060f0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9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9966ff"/>
                  </a:gs>
                  <a:gs pos="100000">
                    <a:srgbClr val="906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19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9463f7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9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0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0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0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0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0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sp>
            <p:nvSpPr>
              <p:cNvPr id="20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966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b69ff"/>
                  </a:solidFill>
                  <a:latin typeface="Arial"/>
                </a:endParaRPr>
              </a:p>
            </p:txBody>
          </p:sp>
          <p:grpSp>
            <p:nvGrpSpPr>
              <p:cNvPr id="20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0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69ff"/>
                    </a:solidFill>
                    <a:latin typeface="Arial"/>
                  </a:endParaRPr>
                </a:p>
              </p:txBody>
            </p:sp>
            <p:sp>
              <p:nvSpPr>
                <p:cNvPr id="20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69ff"/>
                    </a:solidFill>
                    <a:latin typeface="Arial"/>
                  </a:endParaRPr>
                </a:p>
              </p:txBody>
            </p:sp>
            <p:sp>
              <p:nvSpPr>
                <p:cNvPr id="20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996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69ff"/>
                    </a:solidFill>
                    <a:latin typeface="Arial"/>
                  </a:endParaRPr>
                </a:p>
              </p:txBody>
            </p:sp>
            <p:sp>
              <p:nvSpPr>
                <p:cNvPr id="21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66ff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9b69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6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6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b69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DC61-09B2-41C2-9539-A514D2775B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18DA-22F3-4161-B9C4-4CC29803466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6E44-C3C3-4380-8603-D62C5DD1E03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621C7-5D86-4AC0-903E-44F2CA085A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35D3-61CC-4981-BF29-2B87792A795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6A44-041E-4410-BC5A-ED776790E07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935D-DEA0-4D71-816E-562C6A5C47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573120" y="1822320"/>
            <a:ext cx="7785000" cy="366408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2" descr="http://player.myshared.ru/4/272112/data/images/img2.jpg"/>
          <p:cNvPicPr/>
          <p:nvPr/>
        </p:nvPicPr>
        <p:blipFill>
          <a:blip r:embed="rId2"/>
          <a:stretch/>
        </p:blipFill>
        <p:spPr>
          <a:xfrm rot="823800">
            <a:off x="6516360" y="764640"/>
            <a:ext cx="2016000" cy="2009880"/>
          </a:xfrm>
          <a:prstGeom prst="rect">
            <a:avLst/>
          </a:prstGeom>
          <a:ln w="0">
            <a:noFill/>
          </a:ln>
        </p:spPr>
      </p:pic>
      <p:pic>
        <p:nvPicPr>
          <p:cNvPr id="705" name="Picture 2" descr="http://player.myshared.ru/4/272112/data/images/img2.jpg"/>
          <p:cNvPicPr/>
          <p:nvPr/>
        </p:nvPicPr>
        <p:blipFill>
          <a:blip r:embed="rId3"/>
          <a:stretch/>
        </p:blipFill>
        <p:spPr>
          <a:xfrm rot="20268600">
            <a:off x="6864480" y="3849480"/>
            <a:ext cx="22986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Дети Участники проектной     Родителидеятельности               Педагоги 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Picture 2" descr="«Лепим нелепицы»                   «Транспорт к выезду                         готов» "/>
          <p:cNvPicPr/>
          <p:nvPr/>
        </p:nvPicPr>
        <p:blipFill>
          <a:blip r:embed="rId1"/>
          <a:stretch/>
        </p:blipFill>
        <p:spPr>
          <a:xfrm>
            <a:off x="0" y="-1440"/>
            <a:ext cx="9136080" cy="6859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1" descr="G:\DSCN0838.JPG"/>
          <p:cNvPicPr/>
          <p:nvPr/>
        </p:nvPicPr>
        <p:blipFill>
          <a:blip r:embed="rId1"/>
          <a:stretch/>
        </p:blipFill>
        <p:spPr>
          <a:xfrm>
            <a:off x="324000" y="386064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2" descr="G:\DSCN0840.JPG"/>
          <p:cNvPicPr/>
          <p:nvPr/>
        </p:nvPicPr>
        <p:blipFill>
          <a:blip r:embed="rId2"/>
          <a:stretch/>
        </p:blipFill>
        <p:spPr>
          <a:xfrm>
            <a:off x="4667400" y="386064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3" descr="G:\DSCN0846.JPG"/>
          <p:cNvPicPr/>
          <p:nvPr/>
        </p:nvPicPr>
        <p:blipFill>
          <a:blip r:embed="rId3"/>
          <a:stretch/>
        </p:blipFill>
        <p:spPr>
          <a:xfrm>
            <a:off x="4500720" y="584280"/>
            <a:ext cx="4127400" cy="3097080"/>
          </a:xfrm>
          <a:prstGeom prst="rect">
            <a:avLst/>
          </a:prstGeom>
          <a:ln w="0">
            <a:noFill/>
          </a:ln>
        </p:spPr>
      </p:pic>
      <p:sp>
        <p:nvSpPr>
          <p:cNvPr id="719" name="TextBox 2"/>
          <p:cNvSpPr/>
          <p:nvPr/>
        </p:nvSpPr>
        <p:spPr>
          <a:xfrm>
            <a:off x="108000" y="981000"/>
            <a:ext cx="424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Конструктивно-творческая деятельность детей</a:t>
            </a:r>
            <a:endParaRPr b="0" lang="en-US" sz="2800" spc="-1" strike="noStrike">
              <a:solidFill>
                <a:srgbClr val="9b6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Средний:       Ребенок    самостоятельновыделяет, абстрагирует и называет отодного до двух свойств предметов.Допускает    ...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40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2" descr="проектная деятельность по фэмп"/>
          <p:cNvPicPr/>
          <p:nvPr/>
        </p:nvPicPr>
        <p:blipFill>
          <a:blip r:embed="rId1"/>
          <a:stretch/>
        </p:blipFill>
        <p:spPr>
          <a:xfrm>
            <a:off x="0" y="28440"/>
            <a:ext cx="9226440" cy="6927840"/>
          </a:xfrm>
          <a:prstGeom prst="rect">
            <a:avLst/>
          </a:prstGeom>
          <a:ln w="0">
            <a:noFill/>
          </a:ln>
        </p:spPr>
      </p:pic>
      <p:sp>
        <p:nvSpPr>
          <p:cNvPr id="722" name="TextBox 1"/>
          <p:cNvSpPr/>
          <p:nvPr/>
        </p:nvSpPr>
        <p:spPr>
          <a:xfrm>
            <a:off x="2484360" y="256536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69ff"/>
              </a:solidFill>
              <a:latin typeface="Arial"/>
            </a:endParaRPr>
          </a:p>
        </p:txBody>
      </p:sp>
      <p:sp>
        <p:nvSpPr>
          <p:cNvPr id="723" name="Прямоугольник 2"/>
          <p:cNvSpPr/>
          <p:nvPr/>
        </p:nvSpPr>
        <p:spPr>
          <a:xfrm>
            <a:off x="468360" y="2421000"/>
            <a:ext cx="81360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c00000"/>
                </a:solidFill>
                <a:uFillTx/>
                <a:latin typeface="Bookman Old Style"/>
              </a:rPr>
              <a:t>Список литературы:</a:t>
            </a: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4d"/>
                </a:solidFill>
                <a:latin typeface="Bookman Old Style"/>
              </a:rPr>
              <a:t>1. Белая А. 150 тестов, игр, упражнений. - М.,2006</a:t>
            </a: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4d"/>
                </a:solidFill>
                <a:latin typeface="Bookman Old Style"/>
              </a:rPr>
              <a:t>2. Гаврина С.П. «Веселая математика» - М.,2001</a:t>
            </a: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4d"/>
                </a:solidFill>
                <a:latin typeface="Bookman Old Style"/>
              </a:rPr>
              <a:t>3. В. Цвынтарный. Играем пальчиками и развиваем речь. Лань. Санкт-Петербург, 1997</a:t>
            </a: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4d"/>
                </a:solidFill>
                <a:latin typeface="Bookman Old Style"/>
              </a:rPr>
              <a:t>4. А.А. Смоленцева. Математика до школы. Н.-Новгород 1996 г.</a:t>
            </a: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4d"/>
                </a:solidFill>
                <a:latin typeface="Bookman Old Style"/>
              </a:rPr>
              <a:t>5. Л.И. Тихонова. Математика в играх с лего-конструктором. Санкт-Петербург, изд. «Детство-Пресс» 2001 г.</a:t>
            </a: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4d"/>
                </a:solidFill>
                <a:latin typeface="Bookman Old Style"/>
              </a:rPr>
              <a:t>6. В.П. Новикова. Математика в детском саду. Москва. «Мозаика-Синтез» 2000 г.</a:t>
            </a: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4d"/>
                </a:solidFill>
                <a:latin typeface="Bookman Old Style"/>
              </a:rPr>
              <a:t>7. И.А. Помораева. Занятия по формированию элементарных математических представлений 2-е изд. Москва, изд. «Мозаика-Синтез» 2010 г.</a:t>
            </a:r>
            <a:endParaRPr b="0" lang="en-US" sz="1400" spc="-1" strike="noStrike">
              <a:solidFill>
                <a:srgbClr val="9b69ff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Скругленный прямоугольник 3"/>
          <p:cNvSpPr/>
          <p:nvPr/>
        </p:nvSpPr>
        <p:spPr>
          <a:xfrm>
            <a:off x="539640" y="620640"/>
            <a:ext cx="7920000" cy="5977080"/>
          </a:xfrm>
          <a:prstGeom prst="roundRect">
            <a:avLst>
              <a:gd name="adj" fmla="val 16667"/>
            </a:avLst>
          </a:prstGeom>
          <a:solidFill>
            <a:srgbClr val="7030a0">
              <a:alpha val="83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Bookman Old Style"/>
              </a:rPr>
              <a:t>Тип проекта</a:t>
            </a:r>
            <a:r>
              <a:rPr b="1" lang="ru-RU" sz="2000" spc="-1" strike="noStrike">
                <a:solidFill>
                  <a:srgbClr val="ffc000"/>
                </a:solidFill>
                <a:latin typeface="Bookman Old Style"/>
              </a:rPr>
              <a:t>: информационный, творческий, игровой</a:t>
            </a:r>
            <a:endParaRPr b="0" lang="en-US" sz="20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Bookman Old Style"/>
              </a:rPr>
              <a:t>Масштаб проекта: </a:t>
            </a:r>
            <a:r>
              <a:rPr b="1" lang="ru-RU" sz="2000" spc="-1" strike="noStrike">
                <a:solidFill>
                  <a:srgbClr val="ffc000"/>
                </a:solidFill>
                <a:latin typeface="Bookman Old Style"/>
              </a:rPr>
              <a:t>2014-2017 г.</a:t>
            </a:r>
            <a:endParaRPr b="0" lang="en-US" sz="20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Bookman Old Style"/>
              </a:rPr>
              <a:t>Актуальность проекта</a:t>
            </a:r>
            <a:r>
              <a:rPr b="1" lang="ru-RU" sz="2000" spc="-1" strike="noStrike">
                <a:solidFill>
                  <a:srgbClr val="ffc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9b69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Bookman Old Style"/>
              </a:rPr>
              <a:t>Современные требования к развивающему обучению в период дошкольного детства диктуют необходимость создания новых форм игровой деятельности, при которой сохранялись бы и синтезировать элементы познавательного, учебного и игрового общения.</a:t>
            </a:r>
            <a:br>
              <a:rPr sz="2000"/>
            </a:br>
            <a:r>
              <a:rPr b="1" lang="ru-RU" sz="2000" spc="-1" strike="noStrike">
                <a:solidFill>
                  <a:srgbClr val="ffc000"/>
                </a:solidFill>
                <a:latin typeface="Bookman Old Style"/>
              </a:rPr>
              <a:t>Геометрические блоки Дьенеша – познавательный материал, который в полной мере отвечает этим требованиям. Блоки Дьенеша помогают ребенку овладеть мыслительными операциями и действиями, важными как в плане предматематической подготовки, так и с точки зрения общего интеллектуального развития. </a:t>
            </a:r>
            <a:endParaRPr b="0" lang="en-US" sz="2000" spc="-1" strike="noStrike">
              <a:solidFill>
                <a:srgbClr val="9b69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НОД по ФЭМП           Дидактические               игры Формы     Физкультминуткиработы с детьми      Развлечения          ..."/>
          <p:cNvPicPr/>
          <p:nvPr/>
        </p:nvPicPr>
        <p:blipFill>
          <a:blip r:embed="rId1"/>
          <a:stretch/>
        </p:blipFill>
        <p:spPr>
          <a:xfrm>
            <a:off x="-65160" y="0"/>
            <a:ext cx="9209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2" descr="Познакомить детей с геометрическими фигурами,формой, цветом, размером, толщиной предметов. Развивать мыслительные умения: ...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Недостаточный уровень развития у ребенка-дошкольника интеллектуальных способностей икреативного      мышления,      активн..."/>
          <p:cNvPicPr/>
          <p:nvPr/>
        </p:nvPicPr>
        <p:blipFill>
          <a:blip r:embed="rId1"/>
          <a:stretch/>
        </p:blipFill>
        <p:spPr>
          <a:xfrm>
            <a:off x="0" y="15840"/>
            <a:ext cx="9144000" cy="7077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Содействовать развитию познавательныхпроцессов восприятия, памяти, внимания,воображения.  Гармонично     развивать     кон..."/>
          <p:cNvPicPr/>
          <p:nvPr/>
        </p:nvPicPr>
        <p:blipFill>
          <a:blip r:embed="rId1"/>
          <a:stretch/>
        </p:blipFill>
        <p:spPr>
          <a:xfrm>
            <a:off x="0" y="-19080"/>
            <a:ext cx="9159840" cy="68770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Picture 2" descr="Повышение        уровня     сенсорного      иинтеллектуально-творческого           развитиядошкольников на каждом возрастн...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2" name="Picture 2" descr="I этап—проектировочный:  Диагностирование детей;  Анкетирование родителей;  Определение стратегии и механизмов реализации ...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778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III этап—внедренческий:Игровая деятельность;Познавательная деятельность;Конструктивно-творческая деятельность;Речевая деят..."/>
          <p:cNvPicPr/>
          <p:nvPr/>
        </p:nvPicPr>
        <p:blipFill>
          <a:blip r:embed="rId1"/>
          <a:stretch/>
        </p:blipFill>
        <p:spPr>
          <a:xfrm>
            <a:off x="0" y="0"/>
            <a:ext cx="9144000" cy="695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9:20:37Z</dcterms:created>
  <dc:creator>Елена</dc:creator>
  <dc:description/>
  <dc:language>en-US</dc:language>
  <cp:lastModifiedBy>one</cp:lastModifiedBy>
  <dcterms:modified xsi:type="dcterms:W3CDTF">2017-10-10T10:21:52Z</dcterms:modified>
  <cp:revision>141</cp:revision>
  <dc:subject/>
  <dc:title>Веселая математика</dc:title>
</cp:coreProperties>
</file>