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8F4-132B-4ACB-B618-EBA5973A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DEE-E98F-440A-ADF1-F0F26985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8E0C6-DD9F-4B31-9C42-5D851378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CA9FC-4904-435D-9CE3-17FE0E98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077DD-1B96-4424-8646-F50F8F4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89E58-84CC-4817-AC1D-BB30D3D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D0687-EFC1-4DC4-8760-551B074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694ED-7B10-4EDB-B786-F9F6EBA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9924F-E63C-4BDD-9102-3B96584F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FC36D-AE88-4048-901D-5B9ECF16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31B5A-C035-43BF-9203-8BB79887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91380-2BE2-4D16-A362-9DED5782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AA2-4320-4108-A883-5124608A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A64D4-AE18-4267-8D81-8B1472D2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97E7E-2518-4032-8514-2BA407C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F9F67-4D74-4FA0-B7B5-4C834823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DFD1-C35F-4C06-B420-1941367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D2A99-8010-481E-9AE8-938797F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4D459-37F7-449C-8336-78A712E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DC6AD-CE00-4067-BEC8-C7B372D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56B77-948B-4340-96E1-6BDFD587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7F2F5-E593-42CA-A0FF-B65C208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2C3FC-122C-4F9D-9EE3-730FADB7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6AF-2B31-41FC-A7F6-23E3FC25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39751-95C3-4ED8-B57A-4F8F402E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B3980-3929-4110-871E-BF4B044B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2E6ED-5974-4B2B-95F9-F8AF487B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978CA-8573-4114-BF29-DB050D77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0D359-2CDA-458B-B3FB-368B8AB7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3CD63-2DBA-4318-BE8A-76C1E974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0DC36-468E-4EA2-8270-6F21FF20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BA69-A322-4B23-B1BB-767CB08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CA5F5-AA94-46A1-88D2-2900C06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35CE2-93B3-4609-8601-83EFC25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20BE-9133-4DAC-AE1B-B5ECBFCE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CC6F2-A3A9-475A-AC36-4398F5B1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DC7C9-7AF2-4113-A028-077633B5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FB155-0DB4-4DF2-A72A-449CB4B1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B9B7E-AB68-49F8-B863-A0D1875D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64B18-2FE3-42A2-BB5F-013076F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97CCC-D733-482D-8E9E-31E6B039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D61A3-9FB2-4F31-A8F0-E8A3125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73CD7-364D-47EA-B771-99D3530D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2E77F-DCAE-43AA-970D-7C358AE4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6EE20-267B-4B41-995E-5890C68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AD9D-3979-4357-8D43-EC9A094B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8C487-3E55-4B7D-9801-75E0C24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E7909-4055-4109-84D0-2B5E6F9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5FC2F-F518-44F1-BDBE-524C4D42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D2E6C-4016-44C8-9C5D-CE02532A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32FC2-6D68-44AF-88DA-74AC1F7F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D277C-598C-4861-A483-5423E388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2CD03-B7F9-48E1-A914-1AE94186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34E9F-4E81-4169-B8C4-4CA4F8F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9CBE9-71BA-476C-B02D-A962E04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84FA8-8C2D-4D26-9FB8-500169C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3EF2-A115-47A1-A1B7-792EBC0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AB14A-BF7E-4194-BAB2-8778E386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5D89A-AA8F-4F15-AE38-19C8A3B4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5BDA6-1B1C-4474-B032-6A1D989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4C796-B5EC-4974-A17F-8D2051B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CFCD6-DC91-47AD-8753-EB88CEF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98D59-15E7-441A-99D8-5AF076E7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92BDB-F9CA-4D15-A68D-057B653E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188C8-F5E5-4688-978B-C2E21878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BBC7B-FAAE-4552-8FBF-E3BC767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35F4E-CDF3-40E0-B2C7-F2B85EE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B921-D55F-4942-9623-7CBA037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C611E-497B-4C11-8E4F-0A2D4B7A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36F00-1DCA-4A3E-A844-A02E63F9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ADB6A-4E2E-4654-A5BA-6478B6FA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A6813-09F0-4BD3-8E41-10B8BF8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5E9E0-DEAF-41BE-881C-7631B45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633A9-1441-469B-8800-4BF338C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19668-822A-406C-AB93-0A09C73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90627-403C-422A-B091-B53E296C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D3B2F-DFCD-4C41-976F-2ED648FF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4C77-D173-4FA6-8D1F-F918965F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90B-4BC8-40A2-92E6-FABC6145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AF75-3A60-49E6-A148-6C268DD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FF8-DC79-4150-B06C-62F61247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E199-E6F0-4D96-B0B5-04A5A2F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441F-EA9E-4EDA-AFEC-92BADCA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9A5D-ABE9-4CC1-901B-3D05D47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940E-3559-4C1E-BB03-CF20DD7A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0474-70C3-4084-A020-0ACD277D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E43A-D3EC-48D8-97D2-F0B1CEF6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1391-8F5E-4709-BB4E-90F2CAF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4C76-96B5-4EA1-B49D-ADD30A8F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6119-18CB-4D2B-A585-A62E60C2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D979-A2F9-40C6-A559-0CE86685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543-72A5-4255-A698-A6F22AE7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AECA-ED58-415E-A9BC-8D1AF669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C8E1-49BC-4C58-A4FC-5E70BB1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7958-9220-41A3-90FC-3A7BA73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DF28-F22D-4E89-87D2-4AD57CF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3360-2069-430E-9D41-CDD2F31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D1F6-A270-40BB-8137-5FFB1517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E785-7627-4C76-9F34-30DBF496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96FE-36E5-4883-AB31-803FB4A4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6971-9E05-4F9D-A264-F5E822D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4F7F-0B2C-4E08-9A10-0007F59F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A8E-B2F2-4829-9DB5-1E89D9D1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060C-F38A-4DED-8701-A9785C5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802B-FC5F-4C4A-A7E6-9395053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7DFA-C9B5-4AA0-B389-19C4F730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DF1A-DDFF-496A-A9BE-1A8100F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B3E6-77DC-418F-B27C-F4A0807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FCB6-B256-47FA-A2A7-41373A40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2869-870A-4E7E-A115-2C56B07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E377-049C-4D8E-B15D-0E80A471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81C0-AECF-4B11-818B-F6671693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E306-1F1D-4D53-8C21-B475A570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D40-3FA3-4DE3-A42A-AEBB1373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9DE0-8718-4154-89DA-D8F868B5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3DAF-88E1-49CB-A3B4-76584C03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4078-0BD8-46DD-8F1D-8892EC5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975E8-E627-4A74-B641-4A90C2D5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1B62-B140-493C-9699-47F0585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CD2E-CE82-4EDD-99C3-C56DF394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49F5-FD52-4454-B3FE-547A66F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C722-45DD-4C70-8041-E6058C87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F5C08-4C97-4DCE-80B9-6B7D1395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02E32-33F1-4438-8DA0-756B508F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E00-CA6E-4B87-8C51-D338312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6677-B857-413B-9860-C45725A4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970CD-8622-49EC-B62B-878945F4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27F79-44F6-4966-BA26-93B1BE49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C6C3-FDC5-4675-A03A-1E61B42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56D81-135E-45ED-BADD-4F734BA5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0B7DB-3897-47E3-A29C-BEC0EA7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918A4-7DF6-47A6-ABBC-BD0B3196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66CB-36DE-41D0-B4B0-A8110EF0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B295-7267-4D46-8D79-5BC142D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3EDDB-1D19-47F2-8BD8-6435633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8B4-2ACA-4690-8A7A-9CF5BC0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7908-AAC8-4AD0-AF2A-7ED99581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9BF6-B9C6-423E-814C-C7988C1B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A35EF-ED2B-4D97-ACD6-00C14EAB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0412-35D7-43FC-964A-DC3A5149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EEF6C-66A0-47F5-A526-9CFA01BD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EC597-8842-4DA8-97FF-D6271C0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EBDB-3614-459D-BD34-5D03401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139F-2103-4D6E-9747-374448C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6186B-1D88-450E-B4C4-8681CFC3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C77F-AE37-4292-9D3E-5C5B8F5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8A1-90E5-488C-971F-B887C96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B06D0-4FE7-46EF-9E83-D0A3741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420C9-99D0-43E6-BA0F-0D6113B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A3BF3-4107-4627-9DBF-4772BDCA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67B6C-E476-4A65-9EAD-9DE30790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5B71-C364-45EF-A803-7639E50B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F17F-7393-4597-BBF5-997476D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7B4E1-79C1-4B25-AC5C-43974B52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55D0B-9CCA-4B49-817E-AC018A5D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96C83-8BD9-4B70-860B-663A8A45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31D7-E569-4A59-B42D-6AAADA67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7A7-5254-4B39-B797-47E01A0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92C1E-4584-49BB-8F46-72EA8270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FE016-2A98-4460-B2D4-7322FB3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69BE5-3E5B-4ED2-BECA-A2E51AD1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B24DC-2DB4-46E9-96E6-5533D27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1B2C-2290-4F64-839E-CA521D16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3EDA-F78B-465B-B005-4CCFB364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6D655-D531-4261-AFBB-988293FA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9A76-FD2B-4001-9918-6AD7F6DC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5349-1B42-49F7-82C1-751C9512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7DE5B-65E0-4A40-8644-C5AC28F2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69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7B1-7E23-47AF-8B70-71F3868F10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901-F437-47B7-93FD-2B444F08AF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62F0-3BE5-4245-AD65-8B8FCEFFC5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EF6-0F33-4832-8DE7-94B5E6ACF6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B8E-11B6-49F8-920B-1398AB1D04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7332-1ECD-4ADE-987E-8CFB0DA853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72C-4E63-476A-A16E-629791F71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69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21F5-79AA-4407-A034-1E1738352E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A2B-ED00-40D8-8969-41B757FE44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C8B-5537-4F0C-8A69-8C1911D106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9324-3BD2-4D9A-98A2-86FA23987A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47AF-D020-4461-B06E-71F9B2E12B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869-D15A-44D8-8DA2-C53D4F6C19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DBEE-E911-45B5-AE3B-805865147B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573120" y="1822320"/>
            <a:ext cx="7785000" cy="36640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" descr="http://player.myshared.ru/4/272112/data/images/img2.jpg"/>
          <p:cNvPicPr/>
          <p:nvPr/>
        </p:nvPicPr>
        <p:blipFill>
          <a:blip r:embed="rId2"/>
          <a:stretch/>
        </p:blipFill>
        <p:spPr>
          <a:xfrm rot="823800">
            <a:off x="6516360" y="764640"/>
            <a:ext cx="2016000" cy="2009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http://player.myshared.ru/4/272112/data/images/img2.jpg"/>
          <p:cNvPicPr/>
          <p:nvPr/>
        </p:nvPicPr>
        <p:blipFill>
          <a:blip r:embed="rId3"/>
          <a:stretch/>
        </p:blipFill>
        <p:spPr>
          <a:xfrm rot="20268600">
            <a:off x="6864480" y="3849480"/>
            <a:ext cx="2298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Дети Участники проектной     Родителидеятельности               Педагоги 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«Лепим нелепицы»                   «Транспорт к выезду                         готов» "/>
          <p:cNvPicPr/>
          <p:nvPr/>
        </p:nvPicPr>
        <p:blipFill>
          <a:blip r:embed="rId1"/>
          <a:stretch/>
        </p:blipFill>
        <p:spPr>
          <a:xfrm>
            <a:off x="0" y="-1440"/>
            <a:ext cx="913608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G:\DSCN0838.JPG"/>
          <p:cNvPicPr/>
          <p:nvPr/>
        </p:nvPicPr>
        <p:blipFill>
          <a:blip r:embed="rId1"/>
          <a:stretch/>
        </p:blipFill>
        <p:spPr>
          <a:xfrm>
            <a:off x="324000" y="386064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G:\DSCN0840.JPG"/>
          <p:cNvPicPr/>
          <p:nvPr/>
        </p:nvPicPr>
        <p:blipFill>
          <a:blip r:embed="rId2"/>
          <a:stretch/>
        </p:blipFill>
        <p:spPr>
          <a:xfrm>
            <a:off x="4667400" y="386064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G:\DSCN0846.JPG"/>
          <p:cNvPicPr/>
          <p:nvPr/>
        </p:nvPicPr>
        <p:blipFill>
          <a:blip r:embed="rId3"/>
          <a:stretch/>
        </p:blipFill>
        <p:spPr>
          <a:xfrm>
            <a:off x="4500720" y="584280"/>
            <a:ext cx="4127400" cy="30970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2"/>
          <p:cNvSpPr/>
          <p:nvPr/>
        </p:nvSpPr>
        <p:spPr>
          <a:xfrm>
            <a:off x="108000" y="98100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Конструктивно-творческая деятельность детей</a:t>
            </a:r>
            <a:endParaRPr b="0" lang="en-US" sz="2800" spc="-1" strike="noStrike">
              <a:solidFill>
                <a:srgbClr val="9b6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Средний:       Ребенок    самостоятельновыделяет, абстрагирует и называет отодного до двух свойств предметов.Допускает    ...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проектная деятельность по фэмп"/>
          <p:cNvPicPr/>
          <p:nvPr/>
        </p:nvPicPr>
        <p:blipFill>
          <a:blip r:embed="rId1"/>
          <a:stretch/>
        </p:blipFill>
        <p:spPr>
          <a:xfrm>
            <a:off x="0" y="28440"/>
            <a:ext cx="9226440" cy="6927840"/>
          </a:xfrm>
          <a:prstGeom prst="rect">
            <a:avLst/>
          </a:prstGeom>
          <a:ln w="0">
            <a:noFill/>
          </a:ln>
        </p:spPr>
      </p:pic>
      <p:sp>
        <p:nvSpPr>
          <p:cNvPr id="722" name="TextBox 1"/>
          <p:cNvSpPr/>
          <p:nvPr/>
        </p:nvSpPr>
        <p:spPr>
          <a:xfrm>
            <a:off x="2484360" y="256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23" name="Прямоугольник 2"/>
          <p:cNvSpPr/>
          <p:nvPr/>
        </p:nvSpPr>
        <p:spPr>
          <a:xfrm>
            <a:off x="468360" y="242100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Bookman Old Style"/>
              </a:rPr>
              <a:t>Список литературы: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1. Белая А. 150 тестов, игр, упражнений. - М.,2006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2. Гаврина С.П. «Веселая математика» - М.,2001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3. В. Цвынтарный. Играем пальчиками и развиваем речь. Лань. Санкт-Петербург, 1997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4. А.А. Смоленцева. Математика до школы. Н.-Новгород 1996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5. Л.И. Тихонова. Математика в играх с лего-конструктором. Санкт-Петербург, изд. «Детство-Пресс» 2001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6. В.П. Новикова. Математика в детском саду. Москва. «Мозаика-Синтез» 2000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7. И.А. Помораева. Занятия по формированию элементарных математических представлений 2-е изд. Москва, изд. «Мозаика-Синтез» 2010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Скругленный прямоугольник 3"/>
          <p:cNvSpPr/>
          <p:nvPr/>
        </p:nvSpPr>
        <p:spPr>
          <a:xfrm>
            <a:off x="539640" y="620640"/>
            <a:ext cx="7920000" cy="5977080"/>
          </a:xfrm>
          <a:prstGeom prst="roundRect">
            <a:avLst>
              <a:gd name="adj" fmla="val 16667"/>
            </a:avLst>
          </a:prstGeom>
          <a:solidFill>
            <a:srgbClr val="7030a0">
              <a:alpha val="83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Bookman Old Style"/>
              </a:rPr>
              <a:t>Тип проекта</a:t>
            </a: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: информационный, творческий, игровой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Bookman Old Style"/>
              </a:rPr>
              <a:t>Масштаб проекта: </a:t>
            </a: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2014-2017 г.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Bookman Old Style"/>
              </a:rPr>
              <a:t>Актуальность проекта</a:t>
            </a: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Современные требования к развивающему обучению в период дошкольного детства диктуют необходимость создания новых форм игровой деятельности, при которой сохранялись бы и синтезировать элементы познавательного, учебного и игрового общения.</a:t>
            </a: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Геометрические блоки Дьенеша – познавательный материал, который в полной мере отвечает этим требованиям. Блоки Дьенеша помогают ребенку овладеть мыслительными операциями и действиями, важными как в плане предматематической подготовки, так и с точки зрения общего интеллектуального развития. 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НОД по ФЭМП           Дидактические               игры Формы     Физкультминуткиработы с детьми      Развлечения          ...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Познакомить детей с геометрическими фигурами,формой, цветом, размером, толщиной предметов. Развивать мыслительные умения: ...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Недостаточный уровень развития у ребенка-дошкольника интеллектуальных способностей икреативного      мышления,      активн..."/>
          <p:cNvPicPr/>
          <p:nvPr/>
        </p:nvPicPr>
        <p:blipFill>
          <a:blip r:embed="rId1"/>
          <a:stretch/>
        </p:blipFill>
        <p:spPr>
          <a:xfrm>
            <a:off x="0" y="15840"/>
            <a:ext cx="914400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Содействовать развитию познавательныхпроцессов восприятия, памяти, внимания,воображения.  Гармонично     развивать     кон..."/>
          <p:cNvPicPr/>
          <p:nvPr/>
        </p:nvPicPr>
        <p:blipFill>
          <a:blip r:embed="rId1"/>
          <a:stretch/>
        </p:blipFill>
        <p:spPr>
          <a:xfrm>
            <a:off x="0" y="-19080"/>
            <a:ext cx="915984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Повышение        уровня     сенсорного      иинтеллектуально-творческого           развитиядошкольников на каждом возрастн...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I этап—проектировочный:  Диагностирование детей;  Анкетирование родителей;  Определение стратегии и механизмов реализации ...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78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III этап—внедренческий:Игровая деятельность;Познавательная деятельность;Конструктивно-творческая деятельность;Речевая деят...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20:37Z</dcterms:created>
  <dc:creator>Елена</dc:creator>
  <dc:description/>
  <dc:language>en-US</dc:language>
  <cp:lastModifiedBy>one</cp:lastModifiedBy>
  <dcterms:modified xsi:type="dcterms:W3CDTF">2017-10-10T10:21:52Z</dcterms:modified>
  <cp:revision>141</cp:revision>
  <dc:subject/>
  <dc:title>Веселая математика</dc:title>
</cp:coreProperties>
</file>