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1023-E1B5-475D-A930-A854121A2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AAEA-14F1-480C-9910-803DD60C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3641-F937-4E70-B84A-46CBE6B4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5BD-8687-4642-B9D0-66D1241B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3291-440D-4992-BD12-4FCC03CD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E3A0-7AA1-4895-95EA-AD243655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248E-11F5-4454-B659-98392607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F83A4-428F-48D9-A649-3A02B689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0DB8-D37C-4A4D-88BA-03021B30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63EA-7A7B-49DF-AB1E-03ECCE9D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9A9A-29CE-4E7E-B1C4-250C6B41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C27E-BF61-4E1E-86EC-F7FCD068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630B-6602-4658-9F18-47B543F9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E548-7763-4ECD-952D-083B44AF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6F54-51CA-4AD3-95ED-F6878070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1176-D594-4BA3-830E-51FF0959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067C-803C-4321-A692-53B0C5E0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BDA9F-C7D5-420E-925A-56217B74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87BA4-FACA-4FC6-ADDD-3A0DF80D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04DD-28A4-4150-A1A1-111EED0C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A5E24-A81C-47CD-86BC-F9C49466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2DC07-EA60-47A7-8A65-8823CA14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8BD9-EACD-4AAA-A4B0-9676CDD9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45A1D-1648-4DFD-A84E-759FA87F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3680B-2D31-49FE-BFBE-091AEA45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E8E7E-6ADA-4FF0-B11A-5FEA0F7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1A99B-D7D3-4742-968A-55DB1DE1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E73AA-A0E9-4F81-924F-85E929D3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B5417-F285-45F2-A13D-0C3336AB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45921-241C-4182-8A94-6EA37C1F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28A39-86B5-4A28-B120-F30546CE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A0B2A-2F8C-4211-A9D8-44FA26D3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1C2E3-309A-4848-8D09-277DBF05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9B4C-FCBB-436E-BAC4-A206393D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64A52-B230-4750-B177-67EB81FE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104E5-14DF-4E7B-B71B-AED7ADC1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3092C-C17A-4C1A-83FE-CD5CF60A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5786F-D137-4C05-AECE-8D5734B4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50D28-EDC7-43D6-BEC4-B11AEEE6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2989-280C-4757-9FFC-E3328F8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2CCEA-2BB1-4E9C-9E6F-30E7D679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9C9C7-DFA1-4E22-8A83-87DA8884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1A5C-E9C3-4FD3-8A58-EC9A13D2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12F66-CEBC-4FB1-B3DA-FBA66A9B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8728-3E35-406D-BA00-1FCD5CA5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2EA99-8DE1-49F5-9AD0-BADBA161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4DA38-4F2C-4C1B-B526-B545E530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9F17B-681D-4AC7-8660-EA5D085D5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F9062-7756-4D44-B1FF-CCF3499B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B05EB-06CC-43BF-935B-ECC7944C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EBCA2-2BF3-41FB-A8FD-62C2FAE5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68287-3521-4A79-9BE1-419D5F7A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FFFCE-748A-41C9-A927-A746AF3C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ECE36-167A-498D-9DBD-4C9D28D9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7EE6E-4B94-4A6D-BEE1-FADC0329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A9A-C53B-4CD8-AB89-89BC0AE3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6844E-EFEF-41BC-BBDC-D291F7322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4CF-AABA-43BC-9114-C4A85494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E8A8-A709-43E8-B4B0-8867A128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51F-B14A-4375-80D6-4F0509251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3337-4AD3-4927-BE3E-9D056982F57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3C02-60AA-4C88-947E-BAAF446461C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0F4B-F807-49E1-90B2-8FE8DCCBBCB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431B-76B0-4D9F-AC2B-8F9ACC72E985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F826-39A1-4E97-BB0D-B1A11C5C99A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682560" y="182520"/>
            <a:ext cx="7785000" cy="35542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Medium"/>
              </a:rPr>
              <a:t>РАБОТА С ДАННЫМИ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9280" y="1197000"/>
            <a:ext cx="8686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-38844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типы данных можно хранить в ячейке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88440" indent="-38844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пособ задания денежного формата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88440" indent="-38844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действия необходимо осуществить для ввода в ячейку числовых данных типа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5,00 р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88440" indent="-388440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то появится в ячейке при введении в нее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2.05  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r>
              <a:rPr b="1" lang="ru-RU" sz="3200" spc="-1" strike="noStrike">
                <a:solidFill>
                  <a:srgbClr val="ffc000"/>
                </a:solidFill>
                <a:latin typeface="Franklin Gothic Book"/>
              </a:rPr>
              <a:t>    </a:t>
            </a:r>
            <a:r>
              <a:rPr b="1" lang="ru-RU" sz="3200" spc="-1" strike="noStrike">
                <a:solidFill>
                  <a:srgbClr val="c00000"/>
                </a:solidFill>
                <a:latin typeface="Franklin Gothic Book"/>
              </a:rPr>
              <a:t>12,01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Medium"/>
              </a:rPr>
              <a:t>ОФОРМЛЕНИЕ ТАБЛИЦ</a:t>
            </a:r>
            <a:endParaRPr b="0" lang="en-US" sz="5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пособ объединения ячеек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то подразумевает понятие «Копирование на интервал»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572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пособ записи информации в ячейку в несколько строк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ВЫЧИСЛЕНИЯ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Способ записи формулы в ячейку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06800" indent="-4068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онятие «Абсолютная адресация»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06800" indent="-4068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 будет изменяться формула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=А3*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$B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при копировании ее на интервал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С3:Е10 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06800" indent="-4068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Какие способы адресации присутствуют в формуле </a:t>
            </a:r>
            <a:r>
              <a:rPr b="1" lang="ru-RU" sz="3200" spc="-1" strike="noStrike">
                <a:solidFill>
                  <a:srgbClr val="ff0000"/>
                </a:solidFill>
                <a:latin typeface="Franklin Gothic Book"/>
              </a:rPr>
              <a:t>=Н5+</a:t>
            </a: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$K$4</a:t>
            </a: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06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СНОВНЫЕ ФУНКЦИИ ДЛЯ РЕШЕНИЯ ЗАДАЧ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3640" y="907560"/>
            <a:ext cx="856908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одсчет по параметру –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ЧЕТЕСЛИ(диапазон ячеек; критерий отбора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оцентное соотношение – </a:t>
            </a:r>
            <a:r>
              <a:rPr b="1" lang="ru-RU" sz="2000" spc="-1" strike="noStrike">
                <a:solidFill>
                  <a:srgbClr val="ff0000"/>
                </a:solidFill>
                <a:latin typeface="Franklin Gothic Book"/>
              </a:rPr>
              <a:t>число/всего (процентный стиль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Среднее значение по диапазону – </a:t>
            </a:r>
            <a:r>
              <a:rPr b="1" lang="ru-RU" sz="2400" spc="-1" strike="noStrike">
                <a:solidFill>
                  <a:srgbClr val="ff0000"/>
                </a:solidFill>
                <a:latin typeface="Franklin Gothic Book"/>
              </a:rPr>
              <a:t>СРЗНАЧ(диапазон ячеек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остроение графика функций – выделяем диапазон ячеек со значениями Х и У и строим  точечный график  с гладкими кривыми и маркерами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Для изменения параметров Легенды – выделить ее, контекстное меню «Формат легенды» – разместить  снизу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одписи по оси Х в графике используем «Выбрать данные» – «Подписи горизонтальной оси» - указать диапазон ячеек – ОК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Изменить надписи в полях «Легенды» - «Выбрать данные» – «Элементы легенды» - «Изменить»  - указать ячейки с нужной надписью – ОК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419640" y="5300640"/>
            <a:ext cx="54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Franklin Gothic Book"/>
              </a:rPr>
              <a:t>УСПЕХОВ !!!!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11:56:56Z</dcterms:created>
  <dc:creator>Пользователь</dc:creator>
  <dc:description/>
  <dc:language>en-US</dc:language>
  <cp:lastModifiedBy>G62</cp:lastModifiedBy>
  <dcterms:modified xsi:type="dcterms:W3CDTF">2015-04-12T19:16:36Z</dcterms:modified>
  <cp:revision>17</cp:revision>
  <dc:subject/>
  <dc:title>Проверка знаний</dc:title>
</cp:coreProperties>
</file>