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CCB7-2355-4DC9-B7C1-21DACE6E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59D-64D8-43A3-8016-1B8F17F7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31A9-A581-4AFC-AB17-53E2FC21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BD3-5E8E-4E29-8D3E-EE5F10F1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D62D-28FF-4348-8522-89D0B2CC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7A24-542B-4FB4-90A4-F65275C2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9099-2407-4FF0-B537-5AD0844C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3CA6-2FFF-4A4B-85ED-FA5E2D1D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5D63-A422-4A3F-978F-D8E7FC23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5C42-19D0-4887-BBBF-A5C98E67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45A8-3BC2-45C4-B759-272E35C4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D0D-3D0D-4D44-9B66-778A47F2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CDD2-1EFC-4186-B7E0-50970165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30D8-71A0-497D-875D-BEDF38A8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1F09-2D48-4F4E-B6B2-ABC7FC6B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4BB0-3080-4D15-9FBC-0EEFB8C3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B0B2-B36E-4416-99DA-6215C721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6D636-C3D5-49A2-8C85-18704A2D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B14DD-C303-4E3C-AF7F-589FB340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13447-89B9-4E86-AF7B-9D1879C7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7560B-2DE7-436F-B192-291F6627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8768B-3B9B-4838-B7AC-09E60254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736-A4BA-4758-80A9-124C677C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76167-D7DC-4781-96ED-6295EECB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CD89E-E0C1-4044-A99F-5851E8D6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A105B-4A08-4368-A3A0-210DBDC7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77B55-60A9-486C-B9B4-ACA88F47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63B85-D6B2-4EC2-B2AB-5372E288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C3DB8-E783-4042-A380-65878788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9CF1D-11B3-4D0B-8BF1-D6A4F6B6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CAD14-0A0E-473F-B656-63EC3E0A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E8E71-5EE8-466E-86D7-34C4486B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26176-9F55-4526-A960-DD95BADF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DA68-11CE-49F9-9E52-47AADE9E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97274-C5D5-4792-95DE-EF3D63C2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6B9F1-CABC-4E62-8CC9-E6B302FF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82BD1-9FCF-443F-8F6D-4973D990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12543-43FA-4170-B6B1-6CBB8530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2B449-8374-4A30-9F3F-75F62C02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CE219-3C0F-4204-8ED8-CFC4AFFC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61032-F1E6-47DA-AC21-4A92F1C8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A88DC-24C3-4096-A7C9-A50DFEB7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2AFFE-4049-41DE-BBCC-D5C44EF4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2EDCC-61A0-4750-84B6-504FBB19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592A-3D38-4E18-862A-FB95A38F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09CBD-CDEB-48B2-8176-2281361C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F14BC-78A8-4FB2-9C1F-E659BB0F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5CD1A-526E-4E30-9C32-38726614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00364-7BE7-4758-9AB9-62DCC480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86077-DC0B-4A2B-8CC7-4192C127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D815D-5331-40B5-A31D-E28F8B77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84D33-2586-4FA7-839B-31A76D95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4C4FB-1310-4D0F-BA92-C5A8C379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F37A7-507D-4F07-86C0-16E4B3E6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9935F-AF14-4AE1-BD69-405BF1EC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38DC-CD30-4D40-9F25-CCCA984F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6ED82-E3D9-44D9-A98B-1DF8896E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2BA8-5C80-4BCB-8B17-79DE6E66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0D9-3B97-48F1-B260-5994671D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4C7-590A-4643-91D9-38E8B512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3FE3-25C6-41AB-AD69-2E8BFCDE1EB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6407-EC8B-4A01-88DD-C647919CCA9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BCA0-7E7C-45B7-998B-BB78BBE45C2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1570-FCD1-4317-AC3C-F7935D423D05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9874-E531-4283-BF0B-6954374879F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682560" y="182520"/>
            <a:ext cx="7785000" cy="35542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Franklin Gothic Medium"/>
              </a:rPr>
              <a:t>РАБОТА С ДАННЫМИ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9280" y="1197000"/>
            <a:ext cx="8686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ие типы данных можно хранить в ячейке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88440" indent="-388440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Способ задания денежного формата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88440" indent="-388440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ие действия необходимо осуществить для ввода в ячейку числовых данных типа </a:t>
            </a: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5,00 р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88440" indent="-388440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Что появится в ячейке при введении в не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2.05   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и</a:t>
            </a:r>
            <a:r>
              <a:rPr b="1" lang="ru-RU" sz="3200" spc="-1" strike="noStrike">
                <a:solidFill>
                  <a:srgbClr val="ffc000"/>
                </a:solidFill>
                <a:latin typeface="Franklin Gothic Book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12,01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Franklin Gothic Medium"/>
              </a:rPr>
              <a:t>ОФОРМЛЕНИЕ ТАБЛИЦ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Способ объединения ячеек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Что подразумевает понятие «Копирование на интервал»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Способ записи информации в ячейку в несколько строк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ВЫЧИСЛЕНИЯ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100160"/>
            <a:ext cx="752184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Способ записи формулы в ячейку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06800" indent="-4068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онятие «Абсолютная адресация»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06800" indent="-4068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 будет изменяться формула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=А3*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$B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ри копировании ее на интервал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С3:Е10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06800" indent="-4068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ие способы адресации присутствуют в формуле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=Н5+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$K$4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06800" indent="-40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СНОВНЫЕ ФУНКЦИИ ДЛЯ РЕШЕНИЯ ЗАДАЧ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3640" y="907560"/>
            <a:ext cx="856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одсчет по параметру – 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СЧЕТЕСЛИ(диапазон ячеек; критерий отбора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оцентное соотношение – </a:t>
            </a: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число/всего (процентный стиль)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Среднее значение по диапазону – 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СРЗНАЧ(диапазон ячеек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остроение графика функций – выделяем диапазон ячеек со значениями Х и У и строим  точечный график  с гладкими кривыми и маркерами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Для изменения параметров Легенды – выделить ее, контекстное меню «Формат легенды» – разместить  снизу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одписи по оси Х в графике используем «Выбрать данные» – «Подписи горизонтальной оси» - указать диапазон ячеек – ОК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Изменить надписи в полях «Легенды» - «Выбрать данные» – «Элементы легенды» - «Изменить»  - указать ячейки с нужной надписью – ОК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3419640" y="5300640"/>
            <a:ext cx="54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Franklin Gothic Book"/>
              </a:rPr>
              <a:t>УСПЕХОВ !!!!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1:56:56Z</dcterms:created>
  <dc:creator>Пользователь</dc:creator>
  <dc:description/>
  <dc:language>en-US</dc:language>
  <cp:lastModifiedBy>G62</cp:lastModifiedBy>
  <dcterms:modified xsi:type="dcterms:W3CDTF">2015-04-12T19:16:36Z</dcterms:modified>
  <cp:revision>17</cp:revision>
  <dc:subject/>
  <dc:title>Проверка знаний</dc:title>
</cp:coreProperties>
</file>