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28A6-B965-4680-83A6-0D1F56A0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E04-4BF0-4319-99CB-66555527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F8D3-F027-4EB1-B85C-AE70E61F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2C1C-3FD1-4673-9B00-F357054E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5F2DE-6FCF-4ED7-99F8-668C8C58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1436-823C-4912-9293-40D744D3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6457-A0E4-492D-9E9B-E2189E76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77DA-6021-4330-A9E8-5E547A87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74F1-AFE2-4565-B389-924ACCE0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6161-6F82-43F0-ADCA-9F7241D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3999-F8F0-44AA-9C73-5F6BBB14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0650-D9B5-420C-9B52-2A60DA39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9987-1DED-46F3-A608-CFD1BB9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2159-B0BA-44EB-B1C1-EF5073B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9FD5-5CEC-44E2-A152-7C23A2E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F113E-E1FD-4104-985B-1BF2E236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CFA7-93E3-4565-91A2-9922C979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818-E3EE-410C-AD46-8E436C8E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650-8FCC-4689-ADA9-FCD07019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1A2-A657-4EC2-A8C3-6F9931B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71B-6140-4ABA-9812-1280D3D96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F5E2-2E8E-4B44-9FB7-95422DDB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558-ABCA-4CB2-9A1A-1B5045DD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6969-5194-4385-9A19-899478D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585886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86E4-488F-4051-AD40-23938D05BC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505078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474a2"/>
                </a:gs>
                <a:gs pos="100000">
                  <a:srgbClr val="5e5e8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d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13C7-FA60-4C0B-B553-56EBAA2690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Технология изготовления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мужского жилета классического стиля</a:t>
            </a:r>
            <a:endParaRPr b="0" lang="en-US" sz="48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651280" y="3933360"/>
            <a:ext cx="30956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ыполнил учащийся группы 357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о профессии «Портной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рков Л. С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Мастер п/о Казанова Н. П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еподаватель Бояркина О. В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6"/>
          <p:cNvSpPr/>
          <p:nvPr/>
        </p:nvSpPr>
        <p:spPr>
          <a:xfrm>
            <a:off x="2987640" y="616572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. Южно-Сахалинск, 2017 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37"/>
          <p:cNvSpPr/>
          <p:nvPr/>
        </p:nvSpPr>
        <p:spPr>
          <a:xfrm>
            <a:off x="684360" y="189000"/>
            <a:ext cx="79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осударственное бюджетное профессиональ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зовательное учрежд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Сахалинский техникум сервиса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Окончательная отделка изделия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1341360"/>
            <a:ext cx="2901960" cy="515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2901960" cy="51595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Мужской жилет классического стиля в готовом виде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771640" y="1628640"/>
            <a:ext cx="3697560" cy="50133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изводственная практика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телье «Зима» г. Южно-Сахалин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IMG_20161007_161220"/>
          <p:cNvPicPr/>
          <p:nvPr/>
        </p:nvPicPr>
        <p:blipFill>
          <a:blip r:embed="rId1"/>
          <a:stretch/>
        </p:blipFill>
        <p:spPr>
          <a:xfrm>
            <a:off x="539640" y="2492280"/>
            <a:ext cx="2266920" cy="30956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8" name="Picture 6" descr="IMG_20161005_120747"/>
          <p:cNvPicPr/>
          <p:nvPr/>
        </p:nvPicPr>
        <p:blipFill>
          <a:blip r:embed="rId2"/>
          <a:stretch/>
        </p:blipFill>
        <p:spPr>
          <a:xfrm>
            <a:off x="3492360" y="2492280"/>
            <a:ext cx="5257800" cy="3497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иды выполняемых работ: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20" name="Picture 6" descr="IMG_20161005_120738"/>
          <p:cNvPicPr/>
          <p:nvPr/>
        </p:nvPicPr>
        <p:blipFill>
          <a:blip r:embed="rId1"/>
          <a:stretch/>
        </p:blipFill>
        <p:spPr>
          <a:xfrm>
            <a:off x="539640" y="2781360"/>
            <a:ext cx="3673440" cy="2660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7" descr="IMG_20161007_125254"/>
          <p:cNvPicPr/>
          <p:nvPr/>
        </p:nvPicPr>
        <p:blipFill>
          <a:blip r:embed="rId2"/>
          <a:stretch/>
        </p:blipFill>
        <p:spPr>
          <a:xfrm>
            <a:off x="5003640" y="2852640"/>
            <a:ext cx="3745080" cy="2660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5400" spc="-1" strike="noStrike">
              <a:solidFill>
                <a:srgbClr val="d1d1d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Цель и задача: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Целью работы является демонстрация знаний, умений и навыков которые, соблюдая технологическую последовательность. А также формирование таких качеств, как способность самостоятельно решать творческие и технологические задачи, принимать обоснованные решения, применять и использовать приобретенные знания, умения, навыки на практике.</a:t>
            </a:r>
            <a:r>
              <a:rPr b="0" lang="ru-RU" sz="2800" spc="-1" strike="noStrike">
                <a:solidFill>
                  <a:srgbClr val="ffcc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ыбор модели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95" name="Picture 5" descr="жилет"/>
          <p:cNvPicPr/>
          <p:nvPr/>
        </p:nvPicPr>
        <p:blipFill>
          <a:blip r:embed="rId1"/>
          <a:stretch/>
        </p:blipFill>
        <p:spPr>
          <a:xfrm>
            <a:off x="5003640" y="2565360"/>
            <a:ext cx="3391200" cy="25783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96" name="Picture 6" descr="дипломжилет - копия"/>
          <p:cNvPicPr/>
          <p:nvPr/>
        </p:nvPicPr>
        <p:blipFill>
          <a:blip r:embed="rId2"/>
          <a:stretch/>
        </p:blipFill>
        <p:spPr>
          <a:xfrm>
            <a:off x="971640" y="1341360"/>
            <a:ext cx="3614760" cy="51577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одержание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99"/>
                </a:solidFill>
                <a:latin typeface="Tahoma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изготовления мужского жилета классического стиля необходимо выполнить технологическую последовательност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складк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ублирование и обработка мелких детале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дготовка изделия к первой примерке и проведение первой пример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работка подклад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единение подклада с основной деталью кро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99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ончательная отдел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аскладка и раскрой.</a:t>
            </a:r>
            <a:endParaRPr b="0" lang="en-US" sz="44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0" name="Picture 7" descr="IMG_20170119_093022"/>
          <p:cNvPicPr/>
          <p:nvPr/>
        </p:nvPicPr>
        <p:blipFill>
          <a:blip r:embed="rId1"/>
          <a:stretch/>
        </p:blipFill>
        <p:spPr>
          <a:xfrm>
            <a:off x="1619280" y="2924280"/>
            <a:ext cx="6035760" cy="3485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Дублирование и обработка мелких деталей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2" name="Picture 5" descr="IMG_20170118_084151"/>
          <p:cNvPicPr/>
          <p:nvPr/>
        </p:nvPicPr>
        <p:blipFill>
          <a:blip r:embed="rId1"/>
          <a:stretch/>
        </p:blipFill>
        <p:spPr>
          <a:xfrm>
            <a:off x="1476360" y="2060640"/>
            <a:ext cx="6265800" cy="390204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дготовка изделия к первой примерке и проведение первой примерки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4" name="Picture 4" descr="IMG_20170118_101156"/>
          <p:cNvPicPr/>
          <p:nvPr/>
        </p:nvPicPr>
        <p:blipFill>
          <a:blip r:embed="rId1"/>
          <a:stretch/>
        </p:blipFill>
        <p:spPr>
          <a:xfrm>
            <a:off x="1476360" y="1916280"/>
            <a:ext cx="6183360" cy="41734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Tahoma"/>
              </a:rPr>
              <a:t>Обработка подклада.</a:t>
            </a:r>
            <a:endParaRPr b="0" lang="en-US" sz="38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6" name="Picture 4" descr="IMG_20170118_100945"/>
          <p:cNvPicPr/>
          <p:nvPr/>
        </p:nvPicPr>
        <p:blipFill>
          <a:blip r:embed="rId1"/>
          <a:stretch/>
        </p:blipFill>
        <p:spPr>
          <a:xfrm>
            <a:off x="1908000" y="2205000"/>
            <a:ext cx="5537520" cy="36259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единение подклада с основной деталью кроя.</a:t>
            </a:r>
            <a:endParaRPr b="0" lang="en-US" sz="4000" spc="-1" strike="noStrike">
              <a:solidFill>
                <a:srgbClr val="d1d1df"/>
              </a:solidFill>
              <a:latin typeface="Tahoma"/>
            </a:endParaRPr>
          </a:p>
        </p:txBody>
      </p:sp>
      <p:pic>
        <p:nvPicPr>
          <p:cNvPr id="108" name="Picture 4" descr="IMG_20170118_120819"/>
          <p:cNvPicPr/>
          <p:nvPr/>
        </p:nvPicPr>
        <p:blipFill>
          <a:blip r:embed="rId1"/>
          <a:stretch/>
        </p:blipFill>
        <p:spPr>
          <a:xfrm>
            <a:off x="4356000" y="1700280"/>
            <a:ext cx="3816360" cy="21477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9" name="Picture 6" descr="IMG_20170118_142604"/>
          <p:cNvPicPr/>
          <p:nvPr/>
        </p:nvPicPr>
        <p:blipFill>
          <a:blip r:embed="rId2"/>
          <a:stretch/>
        </p:blipFill>
        <p:spPr>
          <a:xfrm>
            <a:off x="971640" y="4197240"/>
            <a:ext cx="4176720" cy="23511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21T00:49:10Z</dcterms:created>
  <dc:creator>Инкогнито</dc:creator>
  <dc:description/>
  <dc:language>en-US</dc:language>
  <cp:lastModifiedBy>Инкогнито</cp:lastModifiedBy>
  <dcterms:modified xsi:type="dcterms:W3CDTF">2017-01-25T02:48:35Z</dcterms:modified>
  <cp:revision>86</cp:revision>
  <dc:subject/>
  <dc:title>Слайд 1</dc:title>
</cp:coreProperties>
</file>