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7E8-725C-410A-8390-ADA31A96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B1C-6654-4E64-A5CE-B1D7D85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943-E541-41DF-9E76-3E954C26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6F9-7DD6-468B-BF20-26D6A326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F27-8156-4A9E-BE9A-B5CE91F2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96BF-118C-4DA4-BAA8-DE9FE69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7B70-5459-4391-AB1C-5480798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C5AD-E0BE-4E98-A693-1E358ED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ED29-343B-45CD-84D8-FF7ACC2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8530-37CE-4E4A-98C0-838E7C3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010-9542-46E8-821D-45EE7B1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366-3E0F-4BB5-981F-87C5CBB2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BF41-85D6-43C4-9DF6-47651AC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B7EC-9EA1-43D5-9A23-79E835C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703-99A2-4B08-85FA-DDA2EA75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0CD-D908-490C-B9CD-53E56D5D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CF9-0FE8-48A9-96DB-EE5A40CF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80-2D62-4CB2-BB37-1041A35B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BC6-EAA6-4E93-A751-B7146ED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935-54FB-45F6-BE42-6070150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4A5-6D97-4F84-9DE8-7B203F8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36D-40CC-4E29-B2ED-4778254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F27-4805-468B-81C1-6F8310A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D42-4579-4BFB-8454-5034693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013-313D-4D7C-B788-ABA82401D6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7CD8-1D24-430C-A4EF-EC07D4CAA2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ехнология изготовления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ужского жилета классического стиля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51280" y="3933360"/>
            <a:ext cx="309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 учащийся группы 357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 профессии «Порт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рков Л.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стер п/о Казанова Н. 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подаватель Бояркина О. 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298764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Южно-Сахалинск, 2017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684360" y="18900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ое бюджетное профессиональ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ахалинский техникум сервис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кончательная отделка изделия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2901960" cy="515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2901960" cy="515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ужской жилет классического стиля в готовом виде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97560" cy="501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водственная практика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елье «Зима» г. Южно-Сахалин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IMG_20161007_161220"/>
          <p:cNvPicPr/>
          <p:nvPr/>
        </p:nvPicPr>
        <p:blipFill>
          <a:blip r:embed="rId1"/>
          <a:stretch/>
        </p:blipFill>
        <p:spPr>
          <a:xfrm>
            <a:off x="539640" y="2492280"/>
            <a:ext cx="22669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Picture 6" descr="IMG_20161005_120747"/>
          <p:cNvPicPr/>
          <p:nvPr/>
        </p:nvPicPr>
        <p:blipFill>
          <a:blip r:embed="rId2"/>
          <a:stretch/>
        </p:blipFill>
        <p:spPr>
          <a:xfrm>
            <a:off x="3492360" y="2492280"/>
            <a:ext cx="5257800" cy="3497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выполняемых работ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0" name="Picture 6" descr="IMG_20161005_120738"/>
          <p:cNvPicPr/>
          <p:nvPr/>
        </p:nvPicPr>
        <p:blipFill>
          <a:blip r:embed="rId1"/>
          <a:stretch/>
        </p:blipFill>
        <p:spPr>
          <a:xfrm>
            <a:off x="539640" y="2781360"/>
            <a:ext cx="3673440" cy="2660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7" descr="IMG_20161007_125254"/>
          <p:cNvPicPr/>
          <p:nvPr/>
        </p:nvPicPr>
        <p:blipFill>
          <a:blip r:embed="rId2"/>
          <a:stretch/>
        </p:blipFill>
        <p:spPr>
          <a:xfrm>
            <a:off x="5003640" y="2852640"/>
            <a:ext cx="3745080" cy="2660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и задача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работы является демонстрация знаний, умений и навыков которые, соблюдая технологическую последовательность. А также формирование таких качеств, как способность самостоятельно решать творческие и технологические задачи, принимать обоснованные решения, применять и использовать приобретенные знания, умения, навыки на практике.</a:t>
            </a:r>
            <a:r>
              <a:rPr b="0" lang="ru-RU" sz="28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бор модели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5" name="Picture 5" descr="жилет"/>
          <p:cNvPicPr/>
          <p:nvPr/>
        </p:nvPicPr>
        <p:blipFill>
          <a:blip r:embed="rId1"/>
          <a:stretch/>
        </p:blipFill>
        <p:spPr>
          <a:xfrm>
            <a:off x="5003640" y="2565360"/>
            <a:ext cx="3391200" cy="2578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6" descr="дипломжилет - копия"/>
          <p:cNvPicPr/>
          <p:nvPr/>
        </p:nvPicPr>
        <p:blipFill>
          <a:blip r:embed="rId2"/>
          <a:stretch/>
        </p:blipFill>
        <p:spPr>
          <a:xfrm>
            <a:off x="971640" y="1341360"/>
            <a:ext cx="3614760" cy="51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изготовления мужского жилета классического стиля необходимо выполнить технологическую последовательно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лад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блирование и обработка мелких дета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ка изделия к первой примерке и проведение первой пример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ботка подкл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единение подклада с основной деталью кро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ая отдел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кладка и раскрой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0" name="Picture 7" descr="IMG_20170119_093022"/>
          <p:cNvPicPr/>
          <p:nvPr/>
        </p:nvPicPr>
        <p:blipFill>
          <a:blip r:embed="rId1"/>
          <a:stretch/>
        </p:blipFill>
        <p:spPr>
          <a:xfrm>
            <a:off x="1619280" y="2924280"/>
            <a:ext cx="6035760" cy="3485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ублирование и обработка мелких деталей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2" name="Picture 5" descr="IMG_20170118_084151"/>
          <p:cNvPicPr/>
          <p:nvPr/>
        </p:nvPicPr>
        <p:blipFill>
          <a:blip r:embed="rId1"/>
          <a:stretch/>
        </p:blipFill>
        <p:spPr>
          <a:xfrm>
            <a:off x="1476360" y="2060640"/>
            <a:ext cx="6265800" cy="3902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готовка изделия к первой примерке и проведение первой примерки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4" name="Picture 4" descr="IMG_20170118_101156"/>
          <p:cNvPicPr/>
          <p:nvPr/>
        </p:nvPicPr>
        <p:blipFill>
          <a:blip r:embed="rId1"/>
          <a:stretch/>
        </p:blipFill>
        <p:spPr>
          <a:xfrm>
            <a:off x="1476360" y="1916280"/>
            <a:ext cx="6183360" cy="4173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Обработка подклада.</a:t>
            </a:r>
            <a:endParaRPr b="0" lang="en-US" sz="38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6" name="Picture 4" descr="IMG_20170118_100945"/>
          <p:cNvPicPr/>
          <p:nvPr/>
        </p:nvPicPr>
        <p:blipFill>
          <a:blip r:embed="rId1"/>
          <a:stretch/>
        </p:blipFill>
        <p:spPr>
          <a:xfrm>
            <a:off x="1908000" y="2205000"/>
            <a:ext cx="5537520" cy="3625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ие подклада с основной деталью кроя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8" name="Picture 4" descr="IMG_20170118_120819"/>
          <p:cNvPicPr/>
          <p:nvPr/>
        </p:nvPicPr>
        <p:blipFill>
          <a:blip r:embed="rId1"/>
          <a:stretch/>
        </p:blipFill>
        <p:spPr>
          <a:xfrm>
            <a:off x="4356000" y="1700280"/>
            <a:ext cx="3816360" cy="2147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Picture 6" descr="IMG_20170118_142604"/>
          <p:cNvPicPr/>
          <p:nvPr/>
        </p:nvPicPr>
        <p:blipFill>
          <a:blip r:embed="rId2"/>
          <a:stretch/>
        </p:blipFill>
        <p:spPr>
          <a:xfrm>
            <a:off x="971640" y="4197240"/>
            <a:ext cx="4176720" cy="2351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00:49:10Z</dcterms:created>
  <dc:creator>Инкогнито</dc:creator>
  <dc:description/>
  <dc:language>en-US</dc:language>
  <cp:lastModifiedBy>Инкогнито</cp:lastModifiedBy>
  <dcterms:modified xsi:type="dcterms:W3CDTF">2017-01-25T02:48:35Z</dcterms:modified>
  <cp:revision>86</cp:revision>
  <dc:subject/>
  <dc:title>Слайд 1</dc:title>
</cp:coreProperties>
</file>