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1.png" ContentType="image/png"/>
  <Override PartName="/ppt/media/image19.jpeg" ContentType="image/jpeg"/>
  <Override PartName="/ppt/media/image10.png" ContentType="image/png"/>
  <Override PartName="/ppt/media/image6.jpeg" ContentType="image/jpeg"/>
  <Override PartName="/ppt/media/image9.png" ContentType="image/png"/>
  <Override PartName="/ppt/media/image7.png" ContentType="image/png"/>
  <Override PartName="/ppt/media/image8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8.png" ContentType="image/png"/>
  <Override PartName="/ppt/media/image15.jpeg" ContentType="image/jpeg"/>
  <Override PartName="/ppt/media/image17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68EF7-B7B5-4FD2-8ABB-B2DB6962E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9E388-0AD5-426E-83AB-43A259520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58813-B4AB-4BC3-A219-F8D3CF9A7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D2EB4-DEAB-47F6-8D29-6CC66D6D2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2E8CF-7A16-4133-85F3-13919ADE1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359D9-9AB0-4C98-B980-F51FAE7A4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8B41E-C934-44DB-990C-03FEEAC3E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49EF9-99B0-4BA8-90FE-313F4E007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BC0CD-6A76-43DE-8C3E-86207A4B6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3D5C5-DF64-4C21-867F-A9E5DF514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4DCA6-EE74-4D8C-9B9D-C9409C070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745BB-C75F-442C-93A4-88CCD18F7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713BE-1BD4-46C7-A28B-E5A1905AA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EEA10-0B49-4F97-B1AE-050B9A072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36FFA-E497-47C2-936F-A9E9B7953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78082-1199-4B67-82C6-554B7F612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1EC23-5140-49C1-8354-405481F59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FA8C38-1845-45C7-8962-2C4E1A187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F0DB1A-CEB7-4AA5-99F5-E83D3941F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341136-0DE4-44BF-8796-DA5A118FE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06D4F8-EA3B-4F03-B43A-4AB4BCA31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EC98C4-E5B7-429D-AB9E-1B5F07F80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AE1E4-8DE4-4E3A-8F14-64A75EBA3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5F6229-657C-454B-8930-7B4420FEC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85A817-7DD2-4482-934F-8990B7EA2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2EAE95-1C9B-4ED8-8ED6-2FD6D8FCC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411D72-C669-4D3B-8ECB-F2FD771D8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F821BB-E3E3-465E-A2F8-725031CA2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1E0938-D541-4916-83BC-AD5B2DA56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F34808-81E4-4FFA-8158-CF42CD1FC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2E6595-F994-4AE2-A3B5-0B707ADF4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46939A-63D8-4572-9A7C-11B92DA1E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CDAE2C-3A37-421F-9004-7F6C45620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E95BC-34B4-4357-BE6C-AFBF814A2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89B6F6-E24A-4926-85CD-BBE258B68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D66920-CB25-47EC-A63A-42C7CBA36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1F4323-810C-42B0-A9FA-441D33DD9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606B53-5174-4801-B32B-7E60D5209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A65B6A-EE6F-4098-8F06-D7978F0D4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671008-8F8E-42FA-A38C-505F47A5D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1255E1-D841-4BF3-BB50-A9573FCB5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4E9E2A-1DB5-4F08-8576-70DE4D7FE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D286F7-BDFA-41AB-9E3A-CEF4091F4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FFA46C-C2F0-4E4C-8306-EE4E28711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E0EE9-690E-4FF0-AC4B-91DBCE714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A3A272-15AA-49A7-9C7D-635E8EBE7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2D4824-3F26-4CB5-B7F3-C88EE915C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18F374-E57B-4897-8803-17C64CEFE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242F62-DF52-49FB-A27B-71C287200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435F4A-A527-4E4B-A9A6-A00AF3589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D0F4BF-17DB-4BCA-9F61-C4A39CB17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9549C9-7045-48B2-9569-9BE1675D8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AC73AA-EF1F-4673-B515-DBF624184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2FEACD-630D-4B12-A620-86476CC77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F7C46A-6CDE-434E-BFD4-3DE250541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1D731-AF82-4F58-9FE1-AF59253D4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8A93E9-4EF6-4526-A784-89CC69DDE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B71204-B893-42B3-ADEA-557EEC11E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685215-6701-4C25-9F4B-2595A69B0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81D6B3-7553-430C-99C9-2656A6B58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57BE6F-C84D-4BFC-AF6E-A93B29CAC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85EC1B-B052-4BFE-88AF-E252FD42F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F236CE-CC53-4FB9-871D-3A69E93DA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E07605-8265-4302-8D06-E085F5270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075D7A-DC8E-4337-A7D8-759EFB3A1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1A9191-D5F7-4E47-B520-3055D423D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90682-0324-4F6F-AFFC-5F24ABFE7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36835A-90BC-41B4-B256-A8E840A68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D614B7-BED5-4FCE-970F-1F4E4DBB2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0CA015-DE1B-4D86-8CD5-2243BA7D9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62D573-B341-40D4-BBEA-688BA3F89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173C70-6CFF-49B7-9874-AEF63E953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E91729-7BE6-43A7-B384-C4111E1BC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12E403-3A07-4FA2-8885-3440784BE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AB6C0B-1AFB-4BF1-9821-2E2C72C90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BEC343-6FB8-45F7-A933-BBAF9B1B2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DD490B-078F-4732-9661-CA4F654AC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5338C-49C3-47EC-B027-54986F1A4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389A74-E44F-43D5-A049-28E660EDB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A84AEF-FF53-4F89-A3F9-FBB7C2276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289A2F-8811-478B-8967-1504B1652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C2BE5E-4BEC-45C8-B9CE-FF470FBE4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72190F-15EF-4E0D-902D-1A8AD3D5C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753C3A-6FFA-4792-BB52-7BD9A55F5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4D84ED-BB26-41BD-8B6E-28B43F73A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4011DD-51CA-4A42-BCDE-FFF5EA9E0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3C9DDC-08EF-4BB6-B117-9484CF69E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82CDA8-948D-4782-81CC-756CBD9E4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DCD8B-56A3-413B-B0FE-0680B6FB0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70191A-288C-46D2-A024-388AD7449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08917F-71FA-43E7-AC60-AD5D75255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EFE855-787F-462E-940E-CA48E3559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9CE37D-48E1-40A9-A0C4-09400ED38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1D3594-6437-40B4-999E-55743E29A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7B6CA2-7D5D-442D-9E61-3E0BE6A9F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EB8053-2198-46AA-A085-639D7F8C3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6D5E6-1E3A-47CA-B3EB-8929FB1D19D2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15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4640" y="5237640"/>
              <a:ext cx="9099360" cy="788400"/>
            </a:xfrm>
            <a:custGeom>
              <a:avLst/>
              <a:gdLst>
                <a:gd name="textAreaLeft" fmla="*/ 0 w 9099360"/>
                <a:gd name="textAreaRight" fmla="*/ 9099720 w 9099360"/>
                <a:gd name="textAreaTop" fmla="*/ 0 h 788400"/>
                <a:gd name="textAreaBottom" fmla="*/ 788760 h 7884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1" name="Полилиния 18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Полилиния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54" name="Прямая соединительная линия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FAD3C-90E1-4478-A1AD-2D92E983ACBC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Нашивка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421D2-0857-4855-A50E-481E5D3410D7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7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50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1152D-DD89-4B0F-92D7-892FBDA75056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E06C6-E3C7-489D-A14E-C5B200A3944C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35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38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28D11-5E02-4AFB-BEFF-4AD53705E2B6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94628-64D4-4262-AFD9-5EB451CC0728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олилиния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Полилиния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23" name="Прямоугольный треугольник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Прямоугольный треугольник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326" name="Прямая соединительная линия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Нашивка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Нашивка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97E43-2311-4ADF-9F9F-E22492B539C3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Заголовок 1" descr=""/>
          <p:cNvPicPr/>
          <p:nvPr/>
        </p:nvPicPr>
        <p:blipFill>
          <a:blip r:embed="rId1"/>
          <a:stretch/>
        </p:blipFill>
        <p:spPr>
          <a:xfrm>
            <a:off x="652320" y="1547640"/>
            <a:ext cx="7858440" cy="253692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971640" y="386064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464646"/>
                </a:solidFill>
                <a:latin typeface="Lucida Sans Unicode"/>
              </a:rPr>
              <a:t>Подготовила: Каримова А.К.,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ru-RU" sz="2700" spc="-1" strike="noStrike">
                <a:solidFill>
                  <a:srgbClr val="464646"/>
                </a:solidFill>
                <a:latin typeface="Lucida Sans Unicode"/>
              </a:rPr>
              <a:t>воспитатель МБДОУ д/с №117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 spd="slow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468360" y="1268280"/>
            <a:ext cx="82296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944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Lucida Sans Unicode"/>
              </a:rPr>
              <a:t>Игры этого направления побуждают детей активно думать, быстро соображать и находить правильные решения. Например, игра «цепочка». Дети бросают друг другу мяч и, в зависимости от возраста, называют либо слова, обозначающие группу предметов по свойствам, например, фрукты, овощи, домашние, дикие животные, времена года, либо слова, начинающиеся на одну и ту же букву, последнюю букву предыдущего слова. Еще одна всем знакомая игра – «съедобное – не съедобное», и другие. 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3" name="Заголовок 1" descr=""/>
          <p:cNvPicPr/>
          <p:nvPr/>
        </p:nvPicPr>
        <p:blipFill>
          <a:blip r:embed="rId1"/>
          <a:stretch/>
        </p:blipFill>
        <p:spPr>
          <a:xfrm>
            <a:off x="341280" y="219240"/>
            <a:ext cx="8570880" cy="140148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Заголовок 1" descr=""/>
          <p:cNvPicPr/>
          <p:nvPr/>
        </p:nvPicPr>
        <p:blipFill>
          <a:blip r:embed="rId1"/>
          <a:stretch/>
        </p:blipFill>
        <p:spPr>
          <a:xfrm>
            <a:off x="208080" y="274680"/>
            <a:ext cx="8727840" cy="1243080"/>
          </a:xfrm>
          <a:prstGeom prst="rect">
            <a:avLst/>
          </a:prstGeom>
          <a:ln w="0">
            <a:noFill/>
          </a:ln>
        </p:spPr>
      </p:pic>
      <p:sp>
        <p:nvSpPr>
          <p:cNvPr id="375" name=""/>
          <p:cNvSpPr txBox="1"/>
          <p:nvPr/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105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Lucida Sans Unicode"/>
              </a:rPr>
              <a:t>Среди игр этого направления преобладают игры, где необходимо построить или продолжить определенную логическую цепочку. Многие варианты таких игр представлены в продаже в виде наборов карточек. В эту же группу можно отнести и математические цепочки и задачки. Самыми популярными из них считаются судоку – японские головоломки. Некоторые судоку требуют для решения не один час, но есть и более простые, с которыми способен справиться ребенок 3-4 лет.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10584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 spd="slow">
    <p:pull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43080"/>
          </a:xfrm>
          <a:prstGeom prst="rect">
            <a:avLst/>
          </a:prstGeom>
          <a:ln w="0">
            <a:noFill/>
          </a:ln>
        </p:spPr>
      </p:pic>
      <p:sp>
        <p:nvSpPr>
          <p:cNvPr id="377" name="TextBox 5"/>
          <p:cNvSpPr/>
          <p:nvPr/>
        </p:nvSpPr>
        <p:spPr>
          <a:xfrm>
            <a:off x="1309680" y="4951440"/>
            <a:ext cx="626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8" name="" descr=""/>
          <p:cNvPicPr/>
          <p:nvPr/>
        </p:nvPicPr>
        <p:blipFill>
          <a:blip r:embed="rId2"/>
          <a:stretch/>
        </p:blipFill>
        <p:spPr>
          <a:xfrm>
            <a:off x="457200" y="148104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9" descr="C:\Users\Айгуль\Desktop\Доклады\prodolwi_ryad6.jpg"/>
          <p:cNvPicPr/>
          <p:nvPr/>
        </p:nvPicPr>
        <p:blipFill>
          <a:blip r:embed="rId3"/>
          <a:stretch/>
        </p:blipFill>
        <p:spPr>
          <a:xfrm>
            <a:off x="250920" y="1541520"/>
            <a:ext cx="4392360" cy="39178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10" descr="C:\Users\Айгуль\Desktop\Доклады\wqbpjxcalko.jpg"/>
          <p:cNvPicPr/>
          <p:nvPr/>
        </p:nvPicPr>
        <p:blipFill>
          <a:blip r:embed="rId4"/>
          <a:stretch/>
        </p:blipFill>
        <p:spPr>
          <a:xfrm>
            <a:off x="4808520" y="1541520"/>
            <a:ext cx="4224240" cy="391788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43080"/>
          </a:xfrm>
          <a:prstGeom prst="rect">
            <a:avLst/>
          </a:prstGeom>
          <a:ln w="0">
            <a:noFill/>
          </a:ln>
        </p:spPr>
      </p:pic>
      <p:sp>
        <p:nvSpPr>
          <p:cNvPr id="382" name="TextBox 9"/>
          <p:cNvSpPr/>
          <p:nvPr/>
        </p:nvSpPr>
        <p:spPr>
          <a:xfrm>
            <a:off x="5983200" y="403380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3" name="Рисунок 10" descr="http://kladraz.ru/upload/blogs2/2016/12/16223_6d1c2e366ba8066f4171b5e50252e88f.jpg"/>
          <p:cNvPicPr/>
          <p:nvPr/>
        </p:nvPicPr>
        <p:blipFill>
          <a:blip r:embed="rId2"/>
          <a:stretch/>
        </p:blipFill>
        <p:spPr>
          <a:xfrm>
            <a:off x="179280" y="1700280"/>
            <a:ext cx="4464000" cy="3195720"/>
          </a:xfrm>
          <a:prstGeom prst="rect">
            <a:avLst/>
          </a:prstGeom>
          <a:ln w="0">
            <a:noFill/>
          </a:ln>
        </p:spPr>
      </p:pic>
      <p:pic>
        <p:nvPicPr>
          <p:cNvPr id="384" name="Объект 11" descr="http://kladraz.ru/upload/blogs2/2016/12/16223_edab8dfe72811a66cc8c9e1b384b8d58.jpg"/>
          <p:cNvPicPr/>
          <p:nvPr/>
        </p:nvPicPr>
        <p:blipFill>
          <a:blip r:embed="rId3"/>
          <a:stretch/>
        </p:blipFill>
        <p:spPr>
          <a:xfrm>
            <a:off x="4859280" y="1700280"/>
            <a:ext cx="4105440" cy="319572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 txBox="1"/>
          <p:nvPr/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Lucida Sans Unicode"/>
              </a:rPr>
              <a:t>Эти игры будут полезны для развития правильной речи у ребенка, увеличения словарного запаса, а также умения точно подбирать определения. Лингвистическая логическая задача – это небольшой рассказ, в котором есть какая-то загадка. А вместо ответа несколько вопросов, обращенных к ребенку. Ответить на них он может, если понимает определенные закономерности природы, может строить логические связи. В процессе решения задачи задействуются разные приемы мышления: выделение различных свойств, сравнение, анализ, обобщение. Также ребенку надо самостоятельно сформулировать понятный ответ. 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6" name="Заголовок 3" descr=""/>
          <p:cNvPicPr/>
          <p:nvPr/>
        </p:nvPicPr>
        <p:blipFill>
          <a:blip r:embed="rId1"/>
          <a:stretch/>
        </p:blipFill>
        <p:spPr>
          <a:xfrm>
            <a:off x="268200" y="274680"/>
            <a:ext cx="8607600" cy="116352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43080"/>
          </a:xfrm>
          <a:prstGeom prst="rect">
            <a:avLst/>
          </a:prstGeom>
          <a:ln w="0">
            <a:noFill/>
          </a:ln>
        </p:spPr>
      </p:pic>
      <p:sp>
        <p:nvSpPr>
          <p:cNvPr id="388" name="TextBox 3"/>
          <p:cNvSpPr/>
          <p:nvPr/>
        </p:nvSpPr>
        <p:spPr>
          <a:xfrm>
            <a:off x="324000" y="2313000"/>
            <a:ext cx="488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9" name="Объект 5" descr="http://kladraz.ru/upload/blogs2/2016/12/16223_94241a94c7986e0b8de7b647a96b0681.jpg"/>
          <p:cNvPicPr/>
          <p:nvPr/>
        </p:nvPicPr>
        <p:blipFill>
          <a:blip r:embed="rId2"/>
          <a:stretch/>
        </p:blipFill>
        <p:spPr>
          <a:xfrm>
            <a:off x="324000" y="1197000"/>
            <a:ext cx="3887640" cy="2952720"/>
          </a:xfrm>
          <a:prstGeom prst="rect">
            <a:avLst/>
          </a:prstGeom>
          <a:ln w="0">
            <a:noFill/>
          </a:ln>
        </p:spPr>
      </p:pic>
      <p:pic>
        <p:nvPicPr>
          <p:cNvPr id="390" name="Рисунок 6" descr="http://kladraz.ru/upload/blogs2/2016/12/16223_39e95bc4be5013cc77fe4b529b8e23c5.jpg"/>
          <p:cNvPicPr/>
          <p:nvPr/>
        </p:nvPicPr>
        <p:blipFill>
          <a:blip r:embed="rId3"/>
          <a:stretch/>
        </p:blipFill>
        <p:spPr>
          <a:xfrm>
            <a:off x="4572000" y="1192320"/>
            <a:ext cx="4032360" cy="2857320"/>
          </a:xfrm>
          <a:prstGeom prst="rect">
            <a:avLst/>
          </a:prstGeom>
          <a:ln w="0">
            <a:noFill/>
          </a:ln>
        </p:spPr>
      </p:pic>
      <p:pic>
        <p:nvPicPr>
          <p:cNvPr id="391" name="Рисунок 7" descr="http://kladraz.ru/upload/blogs2/2016/12/16223_ece93aa5602934d439ade05a6e271c45.jpg"/>
          <p:cNvPicPr/>
          <p:nvPr/>
        </p:nvPicPr>
        <p:blipFill>
          <a:blip r:embed="rId4"/>
          <a:stretch/>
        </p:blipFill>
        <p:spPr>
          <a:xfrm>
            <a:off x="2627280" y="4049640"/>
            <a:ext cx="4392720" cy="26924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12T10:59:24Z</dcterms:created>
  <dc:creator>Кралина</dc:creator>
  <dc:description/>
  <dc:language>en-US</dc:language>
  <cp:lastModifiedBy>Айгуль</cp:lastModifiedBy>
  <dcterms:modified xsi:type="dcterms:W3CDTF">2017-10-11T18:28:18Z</dcterms:modified>
  <cp:revision>101</cp:revision>
  <dc:subject/>
  <dc:title>Развитие логического мышления детей старшего дошкольного возраста средствами занимательной математики</dc:title>
</cp:coreProperties>
</file>