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65F-578E-48CB-85DA-97418509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9AF-520F-41F4-A21D-4F7094B3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45F-7C1C-4578-9187-3DCF5192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EF8-FF7E-4EB1-9AF1-3CD60380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D390-F167-41D6-9F53-737AC907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D54F-5853-468D-B79E-AD51966C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029A-ABF8-4359-85FD-DC8807DB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4B28-7AA7-47E5-801D-5A2FB713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96D8-50B8-42C8-B9F9-EDC8585A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4252-BC7E-4D80-AF04-5490E610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41F4-EB32-4871-AC38-45B3B152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B15-7B6D-4B01-B051-604F45C5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D8EC-0A86-47F5-894F-79CE604A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3A1C-6666-4EB6-BAC5-4B9E8E64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D76F-CF0C-4B7D-85E8-B4C11750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A781-F82F-4F14-AEB7-8C6A945E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5BBA-DC69-4629-BE05-8F66973A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66CF-7FCA-46A8-A5E7-230E95AA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94BB8-D6FA-4220-BDB0-23365752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6D5B-A998-4FEB-A8F8-4ECC32E7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AF2F-BBC3-44E0-AFCB-3DC6846E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3782F-056B-450D-B8E0-149EA4F8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46A-2AB0-4C7C-9183-9BFA7D15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8BE2-851F-45F3-8018-74D9120A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CEFC7-7193-4FF9-9DC6-6F420E77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3448A-A8DD-4F52-A4DE-880FD036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13789-03DF-44BE-9D29-05BF0681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DB1FE-3312-4173-AA88-671BA89A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6406-B2AD-4542-957D-45DF6E20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907B0-93BE-4AEC-9ADA-73CF47C8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1BB9F-46BF-4DD5-A062-FDDB5251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AB355-BD07-44F5-9FEA-15DD4FDD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D187D-73FF-428C-BF98-2D7FAE95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424-CCAC-44F3-8B61-2CFE27FC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42854-E8C5-4C30-9676-AADE6CCF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53672-7F73-4A5E-8A5B-FA06137C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4B028-D922-4F83-BD41-DEFB4D36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0044B-218D-4602-8FD1-144A3161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1C1D0-E3FE-442D-8365-FD4979DE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30B96-D74D-43D1-9250-1FFEB18A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E71C8-1D02-48EA-94B5-E9E5577F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16A90-D06B-47D4-B46D-FC16E5AE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E7F44-2EA8-4B44-AC10-A8DA7837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03C0E-FF70-4532-9AEC-0F83A73E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A3E-1C74-4C3B-AC03-75CC7069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BEB90-68FD-4405-8938-8F0AD5B6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9BA97-C0BE-4D5E-9E1C-A2F36E35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F8793-1952-4EC4-9A20-31ABEDFD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EF60E-6309-4234-A2B1-78062E68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00E93-A584-4CCE-B25B-F11B4A28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766AC-A7D0-4B7C-B7AD-AA517447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18D54-F684-48C1-8C9F-3B53D752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4D73C-559A-435B-93D1-9489669B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AFEFE-3D75-4396-8B97-0121EB61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65F11-DEBF-4B41-8EEB-0D93D6FB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CCD-DB1E-4445-8A41-F796A90B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FDB5F-B00E-423C-8250-7CBF38D8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C4788-CE1A-48AF-972C-D313471C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E4E22-630C-44C9-ADB5-3B558868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BB921-32CA-46A8-BFDA-D34C6A5F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139ED-9A59-45BB-9187-405A8311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5BF50-1CF2-47B2-A64F-30A6F05E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E07F5-AC29-4614-9450-5C3387AE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7C2DF-7E6B-4CD3-BB69-C2F15C6C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4082C-3E3D-43A3-83C0-7F6D228C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00CB9-FB38-4E11-927B-473F5971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5DB-573F-4764-8F0E-659826ED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AD242-3293-43A2-8181-FA8D088C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FD049-F334-4047-9D1A-5DE75E0D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C7A7C-138C-49DB-AF6D-77FAEBAC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4334E-7415-4462-AFE0-D09FB3C0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0E236-3E46-421F-B715-11FE915E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5F87D-939C-4B4A-BE27-B1C3FB70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8A492-37EA-45E2-992C-C886BE80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5044C-A0E3-4DA5-9547-D601511D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0FE64-A734-409A-A623-17CC64D7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B9486-C322-4662-BA97-F4A16A34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6B8-9C0E-4AE2-86C1-4CF7F071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789CE-2CF3-4B97-84A7-FD1C734A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2919E-145D-4668-BD7E-BF4414A0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6B38D-8FE7-49B5-BDF6-FF72D21A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B00CD-BC3F-4890-AE06-40813DCA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EED8A-3337-415A-A2AA-9E0C59D8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4201A-DB50-443A-B3DB-82E3B7E1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9C378-FEAA-4A3E-B773-C48F249E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97C78-9D45-4BD9-B8BD-B7279DE9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E68DB-880E-427F-A512-62524B68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FF123-969E-47AF-BC2A-2BB5C210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B09-591D-4323-83B3-B5D513CD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5550E-DB5B-4997-BB70-C274B1F9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8BBD2-B965-4BA6-8C9B-495DBB53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774EA-540C-4AE4-BF4F-A739B686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578FB-62BA-4ADB-8D12-E3F8A682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37B4E-A17B-4EA2-9C87-73810FA4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18EE9-E5E6-4BFF-AAE7-58073131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C24C0-C12A-4461-9CF6-9A61EB65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9F7D-AA10-4F6B-8B83-A29F86A387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0E41-6145-4EBD-BB9F-E37D0FBBD51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BCAA-F036-4AEC-9392-28B27DB992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F778-5D8C-43C9-9BCC-EB6EB652D7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5513-4D81-4C08-A82F-A50EB64CED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1D25-0856-4610-BF6F-9E5D5B2733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63A5-6A2E-4DF5-95D6-5CCF988974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AAE0-64B8-4D9C-9874-E50858A0913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52320" y="1547640"/>
            <a:ext cx="7858440" cy="2536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71640" y="386064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Подготовила: Каримова А.К.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оспитатель МБДОУ д/с №11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Игры этого направления побуждают детей активно думать, быстро соображать и находить правильные решения. Например, игра «цепочка». Дети бросают друг другу мяч и, в зависимости от возраста, называют либо слова, обозначающие группу предметов по свойствам, например, фрукты, овощи, домашние, дикие животные, времена года, либо слова, начинающиеся на одну и ту же букву, последнюю букву предыдущего слова. Еще одна всем знакомая игра – «съедобное – не съедобное», и другие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341280" y="219240"/>
            <a:ext cx="8570880" cy="1401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727840" cy="12430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Среди игр этого направления преобладают игры, где необходимо построить или продолжить определенную логическую цепочку. Многие варианты таких игр представлены в продаже в виде наборов карточек. В эту же группу можно отнести и математические цепочки и задачки. Самыми популярными из них считаются судоку – японские головоломки. Некоторые судоку требуют для решения не один час, но есть и более простые, с которыми способен справиться ребенок 3-4 лет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1309680" y="4951440"/>
            <a:ext cx="62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C:\Users\Айгуль\Desktop\Доклады\prodolwi_ryad6.jpg"/>
          <p:cNvPicPr/>
          <p:nvPr/>
        </p:nvPicPr>
        <p:blipFill>
          <a:blip r:embed="rId3"/>
          <a:stretch/>
        </p:blipFill>
        <p:spPr>
          <a:xfrm>
            <a:off x="250920" y="1541520"/>
            <a:ext cx="4392360" cy="3917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C:\Users\Айгуль\Desktop\Доклады\wqbpjxcalko.jpg"/>
          <p:cNvPicPr/>
          <p:nvPr/>
        </p:nvPicPr>
        <p:blipFill>
          <a:blip r:embed="rId4"/>
          <a:stretch/>
        </p:blipFill>
        <p:spPr>
          <a:xfrm>
            <a:off x="4808520" y="1541520"/>
            <a:ext cx="4224240" cy="3917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TextBox 9"/>
          <p:cNvSpPr/>
          <p:nvPr/>
        </p:nvSpPr>
        <p:spPr>
          <a:xfrm>
            <a:off x="5983200" y="40338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Рисунок 10" descr="http://kladraz.ru/upload/blogs2/2016/12/16223_6d1c2e366ba8066f4171b5e50252e88f.jpg"/>
          <p:cNvPicPr/>
          <p:nvPr/>
        </p:nvPicPr>
        <p:blipFill>
          <a:blip r:embed="rId2"/>
          <a:stretch/>
        </p:blipFill>
        <p:spPr>
          <a:xfrm>
            <a:off x="179280" y="1700280"/>
            <a:ext cx="4464000" cy="3195720"/>
          </a:xfrm>
          <a:prstGeom prst="rect">
            <a:avLst/>
          </a:prstGeom>
          <a:ln w="0">
            <a:noFill/>
          </a:ln>
        </p:spPr>
      </p:pic>
      <p:pic>
        <p:nvPicPr>
          <p:cNvPr id="384" name="Объект 11" descr="http://kladraz.ru/upload/blogs2/2016/12/16223_edab8dfe72811a66cc8c9e1b384b8d58.jpg"/>
          <p:cNvPicPr/>
          <p:nvPr/>
        </p:nvPicPr>
        <p:blipFill>
          <a:blip r:embed="rId3"/>
          <a:stretch/>
        </p:blipFill>
        <p:spPr>
          <a:xfrm>
            <a:off x="4859280" y="1700280"/>
            <a:ext cx="4105440" cy="3195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Эти игры будут полезны для развития правильной речи у ребенка, увеличения словарного запаса, а также умения точно подбирать определения. Лингвистическая логическая задача – это небольшой рассказ, в котором есть какая-то загадка. А вместо ответа несколько вопросов, обращенных к ребенку. Ответить на них он может, если понимает определенные закономерности природы, может строить логические связи. В процессе решения задачи задействуются разные приемы мышления: выделение различных свойств, сравнение, анализ, обобщение. Также ребенку надо самостоятельно сформулировать понятный ответ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3" descr=""/>
          <p:cNvPicPr/>
          <p:nvPr/>
        </p:nvPicPr>
        <p:blipFill>
          <a:blip r:embed="rId1"/>
          <a:stretch/>
        </p:blipFill>
        <p:spPr>
          <a:xfrm>
            <a:off x="268200" y="274680"/>
            <a:ext cx="8607600" cy="1163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88" name="TextBox 3"/>
          <p:cNvSpPr/>
          <p:nvPr/>
        </p:nvSpPr>
        <p:spPr>
          <a:xfrm>
            <a:off x="324000" y="2313000"/>
            <a:ext cx="48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Объект 5" descr="http://kladraz.ru/upload/blogs2/2016/12/16223_94241a94c7986e0b8de7b647a96b0681.jpg"/>
          <p:cNvPicPr/>
          <p:nvPr/>
        </p:nvPicPr>
        <p:blipFill>
          <a:blip r:embed="rId2"/>
          <a:stretch/>
        </p:blipFill>
        <p:spPr>
          <a:xfrm>
            <a:off x="324000" y="1197000"/>
            <a:ext cx="3887640" cy="29527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6" descr="http://kladraz.ru/upload/blogs2/2016/12/16223_39e95bc4be5013cc77fe4b529b8e23c5.jpg"/>
          <p:cNvPicPr/>
          <p:nvPr/>
        </p:nvPicPr>
        <p:blipFill>
          <a:blip r:embed="rId3"/>
          <a:stretch/>
        </p:blipFill>
        <p:spPr>
          <a:xfrm>
            <a:off x="4572000" y="1192320"/>
            <a:ext cx="4032360" cy="285732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7" descr="http://kladraz.ru/upload/blogs2/2016/12/16223_ece93aa5602934d439ade05a6e271c45.jpg"/>
          <p:cNvPicPr/>
          <p:nvPr/>
        </p:nvPicPr>
        <p:blipFill>
          <a:blip r:embed="rId4"/>
          <a:stretch/>
        </p:blipFill>
        <p:spPr>
          <a:xfrm>
            <a:off x="2627280" y="4049640"/>
            <a:ext cx="4392720" cy="2692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0:59:24Z</dcterms:created>
  <dc:creator>Кралина</dc:creator>
  <dc:description/>
  <dc:language>en-US</dc:language>
  <cp:lastModifiedBy>Айгуль</cp:lastModifiedBy>
  <dcterms:modified xsi:type="dcterms:W3CDTF">2017-10-11T18:28:18Z</dcterms:modified>
  <cp:revision>101</cp:revision>
  <dc:subject/>
  <dc:title>Развитие логического мышления детей старшего дошкольного возраста средствами занимательной математики</dc:title>
</cp:coreProperties>
</file>