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04D1-B9DF-475F-B209-4BE71C4AF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1D4E-7AD4-458F-9259-6AACC958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A758-16A5-459C-BF46-F9DBAA77C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5E77-5865-41AE-9E45-D89BD22C6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BB96-AF79-44B3-B14C-09C290DB0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2D077-3F57-4AA9-A237-9BAACC86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35CC-D4E2-4C4F-8941-180F7A8B9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085E-76B2-4207-AE0C-02812A6B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B71A8-ADFE-498B-9081-8396B80A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B1DB-950E-4995-AEA1-F299A087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3234-181D-4AEE-B267-3EDABB4E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29E1-3DF9-48D7-B279-0972961A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43BD-7DEB-4CFE-B968-DB653894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E65D-EBDD-4E5A-A45C-4884A106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456C3-B180-41DE-A38E-F59E9154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8647-9450-47C7-AE67-DF63E45C6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CCE4-3557-4AFE-B1B5-022C14402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1EFC4-C80F-47C2-A261-3A88336F8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E1FE1-26D1-4A17-AB62-A4890E83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03684-37AF-490B-B81F-2C7E12B1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D6C27-2B63-437A-B9BE-855B57F2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E4473-F4B2-4747-9C0F-0261EA65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2F94-8E0A-42F7-979C-0EB8C844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DC022-026A-49A4-B685-756B0B7B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99EAC-804B-445E-877E-C33ADC91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699D4-AC6D-48C1-A701-D2EBE176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BEE93-E8FA-4A3A-9912-0DD2C20F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9E70A-C3BE-4955-8974-49A10D4C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83194-1549-4712-A392-6CEEC9991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4354E-B8E9-4B6A-A71E-D0695FD25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63533-95A2-4531-A209-7784D9DAB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BCAA4-AF3D-468C-93DB-6BC0AC8B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990A3-5B1D-4AAE-9DE9-9F96D998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5234-4A32-47FA-A186-3D881C2C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501DD-1F60-4E57-85B4-DD696FA5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8E6B1-ADAB-4CBA-9244-462515F9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4B2A0-71F8-4B98-B537-9AE8D23E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8A7A7-45D9-4121-B823-3ABFE780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8C724-6D87-4857-87A5-B677D022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3AB17-AE98-4071-A9CE-CD07870A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BEDAE-C8D8-4DFE-8F58-EF956382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05778-FE33-41A5-A100-B3E659874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DF57E-49A3-467A-8956-F98E79929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33B6B-8CB9-42B5-B04B-2F935EC7B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EDB8-9C58-4F90-87D2-9995FE882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1A816-CBA4-46F6-A5B3-465326C8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63E37-BD4F-4274-8030-997B1DA0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8320D-0252-4678-A12B-20EF9AF6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E9883-E207-4C9C-91B7-F1C64D4E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9BB1C-A78D-4AFF-9E9C-CDACD414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0F6BF-EA32-4AB1-99CF-9A085468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2AA65-8F9C-44E7-B0F6-11A1CF49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FAC9B-8394-4CAC-958B-1036EC2D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8BC8E-F590-46D8-8722-2ADD324B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DFEBE-D916-461F-BFB9-B8293ABC5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F502-CDB4-451E-AF6A-F0D63CDB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457B1-8B9C-455F-9A67-22D23717A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72EC0-8CDF-4B17-A235-AF9E72310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F623F-E5AA-45F3-A9D8-3D503F6D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94248-5923-4258-9AB2-232B8018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A5E4F-F336-4AEA-8062-3609AB84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B927E-A65C-48F5-90A9-A8711B09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75798-0EB8-4616-A400-6A2612EB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84341-477B-470B-969D-D64B6FC0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AE1CE-ABC4-49E3-9AE3-4D114471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1E8BC-C174-49F5-97D1-D356E3FD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651D-1C32-4B2A-8F1C-E4CB7550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49E5E-9FDA-43D7-A15F-D9784529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35C47-44F1-4B93-888D-ADA86EBBA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FDAEF-EEAB-4469-ABD5-BD589EA54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944B0-466A-4762-836C-BC7505272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CD7FE-ECA8-4E6C-8EEF-DCC96E72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580E1-CCBF-4894-BB4E-FFBFD4413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09673-8DB2-4696-8C2A-B328FEDE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F94CC-831C-4F26-8B34-DBE4CEE9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FF1E1-03C7-4181-B1B2-D100EA4F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08389-7D08-4A85-914A-E7A3C1FF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8624-45DC-4D32-A7DE-28DDB5EF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0E077-E767-4D3E-A8C6-2401EAA0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71A3A-90B5-4159-8741-85322F2F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3100F-3A74-4DCB-AF7E-2C39304E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646DA-3587-48D2-9BA3-623492502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36F9D-09D1-43AB-B13F-A1B18F42E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8A29B-18DC-49F3-9252-B64B31091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0F75A-90F0-4083-88FE-EFC30CA7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42217-904E-4A07-8F78-651423C2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7B9808-906A-499A-9BCE-F18F4A90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671002-4B15-4934-AC9B-E685AEC4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F64E-82A7-425C-85BC-7AA671B4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EC9E4-A3DA-4298-91EF-98E6D915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EBCFA-41FB-4E41-9957-3E266B15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A2971-43F7-4E38-A381-2DFA4C87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F29D7-B201-47FA-8490-F450BBDD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50A88-F0C9-4380-AED5-C0DA1F0C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C2262-93BF-4F50-8887-99527AF9F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45F08-3802-4904-82F4-1E7613FD7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5B64-785B-43EB-98B9-7C53360EB950}" type="slidenum">
              <a:rPr b="0" lang="ru-RU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640" y="5237640"/>
              <a:ext cx="9099360" cy="788400"/>
            </a:xfrm>
            <a:custGeom>
              <a:avLst/>
              <a:gdLst>
                <a:gd name="textAreaLeft" fmla="*/ 0 w 9099360"/>
                <a:gd name="textAreaRight" fmla="*/ 9099720 w 909936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D9B7-3075-47FD-BB2D-C6451F73BAD5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27CE-5F04-4470-8FD5-47EF3CBD0D75}" type="slidenum">
              <a:rPr b="0" lang="ru-RU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FE14B-D8C7-46C8-9054-03CCC69A74A3}" type="slidenum">
              <a:rPr b="0" lang="ru-RU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317F-022D-4BC7-BE27-9CB4D43EB145}" type="slidenum">
              <a:rPr b="0" lang="ru-RU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AC91-9B38-4487-B61B-7E4AD78B8CC3}" type="slidenum">
              <a:rPr b="0" lang="ru-RU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99D1-4338-4018-BFA4-510D40B60B7E}" type="slidenum">
              <a:rPr b="0" lang="ru-RU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53B3-C3B3-41B7-9DE4-524948B91E6B}" type="slidenum">
              <a:rPr b="0" lang="ru-RU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68360" y="162828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9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72" name="Рисунок 4" descr="Игра на развитие логики у детей 3-4 лет - последовательности."/>
          <p:cNvPicPr/>
          <p:nvPr/>
        </p:nvPicPr>
        <p:blipFill>
          <a:blip r:embed="rId2"/>
          <a:stretch/>
        </p:blipFill>
        <p:spPr>
          <a:xfrm>
            <a:off x="611280" y="1628640"/>
            <a:ext cx="3313080" cy="2376720"/>
          </a:xfrm>
          <a:prstGeom prst="rect">
            <a:avLst/>
          </a:prstGeom>
          <a:ln w="0">
            <a:noFill/>
          </a:ln>
        </p:spPr>
      </p:pic>
      <p:sp>
        <p:nvSpPr>
          <p:cNvPr id="373" name="Прямоугольник 3"/>
          <p:cNvSpPr/>
          <p:nvPr/>
        </p:nvSpPr>
        <p:spPr>
          <a:xfrm>
            <a:off x="933120" y="4005360"/>
            <a:ext cx="24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Чередование по цвет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4" name="Рисунок 6" descr="Логические игры для детей 3-4 лет - последовательности, игра - дострой дорожку."/>
          <p:cNvPicPr/>
          <p:nvPr/>
        </p:nvPicPr>
        <p:blipFill>
          <a:blip r:embed="rId3"/>
          <a:stretch/>
        </p:blipFill>
        <p:spPr>
          <a:xfrm>
            <a:off x="4427640" y="1125360"/>
            <a:ext cx="3240000" cy="1986120"/>
          </a:xfrm>
          <a:prstGeom prst="rect">
            <a:avLst/>
          </a:prstGeom>
          <a:ln w="0">
            <a:noFill/>
          </a:ln>
        </p:spPr>
      </p:pic>
      <p:sp>
        <p:nvSpPr>
          <p:cNvPr id="375" name="Прямоугольник 5"/>
          <p:cNvSpPr/>
          <p:nvPr/>
        </p:nvSpPr>
        <p:spPr>
          <a:xfrm>
            <a:off x="4747680" y="324468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Чередование по форм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Рисунок 8" descr="Игры на логику для детей 3-4 лет - учимся составлять последовательности."/>
          <p:cNvPicPr/>
          <p:nvPr/>
        </p:nvPicPr>
        <p:blipFill>
          <a:blip r:embed="rId4"/>
          <a:stretch/>
        </p:blipFill>
        <p:spPr>
          <a:xfrm>
            <a:off x="4356000" y="3860640"/>
            <a:ext cx="3384720" cy="2364120"/>
          </a:xfrm>
          <a:prstGeom prst="rect">
            <a:avLst/>
          </a:prstGeom>
          <a:ln w="0">
            <a:noFill/>
          </a:ln>
        </p:spPr>
      </p:pic>
      <p:sp>
        <p:nvSpPr>
          <p:cNvPr id="377" name="Прямоугольник 7"/>
          <p:cNvSpPr/>
          <p:nvPr/>
        </p:nvSpPr>
        <p:spPr>
          <a:xfrm>
            <a:off x="4697640" y="6224760"/>
            <a:ext cx="270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Чередование по размер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2T10:59:24Z</dcterms:created>
  <dc:creator>Кралина</dc:creator>
  <dc:description/>
  <dc:language>en-US</dc:language>
  <cp:lastModifiedBy>Айгуль</cp:lastModifiedBy>
  <dcterms:modified xsi:type="dcterms:W3CDTF">2017-10-11T18:34:14Z</dcterms:modified>
  <cp:revision>103</cp:revision>
  <dc:subject/>
  <dc:title>Развитие логического мышления детей старшего дошкольного возраста средствами занимательной математики</dc:title>
</cp:coreProperties>
</file>