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22D-AD60-4EC6-A808-FE5CECDA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A14-DA15-4221-8814-56E9C38D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216A-E335-4245-A0F1-9CFFF407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0D7-B771-4E59-BED9-3502D88B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F091-8472-4993-A4B9-CF502608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384E-71F5-4994-8F39-4C58AB41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7A3F-0347-4174-94D2-2D28BA66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B0F4-A990-45B6-B4CA-3A270374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8F6F-EBA1-419A-BB90-E1BFDACE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ED47-627F-4D2A-9F2C-E2A754B9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4B95-1384-40C8-AB24-83726854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48F-D12B-4000-B2D9-3CE5D166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7EDA-74B7-4A62-9A4A-6F928BA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DEEA-A036-43D4-AAA0-650BC38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FC3E-CE1B-4BED-83BC-5F0AAE09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B1BA-F078-4670-8161-9674E956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6082-2764-465C-92D6-E936AF98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B498-7864-49F7-B240-777FCFBA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3165-53FC-4399-9AD3-A9593D4A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DE0A-DEBF-4149-90FD-E56480F5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313C-F2DF-407A-90F8-DAEB561A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CA75E-864F-403D-9B45-025BF826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155-63B2-4C36-945B-8C469AD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1CAB-A1B8-4BA6-8765-E4C4F99F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E987-92B5-465F-A99C-333DDA41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9F34-03FC-483A-A919-2FE1658F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76B5-DC44-41C8-AB01-FE727B11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0D5E-4F2A-48AA-8EE0-4066D6CC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3B819-C492-48F6-9A0F-7BCA6349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D980-552B-4B78-B39C-FBC1247C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5857-991E-4881-8AE5-BEAEB113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19C3-45A2-4E9F-9098-7CC3F86C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CC68B-538C-41D1-A72B-118C0219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AF7-A10B-4077-9C5C-BEAB221E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2436-36D8-457F-9872-D4B236D4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E2338-3D41-4684-8668-E696855B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69AA-309D-4921-97E3-3D32CBD9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D5CF-C971-4396-8CFE-CCA984F8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01875-7BD1-458D-AB01-2732F012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BDB07-CC08-41AA-AC56-A9FB1F57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E0407-9AA6-4709-B4E0-B0BCEFC0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196A1-890C-42D1-992A-E6B5C64F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47D90-18B6-4E43-A6A8-6E4D70E1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F3FF1-8E99-4912-BA10-4A7359B5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9F5-3F12-4BA4-90BE-F9E9AEE5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E9FB1-A984-4458-8E40-5910A0E3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EF4C3-065C-4C84-A7D3-67A86B9F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B4289-9D19-41E5-A8FF-4E4F00C2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16F25-8D05-47C3-8FEA-602334A2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87A0D-4067-42D5-B933-97F01036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7B5DA-9026-45CD-9453-80C96214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C689F-0094-4E45-B9D0-2AC076A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B06E4-13C7-4A91-9B2E-1DB87CAD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7799B-2A96-4AC6-9A87-335A9FBA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A302D-F516-48C6-A72D-A288C95A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1E0-C145-40B4-B2E3-EDBDBF9B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FA26-2353-416E-ABE9-A7C95925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FC748-F043-44F5-97ED-0F3436C1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720BE-1822-445A-9C10-D4F6E6EB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9EB0B-568C-43DE-AF99-A0752C33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944EA-1304-4DFB-8C83-6FD8C869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354DF-22AD-4392-ADCD-0291D961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DA575-D70E-4B7E-B4C3-80D0FB6A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5C883-625A-4F7B-8F9F-18F7C820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45CBA-EBAC-4B1D-BACB-CBEBFE9D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4A6C-5A09-48D0-B855-B26B1E5E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DD6-A164-44C3-86DB-C0FC9F89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DAD15-6E41-4899-B570-C3EE9C55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89F90-86E3-493F-9E19-6286C22F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5926A-516F-4EEA-9E60-9577DF4E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7A5C4-2211-4155-AE40-886C44E8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106F6-4382-42BD-8506-C6121962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9BFD0-FC08-498F-8B8A-A37AEB1B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F8AC2-D7FB-4CA5-92CC-F175631B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5C354-A0B5-438A-B769-BE05127E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AA034-058C-4B1F-A46A-17C2DD03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5724C-A52E-47C6-98BC-2DF0E49F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D2B-855F-49DA-B459-48052885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9E3FF-7B16-46F3-B938-7D893B54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F9D21-3A89-42D5-9075-93F96694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F3B27-4F44-4CD2-99B6-8B70B698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15C2D-9B8F-46BB-B05B-4415919A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52F72-D814-43F0-BF6F-B4570463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85C28-8412-4F61-854F-371218FD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3A9BA-020A-4FC1-95D4-53BDEEE2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12F37-CED8-461C-8BDF-B2B0996A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5A784-FC1B-4F62-9735-AFDFD8C9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466EB-3B48-4C8F-8CAD-1A426E6F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A11-2694-47D6-A0F4-BC632503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31FCD-796B-4A39-B86D-B197828D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DC439-7868-4DCE-98EF-17E79F40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2F8A0-AD55-40CF-9F8B-C9C454FA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A3C96-C553-4FA6-ACCE-52D394CD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72CD8-D79B-4EFF-8A17-F345C8FB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97EB6-0778-49E5-A8AE-B3D931B3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0E876-A5D2-436E-A9A1-3754DEFD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D146-A48E-4FAA-8105-369F2AF392E1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A6C6-23C1-42F7-A971-A888D9062FF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CB93-47D9-4297-974B-01D2A36EF4A7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B2AF-BAA6-43B5-BF7A-7FB3FB539784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24AC-5B97-4B27-BC39-D8A069003D25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582A-1C41-443D-889C-844E04424066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170A-E372-4C6E-8BC1-31AB09CCA7D2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B009-4051-4690-B3BD-F416BC284DE9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68360" y="1628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Игра на развитие логики у детей 3-4 лет - последовательности."/>
          <p:cNvPicPr/>
          <p:nvPr/>
        </p:nvPicPr>
        <p:blipFill>
          <a:blip r:embed="rId2"/>
          <a:stretch/>
        </p:blipFill>
        <p:spPr>
          <a:xfrm>
            <a:off x="611280" y="1628640"/>
            <a:ext cx="3313080" cy="23767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3"/>
          <p:cNvSpPr/>
          <p:nvPr/>
        </p:nvSpPr>
        <p:spPr>
          <a:xfrm>
            <a:off x="933120" y="400536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редование по цве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Рисунок 6" descr="Логические игры для детей 3-4 лет - последовательности, игра - дострой дорожку."/>
          <p:cNvPicPr/>
          <p:nvPr/>
        </p:nvPicPr>
        <p:blipFill>
          <a:blip r:embed="rId3"/>
          <a:stretch/>
        </p:blipFill>
        <p:spPr>
          <a:xfrm>
            <a:off x="4427640" y="1125360"/>
            <a:ext cx="3240000" cy="198612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5"/>
          <p:cNvSpPr/>
          <p:nvPr/>
        </p:nvSpPr>
        <p:spPr>
          <a:xfrm>
            <a:off x="4747680" y="32446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редование по фор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Рисунок 8" descr="Игры на логику для детей 3-4 лет - учимся составлять последовательности."/>
          <p:cNvPicPr/>
          <p:nvPr/>
        </p:nvPicPr>
        <p:blipFill>
          <a:blip r:embed="rId4"/>
          <a:stretch/>
        </p:blipFill>
        <p:spPr>
          <a:xfrm>
            <a:off x="4356000" y="3860640"/>
            <a:ext cx="3384720" cy="236412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7"/>
          <p:cNvSpPr/>
          <p:nvPr/>
        </p:nvSpPr>
        <p:spPr>
          <a:xfrm>
            <a:off x="4697640" y="622476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редование по размер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34:14Z</dcterms:modified>
  <cp:revision>103</cp:revision>
  <dc:subject/>
  <dc:title>Развитие логического мышления детей старшего дошкольного возраста средствами занимательной математики</dc:title>
</cp:coreProperties>
</file>