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37F-8187-4593-8971-5186AF8E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F25-6AA6-49AC-B71E-AACB2A91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282-8269-4877-A23D-F42134D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3C7-8AA3-4444-AB25-60F510B8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DB8A-C704-4FC1-BA4C-A0731DB5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35B3-7318-494A-8EC8-18A3E9C2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0103-A784-419A-B318-8F33F5B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6D1C-FE0C-4BC1-9FAF-2FC8D57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A71B-92D2-4C39-B84E-DF1894B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315-7CE4-4F1B-94BF-D23F0C5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443-FA54-4322-86C9-CA40304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2B6-F047-4E35-8A52-41DFC47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3DA9-089A-4478-8E5F-4B0D878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46C3-6FB2-497D-AF25-0FBEA10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37F6-B33B-4B96-8B67-997DF2CC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1C3D-0BE0-482A-9FA0-F7BF5682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7BE6-DEF0-4782-961D-5EB1CF4D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1534-E460-4265-A6E5-094C9675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A73E-8B08-4173-B8AC-B012CAD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C6B3-89FC-4AEA-AC2C-F1711FB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E749-DDE2-451A-B086-1C759FA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8E79-00BB-413A-BEF4-31045B0F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8F9-320A-4341-9B7D-A22A029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E8F7-8DB7-4941-8B14-792BDD3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E684-E99E-475E-846E-F4FE996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15CB-C85D-48CD-8BDA-B760CFD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B8A3-16AB-4D78-8A4D-DA7B8C0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C546-73E4-4695-B80C-5894A88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59AD-3968-407C-9551-C4B19FA9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24BD-931F-4FBD-974E-481497BD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6EE0-7087-4254-80A2-16D8FAA0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CFD7-AA85-473B-AAF7-06F7A61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CBFC-D5A0-4BB8-8DF2-FEB9B81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874-C141-4383-B05A-45E48F8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5595-F52D-4921-AF45-56FC66D7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F85C-5378-45D8-B74B-DB8D249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4A3D-8E16-4747-A687-0CD36B0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105C-BEAD-4A33-BA02-82CC469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F747-F40A-4A0F-BE43-81349EB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B6F7-F0B3-4D38-88D3-EE48009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31DD-AD53-4C88-A134-B087C60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D9BF-06AA-49D6-934E-EA98808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BD0F-BF54-4C0B-9CAC-314DEB63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3F08-A8AD-4677-B184-1CBD8A5F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72D-5DD9-45B7-B6BE-EB7A6BC5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52E0-C873-4AE0-BC84-A8C28B3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27E3-3678-4AD9-9DEE-DB69240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32BD-04EC-4560-B15E-021A871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9563-3A59-49DE-B406-2CD219B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68E4-8D12-4B42-8B19-2C9ED3FA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51278-2B79-4A76-8203-B972356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5F0F-18E8-4325-97DB-319C443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64FF-E915-487B-9F0B-1B50167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32C4-33CE-40CD-AF1D-364D8D5E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5535-5352-419E-B632-9985F7A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0E5-E794-4749-A17D-211BF39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942E-34B6-440B-9814-0354023C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1E3A-5A2E-4EAF-A5FD-B6A37CB6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8221-75DE-4EC9-BB50-7FDBFF93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2A0F-1ECC-4E47-96FB-1FF4CCC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9DA70-15BA-4859-82FD-19B96C1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77C0-238C-442C-AC39-58A4170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401F-6739-4694-A1D6-A81611F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C114-9091-4054-9285-61F4F75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C2B1-51F4-48F9-836A-5E12AB0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AB30-D92F-42D7-94B3-1F8FA76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B9C-4402-418E-8121-8B199ED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4C73-9468-413E-BD36-91235E4D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EB45-6BF8-4813-8462-8686D91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29836-59F3-4FFD-8500-61F48FF5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6F3D-08C8-450E-84EA-84F3FEE5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45065-0444-4397-A0EC-4DC2889E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0D887-2281-4FDB-A72F-B6DCB5A2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4451-2E00-4CCB-8595-D442BA4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94400-A13A-45A6-958D-87351B5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29F2-5442-4F63-8226-3D2E2A0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F35F-DF67-42D6-9F01-7DC7A16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67D-AD8F-4C61-8702-984971D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F68D-1206-491A-BD63-4B020BD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DA32-B46E-4603-9A07-DDAE9FB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265F-AB1A-4B92-84F8-9E5A136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1EC79-A10A-411C-8D1C-466536E4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D88B-F10C-430A-A5ED-12A05485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9C86-E091-4147-8DD2-ED2FEB16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DD19-B820-461D-9E2F-203C2CA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1DB5-0904-4914-9A27-39C1223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ECF3-0715-4927-AD36-61CAACB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9ADE2-EC70-4F5B-BA57-7FE2CC4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3BE-553C-42E4-A767-7158DBA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087A-0586-449F-9384-B47D6D09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0598-A9AB-4B72-8BF8-4531D15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249D9-E042-4E12-A936-4CC5F796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C358-F5FA-4CF9-BF7B-5E24B26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BD5A-A329-49D9-AC44-E7F0460F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3F33-5FAC-4DD1-9658-9E6B359F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2836E-F1EA-40E8-A4D0-4C153D88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DD0-6B5D-4624-8A78-ED36710036C8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35AC-A25B-45EB-B598-EF1A37B5EDB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3FB-EF1E-4A1F-B873-45D9F09C950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E30D-4ABA-4DED-9031-B1CC0AEB895D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30D-714E-42DC-88D2-CF557AC1292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DF7-AF04-460F-87A5-82153C53D0CE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CF3-8429-42A2-8044-6B8ED019C84A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F88B-F625-43AE-834F-95024F12481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01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4438800" y="4230720"/>
            <a:ext cx="360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8" descr="logchniy-blok-dyenesha-blok-dyenesha-svoyimi-rukami_689"/>
          <p:cNvPicPr/>
          <p:nvPr/>
        </p:nvPicPr>
        <p:blipFill>
          <a:blip r:embed="rId2"/>
          <a:stretch/>
        </p:blipFill>
        <p:spPr>
          <a:xfrm>
            <a:off x="649440" y="1144440"/>
            <a:ext cx="4330440" cy="28371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1" descr="9992.jpg"/>
          <p:cNvPicPr/>
          <p:nvPr/>
        </p:nvPicPr>
        <p:blipFill>
          <a:blip r:embed="rId3"/>
          <a:stretch/>
        </p:blipFill>
        <p:spPr>
          <a:xfrm>
            <a:off x="4857840" y="3790800"/>
            <a:ext cx="3676680" cy="2719440"/>
          </a:xfrm>
          <a:prstGeom prst="rect">
            <a:avLst/>
          </a:prstGeom>
          <a:ln w="0">
            <a:noFill/>
          </a:ln>
        </p:spPr>
      </p:pic>
      <p:pic>
        <p:nvPicPr>
          <p:cNvPr id="374" name="Графический объект1" descr=""/>
          <p:cNvPicPr/>
          <p:nvPr/>
        </p:nvPicPr>
        <p:blipFill>
          <a:blip r:embed="rId4"/>
          <a:stretch/>
        </p:blipFill>
        <p:spPr>
          <a:xfrm>
            <a:off x="5253120" y="1251000"/>
            <a:ext cx="3228840" cy="2249280"/>
          </a:xfrm>
          <a:prstGeom prst="rect">
            <a:avLst/>
          </a:prstGeom>
          <a:ln w="0">
            <a:noFill/>
          </a:ln>
        </p:spPr>
      </p:pic>
      <p:pic>
        <p:nvPicPr>
          <p:cNvPr id="375" name="Графический объект2" descr=""/>
          <p:cNvPicPr/>
          <p:nvPr/>
        </p:nvPicPr>
        <p:blipFill>
          <a:blip r:embed="rId5"/>
          <a:stretch/>
        </p:blipFill>
        <p:spPr>
          <a:xfrm>
            <a:off x="649440" y="4024440"/>
            <a:ext cx="3993840" cy="259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5:56Z</dcterms:modified>
  <cp:revision>102</cp:revision>
  <dc:subject/>
  <dc:title>Развитие логического мышления детей старшего дошкольного возраста средствами занимательной математики</dc:title>
</cp:coreProperties>
</file>