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F27-3684-4EAE-A5AA-CF08A240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488-114B-460E-8059-34DB4107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51C-179C-49EF-8BEC-DC8EF2EC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BC5-CFFC-46D1-98ED-C8828D72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B6B-C8B1-4598-8B0C-A85E97A7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461C-C702-479E-934F-685C5E55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9CEE-89DB-4DE1-9CCD-4433055F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DCEB-EAB5-46F5-B4D0-0ECA2DB9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8F29-8773-4975-AC70-3A0717EE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228E-EBD0-49BF-9A1C-717D129A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4381D-A5CF-4656-9E27-C4AA2092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CF07-5CF6-4365-88CF-8649991C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E539-A521-41BB-A4E5-0F075D9C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D2AB-6704-4CEE-B3EA-A3D69324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B826-6861-49B0-B6F3-0CC6E37D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28D9-30D5-4DF7-BDA8-8D909C03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C250-1484-419F-BA1E-76C817A4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C3F8-C480-4F54-9A25-209EA4F1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F4CFB-78D7-4828-BFD8-F5719C83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872BD-A14B-408A-9709-768916AB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3C65B-EEF4-4B4C-81DB-2D69EBEA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D9FF-DDFE-4015-9ABE-D75D019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E30-C4F0-4892-B16D-99C12AE7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33DE9-AF75-4A7C-A11C-99C8005C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597C-997E-4624-941E-518E7DE9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06059-1DC3-454F-AD67-0C691682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67171-B161-4A0D-875E-54BB9DB1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2A4D3-9290-43D9-BD34-C7F99A3A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5CEC-CE50-4498-9DEF-997B58BCC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F90C8-6EA3-4CCD-B017-0DC0D877E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F470-48B4-48A5-90D3-E2B36ADD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B603E-FAC9-4C76-A83F-E9DCAEB0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3DFAA-83E1-4D73-9DD4-2F1100B4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A55-47A7-47AE-8830-75B2BE6C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1F343-BAC6-4AB8-ADCB-8234226C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C8FE7-AC57-4499-8E9E-FB12453CD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C7AF-77DC-4842-8DDE-2E0276FF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18820-D05E-4E9B-BE6A-3C68769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0AB36-FEF8-4E75-8C16-1F92F41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F684F-4B48-4B11-8F72-C6E432E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AB387-6FD3-4DD0-8E9C-66577B61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B8304-7788-4A19-92E2-413018338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D1E4E-5007-4516-8D14-36B2C2B23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C79B-51EC-40A9-909B-26FF510C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6C4-A25F-479D-8CFB-9F280527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AE8EA-A550-4AC8-95FA-1DA7D194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D686A-69D9-408E-BC6F-6F79F4BF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AD84A-53E0-4722-AE89-249AF269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3F62-A546-4F25-88AE-8610AF9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CBFC3-69E2-4ED9-8469-0CCD3D8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2FCAD-D9CB-48F9-A7A9-4CA6AC6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B6215-D644-418C-9FCF-171F5A26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CB9CE-DA52-4BD6-A774-7F81BF58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C906E-C24F-4366-AE1E-BF9FEC14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3A8F-702F-46F9-A006-AF817B21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8C7-C25D-4B41-8D5C-4933B5E3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77CE7-D3E6-4375-9DBA-04F83D2EB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DEE8A-2336-40A5-9564-1E35F7DEA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0085E-B866-41FE-B7D9-7ADF5B23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89957-99CB-4027-AD1B-3622FC07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0B8E-3EEA-4048-841A-73934AB0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80C1B-834B-4CAD-A219-23A6D1C1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D5A4-DA6E-4AAB-84F8-ED5655EB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ACA56-8CBD-4AAB-93AF-E96EACDC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63C8-D501-4C44-80A2-6325EAB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C9A5D-5E5B-4379-9CA7-727475EF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AD9B-014E-4F0A-978D-0FF0BC56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48798-56B2-4712-95B0-E7D85A3B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C4929-3399-4EEB-8FAC-2603A249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8E292-3898-4D1E-BB49-2B4647A5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81D9A-8B6B-4FCC-95FC-70682F6D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3079C-EA60-4B08-ADAB-0CEB282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19DB-DAAA-42B8-B348-FE64ACA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A5BF0-2193-4BEF-99BF-E6B0EFD2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C02532-E7DD-40E8-86C0-8F1747CA4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73EC-45CE-498E-B3FF-CA6700AB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AE75B-FE5C-42FB-8B92-EDAC5548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F0B-1832-4296-A0DB-9285ACBD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38881-C9DB-4396-86E3-1ACEC09E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B906-1885-4A4E-8E31-15B84436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BAD5-0F44-4A90-A9F3-0CB17055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C7C6-3C2F-452F-9C33-E3E2F828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8F50D-3C0D-4969-9C0F-6E8F7F91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C9E6F-6990-4479-8252-C74F8274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21AD9-2EDB-4ECA-AE3D-BDD34247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3C0350-45DF-4F6A-B997-22EEF7CF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40F3B-68E5-4A13-BFC1-A98E7E05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EFB71-80C5-41BA-850F-48A54C0F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F0A2-303F-4FC8-B2E3-A3ADB276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FA1D1-AA49-4F55-8C9E-32C5EAF6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2D6E6-C7BA-44A9-A233-764DF80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D8EB3-B550-4573-88AF-1D7F07A3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ED756-487B-4B2F-8209-3478ADC0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2E30F-92F6-438B-B02C-2E0AACF23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CCE01-B6B4-4245-83DD-B3C063E6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AD083-0B5D-4DFF-9542-32744EE7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C640-2926-4B42-8F96-063E8845F709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B31A-6012-48EF-9094-9C7E9802092F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E4C3-61F9-41CA-9D78-4D70C0C905F6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DD4-90CF-4359-8C5C-11F610FFAEB7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B33A-42AE-41F9-9FA5-DED4514B5B3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9269-8346-4084-8733-6FBB1831F0FC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BE5C-AC85-4148-97F0-5A043D304FD2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7139-D994-4F17-AD0B-55D88BAFA313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301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7"/>
          <p:cNvSpPr/>
          <p:nvPr/>
        </p:nvSpPr>
        <p:spPr>
          <a:xfrm>
            <a:off x="4438800" y="4230720"/>
            <a:ext cx="36003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Picture 8" descr="logchniy-blok-dyenesha-blok-dyenesha-svoyimi-rukami_689"/>
          <p:cNvPicPr/>
          <p:nvPr/>
        </p:nvPicPr>
        <p:blipFill>
          <a:blip r:embed="rId2"/>
          <a:stretch/>
        </p:blipFill>
        <p:spPr>
          <a:xfrm>
            <a:off x="649440" y="1144440"/>
            <a:ext cx="4330440" cy="2837160"/>
          </a:xfrm>
          <a:prstGeom prst="rect">
            <a:avLst/>
          </a:prstGeom>
          <a:ln w="0">
            <a:noFill/>
          </a:ln>
        </p:spPr>
      </p:pic>
      <p:pic>
        <p:nvPicPr>
          <p:cNvPr id="373" name="Рисунок 11" descr="9992.jpg"/>
          <p:cNvPicPr/>
          <p:nvPr/>
        </p:nvPicPr>
        <p:blipFill>
          <a:blip r:embed="rId3"/>
          <a:stretch/>
        </p:blipFill>
        <p:spPr>
          <a:xfrm>
            <a:off x="4857840" y="3790800"/>
            <a:ext cx="3676680" cy="2719440"/>
          </a:xfrm>
          <a:prstGeom prst="rect">
            <a:avLst/>
          </a:prstGeom>
          <a:ln w="0">
            <a:noFill/>
          </a:ln>
        </p:spPr>
      </p:pic>
      <p:pic>
        <p:nvPicPr>
          <p:cNvPr id="374" name="Графический объект1" descr=""/>
          <p:cNvPicPr/>
          <p:nvPr/>
        </p:nvPicPr>
        <p:blipFill>
          <a:blip r:embed="rId4"/>
          <a:stretch/>
        </p:blipFill>
        <p:spPr>
          <a:xfrm>
            <a:off x="5253120" y="1251000"/>
            <a:ext cx="3228840" cy="2249280"/>
          </a:xfrm>
          <a:prstGeom prst="rect">
            <a:avLst/>
          </a:prstGeom>
          <a:ln w="0">
            <a:noFill/>
          </a:ln>
        </p:spPr>
      </p:pic>
      <p:pic>
        <p:nvPicPr>
          <p:cNvPr id="375" name="Графический объект2" descr=""/>
          <p:cNvPicPr/>
          <p:nvPr/>
        </p:nvPicPr>
        <p:blipFill>
          <a:blip r:embed="rId5"/>
          <a:stretch/>
        </p:blipFill>
        <p:spPr>
          <a:xfrm>
            <a:off x="649440" y="4024440"/>
            <a:ext cx="3993840" cy="259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5:56Z</dcterms:modified>
  <cp:revision>102</cp:revision>
  <dc:subject/>
  <dc:title>Развитие логического мышления детей старшего дошкольного возраста средствами занимательной математики</dc:title>
</cp:coreProperties>
</file>