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E54-4914-4CFB-97D3-F618FA28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E7B-09B1-46DB-8254-F82C715D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80F-D325-434E-8D65-A6AD4BAF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10F-8636-48A7-BF6C-F99392B1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EC70-215A-48AC-BE2E-F9D58ADE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7653-A8E1-4A4A-A60F-9E843517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D053-0EA4-4169-A021-3FD5ACA0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0FA7-CFBF-4243-A229-2FC61422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1805-D27E-4532-B710-FAA1F6F7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D5B9-6043-4D2C-BE8E-1B00CF29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A090-B622-4A09-A2BC-5244B7D2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E32-AEA8-44BD-AD3F-6AF0920E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4C95-B46B-4F92-B06F-939D04D2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17FE-6C68-4B53-B9C8-F2F85489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6E7E-A57E-45AB-9D94-424D784B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A1A3-4A45-4425-9272-5AEFEC35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F3EF-97C6-4321-9857-8D05AF13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4A825-52EA-41C0-B990-85D74810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A3423-DFF2-4B8D-B58F-108407ED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4496-4921-4479-8FCA-2FD783BD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F693-F769-42E7-9471-FA9267C5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1EC2-E114-4E51-A7CB-380A05C6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873-E3C4-4DDB-AD8F-5FE96A12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553D-58E1-4EDD-8542-4241405B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87EE8-3CC3-4B53-BB02-3DF50548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F6C6-C5A9-4C62-AD0D-FE0C570A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53069-9244-4229-955C-13AA11DE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9D33-F41D-4081-BD5A-D5F15C0D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6729-FFC5-4B70-BFE2-43D0BA56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9DDA8-6C92-4A9A-8F23-E7AB304F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B464-8507-4C8C-AAA7-562D981A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EB0F4-A311-48A7-ADC7-6E45175C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17489-667A-4F88-99E2-59244B28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5BE-8331-4BD1-9591-F1761F53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ADEC-1ED0-4DF4-9307-B775DA40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26571-C8AF-4E25-8F16-526F739F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ABFF2-5E11-473A-A286-CE668BAB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F5D4B-A9BA-48D4-B857-6099FD69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EB199-A698-49BA-902E-C57E9661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093CF-A74A-44C5-AB50-DD985136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5C7E5-54F5-4ED8-8464-A633781E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0ABE-1896-4D56-96D6-E1300BFF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AC70D-ECA6-4BCB-80EF-8BECBBCD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E68BD-BB04-46BC-8440-1A074B58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D86-AC23-4EB1-A42E-C5EB009D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BDAD4-3882-4D90-B9FF-796135B0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AD404-BD51-401D-BD88-A5267D1C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D4325-A405-44D3-82E5-6319D453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A3566-395C-41A1-BF6E-F3530ADA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3D39B-BC21-4E67-B3AE-197BB3E4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B035F-242A-4906-9AA5-21CF34F9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DEA5E-D05E-4B52-9B3A-99423CB2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B965C-7DBB-4132-AD00-51A09BA6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41078-9224-4E11-90B9-9C3F0CA2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95424-6402-43BA-9D69-9DB8D77B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4B9-309E-44CC-B2B5-3CFD054A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ADF4A-EFA7-41D6-9B1E-0BB4002E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B343B-B9E8-4715-B68D-AB002260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6DDB7-D6AC-4956-9E19-85457917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4BF41-D63A-4500-A2F5-95CB42D0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F5429-637F-427A-99F3-F4465212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EC4D4-9703-4EEC-AF76-F4A96626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B821A-CB4F-44CE-B260-6849D169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48E87-56C5-4E10-99C9-766A84E9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F9F4F-DBE7-4C88-A1CD-7F6F4E0C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6CB33-EB12-461C-A749-A975EE74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A53-6438-43D8-B090-AA3A8DD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E85C3-8BFD-4BE5-BD95-6AE4F121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F930C-522C-4883-A03A-F9C03FFA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DA65A-D9F1-45ED-A71D-8424908F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5D02F-699C-44B7-BE71-28BF8643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FC7AC-F298-477A-9E5C-205C6A60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7EE89-45CE-4BEE-BBC3-B4810F91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58E62-6475-4CDB-89C9-2FDA68EC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0B5F9-AAD4-4AA9-91A9-1AA949FB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61626-57F1-40D2-856E-D096EB05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6AD18-24A4-4F0D-9C0F-5BE5FD5D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39B-BDD7-49ED-9B6E-64519A49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4E139-35E7-4462-8BE0-97C97B39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A5E20-787D-4AA5-A4A4-5725F162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6D7F8-EB0B-41D9-8281-9F66B05A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60B57-7C4E-479F-A446-3EFDB37E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7775D-609D-4F4D-AD7C-4F9BF9BE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F72E2-046C-48A3-B046-6781FF0E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B26B5-00B2-41E0-9649-D8A930BB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B26FC-DD48-4E32-93F7-E07ADDD0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E3D25-6064-416F-A821-DA2EAFE5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36482-7B14-4CB9-9ECC-FDF5A76B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628-637C-45A9-94EB-C9C64839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E820A-8E8C-4255-A7C3-BB24B851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C4AE8-25D3-4CAB-8562-CE7480D5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4761D-15A7-4CD8-9F73-4B2198E5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EF014-628A-4453-BAEF-D288A200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447D4-5B74-49CF-AB35-4F249385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1362A-9FD4-4815-924A-3CC12608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D0833-E64F-49F3-8347-5FDED1C7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657B-5139-4208-915F-8BA87FF53C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04E2-909F-4312-B595-CB78C2CBAD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EC6A-E569-4888-856B-205AE76001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69BE-BDCC-4FF5-B711-946C96F58D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0786-0D1A-4461-A63A-681C55D04E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6E27-B3E0-45E7-BF04-D57C9CD7EC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6577-3F5C-444B-959D-62D0710D57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C96E-A775-4AD8-9FB9-1FF57F037E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52320" y="1547640"/>
            <a:ext cx="7858440" cy="2536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71640" y="38606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Подготовила: Каримова А.К.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оспитатель МБДОУ д/с №11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 трехлетнем возрасте в умственном развитии детей происходят большие перемены. В этот период у ребенка обычно завершается кризис трехлетнего возраста, появляется восприятие себя, как отдельной личности. Трехлетний ребенок переходит от предметно-действенного мышления и прямых манипуляций к наглядно-образному мышлению. Благодаря стремительному развитию речи, малыш расширяет свой лексический запас, у него формируются первые грамматические конструкции. Ребенок учится сравнивать и обобщать, может анализировать не только реальные предметы, но и просто картинки. Он еще играет в простые игры (кубики, пирамидки, песочки), но уже появляются зачатки сюжетно-ролевых игр. Малыш постепенно учится заменять одни предметы на другие, играть «понарошку». Раньше ребенок для решения задачи представлял себе в уме действия с предметами и их результат. Теперь же, с развитием знаковой системы понятий, он уже оперирует словами и числами, заменяя окружающие предметы понятиями. Эти новые возможности детского мозга называются отвлеченным мышлением, иначе логико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71360" y="18900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Логика – важный инструмент человека в процессе познания. Способность мыслить логически дает возможность человеку понимать, что происходит вокруг, находить связи в явлениях и предметах, обобщать, анализировать, решать различные задачи, делать умозаключения и многое другое, что требует от него сама жизнь. В процессе этих действий человек использует определенные приемы: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ределение состава, структуры и организации частей и элементов целого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риентация на существенные признаки явлений и предметов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ределение взаимосвязей между явлениями и предметами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бнаружение тенденций и закономерностей развития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строение гипотез и обнаружение следствий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знанная аргументация логических операци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6836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274680" y="128520"/>
            <a:ext cx="8399520" cy="11397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433440" y="1022400"/>
            <a:ext cx="52560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сть развития логики в 3-4 года проявляется в том, что мыслительный процесс носит эмоциональный характер. Он интересен и увлекателен для ребенка, который, играя, не вдаваясь в излишние подробности, стремиться к обоснованию, доказательству, поиску причин. О развитии логического мышления у ребенка свидетельствует появление огромного количества вопросов – Почему? Как? Откуда? Зачем? и друг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, так как ведущим видом деятельности для ребенка 3-4 лет является игра, то именно при помощи игровой деятельности и следует начинать развитие у детей логических способностей. В условиях игры ребенок создает обобщенные образы, анализирует игровую ситуацию. Игра организовывает сложный процесс овладения навыками в интересной для ребенка форме, придает умственной деятельности увлекательный характе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Рисунок 5" descr="IMG_20161205_093844.jpg"/>
          <p:cNvPicPr/>
          <p:nvPr/>
        </p:nvPicPr>
        <p:blipFill>
          <a:blip r:embed="rId2"/>
          <a:stretch/>
        </p:blipFill>
        <p:spPr>
          <a:xfrm>
            <a:off x="5688000" y="1341360"/>
            <a:ext cx="3065400" cy="4462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вые логические игр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гры для развития сообразительности и находчивост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гры для развития интеллек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чевые игры для развития логик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ческие игр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вивающие игры: Блоки Дьенеша, палочки Кьюзенера, кубики В. Никитин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69800" y="201600"/>
            <a:ext cx="8309160" cy="1407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7"/>
          <p:cNvSpPr/>
          <p:nvPr/>
        </p:nvSpPr>
        <p:spPr>
          <a:xfrm>
            <a:off x="368280" y="1260360"/>
            <a:ext cx="823608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7a8f"/>
                </a:solidFill>
                <a:latin typeface="Aria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Эти игры очень просты. С их помощью тренируются базовые логические приемы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делять и различать свойства предметов, сравнивать их дети учатся еще на кубиках и мячиках разных цветов и размеров, рамках-вкладышах и других совсем малышовых игра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Умение обобщать предметы в группы по их характерным свойствам 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Умение выделять часть из целого, составлять структуру помогают игрушки, которые делятся на част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Умению сравнивать и анализировать хорошо обучают загадки, в которых по признаку надо отгадать предме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Ассоциативное мышление тренируется игрой, где надо подбирать друг к другу карточки с изображениями различных предметов, но связанных между собой логическ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Объект 6" descr="http://kladraz.ru/upload/blogs2/2016/12/16223_af30e1a25b6272de2cee2971acc1eb47.jpg"/>
          <p:cNvPicPr/>
          <p:nvPr/>
        </p:nvPicPr>
        <p:blipFill>
          <a:blip r:embed="rId2"/>
          <a:stretch/>
        </p:blipFill>
        <p:spPr>
          <a:xfrm>
            <a:off x="684360" y="141300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7" descr="http://kladraz.ru/upload/blogs2/2016/12/16223_739221348745619ecc93da958ccb1a1a.jpg"/>
          <p:cNvPicPr/>
          <p:nvPr/>
        </p:nvPicPr>
        <p:blipFill>
          <a:blip r:embed="rId3"/>
          <a:stretch/>
        </p:blipFill>
        <p:spPr>
          <a:xfrm>
            <a:off x="4776840" y="1484280"/>
            <a:ext cx="3682800" cy="25210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8" descr="http://kladraz.ru/upload/blogs2/2016/12/16223_0ccde0bd429bf245198b068f08d2a6c2.jpg"/>
          <p:cNvPicPr/>
          <p:nvPr/>
        </p:nvPicPr>
        <p:blipFill>
          <a:blip r:embed="rId4"/>
          <a:stretch/>
        </p:blipFill>
        <p:spPr>
          <a:xfrm>
            <a:off x="755640" y="4292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9" descr="http://kladraz.ru/upload/blogs2/2016/12/16223_4afcb0779b7bc4cd331a92fd82c257d1.jpg"/>
          <p:cNvPicPr/>
          <p:nvPr/>
        </p:nvPicPr>
        <p:blipFill>
          <a:blip r:embed="rId5"/>
          <a:stretch/>
        </p:blipFill>
        <p:spPr>
          <a:xfrm>
            <a:off x="4776840" y="4292640"/>
            <a:ext cx="36828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26:15Z</dcterms:modified>
  <cp:revision>101</cp:revision>
  <dc:subject/>
  <dc:title>Развитие логического мышления детей старшего дошкольного возраста средствами занимательной математики</dc:title>
</cp:coreProperties>
</file>