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665-1A71-499F-9E8D-68364F71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8D4-9BAD-438E-8890-8F38758F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5936-2491-46D9-981F-1990BD6C4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82A-FF12-41A3-8CFF-54C10D33D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1020-A8EB-4AC9-A57D-C78DDB156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6354-C1CA-4063-86DD-ED85BD40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2999-C5AE-434A-BE62-6346FB22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03AD-021D-4969-8D3D-BDD6E0F7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6CC2-0C6C-4E6A-97A1-FC3D28A0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5F54-519F-4821-AC3F-1829765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D7DD-5CEB-411F-A117-E62DCEC1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543-96A7-45B2-98CF-0EE5EE47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A49F-5E85-4969-A93F-D0106130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A6560-1F60-4287-8184-86158248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FB5-A131-4B63-8271-B3407505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89DB-999F-484C-BC88-84690DC7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F987-414A-4506-91BE-F3B3A9924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3C717-E3CA-4C62-B690-8242227F8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2BF74-03A9-4330-9119-F4F73FE2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18123-8C10-41F1-8FB8-1D11F3F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88B9C-5D5F-4D2F-9962-2C6D5ADC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E0D4-4656-429A-97E2-74204EA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A7E-3FBF-4A29-B273-77D14936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51111-A084-43EE-8786-A9961771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3654-E0F8-4A03-80A8-895AAF54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B18BA-E562-4100-8AB5-F20ABAF9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88525-00AB-4C00-B099-D877D627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11F5-CBD3-4274-94C5-78BFA079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A2609-57F6-4036-B305-7D4BF1E44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A7A64-7DEE-423F-98A2-3785BB05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BE992-E105-43C4-9629-8689E5FF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E58A4-6AAC-4DD9-8C23-A6B310F1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3F1EB-4474-4B2A-87A8-0042F66B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D7A6-4B1D-47CD-9EB4-C38B2CBD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2A854-A071-4C94-B8BC-7FF66F06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3EAC-26F1-4196-B222-6E657507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5FF1-28DB-48A4-8DEC-7C6EC2C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C0C7D-CF4F-4E0E-AF2D-638BE640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0F068-B3B4-41A4-B013-C1FD0E37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305DF-F54A-4631-9510-A120DCF5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F1EF-E052-4731-98DD-AEBC9555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A0DA-F76A-46AA-8DAA-09B5BD62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883C-9293-4C6F-B986-43A17162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56CBE-CA74-445D-B941-BB85CC63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97F-5292-454C-A36E-6517B54B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963C1-13FC-41D0-BFFC-A2F400FB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31649-554B-4666-94D1-1C4BF1C1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DE5D-27C7-4EDE-B11E-FF7C44A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205A-CC9C-4C2F-A600-6F574E66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7854-9D0F-4A40-9D71-5D450DC3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AFC2E-4D5B-49BE-A189-C52FF267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AB398-DA95-43D9-B07E-AF1E744B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EB177-D147-4394-B33E-E45D79D5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85CA-5815-4F41-90BE-B0676A3A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10D7B-B745-40B3-96AC-A24C7BF8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6F5D-8458-4E0E-8338-F0637DB2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9249B-6F53-47EE-8F36-090A99DE8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BF30E-5A7E-4AEE-8872-C3AA9623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F12A2-BFAB-4F08-8AB6-D356EF7B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D10D7-F424-4C69-BE16-C1210049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D4441-EA8D-4A98-A7FE-F9C29E28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6BD9E-1291-4FCF-A91B-C9054CDC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728A4-692B-43DF-A516-729DC56C7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1E00-89C5-454F-B743-373F9D76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3209-591F-412F-9712-D6688CA7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F37CA-5442-4978-9519-D13165FA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FF1F-18C6-4A18-BADF-B94E225B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8DCD0-957A-4785-B9E4-B73B6B2A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1EB3D-F1F8-4CD5-9216-CC7E73BB1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F9327-77BF-46C8-A545-C44131FC4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D5DDA-8210-474D-8B6F-D12B62E7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A9D82-5FF6-40B3-BFB6-2E8A46B7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D9F2D-B63C-462A-A51D-AC889F50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3C683-0B74-416E-8E73-19605D90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55C2C-7BB1-460C-BFC2-03B64F34A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4A388-7CCB-4DDB-8E65-8D2E53BD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A9F1D-F029-4194-8841-C22A5148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0C1-9B6A-49CC-816A-BBA5293D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D77A-8D26-42D3-B508-D3488FBD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C3BF6-5ABB-4531-8CC5-26912C5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E9123-3463-43C0-B4A8-FC207A64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A90034-26F8-4FDC-AE86-F0ED3AD2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35EB6-129A-45DF-9CC2-1CD07E97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DCF73-C0FB-4359-97A4-C7F6BFBE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85FAF-6F98-4281-9505-BC702CEB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FE24-4504-49B0-B003-82B69F86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3ECE7-31C7-4138-A62B-8953D58D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4ADB1-285C-4813-870F-FCDFEAD6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D7B-7770-49DD-95BB-D4B8990D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E8BB4-BA15-48C6-8ED5-4D031BFF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17A0-BA29-4337-8A08-85A3E1E8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A1AA5-70C7-4CFE-8851-7C1DEFFE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40BAE-4C4B-4D2C-88E0-B060BD71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B5A98-9A12-4AE0-975E-43BDBAC9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DF6D2-1E8B-4A4C-9435-2291BC6E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BA75D-81FB-4C4A-8AF4-5AEE42622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AA86-169F-4941-8AC8-767439EF24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57F-5C3A-456C-9206-5F085FD06E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8D95-8AB1-4745-8C56-A0A178BAEDD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128-0161-4075-80A5-29EA1D997F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2873-2FBE-45AF-AA76-DA72DD275A2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FE33-D8BD-476B-9714-F2098211ECE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09CC-A6E5-46F0-BF8C-37E9D8A4DCC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9A9-60E2-4032-A073-3D467F9A2A9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858440" cy="2536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: Каримова А.К.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оспитатель МБДОУ д/с №1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584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В трехлетнем возрасте в умственном развитии детей происходят большие перемены. В этот период у ребенка обычно завершается кризис трехлетнего возраста, появляется восприятие себя, как отдельной личности. Трехлетний ребенок переходит от предметно-действенного мышления и прямых манипуляций к наглядно-образному мышлению. Благодаря стремительному развитию речи, малыш расширяет свой лексический запас, у него формируются первые грамматические конструкции. Ребенок учится сравнивать и обобщать, может анализировать не только реальные предметы, но и просто картинки. Он еще играет в простые игры (кубики, пирамидки, песочки), но уже появляются зачатки сюжетно-ролевых игр. Малыш постепенно учится заменять одни предметы на другие, играть «понарошку». Раньше ребенок для решения задачи представлял себе в уме действия с предметами и их результат. Теперь же, с развитием знаковой системы понятий, он уже оперирует словами и числами, заменяя окружающие предметы понятиями. Эти новые возможности детского мозга называются отвлеченным мышлением, иначе логико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 algn="just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171360" y="189000"/>
            <a:ext cx="84549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700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Логика – важный инструмент человека в процессе познания. Способность мыслить логически дает возможность человеку понимать, что происходит вокруг, находить связи в явлениях и предметах, обобщать, анализировать, решать различные задачи, делать умозаключения и многое другое, что требует от него сама жизнь. В процессе этих действий человек использует определенные приемы: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ределение состава, структуры и организации частей и элементов целого;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риентация на существенные признаки явлений и предметов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пределение взаимосвязей между явлениями и предметами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бнаружение тенденций и закономерностей развит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построение гипотез и обнаружение следствий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знанная аргументация логических операций.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274680" y="128520"/>
            <a:ext cx="8399520" cy="113976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433440" y="1022400"/>
            <a:ext cx="5256000" cy="49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Особенность развития логики в 3-4 года проявляется в том, что мыслительный процесс носит эмоциональный характер. Он интересен и увлекателен для ребенка, который, играя, не вдаваясь в излишние подробности, стремиться к обоснованию, доказательству, поиску причин. О развитии логического мышления у ребенка свидетельствует появление огромного количества вопросов – Почему? Как? Откуда? Зачем? и други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И, так как ведущим видом деятельности для ребенка 3-4 лет является игра, то именно при помощи игровой деятельности и следует начинать развитие у детей логических способностей. В условиях игры ребенок создает обобщенные образы, анализирует игровую ситуацию. Игра организовывает сложный процесс овладения навыками в интересной для ребенка форме, придает умственной деятельности увлекательный характер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Рисунок 5" descr="IMG_20161205_093844.jpg"/>
          <p:cNvPicPr/>
          <p:nvPr/>
        </p:nvPicPr>
        <p:blipFill>
          <a:blip r:embed="rId2"/>
          <a:stretch/>
        </p:blipFill>
        <p:spPr>
          <a:xfrm>
            <a:off x="5688000" y="1341360"/>
            <a:ext cx="306540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ервые логические иг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ы для развития сообразительности и находчивост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гры для развития интеллект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чевые игры для развития логики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игры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азвивающие игры: Блоки Дьенеша, палочки Кьюзенера, кубики В. Никитин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66640" indent="-457200" algn="just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69800" y="201600"/>
            <a:ext cx="8309160" cy="14079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4" name="TextBox 7"/>
          <p:cNvSpPr/>
          <p:nvPr/>
        </p:nvSpPr>
        <p:spPr>
          <a:xfrm>
            <a:off x="368280" y="1260360"/>
            <a:ext cx="823608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27a8f"/>
                </a:solidFill>
                <a:latin typeface="Arial"/>
              </a:rPr>
              <a:t> 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ти игры очень просты. С их помощью тренируются базовые логические приемы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ять и различать свойства предметов, сравнивать их дети учатся еще на кубиках и мячиках разных цветов и размеров, рамках-вкладышах и других совсем малышовых играх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мение обобщать предметы в группы по их характерным свойствам 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мение выделять часть из целого, составлять структуру помогают игрушки, которые делятся на част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Умению сравнивать и анализировать хорошо обучают загадки, в которых по признаку надо отгадать предмет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Ассоциативное мышление тренируется игрой, где надо подбирать друг к другу карточки с изображениями различных предметов, но связанных между собой логически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Объект 6" descr="http://kladraz.ru/upload/blogs2/2016/12/16223_af30e1a25b6272de2cee2971acc1eb47.jpg"/>
          <p:cNvPicPr/>
          <p:nvPr/>
        </p:nvPicPr>
        <p:blipFill>
          <a:blip r:embed="rId2"/>
          <a:stretch/>
        </p:blipFill>
        <p:spPr>
          <a:xfrm>
            <a:off x="684360" y="1413000"/>
            <a:ext cx="3671640" cy="2592360"/>
          </a:xfrm>
          <a:prstGeom prst="rect">
            <a:avLst/>
          </a:prstGeom>
          <a:ln w="0">
            <a:noFill/>
          </a:ln>
        </p:spPr>
      </p:pic>
      <p:pic>
        <p:nvPicPr>
          <p:cNvPr id="387" name="Рисунок 7" descr="http://kladraz.ru/upload/blogs2/2016/12/16223_739221348745619ecc93da958ccb1a1a.jpg"/>
          <p:cNvPicPr/>
          <p:nvPr/>
        </p:nvPicPr>
        <p:blipFill>
          <a:blip r:embed="rId3"/>
          <a:stretch/>
        </p:blipFill>
        <p:spPr>
          <a:xfrm>
            <a:off x="4776840" y="1484280"/>
            <a:ext cx="3682800" cy="2521080"/>
          </a:xfrm>
          <a:prstGeom prst="rect">
            <a:avLst/>
          </a:prstGeom>
          <a:ln w="0">
            <a:noFill/>
          </a:ln>
        </p:spPr>
      </p:pic>
      <p:pic>
        <p:nvPicPr>
          <p:cNvPr id="388" name="Рисунок 8" descr="http://kladraz.ru/upload/blogs2/2016/12/16223_0ccde0bd429bf245198b068f08d2a6c2.jpg"/>
          <p:cNvPicPr/>
          <p:nvPr/>
        </p:nvPicPr>
        <p:blipFill>
          <a:blip r:embed="rId4"/>
          <a:stretch/>
        </p:blipFill>
        <p:spPr>
          <a:xfrm>
            <a:off x="755640" y="4292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9" descr="http://kladraz.ru/upload/blogs2/2016/12/16223_4afcb0779b7bc4cd331a92fd82c257d1.jpg"/>
          <p:cNvPicPr/>
          <p:nvPr/>
        </p:nvPicPr>
        <p:blipFill>
          <a:blip r:embed="rId5"/>
          <a:stretch/>
        </p:blipFill>
        <p:spPr>
          <a:xfrm>
            <a:off x="4776840" y="4292640"/>
            <a:ext cx="3682800" cy="2160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26:15Z</dcterms:modified>
  <cp:revision>101</cp:revision>
  <dc:subject/>
  <dc:title>Развитие логического мышления детей старшего дошкольного возраста средствами занимательной математики</dc:title>
</cp:coreProperties>
</file>