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7FF9-8AE8-40E8-982D-9EB167E4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368-2AD0-4247-B2E8-B0D4132E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865-B49E-4E0E-B368-DD5DEE1D6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3EEE-6957-4D70-BEBB-6A727BEB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0736-434B-42E7-9F9E-63174EA8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4D0E-0B81-418C-89FE-79E6D00F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2543-FFC0-421A-8E4D-33212334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8329-CCD4-41A0-9E17-87046199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3CD4-3BFA-42FF-A246-45242588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55B6-FF36-4497-BBFC-C14CB89A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0FED-55BD-4488-A190-13C51255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4615-1EDF-481F-A823-EEFF1730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72CE-A25D-48B6-B1FB-E0677457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D160-F8D7-4660-8C45-C605C136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86D7-DB05-491E-9D74-655E5066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FDE1-17F8-4C95-ABA0-05F9C7C2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00B1-7DD2-468E-8EBA-E10D6B3A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59994-C5EB-48E2-BFB6-D0699BF7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3BF92-15DE-4CF5-9912-64E083DC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ED841-D62A-4FCD-A547-08E72421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2FD47-D2C0-491B-B93B-642A0C5E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078EB-BA96-4E97-9F58-58076CAC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9C64-FF87-405D-A658-6FB32F27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F696E-0260-437B-B6A5-7BFD490E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D78C2-AFE6-4293-B952-CEBE02D9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95A52-FAE1-4D4E-9AAF-9F9EC252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3765D-E27D-4BA1-9206-0F528398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DBFB1-EDED-49AF-A722-25343829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2D12B-A311-4E66-B698-CE5D72A3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C3418-7454-4013-9661-65558BD4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82652-71B1-4A64-8547-80A2AAED1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1F994-9BB2-430B-8E71-782412DF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480C5-309A-4031-B129-91825A79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C8E0-97AD-4D9B-A2E2-2DC655D3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5C1A2-9F60-4039-8670-5E299AE7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C5165-652C-4471-BE91-D7DB7EAC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07BEB-F7D6-4BD7-BF3F-7AE64B76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90C2C-39E1-44B6-93F1-26066429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F2D09-A957-4329-8308-95228113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8A59B-8477-4158-8F0F-DBD5B2A5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A8DE0-D2B7-41F0-8EC0-F62F0A6E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55AF2-198F-432A-9EFB-A71C3682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3413A-46B7-4C59-8A7F-ECA09269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9AD4D-5ABD-49ED-9D2A-AE3B484D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3DF6-79A4-4958-A39F-7B00D743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6D07D-2D2D-40AA-B730-76DE48DC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3F0A0-CABC-4575-BD55-2D7A2CF7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D6EA8D-B904-4E7E-A670-AA76A5EE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5DE34-B5DC-4414-BB55-ADB9C6E6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45194-B4D3-4499-913D-FCBAF93F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1AE68-3786-41EB-986D-28F9848D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9C361-4C49-4B32-B218-56F24712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B59C3-B266-4716-B3C3-23249D8E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C1B24-2A8E-4CF6-8790-92AF5D27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6DD46-321D-49B3-82D1-DFAEB176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05CE-B9CF-408F-872E-9CFA3EED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6F19F-2686-4824-A5A5-F0958EA2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4A0E0-A3C1-4799-B519-75FCFD68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270C1-125C-4CFA-B093-EF16D37F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267A6-B351-489C-8000-F10E2ABE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06C68-8D71-4FEA-ADB2-0F946B07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3406E-C89E-4135-BB65-F187897C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5A1ED-D194-4B3D-B4AE-2EC8DB049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651EE-A00D-4560-9D19-77B7853E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1C8DB-6E0F-40CF-A203-B3ACF715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FBEE9-DF04-4EFF-A8E6-AD4B7A2F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DDD3-639C-4D03-9985-FE9CEC05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1D2D0-ECC4-4B8B-B7FA-EDF3DB7D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4E913-A6D3-4264-A42E-EE12DBF6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DFDB7-F4DF-4E54-8618-722CAEBB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F3E88-CD0D-4CF8-A648-1D24FDE6A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3A152-C1A5-40C1-91FC-735AEF12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2AB34-BFE1-461C-943D-7E18DC06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84E97-4582-4C56-935E-7AB622FCE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673CE-33BE-4DA2-80CE-96452541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18106-4B7E-43D7-A770-D10EBD24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4ADC8-14CC-46A5-B3F3-A52A80BD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A4AB-3BE7-4D9D-8123-71288279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2CD4A-DF52-4699-AF96-00BD8520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1B24F-8D04-4E47-99AC-94B9B770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9F9CB-3B4C-47F2-8CD8-2CB99989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7B30E-7536-463D-BB35-0847A2C2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E3727-EBD0-4B05-ACD2-74BAB27F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F7B3B-8CFC-43B3-B9CF-242CEBC0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99D59-07B4-4FF8-8B12-CF03B4FD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FCAFC-7E11-462A-AFA8-AAE21479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F73A9-7375-4F12-83FD-FEFD0342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594CA-5AEF-4908-9E75-5700583F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CD4E-6D40-4240-87A9-2D5675A6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0E261-9015-4BC5-A65B-4D2D9049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EC2A8-1EE5-4A61-8FBE-C87D5C2C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2FC2B-0D90-49FC-A834-E901B34E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64642-AD1D-401D-9308-AF55E3A2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BBCE7-AB05-44F9-9504-711D2E59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8EBF7-3115-4736-ABE6-097F1BAE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5A337-3F35-447D-9725-A3716FB7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01B0-ACEF-4C0D-8823-7AE0CA444E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67F6-8FFB-4187-8A8A-92CA5072420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B5FB-68D7-4089-BA4E-87401F3FBD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596E-F44D-4E4F-9034-DE8FC85A23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20C5-0988-4850-A01D-63B12338341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DA259-CE4B-4AF3-84A9-4AD2792CD4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A459-D55D-4B05-8347-B9547B9DFA7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3FCF-F400-4AEB-A814-DC1B38C5CB1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52320" y="1547640"/>
            <a:ext cx="7858440" cy="2536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971640" y="386064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Подготовила: Каримова А.К.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воспитатель МБДОУ д/с №11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684360" y="105264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Lucida Sans Unicode"/>
              </a:rPr>
              <a:t>Загадки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-  «Кто это такой?» – маленький, пушистенький, любит грызть морковку, прыгает вот так – «прыг-прыг»?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-В клетке пестрая головка,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Чистит перышки так ловко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Что за птичка, угадай,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В клетке верно... (попугай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Lucida Sans Unicode"/>
              </a:rPr>
              <a:t>Небылицы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Ведущий бросает мяч игроку и говорит какую-либо фразу. Если эта фраза — небылица, то ловить мяч не надо, например: «Волк по лесу гуляет», — игрок ловит мяч. «Волк на дереве сидит» — мяч ловить не нужно. «Девочка рисует домик» — игрок ловит мяч. «Домик рисует девочку» — мяч ловить не нужно и т. д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375" name="TextBox 5"/>
          <p:cNvSpPr/>
          <p:nvPr/>
        </p:nvSpPr>
        <p:spPr>
          <a:xfrm>
            <a:off x="5497560" y="3716280"/>
            <a:ext cx="3178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460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Эти игры стоит выделить в отдельную категорию. Цель их заключается в том, чтобы задействовать зрительно-двигательную координацию. Обычно такие игры собраны в тетради и сборники, существуют детские периодические издания. Это разные лабиринты, логические таблицы, где необходимо ответить на вопрос, что-то дорисовать, провести, обозначить. К этой категории относятся игры с геометрическими фигурами, ребусы, кроссворды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378" name="TextBox 8"/>
          <p:cNvSpPr/>
          <p:nvPr/>
        </p:nvSpPr>
        <p:spPr>
          <a:xfrm>
            <a:off x="5651640" y="3573360"/>
            <a:ext cx="28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Рисунок 7" descr="http://kladraz.ru/upload/blogs2/2016/12/16223_99fe7489374a29e32632fb867e359365.jpg"/>
          <p:cNvPicPr/>
          <p:nvPr/>
        </p:nvPicPr>
        <p:blipFill>
          <a:blip r:embed="rId2"/>
          <a:stretch/>
        </p:blipFill>
        <p:spPr>
          <a:xfrm>
            <a:off x="365040" y="2017800"/>
            <a:ext cx="3694320" cy="343224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8" descr="http://kladraz.ru/upload/blogs2/2016/12/16223_cbbe398764d4040ab2aa2c7585fcb40b.jpg"/>
          <p:cNvPicPr/>
          <p:nvPr/>
        </p:nvPicPr>
        <p:blipFill>
          <a:blip r:embed="rId3"/>
          <a:stretch/>
        </p:blipFill>
        <p:spPr>
          <a:xfrm>
            <a:off x="4290840" y="1212840"/>
            <a:ext cx="3895920" cy="2822760"/>
          </a:xfrm>
          <a:prstGeom prst="rect">
            <a:avLst/>
          </a:prstGeom>
          <a:ln w="0">
            <a:noFill/>
          </a:ln>
        </p:spPr>
      </p:pic>
      <p:pic>
        <p:nvPicPr>
          <p:cNvPr id="381" name="Рисунок 9" descr="http://kladraz.ru/upload/blogs2/2016/12/16223_9bfe5c96f30e161d4722f908caa3f680.jpg"/>
          <p:cNvPicPr/>
          <p:nvPr/>
        </p:nvPicPr>
        <p:blipFill>
          <a:blip r:embed="rId4"/>
          <a:stretch/>
        </p:blipFill>
        <p:spPr>
          <a:xfrm>
            <a:off x="4286160" y="3992400"/>
            <a:ext cx="3998880" cy="2725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0:59:24Z</dcterms:created>
  <dc:creator>Кралина</dc:creator>
  <dc:description/>
  <dc:language>en-US</dc:language>
  <cp:lastModifiedBy>Айгуль</cp:lastModifiedBy>
  <dcterms:modified xsi:type="dcterms:W3CDTF">2017-10-11T18:31:51Z</dcterms:modified>
  <cp:revision>103</cp:revision>
  <dc:subject/>
  <dc:title>Развитие логического мышления детей старшего дошкольного возраста средствами занимательной математики</dc:title>
</cp:coreProperties>
</file>