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A876-BA1C-463D-95E0-29514B48E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49AF-942C-4D38-833B-FC6622E8C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A325-49BE-40F6-98FD-3D68289BD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1EBA-53FD-4AFF-9EAB-83C8E25C4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79190-B664-4356-9727-DE90562F4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545B0-B967-4A54-BD9C-826BE815B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7C240-D3E6-47BF-BFF8-A4DBB7532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F18B4-A1CD-4ED3-9A4C-61ADFC667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72390-E85C-4C36-8019-106F36B82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0AF0E-D9FE-4E69-BC51-12638E88B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B6C5C-9FB0-4EF9-BECE-77E7852AD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3345-A43F-48B5-8AB8-8FA434E34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E2B14-E74B-4C68-A1F1-490E9268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81E25-1031-4F94-9C40-4EDA00D9E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865FF-8AC5-4C19-9AE1-70AE74A57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97FC2-5AA6-4343-99D1-CB09D69CE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1FF19-7C0B-47D2-8019-AAE4791F8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5DEC5-374B-453D-A091-1F12F400E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C1444-D3CB-4399-9AAE-F64BE07C6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75DE3-04F2-410E-8CC3-066F48675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358E6-50D5-4A68-BE97-22647C031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B66A2-1C6F-419D-8D96-2B64C2134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4FAC-3A9B-4738-90A9-B27A8DA9D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1BD7F-A45C-4ECF-B676-AE009F12E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C3611-7FA7-4633-82D1-3D890CC8D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094F8-3452-46A6-B143-1471A1103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1FAD1-D45D-418E-872E-B6CB30EE7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4B652-C63D-4DB8-8798-E5E4A0835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08BA1-3FB1-4A40-BBB6-C86730C90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1D68E-E56B-43C1-ACCB-7CD302170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BA044-76BF-4DB2-A499-80CECBCA0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F34DE-CA4E-42FF-9D9E-9AD55E02E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F339D-361D-4237-9336-D176DD78B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2E32-60C3-41DC-89D5-D4B2DAE2D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77A12-F785-46F0-9AD6-C70629F25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28E6E-E4AE-49E4-8260-CCCDF8760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A2E66-8F9B-40B5-A257-080AEDC81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B553E-BE07-4E87-ADDD-163669AA3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6A1AF-0A11-46D4-9A46-EAD67B626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C9E06-98C4-49FA-98BA-4B7FE16C2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97367-2674-4EAB-BD69-C27850CCA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211F5-C04F-4385-A29B-6242ED694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3B2D3-1B69-4996-AFB9-2685B2E8F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DD0511-417D-4CF3-983C-3E7DCB047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9147-AD87-489F-994A-D0BFEE439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C4C3AF-7DB0-4F9F-BE5F-7D60E5C8E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709C30-C0ED-4071-B5C9-9B4374162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C7150E-7402-4998-AA6E-2C2107757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35F5D3-E3FD-4412-B6CA-B7AE3865B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D6F0C8-88B8-449C-AB23-ED80F7BF6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45AC0B-8348-4078-A0D3-2524C3615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E74DA1-3B7B-4279-A3C2-18046D1E7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B8D9EC-BDF3-4E4F-9622-755A0D51F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907609-F570-4940-9458-595A07448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1BD374-6341-4C23-AB53-A5D304450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262F-53A4-4EB5-8CFA-60FF0050C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E5B40C-D2B0-4872-BD4D-9DF876B0B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8BD8A3-9505-4D26-AE20-CA5ED5C51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D56D5D-93D0-42B0-885C-CC1F28C21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24A392-B4C3-4B22-AFFA-60730B98C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D3FFE1-1CBA-4580-A3E9-287981CE6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1B4335-48EF-4FDA-854F-8CEBABEB9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B88FF9-DD31-43D1-86D7-AD78C4A04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9F12B0-E70F-4889-A163-DBEB31BF8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FAE671-BCBD-48C6-AB32-981D68356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FF5C3B-7241-4570-8E66-D3909F321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4544-34D6-4D30-93A8-A4408211F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1A9D65-B0F7-434C-830F-C502E02DF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19E0B9-726C-46EA-A3C9-EA31E48F2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54CCC8-2B11-4C4A-9869-4B85453A1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B41AD8-8904-47F3-8E92-06FB43A92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132C59-4842-4077-9D95-F65935477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F07EB8-7A3B-44BD-8887-CF7C14672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418C90-FD91-400D-B4B9-69F786F2C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E7B205-9348-4B94-B272-02C6B8548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5FA1CF-260E-4B01-99E0-EEA0A326A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25BA2F-1445-4B94-A886-A99337E31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C7A0-E51D-4C99-97C4-E76D614AA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2D98AF-DE10-4C0F-8561-DCAA8DECD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3166B6-0242-4966-8A20-D3A7F9224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1776DA-9BB3-467E-9D44-22D23F2EE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9BAB12-4387-4757-9FBE-834239089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8EEC95-DEA3-45E5-893E-89E82846F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0040B8-4F17-48ED-853E-C9CBC3F43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338A89-6483-4D9A-B1E5-EEEA811C0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E7CA2F-ACA3-49CA-980D-2C142B21A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80EF67-E834-4E6C-ACD7-D3527293C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B90527-178F-4A92-BD05-D46ECE9B9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FCD1-2116-4EA2-A138-C47E6CAF5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41C5CD-0E34-46B5-960F-E2887889B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8630D9-833E-4D84-98E1-85B82B22B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5FB3DE-CE04-4BAF-BA8B-42490D5B9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92B2F5-BD04-4199-98F4-074041D0C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83FCBD-A6CF-4CF8-8715-79DD04734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A187CB-2A5F-4A16-98D9-AAEBD04E0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C556AD-0781-4635-84F6-8991F4967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06DE8-96C7-4038-BD5D-64447B27242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640" y="5237640"/>
              <a:ext cx="9099360" cy="788400"/>
            </a:xfrm>
            <a:custGeom>
              <a:avLst/>
              <a:gdLst>
                <a:gd name="textAreaLeft" fmla="*/ 0 w 9099360"/>
                <a:gd name="textAreaRight" fmla="*/ 9099720 w 909936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" name="Полилиния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Полилиния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54" name="Прямая соединительная линия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7E5CC-2DA9-4752-8E75-F0D636E29BC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Нашивка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10710-F87C-4CB1-9265-719713B52AB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99B37-B265-461B-BDE2-C553B1EDCA1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098C6-533F-4FAB-B5DB-2722E70F60A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A8EEA-5FD1-4DD9-8E9C-32D18FBB4E1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A463C-3328-47F4-B61E-3B4289BAADE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3" name="Прямоугольный треугольник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Прямоугольный треугольник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26" name="Прямая соединительная линия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Нашивка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6B449-16B3-4193-9DFD-52456F66040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652320" y="1547640"/>
            <a:ext cx="7858440" cy="253692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971640" y="386064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64646"/>
                </a:solidFill>
                <a:latin typeface="Lucida Sans Unicode"/>
              </a:rPr>
              <a:t>Подготовила: Каримова А.К.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464646"/>
                </a:solidFill>
                <a:latin typeface="Lucida Sans Unicode"/>
              </a:rPr>
              <a:t>воспитатель МБДОУ д/с №117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684360" y="10526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030a0"/>
                </a:solidFill>
                <a:latin typeface="Lucida Sans Unicode"/>
              </a:rPr>
              <a:t>Загадки: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-  «Кто это такой?» – маленький, пушистенький, любит грызть морковку, прыгает вот так – «прыг-прыг»?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-В клетке пестрая головка,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Чистит перышки так ловко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Что за птичка, угадай,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В клетке верно... (попугай)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030a0"/>
                </a:solidFill>
                <a:latin typeface="Lucida Sans Unicode"/>
              </a:rPr>
              <a:t>Небылицы: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Ведущий бросает мяч игроку и говорит какую-либо фразу. Если эта фраза — небылица, то ловить мяч не надо, например: «Волк по лесу гуляет», — игрок ловит мяч. «Волк на дереве сидит» — мяч ловить не нужно. «Девочка рисует домик» — игрок ловит мяч. «Домик рисует девочку» — мяч ловить не нужно и т. д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sp>
        <p:nvSpPr>
          <p:cNvPr id="375" name="TextBox 5"/>
          <p:cNvSpPr/>
          <p:nvPr/>
        </p:nvSpPr>
        <p:spPr>
          <a:xfrm>
            <a:off x="5497560" y="3716280"/>
            <a:ext cx="3178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4604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Lucida Sans Unicode"/>
              </a:rPr>
              <a:t>Эти игры стоит выделить в отдельную категорию. Цель их заключается в том, чтобы задействовать зрительно-двигательную координацию. Обычно такие игры собраны в тетради и сборники, существуют детские периодические издания. Это разные лабиринты, логические таблицы, где необходимо ответить на вопрос, что-то дорисовать, провести, обозначить. К этой категории относятся игры с геометрическими фигурами, ребусы, кроссворды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slow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sp>
        <p:nvSpPr>
          <p:cNvPr id="378" name="TextBox 8"/>
          <p:cNvSpPr/>
          <p:nvPr/>
        </p:nvSpPr>
        <p:spPr>
          <a:xfrm>
            <a:off x="5651640" y="3573360"/>
            <a:ext cx="28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9" name="Рисунок 7" descr="http://kladraz.ru/upload/blogs2/2016/12/16223_99fe7489374a29e32632fb867e359365.jpg"/>
          <p:cNvPicPr/>
          <p:nvPr/>
        </p:nvPicPr>
        <p:blipFill>
          <a:blip r:embed="rId2"/>
          <a:stretch/>
        </p:blipFill>
        <p:spPr>
          <a:xfrm>
            <a:off x="365040" y="2017800"/>
            <a:ext cx="3694320" cy="3432240"/>
          </a:xfrm>
          <a:prstGeom prst="rect">
            <a:avLst/>
          </a:prstGeom>
          <a:ln w="0">
            <a:noFill/>
          </a:ln>
        </p:spPr>
      </p:pic>
      <p:pic>
        <p:nvPicPr>
          <p:cNvPr id="380" name="Рисунок 8" descr="http://kladraz.ru/upload/blogs2/2016/12/16223_cbbe398764d4040ab2aa2c7585fcb40b.jpg"/>
          <p:cNvPicPr/>
          <p:nvPr/>
        </p:nvPicPr>
        <p:blipFill>
          <a:blip r:embed="rId3"/>
          <a:stretch/>
        </p:blipFill>
        <p:spPr>
          <a:xfrm>
            <a:off x="4290840" y="1212840"/>
            <a:ext cx="3895920" cy="2822760"/>
          </a:xfrm>
          <a:prstGeom prst="rect">
            <a:avLst/>
          </a:prstGeom>
          <a:ln w="0">
            <a:noFill/>
          </a:ln>
        </p:spPr>
      </p:pic>
      <p:pic>
        <p:nvPicPr>
          <p:cNvPr id="381" name="Рисунок 9" descr="http://kladraz.ru/upload/blogs2/2016/12/16223_9bfe5c96f30e161d4722f908caa3f680.jpg"/>
          <p:cNvPicPr/>
          <p:nvPr/>
        </p:nvPicPr>
        <p:blipFill>
          <a:blip r:embed="rId4"/>
          <a:stretch/>
        </p:blipFill>
        <p:spPr>
          <a:xfrm>
            <a:off x="4286160" y="3992400"/>
            <a:ext cx="3998880" cy="2725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2T10:59:24Z</dcterms:created>
  <dc:creator>Кралина</dc:creator>
  <dc:description/>
  <dc:language>en-US</dc:language>
  <cp:lastModifiedBy>Айгуль</cp:lastModifiedBy>
  <dcterms:modified xsi:type="dcterms:W3CDTF">2017-10-11T18:31:51Z</dcterms:modified>
  <cp:revision>103</cp:revision>
  <dc:subject/>
  <dc:title>Развитие логического мышления детей старшего дошкольного возраста средствами занимательной математики</dc:title>
</cp:coreProperties>
</file>