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C16-D0B8-4C6F-B7C1-02BA7836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299-D726-4283-AF56-D5F91D7B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4C3-CAD3-42B1-BC03-724E8479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C9D-3E91-4CCE-B7F8-7323D70D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1983-F273-4247-B676-016B4063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2158-5966-42D5-92A8-987179DE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E79B-006A-4F83-8199-9AAF1AAC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AF7A-D50C-4355-96FF-F691F04C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AEB8-7337-4338-883A-774EBDBD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5AB3-BA2F-4D2F-BA2A-A70F18D4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78CC-82F7-409C-8974-393ABADE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55D-F9E3-4259-8F3B-EAF681D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0CAF-BAB5-4E39-BEAB-FB69839E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A6A3-1843-4601-A54D-6CA7BC17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1891-03DA-4E7C-B237-0B0AF389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4AB5-E7B3-4CCC-970C-36D6589E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42DA-81D2-445D-8E0D-4C0091C6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6C1D-6A47-4479-9AC3-E422128B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7EFF2-1FE3-40AF-BE8D-2E294C3F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7B3A-4108-478C-AEBC-D5170F80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4A5AF-CADD-4944-8C91-3CDF4ADD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A95E-FC71-44CF-9CBF-99D0F2C0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597-6B14-432B-82D6-011DE85C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2AC8-1AEA-4755-B614-B3C06D5A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FD869-5CFF-453F-A983-42163FF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4572-4132-4DAA-B753-5457E0C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6F04-F361-416D-A0A8-91CBF741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BC86-D99A-4A85-A0D5-2EFF17C9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24E7-EABA-472B-8741-9BA28FBD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B35E-A925-400A-8CA3-55052513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EDF26-6861-48C8-BC3C-55722AE4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1ACF-FDA9-490D-825A-07DC8733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912D-F152-44D0-BCAC-6633B834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2B1-A98C-430F-994D-206FA324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9FCF-2C17-435D-B0A8-C84747C5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4B7FB-2580-49D5-9680-B0E83BD4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CBE3-9680-441F-A9E9-4FAFA727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2CB3D-F942-47D1-811F-2883A27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106F-97DD-471B-AFF8-D89D7EED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3BFB0-AD5C-45C9-8968-80951074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81B5-F488-4A46-B3E1-5764D78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B1A4-4FCA-41F7-BD0B-E8BAC725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1957-632C-465C-9D39-DDE36521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AB7EA-67E7-4BAB-B82B-800A31EA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66B-E35D-4291-B2CF-C7852DFD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B2B6-62BB-4205-BB68-C938380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08E52-5DB5-432D-9996-F67EB1AC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6D58E-E545-4A98-AF83-0C8F9E99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A5355-5E96-4B7E-923F-50217BD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E74E2-1299-41E8-9D9D-2DA1AD7F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2B752-4E88-49F5-8E6C-96E00B2A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5F9D1-C8FC-4BC9-8D06-70C3645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9959-D383-43BA-9887-0FCEF92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D09FA-34F3-4AA1-AEC4-3FC8173E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BB45E-7D18-4059-A282-6CE86F62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941-A5D9-41F9-9CD6-8DEE1F67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400A5-04FF-44D8-BC98-BB9D39A6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1836C-A405-4FF4-AD17-58983FA0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ECFE6-7E14-4E34-83EC-39E8BA7B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3CCDE-09FC-451B-A55F-969BEDA4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D56B-81F6-4263-A86B-DD497F5B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CDCF-4DA3-4AFA-9E7F-BCE1DE0E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194C-290A-4104-B287-FAA0A9FB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06451-F821-4955-907A-50B4981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C68BA-4A51-45A1-AC75-6087BF92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2C718-55F7-4CAA-B77D-03959C92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35D-D4FB-4B86-841E-D228B4E7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2285-D2EA-48E6-BADB-BA601E3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B375-4D7E-4959-BD98-C8F4737B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BF46-2A64-4968-9A93-00E1D039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06A5C-B7EE-445D-869B-7259FE48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CD40E-9C74-4122-AB3C-1E2C437F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52FD-4825-4F46-B11E-49AC039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FD4B4-364A-458D-95DA-7FD16E63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A7188-A97D-4600-A7E1-21ECCAA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A521-CA76-4DF8-87FC-0851DEB6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39EDD-A289-4BB8-9B7F-4B85CB0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F75-94A7-4C15-9F4A-DB2F0BEB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AF260-A2C2-4884-AF22-C42CC3A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E4950-83D2-4E5E-A040-277A2567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9299B-42F9-4146-BD64-C24F085F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AAA80-9998-4CEC-82B6-145F6159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FF8B-0E05-4E5C-888B-501E0C69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8CDD2-31FE-4F0C-AD09-ACD3C0BA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D1817-01BC-4542-8032-EA18C5F5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97177-98F0-4103-82D3-1B71C077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96FA5-78BD-4C58-9E1A-95688073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E7618-EE77-4318-92BD-99DB29CF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0FB-8986-4BBA-AC74-CE7145B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1FFC2-94A1-4E6C-9954-D0A09960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4C95C-B565-4EA5-BEEF-06C3C2A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83765-CC8E-4555-8277-3EAF4D5C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A36ED-9FCE-4683-B9FF-CB6E39D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113AD-28CE-4A62-9568-D3A78679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E5206-BB8B-4BD9-8997-0A93FEE6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34EEC-BADD-4D1D-BD1D-383FFC96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BB10-3B2A-4FFE-8713-EF04978A725E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2821-7EBD-40E9-8F92-288686502A2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642A-D87F-4132-A2E0-79AC189C2309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4EF-CF65-4613-9B4E-52DDB3A7B3C2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3B62-13FF-4364-8BCF-DD8343DE48D6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D6BA-114B-4333-8524-EE42B99FA735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4A48-2F26-4588-87FA-FAE5FD664E0D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CB40-021A-4DAA-8579-50B0A498720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1" name="Объект 11" descr="9994.jpg"/>
          <p:cNvPicPr/>
          <p:nvPr/>
        </p:nvPicPr>
        <p:blipFill>
          <a:blip r:embed="rId2"/>
          <a:stretch/>
        </p:blipFill>
        <p:spPr>
          <a:xfrm>
            <a:off x="609480" y="476280"/>
            <a:ext cx="3206880" cy="2522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C:\Users\Мама\Pictures\Д.с-выпуск 2014. Новые фото\100_3450.JPG"/>
          <p:cNvPicPr/>
          <p:nvPr/>
        </p:nvPicPr>
        <p:blipFill>
          <a:blip r:embed="rId3"/>
          <a:stretch/>
        </p:blipFill>
        <p:spPr>
          <a:xfrm>
            <a:off x="5651640" y="3287880"/>
            <a:ext cx="2531880" cy="3024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Users\Мама\Pictures\Д.с-выпуск 2014. Новые фото\100_3460.JPG"/>
          <p:cNvPicPr/>
          <p:nvPr/>
        </p:nvPicPr>
        <p:blipFill>
          <a:blip r:embed="rId4"/>
          <a:stretch/>
        </p:blipFill>
        <p:spPr>
          <a:xfrm>
            <a:off x="1467000" y="3287880"/>
            <a:ext cx="3168360" cy="32367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4" descr="IMG_20161205_093712.jpg"/>
          <p:cNvPicPr/>
          <p:nvPr/>
        </p:nvPicPr>
        <p:blipFill>
          <a:blip r:embed="rId5"/>
          <a:stretch/>
        </p:blipFill>
        <p:spPr>
          <a:xfrm>
            <a:off x="4632480" y="401760"/>
            <a:ext cx="4146480" cy="273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8:22Z</dcterms:modified>
  <cp:revision>103</cp:revision>
  <dc:subject/>
  <dc:title>Развитие логического мышления детей старшего дошкольного возраста средствами занимательной математики</dc:title>
</cp:coreProperties>
</file>