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5B14-26E2-43DC-9B17-2F71B93A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FD24-1C35-4BD8-8EA2-A3A58561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CF14-1BD8-4F83-A60F-974A3B2A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10E7-640D-4044-B327-55BC8809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8FF6-8D70-45DD-9C58-99FB6E6F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1F39-B75C-41A0-AA0A-7C72871D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FCBC-C918-4F72-A1B4-A9DBA309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66DD-F73F-4C9F-BDF5-801EB15E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E5A1-83DF-4D09-957A-018802CD1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8903-6238-4847-BC18-0B580A5B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BE31-2079-4A6B-AC9E-A1D260C1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070E-F5D5-400A-B6D7-BEF767AA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5BB0-5C1B-487C-9670-FB43DB97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E530-74B3-4CFD-8AC5-8FB28FC4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EC1E-0873-4C61-ADF8-B48B10F2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5F47-BB19-4286-B978-B05A38B7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C823C-3403-4696-96D7-D3161E90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7F3B4-A744-4FB8-9000-11CF5075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390AB-8B1D-41F0-A0C0-1BF0F4BF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4F845-4079-47DA-9CAC-DAC605BA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E62F8-C6B1-41D5-8EE7-A0CDBA3C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4CCF8-D7A0-4F72-8525-DE6AE145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358D-AF17-422A-8F2A-5E7C15DD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DDD29-D938-4E9D-84EC-C3E9D785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C5662-E197-40B9-A8D9-5EBD9E7A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B806A-B709-495D-ADAE-28B241BF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E03B3-B993-435B-B7EB-013F30EA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85386-C6B1-4F75-BA27-27D8B923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3B6D9-BF29-4D67-AB72-573D4D76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DC1DC-46CA-4918-9C18-1940B90E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0938B-B062-4A3B-874B-2D19D93FE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6D520-E986-4BB6-8EF2-52310691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FDBC0-5DCB-4BA6-9A7E-87D802E2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D5DF-BE98-4943-A7D1-D2BC830EE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5A28D-47D3-43BA-B3E1-852982C1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2A92E-7B6C-4BDC-AC94-6562AF22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87E2C-CA8B-464F-933A-786EA29C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A9BF5-C681-432A-BB60-251BE9AA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D92F5-C70D-458D-9B6F-B85CCA60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02787-6F78-4EE3-910A-F69E6D1A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BE2B5-1080-4C83-93B7-9C676090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63F5F-D161-49B9-943C-A0168019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637C0-0673-4056-9AED-E6B99D05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20D4A-4727-42A5-BB75-2C88BECE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C651-1B4A-4FD3-BF65-290ABACD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E561A-202A-4C6B-A985-B3770F32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6DEA2-A84C-4E2B-AD24-34538924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9762E-0542-4F07-8C6C-E0A37142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F73B6-7DB2-4FB8-973D-080CC010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40BF1-6FD7-4033-91BA-CF45992B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88875-ADB1-4642-A21C-EA54DBD5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EF04F-AE80-42C5-8132-B794AE66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3AA55-44F2-4836-BF44-38BA7460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41010-8D99-4C7E-9331-B8CEE71A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4ABB7-AA25-47F6-96DD-3A6448B7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E576-4372-4F32-8C45-FD08AECC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2658F-6E38-4699-94D0-1AA3525E3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F47CE-C1E7-4CD7-A94C-BE0A4BA9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F0EC8-6BD0-49D3-B993-BC24BF3D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CB76F-E687-4736-B969-E1A7AFE0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A6BA5-89C2-426B-B6ED-3E4CA2643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48B04-E471-44CF-9622-5F8569D3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7D342-6D67-44B4-93DA-480FF481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A30CF-6906-46D0-A796-B2566CC1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55981-75FF-4838-884F-78B10BAD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05BEE-21BF-4A90-98E6-E844CC47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A713-29BC-41EE-9D90-C00D996C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CA79E-2F26-487D-9518-61407E6F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3D4A8-0A67-4158-94E4-4807E77B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2F6A6-3FD8-43A5-8685-77792F5B2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43B4D-7319-45DE-981C-E3FCCAFC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5B3EB-A2C2-4BCA-A157-D2D1935E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37FAA-AE2B-4F6C-B9BE-65ECAFC7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F144F-A466-4EB8-BAF2-C527CA68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54CBE-4DDE-4AF1-92A1-E111DABD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6D598-A746-4188-8D6C-BAB712D5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B321E-C5FF-405F-999B-C5DD2889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603F-585C-4B1F-8D9B-04B681D5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C17BB-9034-45EC-A7E9-793418A7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81064-ABCE-4BFF-AE54-A5783438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CEF98-B2E2-4F8A-AF00-F6C76220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0BA6A-D1E3-4918-99C3-EB551DE8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F000B-8000-434F-8E54-6953F6C4F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4686B-4FE3-421F-A536-469558D31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03190-AC7F-4B24-8763-AD8CA21D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98473-CF73-49AE-976C-3468C629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F2B49-7E38-4BC0-92B1-9896EDCA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4C258-8D0D-4A63-B4AE-B8635861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65C8-9503-4699-B0B0-C093A667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C20F1-0135-4E94-88CC-0D544AE5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41942-4F6E-4E45-9650-470FC2E1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3FC8E-3992-40D2-9894-D7857A64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D23E0-459E-4DEB-84BD-88B8BB88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C2BA7-6F31-4D0E-A365-EBDFDEB1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0F068F-B86D-4AD4-B526-57BFA5CE6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64B51-9918-4C5B-BCBD-77B5C000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2A64-D21C-4ACC-BF2C-98064729D726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3ECB-5B70-45F2-8ABB-5BB40EDDBD58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7FA5-9F7B-42DE-A296-ECE6D4104B22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90EEF-26D0-443F-858E-689D819C1D51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84F0-6DAA-4550-B56B-BBA024B789F8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675E-9E19-4D92-B8D0-64C0944A7777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8C3B-137F-44D7-95B5-E75F51FC8185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02B5-AC19-4094-944F-61F6A05336D3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71" name="Объект 11" descr="9994.jpg"/>
          <p:cNvPicPr/>
          <p:nvPr/>
        </p:nvPicPr>
        <p:blipFill>
          <a:blip r:embed="rId2"/>
          <a:stretch/>
        </p:blipFill>
        <p:spPr>
          <a:xfrm>
            <a:off x="609480" y="476280"/>
            <a:ext cx="3206880" cy="2522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C:\Users\Мама\Pictures\Д.с-выпуск 2014. Новые фото\100_3450.JPG"/>
          <p:cNvPicPr/>
          <p:nvPr/>
        </p:nvPicPr>
        <p:blipFill>
          <a:blip r:embed="rId3"/>
          <a:stretch/>
        </p:blipFill>
        <p:spPr>
          <a:xfrm>
            <a:off x="5651640" y="3287880"/>
            <a:ext cx="2531880" cy="3024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" descr="C:\Users\Мама\Pictures\Д.с-выпуск 2014. Новые фото\100_3460.JPG"/>
          <p:cNvPicPr/>
          <p:nvPr/>
        </p:nvPicPr>
        <p:blipFill>
          <a:blip r:embed="rId4"/>
          <a:stretch/>
        </p:blipFill>
        <p:spPr>
          <a:xfrm>
            <a:off x="1467000" y="3287880"/>
            <a:ext cx="3168360" cy="3236760"/>
          </a:xfrm>
          <a:prstGeom prst="rect">
            <a:avLst/>
          </a:prstGeom>
          <a:ln w="0">
            <a:noFill/>
          </a:ln>
        </p:spPr>
      </p:pic>
      <p:pic>
        <p:nvPicPr>
          <p:cNvPr id="374" name="Рисунок 14" descr="IMG_20161205_093712.jpg"/>
          <p:cNvPicPr/>
          <p:nvPr/>
        </p:nvPicPr>
        <p:blipFill>
          <a:blip r:embed="rId5"/>
          <a:stretch/>
        </p:blipFill>
        <p:spPr>
          <a:xfrm>
            <a:off x="4632480" y="401760"/>
            <a:ext cx="4146480" cy="2738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10:59:24Z</dcterms:created>
  <dc:creator>Кралина</dc:creator>
  <dc:description/>
  <dc:language>en-US</dc:language>
  <cp:lastModifiedBy>Айгуль</cp:lastModifiedBy>
  <dcterms:modified xsi:type="dcterms:W3CDTF">2017-10-11T18:38:22Z</dcterms:modified>
  <cp:revision>103</cp:revision>
  <dc:subject/>
  <dc:title>Развитие логического мышления детей старшего дошкольного возраста средствами занимательной математики</dc:title>
</cp:coreProperties>
</file>