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41E-D4C2-48E1-BF25-7ED290F6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761-A102-4FF9-A96D-182A6E5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102-6E9A-411B-AC93-EE1DF296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92B-D5E8-464C-B272-497E44E5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EA4C-E0F5-4A6C-A693-DAB43DB3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66E8-273E-421C-BB81-3CAFDEF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C086-3D94-46DC-BA6C-D11DC47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9F0-D69B-49CA-94AC-795263C2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421-3FDA-4553-8716-8F5D531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F1A6-553F-4CDC-B8D5-F5AC9D2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741A-3BE4-43C8-B8E7-7A7637A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934-6C77-4D3A-8293-DD4DBC0D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C7FE-F291-45F5-8F27-601981F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EDDF-74C5-4945-AEA3-F09B4A7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F10A-753E-44C7-9FFF-2305278C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4B5C-1236-4DF2-8DC1-3FD5F4F6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188-2984-4943-9B36-B71076EE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FB30-8EA3-4D59-848B-02910468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CA80-F59C-496C-B527-643A4EE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BF2A-10B3-40AC-B124-CBB02DC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50A1-B6B7-4BEF-B272-8CD7D0B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9CD9-1487-4157-AF2D-88E74946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C92-5962-4A0C-8843-0D152E8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1C1A-39A8-4C0C-AD56-B42EBB4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BD48-A17E-4549-A4A8-B8D56F5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9050-0F7B-4888-8CF1-5D9D4DD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4920-AEBA-452E-8C41-F0143474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E274-874B-4B9B-B4F0-BA700F8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67F6-9E07-4499-9D93-DC59556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51BE-5494-4F73-9DF9-98CA7C89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65B4-1767-4BA4-844E-D38664CF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E64C8-9060-4B6C-A415-84B7B79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2CD4-EA72-4A6C-AB30-6251BFA6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D30-5BE0-487E-963B-D69A6A2F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E627-E4AD-428B-A891-8A96116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71CC-38DD-4CEA-A951-3D3F109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D5B9-1C90-4F30-8704-AC6A474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1C07-30F3-4FCF-8784-A9F5B85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A277-E3D2-41FD-870C-C5319ED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9E55F-F957-47F4-B321-5C8DD3F3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4D27-EF3B-4BC7-AED5-2B89355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AD2B-2B14-4758-BD63-5F8435B0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1941-65D7-466C-A047-F69CD08C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A86F-6B1D-404F-96D1-7C36ADD9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AF9-9EEB-497C-8B31-3E63623C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9A2A7-C193-45CB-AF51-B81FFC5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FC64-3399-48D3-A5AB-A6423806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A0DA-EDB4-48DB-B3C1-4D92534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E283E-A60C-4785-903B-44660720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8A2E5-A9CA-4458-B112-D30BE831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402E1-10F7-4C7A-AA8E-8349CCB2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58296-51EF-458B-AE46-1DC06B5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94F3C-ED83-445D-8E9D-EC26434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72A5-93A2-4C23-9314-D30B8CE9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3D61-0280-45CA-91DC-BBA17ABA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707-BAD3-4413-B271-7FDB1A9A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898B-BDA8-4D16-A7F1-11FAA07F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FF19-BE70-4970-B5B4-E2DB071B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3A4E-33E2-4853-A8CB-0DC48FA5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531D-F64F-4EB8-B1CA-57F8028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E549-B280-42ED-A438-DD4EBA49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14CF-D64D-4415-83ED-76E9C07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DA4A-8B25-4B0B-B62C-ABF40DB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B1FD-CFEC-4110-A3CE-64737AA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F33E-46A4-4DA9-82B8-26B7BC9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279A-157A-4096-BC48-326B0805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3FE-66B1-4407-AD07-A6512BB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F15B-0D27-45EF-90CF-F8FF73E8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2BFA-D1D6-42C3-8187-7889DA75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5554-17BB-4156-8507-4F29FB8A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B873-B8DF-45C2-84EF-A7E375E2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7F35F-9AE7-405D-8E74-1EF2826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DEB5-19ED-4F61-8E29-3A1A0F57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B5E0-3CB0-4B6D-8005-DB4C3DC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9C0D-349C-479D-9BCE-0CF4B285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DE7F-04E8-497B-9B33-20E949E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677D1-9973-4747-8649-48F525C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263-FDB1-4E52-A838-992FF2D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1CA3A-ADE7-4348-BC13-453E265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003EF-BEC6-46CD-9062-36FCC634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36A88-9862-4FA1-9C82-0D12592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FFF7-6AD9-4A84-BB3E-BC6B7E0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2BBA-74E5-475E-B89D-DEDFA254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71B8-1508-42D8-9872-8E92A2B6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748D0-822A-42D0-AEBA-145B4D54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57D77-8965-43D7-8FF5-5CC3F582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E7994-0821-4F15-BAE5-6F5D169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7213-1C24-4CC8-88C7-B7C1B35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8B2-4D7B-4FBE-9D66-8F24064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017AE-D43E-46A9-BA27-E5EEE74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E403-CB11-4957-8C16-B12AA1D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E9E6-C202-4C7D-AB53-0B7B096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321E-99F7-4AC1-8DD8-A794070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A9150-85F0-4684-94B3-F6F91A7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A752-D091-43AB-8468-13B2E723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C405-858D-4734-996A-8A397E88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D41-4F56-4FB9-B48D-1C82A8F3850B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B8CA-5F98-43BD-994C-BBD5F2DB2CB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BF1-5844-4A87-B866-EAB2ECF7466A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6D7-9973-487D-A2B2-B57A95C797C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42A-1A20-4160-978E-F440868ECA9B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ADFB-74E8-4431-BE70-5810FA1260AD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F82-7E67-4181-9C7A-70217378C98B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48B-8AAF-49B9-8FA4-88FE175224D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78000" y="274680"/>
            <a:ext cx="8308800" cy="118908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11" descr="Игра на изучение понятий больше - меньше. Развиваем логику."/>
          <p:cNvPicPr/>
          <p:nvPr/>
        </p:nvPicPr>
        <p:blipFill>
          <a:blip r:embed="rId2"/>
          <a:stretch/>
        </p:blipFill>
        <p:spPr>
          <a:xfrm>
            <a:off x="468360" y="1484280"/>
            <a:ext cx="3672000" cy="18003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"/>
          <p:cNvSpPr/>
          <p:nvPr/>
        </p:nvSpPr>
        <p:spPr>
          <a:xfrm>
            <a:off x="1584720" y="3429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 на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Рисунок 13" descr="Логические игры для детей 3- х лет. Учимся сравнивать."/>
          <p:cNvPicPr/>
          <p:nvPr/>
        </p:nvPicPr>
        <p:blipFill>
          <a:blip r:embed="rId3"/>
          <a:stretch/>
        </p:blipFill>
        <p:spPr>
          <a:xfrm>
            <a:off x="4716360" y="1546200"/>
            <a:ext cx="3503880" cy="15019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5445720" y="32446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 выклады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Рисунок 15" descr="Способы развития логики у детей 3-х лет - больше, меньше, поровну."/>
          <p:cNvPicPr/>
          <p:nvPr/>
        </p:nvPicPr>
        <p:blipFill>
          <a:blip r:embed="rId4"/>
          <a:stretch/>
        </p:blipFill>
        <p:spPr>
          <a:xfrm>
            <a:off x="1263600" y="3986280"/>
            <a:ext cx="2938680" cy="1863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6" descr="Игры на развитие логики - чего больше?"/>
          <p:cNvPicPr/>
          <p:nvPr/>
        </p:nvPicPr>
        <p:blipFill>
          <a:blip r:embed="rId5"/>
          <a:stretch/>
        </p:blipFill>
        <p:spPr>
          <a:xfrm>
            <a:off x="4433760" y="3986280"/>
            <a:ext cx="2838600" cy="179856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2700360" y="5784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ение количества предметов в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 видно, логические игры сами по себе очень разнообразны и задействуют различные виды мышления. Их, несомненно, следует использовать для детей 3-4 лет с целью развития интеллекта и логики, так как такое развитие возможно лишь в процессе практики и постоянной тренировки уже знакомых логических приемов. Также логические игры включают в себя элементы для развития речи, воображения, мелкой моторики, памяти, а комплексный подход в развитии ребенка гарантирует формирование многосторонней развитой личнос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49320" y="1109520"/>
            <a:ext cx="9155160" cy="1683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cp12.nevsepic.com.ua/63-4/1354651505-38---flowers_03.gif"/>
          <p:cNvPicPr/>
          <p:nvPr/>
        </p:nvPicPr>
        <p:blipFill>
          <a:blip r:embed="rId2"/>
          <a:stretch/>
        </p:blipFill>
        <p:spPr>
          <a:xfrm>
            <a:off x="1768320" y="2349360"/>
            <a:ext cx="571500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9:08Z</dcterms:modified>
  <cp:revision>100</cp:revision>
  <dc:subject/>
  <dc:title>Развитие логического мышления детей старшего дошкольного возраста средствами занимательной математики</dc:title>
</cp:coreProperties>
</file>