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4F47-F1EA-42D0-BCC0-BA1C4445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BE9-7060-41E5-AEF3-5BBD6722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016B-FB73-4904-AC22-41DFAD1F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0C36-3910-4CA9-8A6D-2CA8E995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2A1C-4CA2-4B73-B327-A1D18851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A66-8425-4124-A07B-F4CA7529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7803-48DE-45AE-BBBC-2B8F5709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9ED6-983E-4D39-A594-0567BD8E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FECE-218D-40E0-BEDA-90876DDB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235A5-2969-4CE8-A2D5-17836E79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18E6-2B32-4234-B4BB-C41ECD0F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CD09-F80A-46E9-AF32-6318E8B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F3F2-C448-48C3-867C-E8FFAF73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A9F2-9EA9-4510-B72E-7771A473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D2F3B-B6AC-43B6-A7A1-20D8BD00E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3F46-DA46-43D5-BBA4-5A4E284C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568D-48B8-47FE-84F7-9BE2814D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85B4-749C-482C-93E0-7CDF0F70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B6A41-B9C7-4EC8-8E77-A2C91361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4729E-BD64-450D-BCF2-785C60CF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06C4-6B4C-40E0-8BEF-F52A1510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A1B52-DBB0-4AA7-91D8-2F1BE2F5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E68-6A6B-45A7-B03D-C47B5AE3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D29F-E55E-4A6D-9FA7-D47B4623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4DF16-42C0-4F44-B0AB-47C6E7AD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5BA65-8075-47A0-B065-06F92489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019E9-4161-488C-9E8A-1346853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1F425-510E-4849-8348-7E900266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0FA9-0BB7-452A-922E-8BD9E1975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F3310-E303-4DFA-B356-AD3585403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E6FFF-039F-4361-8887-64A39ECF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7BCC3-313C-405F-8677-057143B7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FCDB1-33BE-49D1-92DD-2C852986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AA73-293C-464A-973C-0EAA1F5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ECD69-73F9-453C-97BD-4260D226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72EB6-0218-4610-8E4B-D348B275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EDEDA-16AD-4224-8C06-CB3088C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A6A5-A578-4307-90AE-385553B9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15C7-1D0C-426B-BFCB-2CF8027A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81EF-43D7-4AEE-89C8-CB1338EE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9AD3A-F5F9-433A-853E-6AF369F3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A1D18-AC35-4B6B-BF5B-47E7DA99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3B846-8129-4744-BC9C-41DCD8F7B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EAB59-AEA8-4E9E-B9AC-A380E8E1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B80-91A1-4396-9927-FD3E6764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C4C44-1DF7-4012-9851-F6F6C260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1956E-D9A3-4CB4-BF51-E86C2C9F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7777E-399D-49C3-8725-9EF18012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950CB-E2D1-4BD0-8D01-947E101F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B06E-96B3-4093-AFC5-C355A83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4611-9E99-4619-A7C8-A9FD403F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0CFD-ABE9-42E8-B105-C74A0380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62B0F-ED1C-4248-9DCD-8597B1B7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44E38-9DFB-4085-A9FF-6911EE41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A8DC0-223F-4782-A339-A7CB69784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0528-3DA4-4879-84B4-357F1493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F564-04D9-406D-AC19-34B504B57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4B2BF-9978-4381-AFE0-DA549F34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E72B8-E3F3-4637-854D-9BE1BBA0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E6F0D-43F7-4AB6-89A9-26C02C1C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E16B7-40B5-4973-BFD9-684D3802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9F679-9323-46A6-94D6-86C7DB18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EC2A-A32C-4782-AC30-8AB42EB7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E41C8-2064-44D4-9BC2-924D4179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D8464-746D-4B1F-9590-2FB5088C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2F806-B900-4C43-B3EB-19C6BC7D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293B-22B4-4EF3-B3B2-697AB3F3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51707-E0A8-4DF3-8759-74F463CC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69214-EE7D-4747-A26C-1212729C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7D9C-1907-415F-AD09-8749752F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9F2B-A0B4-4F2E-88D2-EDC1CFBE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797F6-AF26-4555-826F-8CF5A291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C14C69-572B-4CBA-926E-E38F57CC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34C78-265F-48CE-92F4-B3F55A38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23460-7E34-40AF-A406-A6E1762F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FF79B-77A9-478B-9022-4F02D4C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43A90-00EE-415E-98B5-49B8AD4F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D5A0-EE2F-45F6-95EB-AA282F9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99C8A-68A2-494F-92D0-AA841C4D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C9424-7342-4E1D-973B-0185FC4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ADB8A-B030-4675-B043-C170D686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493E9-9E67-41A7-9398-380C14A7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D9737-4C7F-406E-A4B7-791B0E48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8C6C5-341F-47EC-AB8C-B4308249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4CF03-F935-46CE-9687-4FBAD845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4EC731-80ED-4767-A679-CAE1479B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14CAB-9285-4254-8FA8-F69CD53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74F4C-C728-43E8-BE4B-2D36FDA8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201-C45A-4623-9443-6073CBE7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BC8A1-C3BC-4566-B751-0485FF8E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9A1F9-AF94-4615-A764-3B9612C1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EAB6B-18BF-4E64-992D-97ED4D95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5FC59-EEF1-48CC-86B8-014CC5AC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EA63A-6729-4169-9082-617F2D49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81F1D-05EA-4CC5-9ACA-EFC8B31E5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2BF3E-3A47-4AD4-BECA-45FEC568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7566-12FF-4E88-9FFE-8C4D07294DD4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EC6E-62F1-4586-BE52-E5AF06AE0561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0DAB-D1C3-4BCC-A9FF-36EA6571F54A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EC2F-AE82-4403-B9D5-CF478AAFFA6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CB73E-CB7E-4F98-A7C5-3F0CB48EAA3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28D5-4B44-43E1-93EA-62E40D1B09CB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4D2-CDFD-46F6-8D68-8CB9FE669831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7707-CB4E-4853-9EEA-D721661D6FD6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378000" y="274680"/>
            <a:ext cx="8308800" cy="1189080"/>
          </a:xfrm>
          <a:prstGeom prst="rect">
            <a:avLst/>
          </a:prstGeom>
          <a:ln w="0">
            <a:noFill/>
          </a:ln>
        </p:spPr>
      </p:pic>
      <p:pic>
        <p:nvPicPr>
          <p:cNvPr id="371" name="Объект 11" descr="Игра на изучение понятий больше - меньше. Развиваем логику."/>
          <p:cNvPicPr/>
          <p:nvPr/>
        </p:nvPicPr>
        <p:blipFill>
          <a:blip r:embed="rId2"/>
          <a:stretch/>
        </p:blipFill>
        <p:spPr>
          <a:xfrm>
            <a:off x="468360" y="1484280"/>
            <a:ext cx="3672000" cy="1800360"/>
          </a:xfrm>
          <a:prstGeom prst="rect">
            <a:avLst/>
          </a:prstGeom>
          <a:ln w="0">
            <a:noFill/>
          </a:ln>
        </p:spPr>
      </p:pic>
      <p:sp>
        <p:nvSpPr>
          <p:cNvPr id="372" name="Прямоугольник 1"/>
          <p:cNvSpPr/>
          <p:nvPr/>
        </p:nvSpPr>
        <p:spPr>
          <a:xfrm>
            <a:off x="1584720" y="34290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 на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Рисунок 13" descr="Логические игры для детей 3- х лет. Учимся сравнивать."/>
          <p:cNvPicPr/>
          <p:nvPr/>
        </p:nvPicPr>
        <p:blipFill>
          <a:blip r:embed="rId3"/>
          <a:stretch/>
        </p:blipFill>
        <p:spPr>
          <a:xfrm>
            <a:off x="4716360" y="1546200"/>
            <a:ext cx="3503880" cy="1501920"/>
          </a:xfrm>
          <a:prstGeom prst="rect">
            <a:avLst/>
          </a:prstGeom>
          <a:ln w="0">
            <a:noFill/>
          </a:ln>
        </p:spPr>
      </p:pic>
      <p:sp>
        <p:nvSpPr>
          <p:cNvPr id="374" name="Прямоугольник 2"/>
          <p:cNvSpPr/>
          <p:nvPr/>
        </p:nvSpPr>
        <p:spPr>
          <a:xfrm>
            <a:off x="5445720" y="32446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од выкладыва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Рисунок 15" descr="Способы развития логики у детей 3-х лет - больше, меньше, поровну."/>
          <p:cNvPicPr/>
          <p:nvPr/>
        </p:nvPicPr>
        <p:blipFill>
          <a:blip r:embed="rId4"/>
          <a:stretch/>
        </p:blipFill>
        <p:spPr>
          <a:xfrm>
            <a:off x="1263600" y="3986280"/>
            <a:ext cx="2938680" cy="186372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16" descr="Игры на развитие логики - чего больше?"/>
          <p:cNvPicPr/>
          <p:nvPr/>
        </p:nvPicPr>
        <p:blipFill>
          <a:blip r:embed="rId5"/>
          <a:stretch/>
        </p:blipFill>
        <p:spPr>
          <a:xfrm>
            <a:off x="4433760" y="3986280"/>
            <a:ext cx="2838600" cy="179856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2700360" y="5784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ение количества предметов в групп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692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ак видно, логические игры сами по себе очень разнообразны и задействуют различные виды мышления. Их, несомненно, следует использовать для детей 3-4 лет с целью развития интеллекта и логики, так как такое развитие возможно лишь в процессе практики и постоянной тренировки уже знакомых логических приемов. Также логические игры включают в себя элементы для развития речи, воображения, мелкой моторики, памяти, а комплексный подход в развитии ребенка гарантирует формирование многосторонней развитой личнос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106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Прямоугольник 1" descr=""/>
          <p:cNvPicPr/>
          <p:nvPr/>
        </p:nvPicPr>
        <p:blipFill>
          <a:blip r:embed="rId1"/>
          <a:stretch/>
        </p:blipFill>
        <p:spPr>
          <a:xfrm>
            <a:off x="49320" y="1109520"/>
            <a:ext cx="9155160" cy="1683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6" descr="http://cp12.nevsepic.com.ua/63-4/1354651505-38---flowers_03.gif"/>
          <p:cNvPicPr/>
          <p:nvPr/>
        </p:nvPicPr>
        <p:blipFill>
          <a:blip r:embed="rId2"/>
          <a:stretch/>
        </p:blipFill>
        <p:spPr>
          <a:xfrm>
            <a:off x="1768320" y="2349360"/>
            <a:ext cx="5715000" cy="3876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9:08Z</dcterms:modified>
  <cp:revision>100</cp:revision>
  <dc:subject/>
  <dc:title>Развитие логического мышления детей старшего дошкольного возраста средствами занимательной математики</dc:title>
</cp:coreProperties>
</file>