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EDBB-66CF-4E46-A2BF-405DB4C43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4050-9E3C-432B-9AE2-986324BA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ED59-A597-4BEE-A192-DBC878E70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64C7-EAE2-46FF-9560-5B19C844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2421-B654-4710-89A3-74D76FEE7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ADDD-6410-44B4-BAEC-FE020CE8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1370-D586-4694-A5DB-A10D8AAD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A3D6-9EF8-43B7-9AAC-18471931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12B9-242A-4BF3-8EAC-A248544A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06DF-BA6B-404B-BBD1-BD6B75C1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DCC8-2E4A-4F69-8305-BBEF454E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632C-12AB-4210-8166-89399320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0F11-4F0B-4E5E-9FE7-461EBFFC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0BBB-6C32-4DCC-B31B-5A23D8C4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80E0-FCDE-40CB-9032-B42FA1CE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0DED-401C-4759-ACAB-7C7B7EBAC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DD4E-03D9-4B86-A9E8-ED041D5B0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2036-E551-48D1-B0D9-4321BD7C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65F4-AEA8-474C-9932-A66E1186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E7C8-4D51-4412-8CF7-0D91C455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A82A-45C8-410F-94FB-E5025AA6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947E-8A92-4BB5-84F3-E70C393F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788E-252E-443C-A5E9-2BAF081F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0303-ED40-499A-9858-427C6B9E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7396-78A3-4496-B67B-97CAD095C1E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43E2-08B5-4BD8-A7D1-BA8AE849DD7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205000"/>
            <a:ext cx="7623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Дифференциация </a:t>
            </a: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[</a:t>
            </a: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к-г</a:t>
            </a: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]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264000" y="6021000"/>
            <a:ext cx="2879640" cy="3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МБОУ «НШДС №71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324720" y="188640"/>
            <a:ext cx="29844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324720" y="4076640"/>
            <a:ext cx="8744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gnom_14"/>
          <p:cNvPicPr/>
          <p:nvPr/>
        </p:nvPicPr>
        <p:blipFill>
          <a:blip r:embed="rId1"/>
          <a:stretch/>
        </p:blipFill>
        <p:spPr>
          <a:xfrm>
            <a:off x="324000" y="361800"/>
            <a:ext cx="5305320" cy="5737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gnom_14"/>
          <p:cNvPicPr/>
          <p:nvPr/>
        </p:nvPicPr>
        <p:blipFill>
          <a:blip r:embed="rId2"/>
          <a:stretch/>
        </p:blipFill>
        <p:spPr>
          <a:xfrm>
            <a:off x="5940360" y="2979720"/>
            <a:ext cx="2903760" cy="31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8cb358ffc302"/>
          <p:cNvPicPr/>
          <p:nvPr/>
        </p:nvPicPr>
        <p:blipFill>
          <a:blip r:embed="rId1"/>
          <a:stretch/>
        </p:blipFill>
        <p:spPr>
          <a:xfrm>
            <a:off x="395280" y="476280"/>
            <a:ext cx="4083120" cy="5832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8cb358ffc302"/>
          <p:cNvPicPr/>
          <p:nvPr/>
        </p:nvPicPr>
        <p:blipFill>
          <a:blip r:embed="rId2"/>
          <a:stretch/>
        </p:blipFill>
        <p:spPr>
          <a:xfrm>
            <a:off x="5940360" y="3075120"/>
            <a:ext cx="230364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17144966"/>
          <p:cNvPicPr/>
          <p:nvPr/>
        </p:nvPicPr>
        <p:blipFill>
          <a:blip r:embed="rId1"/>
          <a:stretch/>
        </p:blipFill>
        <p:spPr>
          <a:xfrm>
            <a:off x="108000" y="692280"/>
            <a:ext cx="5232240" cy="5087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17144966"/>
          <p:cNvPicPr/>
          <p:nvPr/>
        </p:nvPicPr>
        <p:blipFill>
          <a:blip r:embed="rId2"/>
          <a:stretch/>
        </p:blipFill>
        <p:spPr>
          <a:xfrm>
            <a:off x="5867280" y="3117960"/>
            <a:ext cx="288144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0e028b489ed68fd6585256c568c141b6_clip-art-flaming-nails-clipart-nail-clipart-png_256-500"/>
          <p:cNvPicPr/>
          <p:nvPr/>
        </p:nvPicPr>
        <p:blipFill>
          <a:blip r:embed="rId1"/>
          <a:stretch/>
        </p:blipFill>
        <p:spPr>
          <a:xfrm>
            <a:off x="826920" y="549360"/>
            <a:ext cx="2737080" cy="5346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0e028b489ed68fd6585256c568c141b6_clip-art-flaming-nails-clipart-nail-clipart-png_256-500"/>
          <p:cNvPicPr/>
          <p:nvPr/>
        </p:nvPicPr>
        <p:blipFill>
          <a:blip r:embed="rId2"/>
          <a:stretch/>
        </p:blipFill>
        <p:spPr>
          <a:xfrm>
            <a:off x="6156360" y="2565360"/>
            <a:ext cx="14000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0_16c24b_f88068cf_orig"/>
          <p:cNvPicPr/>
          <p:nvPr/>
        </p:nvPicPr>
        <p:blipFill>
          <a:blip r:embed="rId1"/>
          <a:stretch/>
        </p:blipFill>
        <p:spPr>
          <a:xfrm>
            <a:off x="177840" y="1484280"/>
            <a:ext cx="5691240" cy="4683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0_16c24b_f88068cf_orig"/>
          <p:cNvPicPr/>
          <p:nvPr/>
        </p:nvPicPr>
        <p:blipFill>
          <a:blip r:embed="rId2"/>
          <a:stretch/>
        </p:blipFill>
        <p:spPr>
          <a:xfrm>
            <a:off x="5870520" y="549360"/>
            <a:ext cx="298764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h1o2u2buos5o5087de6d9nb6c01a6odl"/>
          <p:cNvPicPr/>
          <p:nvPr/>
        </p:nvPicPr>
        <p:blipFill>
          <a:blip r:embed="rId1"/>
          <a:stretch/>
        </p:blipFill>
        <p:spPr>
          <a:xfrm>
            <a:off x="25560" y="189000"/>
            <a:ext cx="6021360" cy="4103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h1o2u2buos5o5087de6d9nb6c01a6odl"/>
          <p:cNvPicPr/>
          <p:nvPr/>
        </p:nvPicPr>
        <p:blipFill>
          <a:blip r:embed="rId2"/>
          <a:stretch/>
        </p:blipFill>
        <p:spPr>
          <a:xfrm>
            <a:off x="5435640" y="3789360"/>
            <a:ext cx="358128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0T13:57:28Z</dcterms:created>
  <dc:creator>DokaKomp</dc:creator>
  <dc:description/>
  <dc:language>en-US</dc:language>
  <cp:lastModifiedBy>DokaKomp</cp:lastModifiedBy>
  <dcterms:modified xsi:type="dcterms:W3CDTF">2017-10-12T14:40:02Z</dcterms:modified>
  <cp:revision>7</cp:revision>
  <dc:subject/>
  <dc:title>Дифференциация [к-г]</dc:title>
</cp:coreProperties>
</file>