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C38C-AF45-4A41-8D98-CDFB6201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970E-C07A-4278-B79C-504104A3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1BD8-21C8-478D-A4DD-B18A09E6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065-51F2-4F52-8DFF-A89FB7826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D295-F977-4747-A780-708635BC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5745-8337-474E-BAB2-3AD7A2D3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CA19-9562-46E2-AD9F-931A1205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0781C-C36D-40F1-AD6F-677BE5EB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3C65-6471-494A-B641-58BF466E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5384-4F60-42C2-A081-F994CAF2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0A0A-2970-4DE0-B96C-109B0D40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F83-D237-45F8-9BA7-F4B19CFF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8108-3D6D-4BE2-B084-0BDD4099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6D2D-C026-4318-BB95-CE67F79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7503-E7B5-45E6-BC3B-EC9F69A0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F858-7BF2-4AD8-863C-35392428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7ACD-FD09-4B92-AC11-AA399696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462-B8C1-4584-99FD-42EFE5AA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A89F-882A-4FEF-84FF-0919FA00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372-B6CF-46F5-8BD9-31ACCDC6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0C32-425E-4A5B-A5CF-24A8E2BC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F5EA-4010-45C1-A300-1393135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05F-B27E-40C9-A61E-13E7963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231-E776-4718-AE11-2C23056E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FD0A-81E6-4835-A4A4-4AC09409278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B79-4752-46F2-9FD5-37587F10E90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Дифференциация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[</a:t>
            </a: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к-г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]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64000" y="6021000"/>
            <a:ext cx="2879640" cy="3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  <a:ea typeface="Times New Roman"/>
              </a:rPr>
              <a:t>МБОУ «НШДС №71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324720" y="188640"/>
            <a:ext cx="29844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324720" y="4076640"/>
            <a:ext cx="874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gnom_14"/>
          <p:cNvPicPr/>
          <p:nvPr/>
        </p:nvPicPr>
        <p:blipFill>
          <a:blip r:embed="rId1"/>
          <a:stretch/>
        </p:blipFill>
        <p:spPr>
          <a:xfrm>
            <a:off x="324000" y="361800"/>
            <a:ext cx="5305320" cy="5737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gnom_14"/>
          <p:cNvPicPr/>
          <p:nvPr/>
        </p:nvPicPr>
        <p:blipFill>
          <a:blip r:embed="rId2"/>
          <a:stretch/>
        </p:blipFill>
        <p:spPr>
          <a:xfrm>
            <a:off x="5940360" y="2979720"/>
            <a:ext cx="2903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8cb358ffc302"/>
          <p:cNvPicPr/>
          <p:nvPr/>
        </p:nvPicPr>
        <p:blipFill>
          <a:blip r:embed="rId1"/>
          <a:stretch/>
        </p:blipFill>
        <p:spPr>
          <a:xfrm>
            <a:off x="395280" y="476280"/>
            <a:ext cx="4083120" cy="5832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8cb358ffc302"/>
          <p:cNvPicPr/>
          <p:nvPr/>
        </p:nvPicPr>
        <p:blipFill>
          <a:blip r:embed="rId2"/>
          <a:stretch/>
        </p:blipFill>
        <p:spPr>
          <a:xfrm>
            <a:off x="5940360" y="3075120"/>
            <a:ext cx="230364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7144966"/>
          <p:cNvPicPr/>
          <p:nvPr/>
        </p:nvPicPr>
        <p:blipFill>
          <a:blip r:embed="rId1"/>
          <a:stretch/>
        </p:blipFill>
        <p:spPr>
          <a:xfrm>
            <a:off x="108000" y="692280"/>
            <a:ext cx="5232240" cy="5087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17144966"/>
          <p:cNvPicPr/>
          <p:nvPr/>
        </p:nvPicPr>
        <p:blipFill>
          <a:blip r:embed="rId2"/>
          <a:stretch/>
        </p:blipFill>
        <p:spPr>
          <a:xfrm>
            <a:off x="5867280" y="3117960"/>
            <a:ext cx="288144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0e028b489ed68fd6585256c568c141b6_clip-art-flaming-nails-clipart-nail-clipart-png_256-500"/>
          <p:cNvPicPr/>
          <p:nvPr/>
        </p:nvPicPr>
        <p:blipFill>
          <a:blip r:embed="rId1"/>
          <a:stretch/>
        </p:blipFill>
        <p:spPr>
          <a:xfrm>
            <a:off x="826920" y="549360"/>
            <a:ext cx="2737080" cy="5346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0e028b489ed68fd6585256c568c141b6_clip-art-flaming-nails-clipart-nail-clipart-png_256-500"/>
          <p:cNvPicPr/>
          <p:nvPr/>
        </p:nvPicPr>
        <p:blipFill>
          <a:blip r:embed="rId2"/>
          <a:stretch/>
        </p:blipFill>
        <p:spPr>
          <a:xfrm>
            <a:off x="6156360" y="2565360"/>
            <a:ext cx="14000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0_16c24b_f88068cf_orig"/>
          <p:cNvPicPr/>
          <p:nvPr/>
        </p:nvPicPr>
        <p:blipFill>
          <a:blip r:embed="rId1"/>
          <a:stretch/>
        </p:blipFill>
        <p:spPr>
          <a:xfrm>
            <a:off x="177840" y="1484280"/>
            <a:ext cx="5691240" cy="4683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0_16c24b_f88068cf_orig"/>
          <p:cNvPicPr/>
          <p:nvPr/>
        </p:nvPicPr>
        <p:blipFill>
          <a:blip r:embed="rId2"/>
          <a:stretch/>
        </p:blipFill>
        <p:spPr>
          <a:xfrm>
            <a:off x="5870520" y="549360"/>
            <a:ext cx="298764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h1o2u2buos5o5087de6d9nb6c01a6odl"/>
          <p:cNvPicPr/>
          <p:nvPr/>
        </p:nvPicPr>
        <p:blipFill>
          <a:blip r:embed="rId1"/>
          <a:stretch/>
        </p:blipFill>
        <p:spPr>
          <a:xfrm>
            <a:off x="25560" y="189000"/>
            <a:ext cx="6021360" cy="4103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h1o2u2buos5o5087de6d9nb6c01a6odl"/>
          <p:cNvPicPr/>
          <p:nvPr/>
        </p:nvPicPr>
        <p:blipFill>
          <a:blip r:embed="rId2"/>
          <a:stretch/>
        </p:blipFill>
        <p:spPr>
          <a:xfrm>
            <a:off x="5435640" y="3789360"/>
            <a:ext cx="35812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3:57:28Z</dcterms:created>
  <dc:creator>DokaKomp</dc:creator>
  <dc:description/>
  <dc:language>en-US</dc:language>
  <cp:lastModifiedBy>DokaKomp</cp:lastModifiedBy>
  <dcterms:modified xsi:type="dcterms:W3CDTF">2017-10-12T14:40:02Z</dcterms:modified>
  <cp:revision>7</cp:revision>
  <dc:subject/>
  <dc:title>Дифференциация [к-г]</dc:title>
</cp:coreProperties>
</file>