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FE1-BB50-449E-8EED-726AE150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EEE-17C6-4419-A84D-8699493F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54C-3B0F-447D-AECE-B6A2E426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EA2-C1A8-4947-A1DC-C14150C5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C3C-FA72-4B01-93E7-8011E4C7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C5FF-CF17-44AF-A272-419A1473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6679-8457-45A2-90DC-68DBC42B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7506-6BCD-42A8-A268-7EF13C5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3544-72CE-4DF4-BD52-E152A7CB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9A57-DD4D-4073-855D-F108DD8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231C-795A-4CB4-85EF-971B00F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5A8-9854-4C5E-AD0C-F509B339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46A1-D299-45B8-AC99-128060EC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0382-E88A-415E-B4DB-001AD79C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3196-838A-4233-A890-9C8D10AF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E44E-4498-4D24-94E7-41ED09F3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64A2-7E3D-4773-A72B-C4E6637B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580-CCF7-449C-9A7C-5983A770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211-6641-42E6-9B66-00E26E80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CA4-127B-404F-AC5B-B8AFF674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D39-37A5-424A-8F5A-EA965E0A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5DD-BA1D-4FC7-8235-C409AFC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231-E299-48DC-880F-88A3436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F36-16FC-4E35-AE5F-5626E8FC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B1AE-1B09-4829-87F7-69CCD4CEBCA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FFC7-B708-4862-8C85-16E306E5109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ские куклы учителя технологии Кулигиной Елены Александров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http://www.transopttorg.ru/sanoxusi/14990"/>
          <p:cNvPicPr/>
          <p:nvPr/>
        </p:nvPicPr>
        <p:blipFill>
          <a:blip r:embed="rId1"/>
          <a:stretch/>
        </p:blipFill>
        <p:spPr>
          <a:xfrm>
            <a:off x="0" y="0"/>
            <a:ext cx="69840" cy="6864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87480" y="568440"/>
            <a:ext cx="56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78408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http://kukla-xa.ru/logo.png"/>
          <p:cNvPicPr/>
          <p:nvPr/>
        </p:nvPicPr>
        <p:blipFill>
          <a:blip r:embed="rId2"/>
          <a:stretch/>
        </p:blipFill>
        <p:spPr>
          <a:xfrm>
            <a:off x="1836720" y="3716280"/>
            <a:ext cx="4248000" cy="3141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6920" y="24210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ЧОУ «Православная гимназия  им.преподобного Серафима Саровского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г.Вязни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47840" y="30891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уратино техника папье-маше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7885080" cy="525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97040" y="5734080"/>
            <a:ext cx="50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бка-Ёжка выполнена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зготовления 2016г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7480" y="3305160"/>
            <a:ext cx="30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шка косолапый выполнен в технике папье-маше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73920" cy="5248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71640" y="5516640"/>
            <a:ext cx="64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чка Машенька выполнена в технике папье-маше 2016г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64320" y="609300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бка Марфа сказка «Пирожки с любовью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а в технике папье-маше февраль 2017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54160" y="60213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ва Зорька сказка «Вкусное молоко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а в технике папье-маше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SzPct val="1028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http://www.transopttorg.ru/sanoxusi/14990"/>
          <p:cNvPicPr/>
          <p:nvPr/>
        </p:nvPicPr>
        <p:blipFill>
          <a:blip r:embed="rId1"/>
          <a:stretch/>
        </p:blipFill>
        <p:spPr>
          <a:xfrm>
            <a:off x="0" y="0"/>
            <a:ext cx="69840" cy="6864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58920" y="6021360"/>
            <a:ext cx="70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ошка Мурка сказка «Пирожки с любовью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а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ата изготовления 2016-2017г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3"/>
          <a:stretch/>
        </p:blipFill>
        <p:spPr>
          <a:xfrm>
            <a:off x="0" y="189000"/>
            <a:ext cx="8893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1840" y="5969160"/>
            <a:ext cx="86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абушка Маруся  сказка « Вкусное молоко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а в чулочной технике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26920" y="5667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ерый волк сказка «Пирожки с любовью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ата изготовления 2016-2017г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9240" y="-2600640"/>
            <a:ext cx="60768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924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00720" y="26028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яц выполнен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ата изготовления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508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907280" y="5373720"/>
            <a:ext cx="40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учка сказка «Пирожки с любовью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а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та изготовления 2017г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5256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40320" y="5734080"/>
            <a:ext cx="47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трушка выполнен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та изготовления 2016г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2565360"/>
            <a:ext cx="311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итрая лиса сказка «Пирожки с любовью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а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та изготовления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3120" y="265572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ед Макар сказка «Вкусное молоко» 2016г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2T17:03:04Z</dcterms:created>
  <dc:creator>User</dc:creator>
  <dc:description/>
  <dc:language>en-US</dc:language>
  <cp:lastModifiedBy>User</cp:lastModifiedBy>
  <dcterms:modified xsi:type="dcterms:W3CDTF">2017-10-12T15:55:01Z</dcterms:modified>
  <cp:revision>7</cp:revision>
  <dc:subject/>
  <dc:title>Авторские куклы учителя технологии Кулигиной Елены Александровны</dc:title>
</cp:coreProperties>
</file>