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47B-8F6D-476B-974E-0D334FA0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6713-5998-40A2-9588-6585C237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0E5-7463-44F5-AD20-227E01916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3AC-6ABE-4283-B6C7-5E90D03CD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7E80A-31E8-4AEE-8213-EBAED964A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738C-AAF9-4EB2-B474-30D2E23F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3E93-1386-4C70-80A9-6104C0EF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C66-1BDE-4557-A69B-F603D656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1DC3-14C0-46D4-BC61-5AA26A4C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C60-0D46-40A5-A6CB-6CAC6EC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BD2B-497E-4206-BB14-EFE5EFF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EF23-F8B8-49A0-8B73-07A65024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EA197-1226-48A6-A983-4258C0A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E86C-CD83-4A01-B095-C253A0B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242E-525D-407A-BA5B-7E9F3ABB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3FD-F3CD-42B2-9396-EE94E88A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D133-BC01-48EF-8931-3633758C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8687-D2F1-44FC-BADF-07972F86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FD4-35E0-457C-8089-EF96CBBA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C77-07E0-4D4C-932F-5DA12C01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72E-5183-4840-8B8A-9C24FDE6F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9AC4-C4BB-4749-9423-3480A721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AE7-0A9B-40B3-B9F7-82333ACA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D3C7-A0BF-4497-8C97-0395E3DD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2B01-F42B-4D97-81A3-14CA5E3CF66D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2EEE-B9AC-41AA-83DC-83C23AC93D0F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вторские куклы учителя технологии Кулигиной Елены Александровны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" descr="http://www.transopttorg.ru/sanoxusi/14990"/>
          <p:cNvPicPr/>
          <p:nvPr/>
        </p:nvPicPr>
        <p:blipFill>
          <a:blip r:embed="rId1"/>
          <a:stretch/>
        </p:blipFill>
        <p:spPr>
          <a:xfrm>
            <a:off x="0" y="0"/>
            <a:ext cx="69840" cy="68644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887480" y="568440"/>
            <a:ext cx="56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71640" y="78408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http://kukla-xa.ru/logo.png"/>
          <p:cNvPicPr/>
          <p:nvPr/>
        </p:nvPicPr>
        <p:blipFill>
          <a:blip r:embed="rId2"/>
          <a:stretch/>
        </p:blipFill>
        <p:spPr>
          <a:xfrm>
            <a:off x="1836720" y="3716280"/>
            <a:ext cx="4248000" cy="31417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826920" y="24210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ЧОУ «Православная гимназия  им.преподобного Серафима Саровского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г.Вязни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5764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47840" y="3089160"/>
            <a:ext cx="25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уратино техника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92160"/>
            <a:ext cx="7885080" cy="5257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697040" y="5734080"/>
            <a:ext cx="509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абка-Ёжка 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зготовления 2016г.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7480" y="3305160"/>
            <a:ext cx="30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ишка косолапый выполнен в технике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73920" cy="5248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71640" y="5516640"/>
            <a:ext cx="648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учка Машенька выполнена в технике папье-маше 2016г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18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264320" y="6093000"/>
            <a:ext cx="55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бка Марфа сказка «Пирожки с любовью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 февраль 2017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943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54160" y="6021360"/>
            <a:ext cx="45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рова Зорька сказка «Вкусное молоко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401"/>
              </a:spcBef>
              <a:buSzPct val="10283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" descr="http://www.transopttorg.ru/sanoxusi/14990"/>
          <p:cNvPicPr/>
          <p:nvPr/>
        </p:nvPicPr>
        <p:blipFill>
          <a:blip r:embed="rId1"/>
          <a:stretch/>
        </p:blipFill>
        <p:spPr>
          <a:xfrm>
            <a:off x="0" y="0"/>
            <a:ext cx="69840" cy="6864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58920" y="6021360"/>
            <a:ext cx="700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Кошка Мурк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-2017г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Заголовок 1" descr=""/>
          <p:cNvPicPr/>
          <p:nvPr/>
        </p:nvPicPr>
        <p:blipFill>
          <a:blip r:embed="rId3"/>
          <a:stretch/>
        </p:blipFill>
        <p:spPr>
          <a:xfrm>
            <a:off x="0" y="189000"/>
            <a:ext cx="8893080" cy="11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10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31840" y="5969160"/>
            <a:ext cx="866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Бабушка Маруся  сказка « Вкусное молоко»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а в чулочной технике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2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826920" y="56674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Серый волк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-2017г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9240" y="-2600640"/>
            <a:ext cx="60768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5924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500720" y="260280"/>
            <a:ext cx="31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Заяц 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ата изготовления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50817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907280" y="5373720"/>
            <a:ext cx="405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Жучк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7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885080" cy="52563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840320" y="5734080"/>
            <a:ext cx="47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етрушка выполнен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6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0" y="2565360"/>
            <a:ext cx="311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итрая лиса сказка «Пирожки с любовью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ена в технике папье-маше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та изготовления 2016г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03120" y="2655720"/>
            <a:ext cx="28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Дед Макар сказка «Вкусное молоко» 2016г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2T17:03:04Z</dcterms:created>
  <dc:creator>User</dc:creator>
  <dc:description/>
  <dc:language>en-US</dc:language>
  <cp:lastModifiedBy>User</cp:lastModifiedBy>
  <dcterms:modified xsi:type="dcterms:W3CDTF">2017-10-12T15:55:01Z</dcterms:modified>
  <cp:revision>7</cp:revision>
  <dc:subject/>
  <dc:title>Авторские куклы учителя технологии Кулигиной Елены Александровны</dc:title>
</cp:coreProperties>
</file>