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C37E-1D9F-4917-B492-B1CC41DED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006DC-D4EB-4610-B952-2D5425A617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F06F4-E5BF-4F05-AC91-67384AA0A5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72BE-D6DF-4DB0-8757-05386B6FCA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40EB-F0B0-4481-8110-198FB47876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EA2C4-2EC1-4BC7-A15B-DC0630828F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DF50-7099-4334-BE2D-7212C3BAF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4576-DB84-4744-8B33-BFFB665CD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5294-0C73-4631-9F8B-8D375E975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924F-19C4-4620-A322-57A46A846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11EB8-676E-4235-9FC7-09EFE28B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FFBF-EFBF-4862-88E7-96FFEAAF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B9324-F512-4D1C-BD92-14E00680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8516-52F0-4450-8FC8-DBB95816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CAEDC-131C-4D6F-B878-3F8D7BB8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03D06-8EF0-4176-BA16-6DEDF6D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40DB4-DF2E-433A-A284-301810C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5D6E-8753-4522-8011-52A1E715B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7DB06-947A-4711-B63F-1CFDD08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8C55-07D2-4ED5-94CB-A76A869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76B03-8A4B-4A00-96BA-640BFDD7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1C092-7D12-47E9-8EF7-B6538C3D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B0083-31A6-4DB9-A3B4-44BF20CB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FCA9-4488-4B35-BB1C-9767A2941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9766-BCFE-4B29-95B4-BFE0579CF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07E4-B4A5-4EF7-B776-DE2A8933F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95D2-03C3-49C9-920A-036DB593C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C56A-F877-402E-83E7-CC6B5A92D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8390-863E-4F54-B101-381B11F0F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5D99-B3DC-4D96-808C-ADAAAD65A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6080" cy="6845400"/>
            <a:chOff x="0" y="0"/>
            <a:chExt cx="9136080" cy="6845400"/>
          </a:xfrm>
        </p:grpSpPr>
        <p:grpSp>
          <p:nvGrpSpPr>
            <p:cNvPr id="1" name="Group 2"/>
            <p:cNvGrpSpPr/>
            <p:nvPr/>
          </p:nvGrpSpPr>
          <p:grpSpPr>
            <a:xfrm>
              <a:off x="2743200" y="3540240"/>
              <a:ext cx="6388200" cy="3305160"/>
              <a:chOff x="2743200" y="3540240"/>
              <a:chExt cx="6388200" cy="330516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2743200" y="4197240"/>
                <a:ext cx="4570560" cy="26481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2648160"/>
                  <a:gd name="textAreaBottom" fmla="*/ 2648160 h 26481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6620040" y="4240080"/>
                <a:ext cx="1993680" cy="128268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2680"/>
                  <a:gd name="textAreaBottom" fmla="*/ 1283040 h 128268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>
                <a:off x="4603680" y="5311800"/>
                <a:ext cx="4518000" cy="1533600"/>
              </a:xfrm>
              <a:custGeom>
                <a:avLst/>
                <a:gdLst>
                  <a:gd name="textAreaLeft" fmla="*/ 0 w 4518000"/>
                  <a:gd name="textAreaRight" fmla="*/ 4518360 w 4518000"/>
                  <a:gd name="textAreaTop" fmla="*/ 0 h 1533600"/>
                  <a:gd name="textAreaBottom" fmla="*/ 1533960 h 15336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4362480" y="3540240"/>
                <a:ext cx="4768920" cy="3305160"/>
              </a:xfrm>
              <a:custGeom>
                <a:avLst/>
                <a:gdLst>
                  <a:gd name="textAreaLeft" fmla="*/ 0 w 4768920"/>
                  <a:gd name="textAreaRight" fmla="*/ 4769280 w 4768920"/>
                  <a:gd name="textAreaTop" fmla="*/ 0 h 3305160"/>
                  <a:gd name="textAreaBottom" fmla="*/ 3305520 h 33051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7145280" y="3678120"/>
                <a:ext cx="1976400" cy="851040"/>
              </a:xfrm>
              <a:custGeom>
                <a:avLst/>
                <a:gdLst>
                  <a:gd name="textAreaLeft" fmla="*/ 0 w 1976400"/>
                  <a:gd name="textAreaRight" fmla="*/ 1976760 w 1976400"/>
                  <a:gd name="textAreaTop" fmla="*/ 0 h 851040"/>
                  <a:gd name="textAreaBottom" fmla="*/ 851400 h 85104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AutoShape 8"/>
            <p:cNvSpPr/>
            <p:nvPr/>
          </p:nvSpPr>
          <p:spPr>
            <a:xfrm>
              <a:off x="5273640" y="2128680"/>
              <a:ext cx="2892600" cy="243540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2435400"/>
                <a:gd name="textAreaBottom" fmla="*/ 2435760 h 243540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0"/>
              <a:ext cx="9136080" cy="2814480"/>
            </a:xfrm>
            <a:custGeom>
              <a:avLst/>
              <a:gdLst>
                <a:gd name="textAreaLeft" fmla="*/ 0 w 9136080"/>
                <a:gd name="textAreaRight" fmla="*/ 9136440 w 91360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3080" y="62532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49CA2-6C8E-4E4A-95F0-224519A291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6042D2-E237-457D-BC0C-67478453B9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84360" y="291960"/>
            <a:ext cx="82087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Урок письма в 7 класс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06600" y="2932200"/>
            <a:ext cx="798984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Тема урока: Деловое письмо. Телеграм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Учитель:   Селезнева Любовь Валерьев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017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-2124000" y="-458640"/>
            <a:ext cx="12995280" cy="85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опрос: какие средства связи людей друг с другом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84360" y="5516640"/>
            <a:ext cx="6476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39640" y="1125360"/>
            <a:ext cx="1666800" cy="1874880"/>
            <a:chOff x="539640" y="1125360"/>
            <a:chExt cx="1666800" cy="1874880"/>
          </a:xfrm>
        </p:grpSpPr>
        <p:pic>
          <p:nvPicPr>
            <p:cNvPr id="107" name="Picture 4" descr=""/>
            <p:cNvPicPr/>
            <p:nvPr/>
          </p:nvPicPr>
          <p:blipFill>
            <a:blip r:embed="rId1"/>
            <a:stretch/>
          </p:blipFill>
          <p:spPr>
            <a:xfrm>
              <a:off x="610920" y="1196640"/>
              <a:ext cx="159552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5"/>
            <p:cNvSpPr/>
            <p:nvPr/>
          </p:nvSpPr>
          <p:spPr>
            <a:xfrm>
              <a:off x="539640" y="1125360"/>
              <a:ext cx="15955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AutoShape 6"/>
          <p:cNvSpPr/>
          <p:nvPr/>
        </p:nvSpPr>
        <p:spPr>
          <a:xfrm>
            <a:off x="2700360" y="141300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659640" y="981000"/>
            <a:ext cx="11239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512720" cy="172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3"/>
          <p:cNvSpPr/>
          <p:nvPr/>
        </p:nvSpPr>
        <p:spPr>
          <a:xfrm>
            <a:off x="539640" y="296712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л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2843280" y="29671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ьм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6875640" y="2997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ц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1116000" y="5013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гнальные фл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аж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азбука морзе – сигнал бедствия (www.petamusic.ru).mp3" descr=""/>
          <p:cNvPicPr/>
          <p:nvPr/>
        </p:nvPicPr>
        <p:blipFill>
          <a:blip r:embed="rId4"/>
          <a:stretch/>
        </p:blipFill>
        <p:spPr>
          <a:xfrm>
            <a:off x="6197760" y="392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5219640" y="53323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збука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р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18" descr=""/>
          <p:cNvPicPr/>
          <p:nvPr/>
        </p:nvPicPr>
        <p:blipFill>
          <a:blip r:embed="rId5"/>
          <a:stretch/>
        </p:blipFill>
        <p:spPr>
          <a:xfrm>
            <a:off x="108000" y="5218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9" descr=""/>
          <p:cNvPicPr/>
          <p:nvPr/>
        </p:nvPicPr>
        <p:blipFill>
          <a:blip r:embed="rId6"/>
          <a:stretch/>
        </p:blipFill>
        <p:spPr>
          <a:xfrm>
            <a:off x="4302000" y="1415880"/>
            <a:ext cx="4157640" cy="515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дание:  Разгадайте ребус и вы определите тему нашего уро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-930600" y="2117880"/>
            <a:ext cx="3695760" cy="3585960"/>
            <a:chOff x="-930600" y="2117880"/>
            <a:chExt cx="3695760" cy="358596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-606240" y="2462040"/>
              <a:ext cx="305064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 rot="20700000">
              <a:off x="-607680" y="2463120"/>
              <a:ext cx="3050280" cy="28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1827360" cy="22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 rot="10800000">
            <a:off x="1907640" y="4154040"/>
            <a:ext cx="3812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8"/>
          <p:cNvSpPr txBox="1"/>
          <p:nvPr/>
        </p:nvSpPr>
        <p:spPr>
          <a:xfrm rot="10800000">
            <a:off x="2123640" y="4154040"/>
            <a:ext cx="3812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 rot="10800000">
            <a:off x="1619280" y="4154040"/>
            <a:ext cx="3808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10"/>
          <p:cNvSpPr txBox="1"/>
          <p:nvPr/>
        </p:nvSpPr>
        <p:spPr>
          <a:xfrm rot="10800000">
            <a:off x="6516720" y="1848960"/>
            <a:ext cx="3808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8532720" y="2133720"/>
            <a:ext cx="419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8459640" y="2205000"/>
            <a:ext cx="468360" cy="647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3"/>
          <p:cNvSpPr/>
          <p:nvPr/>
        </p:nvSpPr>
        <p:spPr>
          <a:xfrm flipH="1">
            <a:off x="8528040" y="2133720"/>
            <a:ext cx="441360" cy="647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2556000" y="3213000"/>
            <a:ext cx="138096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1476360" y="5229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Т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л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гра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мм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0760" y="-71280"/>
            <a:ext cx="85536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Словарная рабо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Телеграмма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слово греческо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остоит из 2-х часте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теле-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далеко и   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грамма-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запись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264168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опросы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70c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Как пишется текст телеграмм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000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70c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Что сообщается в телеграмм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3.Что не пишется в телеграмме?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2565360"/>
            <a:ext cx="82296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Запишите в тетрадь требования к заполнению телеграмм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.Текст пишется кратк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2. Сообщается только главн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3.Пропускаются знаки препинания , предлоги,   местоим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34:04Z</dcterms:created>
  <dc:creator>Учитель</dc:creator>
  <dc:description/>
  <dc:language>en-US</dc:language>
  <cp:lastModifiedBy>смит</cp:lastModifiedBy>
  <dcterms:modified xsi:type="dcterms:W3CDTF">2017-10-12T09:24:40Z</dcterms:modified>
  <cp:revision>76</cp:revision>
  <dc:subject/>
  <dc:title>Урок русского языка</dc:title>
</cp:coreProperties>
</file>