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2640" y="674280"/>
            <a:ext cx="4567320" cy="34434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ED345-DBE8-4E48-B791-77CD88991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E6F42F-6A8A-4C45-A335-8B8FD7C29BA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B9A39-9EB7-46EA-AFAA-525A60700D7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0BA32-AA03-472E-BAB1-2986D05D7D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C31C8-0595-4ACD-B9C8-37A0A76DD1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8C7DD-0A24-4E4D-979C-B64D18CB297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A8398-30ED-4237-87D0-8CA43373BB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C038-BBBE-4CEA-A972-E2AEC97A8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F567F-B9C9-4F61-9710-79E3187E42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62AF-5107-4E4E-B7F0-177881EB8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5A238-060A-4158-8EB4-950B0D46B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7F202-F2D4-421B-BB02-A191FEDA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5F9F1-7360-46CC-A740-E89D0E92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6CDFD7-6DD9-43C6-8572-082E0CE1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D26F6-1B74-448B-BE74-9F7BFE85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144B2-8C51-4659-BEAC-63BC56F8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1A532-3DAF-4F86-A4DC-284B24DF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8A496-8860-4D6D-9775-1A0FD9CE2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A04C1-7E55-437B-B1BF-C3CD0F67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A329A-BEDD-41FA-B820-D74A1DD9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5B2B9-141D-4398-BE7D-FDECDCAD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92468-35A8-4FAE-8F0F-A235DC7D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E760C-3893-47B0-8C01-457CCCCF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727E-D82F-479D-BFDF-4C37114B47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83A91-B38B-45E4-99FC-049D3DFDB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F6737-770D-498F-A815-51B9F34B8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BC6D-9C10-43FE-81A5-E1DCDB3BA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B728-00AA-4AD6-9C56-2FCAEFB243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9EB8B-C7AD-4FC4-9226-AF474A57FA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2270-7ADC-46FF-8541-03E44E965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6080" cy="6845400"/>
            <a:chOff x="0" y="0"/>
            <a:chExt cx="9136080" cy="6845400"/>
          </a:xfrm>
        </p:grpSpPr>
        <p:grpSp>
          <p:nvGrpSpPr>
            <p:cNvPr id="1" name="Group 2"/>
            <p:cNvGrpSpPr/>
            <p:nvPr/>
          </p:nvGrpSpPr>
          <p:grpSpPr>
            <a:xfrm>
              <a:off x="2743200" y="3540240"/>
              <a:ext cx="6388200" cy="3305160"/>
              <a:chOff x="2743200" y="3540240"/>
              <a:chExt cx="6388200" cy="3305160"/>
            </a:xfrm>
          </p:grpSpPr>
          <p:sp>
            <p:nvSpPr>
              <p:cNvPr id="2" name="AutoShape 3"/>
              <p:cNvSpPr/>
              <p:nvPr/>
            </p:nvSpPr>
            <p:spPr>
              <a:xfrm>
                <a:off x="2743200" y="4197240"/>
                <a:ext cx="4570560" cy="2648160"/>
              </a:xfrm>
              <a:custGeom>
                <a:avLst/>
                <a:gdLst>
                  <a:gd name="textAreaLeft" fmla="*/ 0 w 4570560"/>
                  <a:gd name="textAreaRight" fmla="*/ 4570920 w 4570560"/>
                  <a:gd name="textAreaTop" fmla="*/ 0 h 2648160"/>
                  <a:gd name="textAreaBottom" fmla="*/ 2648160 h 264816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" name="AutoShape 4"/>
              <p:cNvSpPr/>
              <p:nvPr/>
            </p:nvSpPr>
            <p:spPr>
              <a:xfrm>
                <a:off x="6620040" y="4240080"/>
                <a:ext cx="1993680" cy="128268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2680"/>
                  <a:gd name="textAreaBottom" fmla="*/ 1283040 h 128268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" name="AutoShape 5"/>
              <p:cNvSpPr/>
              <p:nvPr/>
            </p:nvSpPr>
            <p:spPr>
              <a:xfrm>
                <a:off x="4603680" y="5311800"/>
                <a:ext cx="4518000" cy="1533600"/>
              </a:xfrm>
              <a:custGeom>
                <a:avLst/>
                <a:gdLst>
                  <a:gd name="textAreaLeft" fmla="*/ 0 w 4518000"/>
                  <a:gd name="textAreaRight" fmla="*/ 4518360 w 4518000"/>
                  <a:gd name="textAreaTop" fmla="*/ 0 h 1533600"/>
                  <a:gd name="textAreaBottom" fmla="*/ 1533960 h 153360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a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AutoShape 6"/>
              <p:cNvSpPr/>
              <p:nvPr/>
            </p:nvSpPr>
            <p:spPr>
              <a:xfrm>
                <a:off x="4362480" y="3540240"/>
                <a:ext cx="4768920" cy="3305160"/>
              </a:xfrm>
              <a:custGeom>
                <a:avLst/>
                <a:gdLst>
                  <a:gd name="textAreaLeft" fmla="*/ 0 w 4768920"/>
                  <a:gd name="textAreaRight" fmla="*/ 4769280 w 4768920"/>
                  <a:gd name="textAreaTop" fmla="*/ 0 h 3305160"/>
                  <a:gd name="textAreaBottom" fmla="*/ 3305520 h 330516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AutoShape 7"/>
              <p:cNvSpPr/>
              <p:nvPr/>
            </p:nvSpPr>
            <p:spPr>
              <a:xfrm>
                <a:off x="7145280" y="3678120"/>
                <a:ext cx="1976400" cy="851040"/>
              </a:xfrm>
              <a:custGeom>
                <a:avLst/>
                <a:gdLst>
                  <a:gd name="textAreaLeft" fmla="*/ 0 w 1976400"/>
                  <a:gd name="textAreaRight" fmla="*/ 1976760 w 1976400"/>
                  <a:gd name="textAreaTop" fmla="*/ 0 h 851040"/>
                  <a:gd name="textAreaBottom" fmla="*/ 851400 h 85104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" name="AutoShape 8"/>
            <p:cNvSpPr/>
            <p:nvPr/>
          </p:nvSpPr>
          <p:spPr>
            <a:xfrm>
              <a:off x="5273640" y="2128680"/>
              <a:ext cx="2892600" cy="2435400"/>
            </a:xfrm>
            <a:custGeom>
              <a:avLst/>
              <a:gdLst>
                <a:gd name="textAreaLeft" fmla="*/ 0 w 2892600"/>
                <a:gd name="textAreaRight" fmla="*/ 2892960 w 2892600"/>
                <a:gd name="textAreaTop" fmla="*/ 0 h 2435400"/>
                <a:gd name="textAreaBottom" fmla="*/ 2435760 h 243540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0" y="0"/>
              <a:ext cx="9136080" cy="2814480"/>
            </a:xfrm>
            <a:custGeom>
              <a:avLst/>
              <a:gdLst>
                <a:gd name="textAreaLeft" fmla="*/ 0 w 9136080"/>
                <a:gd name="textAreaRight" fmla="*/ 9136440 w 9136080"/>
                <a:gd name="textAreaTop" fmla="*/ 0 h 2814480"/>
                <a:gd name="textAreaBottom" fmla="*/ 2814840 h 281448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0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Text Box 12"/>
          <p:cNvSpPr/>
          <p:nvPr/>
        </p:nvSpPr>
        <p:spPr>
          <a:xfrm>
            <a:off x="4572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Text Box 13"/>
          <p:cNvSpPr/>
          <p:nvPr/>
        </p:nvSpPr>
        <p:spPr>
          <a:xfrm>
            <a:off x="3124080" y="6249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sldNum" idx="1"/>
          </p:nvPr>
        </p:nvSpPr>
        <p:spPr>
          <a:xfrm>
            <a:off x="6553080" y="625320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F70F9C-8A8E-41B5-BFC9-E78FB7E54A9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5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81BEC9-EB35-455D-83CE-03E891E18B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684360" y="291960"/>
            <a:ext cx="8208720" cy="29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aramond"/>
              </a:rPr>
              <a:t>Урок письма в 7 классе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606600" y="2932200"/>
            <a:ext cx="798984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Тема урока: Деловое письмо. Телеграм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Учитель:   Селезнева Любовь Валерьевн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2017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"/>
          <p:cNvPicPr/>
          <p:nvPr/>
        </p:nvPicPr>
        <p:blipFill>
          <a:blip r:embed="rId1"/>
          <a:stretch/>
        </p:blipFill>
        <p:spPr>
          <a:xfrm>
            <a:off x="-2124000" y="-458640"/>
            <a:ext cx="12995280" cy="85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6984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Вопрос: какие средства связи людей друг с другом вы знает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684360" y="5516640"/>
            <a:ext cx="647640" cy="8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539640" y="1125360"/>
            <a:ext cx="1666800" cy="1874880"/>
            <a:chOff x="539640" y="1125360"/>
            <a:chExt cx="1666800" cy="1874880"/>
          </a:xfrm>
        </p:grpSpPr>
        <p:pic>
          <p:nvPicPr>
            <p:cNvPr id="107" name="Picture 4" descr=""/>
            <p:cNvPicPr/>
            <p:nvPr/>
          </p:nvPicPr>
          <p:blipFill>
            <a:blip r:embed="rId1"/>
            <a:stretch/>
          </p:blipFill>
          <p:spPr>
            <a:xfrm>
              <a:off x="610920" y="1196640"/>
              <a:ext cx="159552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5"/>
            <p:cNvSpPr/>
            <p:nvPr/>
          </p:nvSpPr>
          <p:spPr>
            <a:xfrm>
              <a:off x="539640" y="1125360"/>
              <a:ext cx="1595520" cy="18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09" name="AutoShape 6"/>
          <p:cNvSpPr/>
          <p:nvPr/>
        </p:nvSpPr>
        <p:spPr>
          <a:xfrm>
            <a:off x="2700360" y="1413000"/>
            <a:ext cx="2266920" cy="1133280"/>
          </a:xfrm>
          <a:custGeom>
            <a:avLst/>
            <a:gdLst>
              <a:gd name="textAreaLeft" fmla="*/ 556560 w 2266920"/>
              <a:gd name="textAreaRight" fmla="*/ 1837080 w 2266920"/>
              <a:gd name="textAreaTop" fmla="*/ 483480 h 1133280"/>
              <a:gd name="textAreaBottom" fmla="*/ 964440 h 1133280"/>
            </a:gdLst>
            <a:ahLst/>
            <a:rect l="textAreaLeft" t="textAreaTop" r="textAreaRight" b="textAreaBottom"/>
            <a:pathLst>
              <a:path w="21600" h="21600">
                <a:moveTo>
                  <a:pt x="14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14" y="21628"/>
                </a:lnTo>
                <a:lnTo>
                  <a:pt x="14" y="0"/>
                </a:lnTo>
                <a:close/>
              </a:path>
              <a:path w="21600" h="21600">
                <a:moveTo>
                  <a:pt x="18476" y="2035"/>
                </a:moveTo>
                <a:lnTo>
                  <a:pt x="20539" y="2035"/>
                </a:lnTo>
                <a:lnTo>
                  <a:pt x="20539" y="6559"/>
                </a:lnTo>
                <a:lnTo>
                  <a:pt x="18476" y="6559"/>
                </a:lnTo>
                <a:lnTo>
                  <a:pt x="18476" y="2035"/>
                </a:lnTo>
                <a:close/>
              </a:path>
              <a:path w="21600" h="21600">
                <a:moveTo>
                  <a:pt x="884" y="2092"/>
                </a:moveTo>
                <a:lnTo>
                  <a:pt x="7425" y="2092"/>
                </a:lnTo>
                <a:lnTo>
                  <a:pt x="7425" y="2770"/>
                </a:lnTo>
                <a:lnTo>
                  <a:pt x="884" y="2770"/>
                </a:lnTo>
                <a:lnTo>
                  <a:pt x="884" y="2092"/>
                </a:lnTo>
                <a:close/>
              </a:path>
              <a:path w="21600" h="21600">
                <a:moveTo>
                  <a:pt x="884" y="3109"/>
                </a:moveTo>
                <a:lnTo>
                  <a:pt x="7425" y="3109"/>
                </a:lnTo>
                <a:lnTo>
                  <a:pt x="7425" y="3788"/>
                </a:lnTo>
                <a:lnTo>
                  <a:pt x="884" y="3788"/>
                </a:lnTo>
                <a:lnTo>
                  <a:pt x="884" y="3109"/>
                </a:lnTo>
                <a:close/>
              </a:path>
              <a:path w="21600" h="21600">
                <a:moveTo>
                  <a:pt x="884" y="4127"/>
                </a:moveTo>
                <a:lnTo>
                  <a:pt x="7425" y="4127"/>
                </a:lnTo>
                <a:lnTo>
                  <a:pt x="7425" y="4806"/>
                </a:lnTo>
                <a:lnTo>
                  <a:pt x="884" y="4806"/>
                </a:lnTo>
                <a:lnTo>
                  <a:pt x="884" y="4127"/>
                </a:lnTo>
                <a:close/>
              </a:path>
              <a:path w="21600" h="21600">
                <a:moveTo>
                  <a:pt x="5127" y="5145"/>
                </a:moveTo>
                <a:lnTo>
                  <a:pt x="7425" y="5145"/>
                </a:lnTo>
                <a:lnTo>
                  <a:pt x="7425" y="5824"/>
                </a:lnTo>
                <a:lnTo>
                  <a:pt x="5127" y="5824"/>
                </a:lnTo>
                <a:lnTo>
                  <a:pt x="5127" y="5145"/>
                </a:lnTo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/>
          <a:stretch/>
        </p:blipFill>
        <p:spPr>
          <a:xfrm>
            <a:off x="6659640" y="981000"/>
            <a:ext cx="11239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512720" cy="17272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3"/>
          <p:cNvSpPr/>
          <p:nvPr/>
        </p:nvSpPr>
        <p:spPr>
          <a:xfrm>
            <a:off x="539640" y="2967120"/>
            <a:ext cx="172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т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л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фон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Прямоугольник 14"/>
          <p:cNvSpPr/>
          <p:nvPr/>
        </p:nvSpPr>
        <p:spPr>
          <a:xfrm>
            <a:off x="2843280" y="296712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п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ьм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Прямоугольник 16"/>
          <p:cNvSpPr/>
          <p:nvPr/>
        </p:nvSpPr>
        <p:spPr>
          <a:xfrm>
            <a:off x="6875640" y="299736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рац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Прямоугольник 17"/>
          <p:cNvSpPr/>
          <p:nvPr/>
        </p:nvSpPr>
        <p:spPr>
          <a:xfrm>
            <a:off x="1116000" y="501336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с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гнальные фл</a:t>
            </a:r>
            <a:r>
              <a:rPr b="1" lang="ru-RU" sz="2400" spc="-1" strike="noStrike">
                <a:solidFill>
                  <a:srgbClr val="ff0000"/>
                </a:solidFill>
                <a:latin typeface="Garamond"/>
              </a:rPr>
              <a:t>аж</a:t>
            </a: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азбука морзе – сигнал бедствия (www.petamusic.ru).mp3" descr=""/>
          <p:cNvPicPr/>
          <p:nvPr/>
        </p:nvPicPr>
        <p:blipFill>
          <a:blip r:embed="rId4"/>
          <a:stretch/>
        </p:blipFill>
        <p:spPr>
          <a:xfrm>
            <a:off x="6197760" y="3927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3"/>
          <p:cNvSpPr/>
          <p:nvPr/>
        </p:nvSpPr>
        <p:spPr>
          <a:xfrm>
            <a:off x="5219640" y="5332320"/>
            <a:ext cx="24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азбука </a:t>
            </a:r>
            <a:r>
              <a:rPr b="1" lang="ru-RU" sz="2800" spc="-1" strike="noStrike">
                <a:solidFill>
                  <a:srgbClr val="ff0000"/>
                </a:solidFill>
                <a:latin typeface="Garamond"/>
              </a:rPr>
              <a:t>М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орз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Рисунок 18" descr=""/>
          <p:cNvPicPr/>
          <p:nvPr/>
        </p:nvPicPr>
        <p:blipFill>
          <a:blip r:embed="rId5"/>
          <a:stretch/>
        </p:blipFill>
        <p:spPr>
          <a:xfrm>
            <a:off x="108000" y="5218200"/>
            <a:ext cx="1905120" cy="1762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9" descr=""/>
          <p:cNvPicPr/>
          <p:nvPr/>
        </p:nvPicPr>
        <p:blipFill>
          <a:blip r:embed="rId6"/>
          <a:stretch/>
        </p:blipFill>
        <p:spPr>
          <a:xfrm>
            <a:off x="4302000" y="1415880"/>
            <a:ext cx="4157640" cy="5150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Задание:  Разгадайте ребус и вы определите тему нашего уро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-930600" y="2117880"/>
            <a:ext cx="3695760" cy="3585960"/>
            <a:chOff x="-930600" y="2117880"/>
            <a:chExt cx="3695760" cy="358596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-606240" y="2462040"/>
              <a:ext cx="3050640" cy="289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 rot="20700000">
              <a:off x="-607680" y="2463120"/>
              <a:ext cx="3050280" cy="28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4643280" y="2781360"/>
            <a:ext cx="1827360" cy="22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3"/>
          <a:stretch/>
        </p:blipFill>
        <p:spPr>
          <a:xfrm>
            <a:off x="6516720" y="2924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 rot="10800000">
            <a:off x="1907640" y="4154040"/>
            <a:ext cx="3812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WordArt 8"/>
          <p:cNvSpPr txBox="1"/>
          <p:nvPr/>
        </p:nvSpPr>
        <p:spPr>
          <a:xfrm rot="10800000">
            <a:off x="2123640" y="4154040"/>
            <a:ext cx="38124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WordArt 9"/>
          <p:cNvSpPr txBox="1"/>
          <p:nvPr/>
        </p:nvSpPr>
        <p:spPr>
          <a:xfrm rot="10800000">
            <a:off x="1619280" y="4154040"/>
            <a:ext cx="3808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WordArt 10"/>
          <p:cNvSpPr txBox="1"/>
          <p:nvPr/>
        </p:nvSpPr>
        <p:spPr>
          <a:xfrm rot="10800000">
            <a:off x="6516720" y="1848960"/>
            <a:ext cx="380880" cy="11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162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162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WordArt 11"/>
          <p:cNvSpPr txBox="1"/>
          <p:nvPr/>
        </p:nvSpPr>
        <p:spPr>
          <a:xfrm>
            <a:off x="8532720" y="2133720"/>
            <a:ext cx="4190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cap="sq" w="9360">
                  <a:solidFill>
                    <a:srgbClr val="a886e0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9999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cap="sq" w="9360">
                <a:solidFill>
                  <a:srgbClr val="a886e0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9999ff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8459640" y="2205000"/>
            <a:ext cx="468360" cy="647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3"/>
          <p:cNvSpPr/>
          <p:nvPr/>
        </p:nvSpPr>
        <p:spPr>
          <a:xfrm flipH="1">
            <a:off x="8528040" y="2133720"/>
            <a:ext cx="441360" cy="647640"/>
          </a:xfrm>
          <a:prstGeom prst="line">
            <a:avLst/>
          </a:prstGeom>
          <a:ln cap="sq"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WordArt 14"/>
          <p:cNvSpPr txBox="1"/>
          <p:nvPr/>
        </p:nvSpPr>
        <p:spPr>
          <a:xfrm>
            <a:off x="2556000" y="3213000"/>
            <a:ext cx="1380960" cy="13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7676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7676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34" name="Прямоугольник 15"/>
          <p:cNvSpPr/>
          <p:nvPr/>
        </p:nvSpPr>
        <p:spPr>
          <a:xfrm>
            <a:off x="1476360" y="5229360"/>
            <a:ext cx="62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Т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л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гра</a:t>
            </a: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мм</a:t>
            </a: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50760" y="-71280"/>
            <a:ext cx="855360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aramond"/>
              </a:rPr>
              <a:t>Словарная работа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Телеграмма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-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слово греческое.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Состоит из 2-х частей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теле-</a:t>
            </a:r>
            <a:r>
              <a:rPr b="1" lang="ru-RU" sz="5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далеко и   </a:t>
            </a:r>
            <a:r>
              <a:rPr b="1" lang="ru-RU" sz="5400" spc="-1" strike="noStrike">
                <a:solidFill>
                  <a:srgbClr val="ff0000"/>
                </a:solidFill>
                <a:latin typeface="Garamond"/>
              </a:rPr>
              <a:t>грамма-</a:t>
            </a:r>
            <a:r>
              <a:rPr b="1" lang="ru-RU" sz="4000" spc="-1" strike="noStrike">
                <a:solidFill>
                  <a:srgbClr val="000000"/>
                </a:solidFill>
                <a:latin typeface="Garamond"/>
              </a:rPr>
              <a:t> запись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457200" y="264168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8040"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Вопросы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70c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Как пишется текст телеграммы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000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buClr>
                <a:srgbClr val="0070c0"/>
              </a:buClr>
              <a:buFont typeface="Garamond"/>
              <a:buAutoNum type="arabicPeriod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Что сообщается в телеграмме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Garamond"/>
              </a:rPr>
              <a:t>3.Что не пишется в телеграмме?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457200" y="2565360"/>
            <a:ext cx="822960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aramond"/>
              </a:rPr>
              <a:t>Запишите в тетрадь требования к заполнению телеграмм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1.Текст пишется кратко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2. Сообщается только главно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8040" indent="-338040">
              <a:spcBef>
                <a:spcPts val="601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aramond"/>
              </a:rPr>
              <a:t>3.Пропускаются знаки препинания , предлоги,   местоимени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7:34:04Z</dcterms:created>
  <dc:creator>Учитель</dc:creator>
  <dc:description/>
  <dc:language>en-US</dc:language>
  <cp:lastModifiedBy>смит</cp:lastModifiedBy>
  <dcterms:modified xsi:type="dcterms:W3CDTF">2017-10-12T09:24:40Z</dcterms:modified>
  <cp:revision>76</cp:revision>
  <dc:subject/>
  <dc:title>Урок русского языка</dc:title>
</cp:coreProperties>
</file>