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83D4-E2DA-4D57-918F-E9BFC2D3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B14F-B5CF-4D48-84AD-E9496F03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D9EF-5F70-4818-A0BD-4F1FACFA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8B77-9669-41C8-9826-074C9FF7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88D4-AD04-45A0-9A65-6491494A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0E96-1156-439A-BDC3-861D2C16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BB04-A13C-47F6-90ED-34C4BA5A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A105-FCD4-4F00-AC8C-65D8D836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1931-EA55-4CCD-9C55-52E18872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39A1-03F7-4CD3-92F2-EFF76DED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05F8-6952-402A-9D0D-FE5AF499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B129-D053-43DE-ADD6-47B5FCDC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BBAF-EC66-4E50-99EC-91968F71D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38120" y="2130120"/>
            <a:ext cx="4419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Древнерусская литерату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19360" y="3886200"/>
            <a:ext cx="3352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Особенности литературы русского средневек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4114800"/>
            <a:ext cx="320040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335268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«Вот повести минувших лет, откуда пошла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Русская земля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, кто в Киеве стал первым княжить и как возникла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Русская земля»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ное наз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3962520"/>
            <a:ext cx="457200" cy="11430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2160" y="274320"/>
            <a:ext cx="47242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озникновение литературы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988г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ещение Рус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_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столе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3962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нятие христианств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 Византии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ладимир Святославич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Красное Солнышко)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ПИСЬМЕН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426708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2286000"/>
            <a:ext cx="6098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ля Руси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крещение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тольк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ристианская религия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но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исьменность + литература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Особенности древнерусск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ование в рамках рукописной трад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а авто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онимность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нро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Жанры древнерусск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то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покриф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Летописи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евнейший жанр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лето (год) + писание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ронологическое описание исторических событий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адиционный зачин – «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 ЛЕТ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4114800"/>
            <a:ext cx="533520" cy="914400"/>
          </a:xfrm>
          <a:prstGeom prst="downArrow">
            <a:avLst>
              <a:gd name="adj1" fmla="val 50000"/>
              <a:gd name="adj2" fmla="val 428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2438280"/>
            <a:ext cx="533160" cy="838440"/>
          </a:xfrm>
          <a:prstGeom prst="downArrow">
            <a:avLst>
              <a:gd name="adj1" fmla="val 50000"/>
              <a:gd name="adj2" fmla="val 393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Лето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оначальная 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хранение исторической памя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к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ичего, кроме н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2209680"/>
            <a:ext cx="76176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342900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743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Повесть временных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76720" y="1752480"/>
            <a:ext cx="541008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«Первый Киевско-Печерский свод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ах Никон. 70-е г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оложил исторические пре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го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«Второй Киевско-Печерский свод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 неизвестен. 1095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Монах Нестор создаёт первоначальную    редакцию «Повести временных л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2895480" cy="2209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26672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8T20:54:45Z</dcterms:created>
  <dc:creator>1</dc:creator>
  <dc:description/>
  <dc:language>en-US</dc:language>
  <cp:lastModifiedBy>Лоскутова</cp:lastModifiedBy>
  <dcterms:modified xsi:type="dcterms:W3CDTF">2014-11-18T22:23:1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