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8C9D-80AF-46BB-9DD4-6DE08083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2481-0299-4B83-AA7B-6C1A98BB5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7E0-8729-47B8-BB15-560740A1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73A6-42F9-4FF4-8B56-D3CDE9E8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78A1-6D3A-4E8A-BF03-74FA22A3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A3D-40E8-4E3D-A277-5073E0D59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6F68-FF25-4133-89A2-84F99CFE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6BD-AD62-4143-9272-8EB56EA61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0D5-A190-482A-9F09-4AD947360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826-92D7-4259-AD75-66433383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B480-302D-4AA2-B005-23AF502A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9D07-0071-44BF-BFF4-69D93DE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36C3-692C-4468-A911-5F33D1736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38120" y="2130120"/>
            <a:ext cx="4419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Древнерусская литератур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19360" y="388620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Особенности литературы русского средневек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280" y="4114800"/>
            <a:ext cx="3200400" cy="228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3520" y="380880"/>
            <a:ext cx="3352680" cy="32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«Вот повести минувших лет, откуда пошла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Русская земля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, кто в Киеве стал первым княжить и как возникла </a:t>
            </a:r>
            <a:r>
              <a:rPr b="0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Русская земля»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ное наз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396252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2160" y="274320"/>
            <a:ext cx="47242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зникновение литературы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88г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ещение Рус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XVII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столе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нятие христианств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 Византии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ладимир Святославич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Красное Солнышко)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ПИСЬМЕН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4267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2286000"/>
            <a:ext cx="6098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ля Руси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крещение 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тольк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ристианская религия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о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исьменность + литература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Особенности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ществование в рамках рукописной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блема авто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онимность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анров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Жанры древнерусской литерат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окри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Летописи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нейший жанр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лето (год) + писание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нологическое описание исторических событий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адиционный зачин – «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ЛЕ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4114800"/>
            <a:ext cx="533520" cy="914400"/>
          </a:xfrm>
          <a:prstGeom prst="downArrow">
            <a:avLst>
              <a:gd name="adj1" fmla="val 50000"/>
              <a:gd name="adj2" fmla="val 428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438280"/>
            <a:ext cx="533160" cy="838440"/>
          </a:xfrm>
          <a:prstGeom prst="downArrow">
            <a:avLst>
              <a:gd name="adj1" fmla="val 50000"/>
              <a:gd name="adj2" fmla="val 39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Лет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оначальная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хранение исторической памя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кт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ничего, кроме 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2209680"/>
            <a:ext cx="76176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3429000"/>
            <a:ext cx="8380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743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Повесть временных 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76720" y="1752480"/>
            <a:ext cx="541008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Первый Киевско-Печерский св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ах Никон. 70-е г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оложил исторические пре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го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«Второй Киевско-Печерский свод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 неизвестен. 109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Монах Нестор создаёт первоначальную    редакцию «Повести временных ле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89548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52280" y="304920"/>
            <a:ext cx="2667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8T20:54:45Z</dcterms:created>
  <dc:creator>1</dc:creator>
  <dc:description/>
  <dc:language>en-US</dc:language>
  <cp:lastModifiedBy>Лоскутова</cp:lastModifiedBy>
  <dcterms:modified xsi:type="dcterms:W3CDTF">2014-11-18T22:23:1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