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10.png" ContentType="image/png"/>
  <Override PartName="/ppt/media/image27.png" ContentType="image/png"/>
  <Override PartName="/ppt/media/image1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85905-2483-4569-A2EF-84061F9AAD2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2DF77-9173-4155-8E0B-4391E2A9C8B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F2CA-BD1C-4F6A-8DB6-966600278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B535-3C58-4C5A-B68D-2E9C4F027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13EBAD-322E-400A-A76F-25BF8B821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520A6C-C7AA-48EF-AD05-BC385EC8D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812FEF-E9D5-440B-B849-900850532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76463B-BD38-4633-BBE9-704D8EBF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084EE1-F510-4439-9284-FB906A48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EB3566-BE90-4571-9B8E-E09D3493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531DF2-134B-42FE-9AC6-A7306297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57C8E9-4708-416A-90E7-60F6D466B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2ED61F-97FC-4533-9369-62ECED8E8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4143-C6A9-49CE-93A2-AC494670E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3F94-F22B-40D2-8092-CD91A5501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96D74-61A2-4D4D-B65B-91DC72703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0F206-DA16-479A-8075-DB3E2B1B5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F8C7A-74CA-457F-BE58-9A909181C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396F0-5C7B-4FD2-A681-0E6B82E93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65326-CD14-4755-B44B-A272EE9E4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81F1E-FFE9-4300-84BB-760B3E98D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53BC5-0565-46DC-B989-E27820CE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0BE3-C151-44B9-9328-6B36BC757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9941C-12E7-4AEE-8E59-144F994F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0E1D1-91B9-4ED9-9F1C-62A2086C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D2684-8BDD-4E05-8972-35D072566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4B6B0-D657-4319-82D3-6D7AACA0F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81EB2-0B4B-45AA-B747-DAC23C98E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8567D-80B0-48CB-B65D-9281E3B31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A58F9-9045-459B-BF4C-59BF031FC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30727-A9F4-4567-9529-415004B44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380B9-FD52-42DD-827C-66CACAB7B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45F2D-C5B8-4238-AEFB-8F12CE4F5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7379-62B4-4E55-88DC-2A2D72DB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7EF9E-138D-40E0-A227-A35E846EF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D1A00-F09C-4A5A-AE2F-A3326476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1CA2E-4E55-4614-B620-1740BA1A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2C034-EDF5-41AA-AFE2-870657F0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08925-E3FC-49B6-865E-A2DD04B85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6B3C2-AD0B-45D2-B9E8-D6E4C242B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7759C-41DE-4071-BDAE-9EB9767B5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B9E56-1F83-4F66-909D-4211DD99F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C7C87-5A12-4886-9BFB-15A08F71B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D9A02-81F5-4071-AAA4-967F6CAD3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9398-FE91-4824-8880-BEAE6CF73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683D3-A8BE-4E25-B47E-2BF49F9D0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75397-422A-4B10-9D6D-B71307D11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70A9F-9354-4670-A8CA-B3DB63CFF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FBF5C-AE8D-4497-AB1B-31EE903B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801D8-0897-4A4D-BE74-FCA4FA6D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4389E-B2F2-4B6D-AB51-9BF6ECA7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502EF-6E94-4410-A76F-968B6A56D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CBD01-33AA-445F-A0BA-CB59E2541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30A30A-539B-472E-AF60-2842A047A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4E50A-B082-40BD-854E-42D82553C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EBB2-B841-4999-8361-8E6AA9038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F1F09-7BEE-440C-A5DC-B64C52EDD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DB354-C789-48C8-94BA-A1C3A7B66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416D0-9E8A-4120-BC00-A9E3FB4BE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A2B9F-38AC-459C-872A-9B33382C3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30D95-28C7-4020-89A6-E60608CE1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9CC52-C73C-4149-86A4-24DD27AE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BF9C06-5DD2-4ABF-96AB-8F6131F8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C4A8B-2E6C-49D5-8762-7C94413D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800C2-1509-40AF-BFE1-841625C84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D44C2-90D9-4BF8-B4AB-C012810BC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B80E-3418-41FD-A6AE-25B93E1B7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63394-5DF8-4A3F-9191-791668CD7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D80D2-E528-4D0D-93B6-4B43CA86D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66196-3A8D-4BE6-B9F8-5796D7529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51241-2AF3-4FB9-A5DD-EDD51CDC2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69063-793E-4481-B91C-5B689BF77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DC630-43B8-420E-9936-A04729D25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D5EA4-2DF0-4604-8EC9-DE437DC40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57B55-2E1F-4DC1-B09C-8249554F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0CF17-FC07-4402-BE24-0CD41285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C2F73-AEE2-43C9-A5F2-5E698BB3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B236-B98E-4289-8967-4680513F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A0A2A0-B1D5-4D4E-8C5F-8E80795A5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7086B5-44F7-41A8-B5A1-66B92AF27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39086-322A-4484-85CA-B6A576988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DC8034-43D9-4113-9891-C9667BFB1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C675D-A9C8-4302-A8B5-52F02969D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C31F07-7478-4C3B-BA34-932AE261E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73633B-1562-4376-8AB6-E15942826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0D562C-5194-4243-99C2-F3986C60B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C51E1A-3F0B-4981-B50D-BB76BBBE4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B16F69-1CE3-45EC-88AD-C284B892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7B73-25F5-4083-9518-07C2FD91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F0983-C04A-413D-B203-77CD458F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2129E4-D32C-4F72-88F4-4C0EEBF0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DDAB09-BF32-4E5E-8850-2A142623F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27DED5-3D2C-4867-AAB2-F4BBAB4AE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183B1E-9597-4406-AE40-C55B47EA4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D46F3F-BBAA-4D34-B6B1-016F80CB5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FF679D-0B4E-443F-B03D-AD29AFCE9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019310-1AE9-4B77-8C56-48D2DD9DE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6111DA-2E70-454D-A569-7C89A9CA7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1E97E8-BA0D-4A09-9FBD-1DD012E14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5B31-6855-4BB7-A5AE-3BBEDD2A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C7B434-DB7F-4DB1-9E52-06D370665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4CE0CB-05A2-4957-B395-D49D36B8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F4887B-6AEF-43EC-808E-E9AA1386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3C7F9-EE4E-4C2D-A9C8-CE8B1E5A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5EA5A8-B2EE-42CC-A0C6-1E05B314C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D87636-2093-4E5A-967E-117CC10D9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258680-8CB9-4F52-978D-37ECD1A63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F0BEED-4338-486B-B651-150805484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0FC0E7-68FC-4FCC-8D5D-AD53DCE75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10F2DF-EA87-4913-A9F2-8A240C816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60FF6-D4F4-4B1C-843C-A3BDBC452A7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52FF4-22FB-4C07-BA2E-FAEF1296917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E9F3D-20AA-45B4-BCFE-A1E8C2C0C49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97797-E871-4544-A617-8BFD9A4BC9C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319BB-AE73-4214-B1D4-6B4078CF752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ED14B-EC64-439D-8DC4-2520E21CED8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A42B5-FB61-4172-B766-21683600175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7986-FFBC-4AC6-85A9-D4743D9911B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39BDF-4E0C-498C-A057-BA73CB55767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image" Target="../media/image20.png"/><Relationship Id="rId18" Type="http://schemas.openxmlformats.org/officeDocument/2006/relationships/slideLayout" Target="../slideLayouts/slideLayout25.xml"/><Relationship Id="rId1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6.png"/><Relationship Id="rId11" Type="http://schemas.openxmlformats.org/officeDocument/2006/relationships/image" Target="../media/image25.png"/><Relationship Id="rId12" Type="http://schemas.openxmlformats.org/officeDocument/2006/relationships/image" Target="../media/image27.png"/><Relationship Id="rId1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4442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" descr="1"/>
          <p:cNvPicPr/>
          <p:nvPr/>
        </p:nvPicPr>
        <p:blipFill>
          <a:blip r:embed="rId2"/>
          <a:stretch/>
        </p:blipFill>
        <p:spPr>
          <a:xfrm>
            <a:off x="4214880" y="642960"/>
            <a:ext cx="1147680" cy="10000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" descr="1"/>
          <p:cNvPicPr/>
          <p:nvPr/>
        </p:nvPicPr>
        <p:blipFill>
          <a:blip r:embed="rId3"/>
          <a:stretch/>
        </p:blipFill>
        <p:spPr>
          <a:xfrm>
            <a:off x="5429160" y="5143680"/>
            <a:ext cx="1182600" cy="103176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" descr="1"/>
          <p:cNvPicPr/>
          <p:nvPr/>
        </p:nvPicPr>
        <p:blipFill>
          <a:blip r:embed="rId4"/>
          <a:stretch/>
        </p:blipFill>
        <p:spPr>
          <a:xfrm>
            <a:off x="7215120" y="3571920"/>
            <a:ext cx="1182600" cy="10256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4" descr="1"/>
          <p:cNvPicPr/>
          <p:nvPr/>
        </p:nvPicPr>
        <p:blipFill>
          <a:blip r:embed="rId5"/>
          <a:stretch/>
        </p:blipFill>
        <p:spPr>
          <a:xfrm>
            <a:off x="357120" y="2286000"/>
            <a:ext cx="1182600" cy="10256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5" descr="1"/>
          <p:cNvPicPr/>
          <p:nvPr/>
        </p:nvPicPr>
        <p:blipFill>
          <a:blip r:embed="rId6"/>
          <a:stretch/>
        </p:blipFill>
        <p:spPr>
          <a:xfrm>
            <a:off x="7143840" y="2214720"/>
            <a:ext cx="1182600" cy="102528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6" descr="1"/>
          <p:cNvPicPr/>
          <p:nvPr/>
        </p:nvPicPr>
        <p:blipFill>
          <a:blip r:embed="rId7"/>
          <a:stretch/>
        </p:blipFill>
        <p:spPr>
          <a:xfrm>
            <a:off x="357120" y="5357880"/>
            <a:ext cx="1182600" cy="10252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7" descr="1"/>
          <p:cNvPicPr/>
          <p:nvPr/>
        </p:nvPicPr>
        <p:blipFill>
          <a:blip r:embed="rId8"/>
          <a:stretch/>
        </p:blipFill>
        <p:spPr>
          <a:xfrm>
            <a:off x="357120" y="3571920"/>
            <a:ext cx="1182600" cy="10256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8" descr="1"/>
          <p:cNvPicPr/>
          <p:nvPr/>
        </p:nvPicPr>
        <p:blipFill>
          <a:blip r:embed="rId9"/>
          <a:stretch/>
        </p:blipFill>
        <p:spPr>
          <a:xfrm>
            <a:off x="3714840" y="3571920"/>
            <a:ext cx="1182600" cy="102564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9" descr="1"/>
          <p:cNvPicPr/>
          <p:nvPr/>
        </p:nvPicPr>
        <p:blipFill>
          <a:blip r:embed="rId10"/>
          <a:stretch/>
        </p:blipFill>
        <p:spPr>
          <a:xfrm>
            <a:off x="7143840" y="5143680"/>
            <a:ext cx="1182600" cy="10252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0" descr="1"/>
          <p:cNvPicPr/>
          <p:nvPr/>
        </p:nvPicPr>
        <p:blipFill>
          <a:blip r:embed="rId11"/>
          <a:stretch/>
        </p:blipFill>
        <p:spPr>
          <a:xfrm>
            <a:off x="2000160" y="2357280"/>
            <a:ext cx="1182600" cy="10256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11" descr="1"/>
          <p:cNvPicPr/>
          <p:nvPr/>
        </p:nvPicPr>
        <p:blipFill>
          <a:blip r:embed="rId12"/>
          <a:stretch/>
        </p:blipFill>
        <p:spPr>
          <a:xfrm>
            <a:off x="3714840" y="2214720"/>
            <a:ext cx="1182600" cy="10252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2" descr="1"/>
          <p:cNvPicPr/>
          <p:nvPr/>
        </p:nvPicPr>
        <p:blipFill>
          <a:blip r:embed="rId13"/>
          <a:stretch/>
        </p:blipFill>
        <p:spPr>
          <a:xfrm>
            <a:off x="2000160" y="5286240"/>
            <a:ext cx="1182600" cy="10256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3" descr="1"/>
          <p:cNvPicPr/>
          <p:nvPr/>
        </p:nvPicPr>
        <p:blipFill>
          <a:blip r:embed="rId14"/>
          <a:stretch/>
        </p:blipFill>
        <p:spPr>
          <a:xfrm>
            <a:off x="2000160" y="3643200"/>
            <a:ext cx="1182600" cy="1025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4" descr="1"/>
          <p:cNvPicPr/>
          <p:nvPr/>
        </p:nvPicPr>
        <p:blipFill>
          <a:blip r:embed="rId15"/>
          <a:stretch/>
        </p:blipFill>
        <p:spPr>
          <a:xfrm>
            <a:off x="3714840" y="5214960"/>
            <a:ext cx="1182600" cy="10256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5" descr="1"/>
          <p:cNvPicPr/>
          <p:nvPr/>
        </p:nvPicPr>
        <p:blipFill>
          <a:blip r:embed="rId16"/>
          <a:stretch/>
        </p:blipFill>
        <p:spPr>
          <a:xfrm>
            <a:off x="5429160" y="3571920"/>
            <a:ext cx="1182600" cy="10256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1"/>
          <p:cNvPicPr/>
          <p:nvPr/>
        </p:nvPicPr>
        <p:blipFill>
          <a:blip r:embed="rId17"/>
          <a:stretch/>
        </p:blipFill>
        <p:spPr>
          <a:xfrm>
            <a:off x="5429160" y="2214720"/>
            <a:ext cx="114300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2000" fill="hold"/>
                                        <p:tgtEl>
                                          <p:spTgt spid="4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10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" dur="1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" dur="1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" dur="10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" dur="10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10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" dur="10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1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" dur="10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" dur="10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" dur="10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" dur="10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" dur="1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0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Заголовок 1" descr=""/>
          <p:cNvPicPr/>
          <p:nvPr/>
        </p:nvPicPr>
        <p:blipFill>
          <a:blip r:embed="rId1"/>
          <a:stretch/>
        </p:blipFill>
        <p:spPr>
          <a:xfrm>
            <a:off x="298440" y="66600"/>
            <a:ext cx="8699400" cy="62244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5" descr="6"/>
          <p:cNvPicPr/>
          <p:nvPr/>
        </p:nvPicPr>
        <p:blipFill>
          <a:blip r:embed="rId2"/>
          <a:stretch/>
        </p:blipFill>
        <p:spPr>
          <a:xfrm>
            <a:off x="4143240" y="1285920"/>
            <a:ext cx="1247760" cy="17510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6" descr="6"/>
          <p:cNvPicPr/>
          <p:nvPr/>
        </p:nvPicPr>
        <p:blipFill>
          <a:blip r:embed="rId3"/>
          <a:stretch/>
        </p:blipFill>
        <p:spPr>
          <a:xfrm>
            <a:off x="5929200" y="1285920"/>
            <a:ext cx="1247760" cy="175104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7" descr="6"/>
          <p:cNvPicPr/>
          <p:nvPr/>
        </p:nvPicPr>
        <p:blipFill>
          <a:blip r:embed="rId4"/>
          <a:stretch/>
        </p:blipFill>
        <p:spPr>
          <a:xfrm>
            <a:off x="7526160" y="1285920"/>
            <a:ext cx="1222560" cy="17143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8" descr="6"/>
          <p:cNvPicPr/>
          <p:nvPr/>
        </p:nvPicPr>
        <p:blipFill>
          <a:blip r:embed="rId5"/>
          <a:stretch/>
        </p:blipFill>
        <p:spPr>
          <a:xfrm>
            <a:off x="7694640" y="4572000"/>
            <a:ext cx="1163520" cy="16336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9" descr="6"/>
          <p:cNvPicPr/>
          <p:nvPr/>
        </p:nvPicPr>
        <p:blipFill>
          <a:blip r:embed="rId6"/>
          <a:stretch/>
        </p:blipFill>
        <p:spPr>
          <a:xfrm>
            <a:off x="6122880" y="4643280"/>
            <a:ext cx="1127160" cy="157176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5" descr="6"/>
          <p:cNvPicPr/>
          <p:nvPr/>
        </p:nvPicPr>
        <p:blipFill>
          <a:blip r:embed="rId7"/>
          <a:stretch/>
        </p:blipFill>
        <p:spPr>
          <a:xfrm>
            <a:off x="285840" y="4643280"/>
            <a:ext cx="1076400" cy="151128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6" descr="6"/>
          <p:cNvPicPr/>
          <p:nvPr/>
        </p:nvPicPr>
        <p:blipFill>
          <a:blip r:embed="rId8"/>
          <a:stretch/>
        </p:blipFill>
        <p:spPr>
          <a:xfrm>
            <a:off x="1714680" y="4643280"/>
            <a:ext cx="1076040" cy="15112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7" descr="6"/>
          <p:cNvPicPr/>
          <p:nvPr/>
        </p:nvPicPr>
        <p:blipFill>
          <a:blip r:embed="rId9"/>
          <a:stretch/>
        </p:blipFill>
        <p:spPr>
          <a:xfrm>
            <a:off x="4643280" y="4643280"/>
            <a:ext cx="1076400" cy="151128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9" descr="6"/>
          <p:cNvPicPr/>
          <p:nvPr/>
        </p:nvPicPr>
        <p:blipFill>
          <a:blip r:embed="rId10"/>
          <a:stretch/>
        </p:blipFill>
        <p:spPr>
          <a:xfrm>
            <a:off x="214200" y="1214280"/>
            <a:ext cx="1177920" cy="164340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8" descr="6"/>
          <p:cNvPicPr/>
          <p:nvPr/>
        </p:nvPicPr>
        <p:blipFill>
          <a:blip r:embed="rId11"/>
          <a:stretch/>
        </p:blipFill>
        <p:spPr>
          <a:xfrm>
            <a:off x="2071800" y="1285920"/>
            <a:ext cx="1214280" cy="170496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2" descr="5"/>
          <p:cNvPicPr/>
          <p:nvPr/>
        </p:nvPicPr>
        <p:blipFill>
          <a:blip r:embed="rId12"/>
          <a:stretch/>
        </p:blipFill>
        <p:spPr>
          <a:xfrm>
            <a:off x="3214800" y="4572000"/>
            <a:ext cx="114300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3.31945E-006 L 0.60121 0.44437 E">
                                      <p:cBhvr>
                                        <p:cTn id="125" dur="2000" fill="hold"/>
                                        <p:tgtEl>
                                          <p:spTgt spid="4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67 0.07263 L 0.56945 0.40851 E">
                                      <p:cBhvr>
                                        <p:cTn id="129" dur="2000" fill="hold"/>
                                        <p:tgtEl>
                                          <p:spTgt spid="4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4.84617E-006 L -0.40937 0.39857 E">
                                      <p:cBhvr>
                                        <p:cTn id="13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4.28406E-006 L -0.46476 0.38816 E">
                                      <p:cBhvr>
                                        <p:cTn id="137" dur="2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7194 L -0.31111 0.40782 E">
                                      <p:cBhvr>
                                        <p:cTn id="141" dur="2000" fill="hold"/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Прямоугольник 4" descr=""/>
          <p:cNvPicPr/>
          <p:nvPr/>
        </p:nvPicPr>
        <p:blipFill>
          <a:blip r:embed="rId1"/>
          <a:stretch/>
        </p:blipFill>
        <p:spPr>
          <a:xfrm>
            <a:off x="1109520" y="1646280"/>
            <a:ext cx="722340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2T16:18:49Z</dcterms:created>
  <dc:creator>Svin</dc:creator>
  <dc:description/>
  <dc:language>en-US</dc:language>
  <cp:lastModifiedBy>Metodist</cp:lastModifiedBy>
  <dcterms:modified xsi:type="dcterms:W3CDTF">2017-10-12T08:59:22Z</dcterms:modified>
  <cp:revision>21</cp:revision>
  <dc:subject/>
  <dc:title>Найди такой же знак, как  на образце.</dc:title>
</cp:coreProperties>
</file>