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6860-BF73-4B17-BF1D-2518EB2AA9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EF12-20C7-4D9F-9E37-110424CD17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F7FB-3EDA-4B15-BCCA-94E53B5B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933E-C26F-4F9C-B8AF-451B471D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7526F-4743-4A3A-A15A-96015DE8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0D59C-B1D5-441E-9A81-86F61B5D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1138C-84F8-4E8D-B437-41B75C3F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2DF5B-6CBE-480B-A2C0-97771DDC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1AE84-E094-411B-97BC-F1E121F6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2423F-E05B-4CCF-80BB-7E506F9A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041FB-8FD7-4927-9618-6FC0296B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DF3F9-C027-4D9D-8B7B-69EB8421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251DF-B24C-4624-84B0-8DFEBC58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4FAE-B045-4350-8D3C-CC5CC3B4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6F43-16DB-4561-91BE-4D46B32C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89A2-B4D1-4FF6-9788-FB12CA86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29C0-EA4B-40AE-ABEE-6AE7593E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138E-613F-4C44-A501-E72A5477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30DC-4E93-4854-B8F0-8440FBE8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5911-4BF8-469A-9C6C-D6BEFAB4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987A-A345-42DB-91E1-7B9437EC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C8BB-8BAA-4E4D-92C4-D247E5CB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3D4F-6660-48CE-8B01-203F875F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7362-2727-4912-957C-9CB506BA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D5F3-7645-46BD-A86C-03923942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0EB7-27AE-4051-88A5-1C3581EC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655F-9972-4E58-B57F-864FE762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5370-9534-4526-8E65-198CC101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DF06A-F1A9-47A9-BDE6-53F3C112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DF53B-FC0B-47E1-A497-BCE82585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ADDC9-ACC1-4258-B7BA-051DF08F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A9ABB-525A-48A1-853C-D8E2B86A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42B3C-59F2-455C-96C5-63614A88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E5D7-3574-49DE-AB9D-7E5FD612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D361B-BE16-4488-BBF7-FF78ECFA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32975-5866-41DD-97F3-4F43D2CC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E6AD0-0769-4429-9686-851050A5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8301B-4BBA-49E9-B3CF-632BAC3A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79FC5-7D27-486E-A427-8A699A8F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D6E74-8BDD-4E40-8325-22950D4C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543AD-9246-474C-B010-25721786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2CAEA-7817-4211-8EC2-72F0F51F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3C6EE-CF0B-479C-8A85-D44F130F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41AC8-5E87-472E-B459-0283CAA9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6BED-4F33-4ADE-A80A-F306A366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AFAEB-AECC-4FAD-A2B2-66E7724E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0BDA3-D746-40F5-863A-CD164B2D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E1912-EA4C-4341-AED6-D8C96608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223DD-C7F5-4766-9DD2-C159194F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0EADE-9011-4064-A450-82B5B579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D4243-D017-48A5-81CA-A2F2653A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E9A71-347C-45C6-B577-EE32B45D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90251-019C-43C1-B4EB-2E3027D8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05E51-63AC-40C3-AF78-E767D350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FC1B2-7235-433E-B0A1-460B6699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3DA6-3205-4055-BB28-E4572A6E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37233-0092-409F-B359-2EC03604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20E08-36A6-4540-B7C8-941B0CE2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89FFE-CEE1-43C4-880D-774DDA4E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C6C4A-A24B-4E02-91FF-A0CE7376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CA8E2-21A9-47D3-A82C-BBAB9ADD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8F1A1-A8C0-43A7-8BF7-277F38E0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1C00E-C956-4A12-9600-A6570ACF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F5669-123F-42CF-B6AA-96A815A6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E5196-F9EA-40EF-9E8E-A5BC2050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38C55-3B21-407A-9C55-A96C9A42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7797-3F38-4CA1-A8CD-8D22F1C8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23CD8-61CD-448F-929F-AA98EE5E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045C4-25F9-4F27-A958-3C55CEA4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ED969-2C91-45BC-8F93-82785649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F2306-43C2-44CB-B1C1-9315CEE7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EBE66-73FA-499C-A193-BF5DF1D0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3923B-396A-47CF-8285-AB7B0AC6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6EF7D-F85B-4A71-8F7B-29C49A5D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75711-4BBF-44ED-B0E5-4FA4F4C9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09091-50D7-4E0A-AA78-A949F147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F4A01-BB5E-4F2E-AAFA-FE736550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6A05-A61A-4C1B-8385-3B2437A9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35303-9440-4B83-8BFE-44D90FA1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E6ECA-7BC7-47C5-B7DD-00E9E7EC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B960B-29D6-4355-A5E3-54F102AB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FCFA8-5CA7-479C-B26D-483086B9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51A82-FDAD-4C01-AAE0-7FEF3B2E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D8275-7F73-4B31-9CA4-58DD894D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5E180-DC6D-4205-8D57-BC8CF0B1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09464-3099-4AC7-AF81-83861638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159B7-AB17-41B4-9AD9-C06F5697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98672-8C99-42A7-9EFB-B52BF491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88AE-3F51-46A2-8EF5-E4659437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85AC8-0AFF-497C-8136-DA4AE1F7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40083-5D03-4573-B378-937CF6C6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BBDED-6D60-4DEA-802B-B4F6366B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ABD57-7FD2-4C98-ADC9-E1E37748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D1751-2463-4F96-98F0-531A89A4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123EC-94F4-4575-A836-8FD93BB2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BBFAC-5E22-444D-BB5B-F000AC31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00001-0CA5-4060-B02B-0431C564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4A0DF-AD3B-4857-BCEE-B7CA4AE8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251BC-43B3-4F6A-B73F-BBB31DC6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87EF-D9EF-438E-A8C1-DE2CE055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1C06F-12FD-43C7-A845-BEBD942C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8FCEB-E9E0-42CA-A732-E6DFB55B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1B734-D927-46CB-8CCA-7A347BFB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267F4-41DC-4BB2-99D9-8032BCDB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10117-7768-4AFE-B272-CD45E03B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2539D-7716-4586-9E5A-67DB8DCD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A7C6E-B327-4026-9095-88E36C98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26D31-2FB6-4D4B-8414-022AF7EC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A23F6-D5DD-4BD4-BC62-EBF804BD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A1D49-F1F6-4EF0-A8E5-EBFB6399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7432-31BE-4CB3-983D-8CB3533117B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0188-27C6-4A66-80DE-121E370B396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E1E9-02F2-4633-8B38-AAA0EF98CFE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F29C-5750-4462-9270-247C0D65084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6913-4697-43CC-8271-AA1681EE209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3D19-3D68-4CA4-A382-FD09A64E79E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B154-3A5C-45CC-877D-FD47E1BE61F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5313-C080-4CFE-8851-5134EEA9546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7B87-E607-4A5B-9C0D-C92A99A23C3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slideLayout" Target="../slideLayouts/slideLayout25.xml"/><Relationship Id="rId1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6.png"/><Relationship Id="rId11" Type="http://schemas.openxmlformats.org/officeDocument/2006/relationships/image" Target="../media/image25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4442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1"/>
          <p:cNvPicPr/>
          <p:nvPr/>
        </p:nvPicPr>
        <p:blipFill>
          <a:blip r:embed="rId2"/>
          <a:stretch/>
        </p:blipFill>
        <p:spPr>
          <a:xfrm>
            <a:off x="4214880" y="642960"/>
            <a:ext cx="1147680" cy="10000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1"/>
          <p:cNvPicPr/>
          <p:nvPr/>
        </p:nvPicPr>
        <p:blipFill>
          <a:blip r:embed="rId3"/>
          <a:stretch/>
        </p:blipFill>
        <p:spPr>
          <a:xfrm>
            <a:off x="5429160" y="5143680"/>
            <a:ext cx="1182600" cy="10317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1"/>
          <p:cNvPicPr/>
          <p:nvPr/>
        </p:nvPicPr>
        <p:blipFill>
          <a:blip r:embed="rId4"/>
          <a:stretch/>
        </p:blipFill>
        <p:spPr>
          <a:xfrm>
            <a:off x="7215120" y="3571920"/>
            <a:ext cx="1182600" cy="10256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1"/>
          <p:cNvPicPr/>
          <p:nvPr/>
        </p:nvPicPr>
        <p:blipFill>
          <a:blip r:embed="rId5"/>
          <a:stretch/>
        </p:blipFill>
        <p:spPr>
          <a:xfrm>
            <a:off x="357120" y="2286000"/>
            <a:ext cx="1182600" cy="10256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1"/>
          <p:cNvPicPr/>
          <p:nvPr/>
        </p:nvPicPr>
        <p:blipFill>
          <a:blip r:embed="rId6"/>
          <a:stretch/>
        </p:blipFill>
        <p:spPr>
          <a:xfrm>
            <a:off x="7143840" y="2214720"/>
            <a:ext cx="1182600" cy="1025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1"/>
          <p:cNvPicPr/>
          <p:nvPr/>
        </p:nvPicPr>
        <p:blipFill>
          <a:blip r:embed="rId7"/>
          <a:stretch/>
        </p:blipFill>
        <p:spPr>
          <a:xfrm>
            <a:off x="357120" y="5357880"/>
            <a:ext cx="1182600" cy="1025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1"/>
          <p:cNvPicPr/>
          <p:nvPr/>
        </p:nvPicPr>
        <p:blipFill>
          <a:blip r:embed="rId8"/>
          <a:stretch/>
        </p:blipFill>
        <p:spPr>
          <a:xfrm>
            <a:off x="357120" y="3571920"/>
            <a:ext cx="1182600" cy="10256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1"/>
          <p:cNvPicPr/>
          <p:nvPr/>
        </p:nvPicPr>
        <p:blipFill>
          <a:blip r:embed="rId9"/>
          <a:stretch/>
        </p:blipFill>
        <p:spPr>
          <a:xfrm>
            <a:off x="3714840" y="3571920"/>
            <a:ext cx="1182600" cy="10256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1"/>
          <p:cNvPicPr/>
          <p:nvPr/>
        </p:nvPicPr>
        <p:blipFill>
          <a:blip r:embed="rId10"/>
          <a:stretch/>
        </p:blipFill>
        <p:spPr>
          <a:xfrm>
            <a:off x="7143840" y="5143680"/>
            <a:ext cx="1182600" cy="1025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1"/>
          <p:cNvPicPr/>
          <p:nvPr/>
        </p:nvPicPr>
        <p:blipFill>
          <a:blip r:embed="rId11"/>
          <a:stretch/>
        </p:blipFill>
        <p:spPr>
          <a:xfrm>
            <a:off x="2000160" y="2357280"/>
            <a:ext cx="1182600" cy="1025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1" descr="1"/>
          <p:cNvPicPr/>
          <p:nvPr/>
        </p:nvPicPr>
        <p:blipFill>
          <a:blip r:embed="rId12"/>
          <a:stretch/>
        </p:blipFill>
        <p:spPr>
          <a:xfrm>
            <a:off x="3714840" y="2214720"/>
            <a:ext cx="1182600" cy="1025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2" descr="1"/>
          <p:cNvPicPr/>
          <p:nvPr/>
        </p:nvPicPr>
        <p:blipFill>
          <a:blip r:embed="rId13"/>
          <a:stretch/>
        </p:blipFill>
        <p:spPr>
          <a:xfrm>
            <a:off x="2000160" y="5286240"/>
            <a:ext cx="1182600" cy="10256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3" descr="1"/>
          <p:cNvPicPr/>
          <p:nvPr/>
        </p:nvPicPr>
        <p:blipFill>
          <a:blip r:embed="rId14"/>
          <a:stretch/>
        </p:blipFill>
        <p:spPr>
          <a:xfrm>
            <a:off x="2000160" y="3643200"/>
            <a:ext cx="1182600" cy="1025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4" descr="1"/>
          <p:cNvPicPr/>
          <p:nvPr/>
        </p:nvPicPr>
        <p:blipFill>
          <a:blip r:embed="rId15"/>
          <a:stretch/>
        </p:blipFill>
        <p:spPr>
          <a:xfrm>
            <a:off x="3714840" y="5214960"/>
            <a:ext cx="1182600" cy="1025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5" descr="1"/>
          <p:cNvPicPr/>
          <p:nvPr/>
        </p:nvPicPr>
        <p:blipFill>
          <a:blip r:embed="rId16"/>
          <a:stretch/>
        </p:blipFill>
        <p:spPr>
          <a:xfrm>
            <a:off x="5429160" y="3571920"/>
            <a:ext cx="1182600" cy="10256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1"/>
          <p:cNvPicPr/>
          <p:nvPr/>
        </p:nvPicPr>
        <p:blipFill>
          <a:blip r:embed="rId17"/>
          <a:stretch/>
        </p:blipFill>
        <p:spPr>
          <a:xfrm>
            <a:off x="5429160" y="2214720"/>
            <a:ext cx="11430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298440" y="66600"/>
            <a:ext cx="8699400" cy="6224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6"/>
          <p:cNvPicPr/>
          <p:nvPr/>
        </p:nvPicPr>
        <p:blipFill>
          <a:blip r:embed="rId2"/>
          <a:stretch/>
        </p:blipFill>
        <p:spPr>
          <a:xfrm>
            <a:off x="4143240" y="1285920"/>
            <a:ext cx="1247760" cy="17510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6"/>
          <p:cNvPicPr/>
          <p:nvPr/>
        </p:nvPicPr>
        <p:blipFill>
          <a:blip r:embed="rId3"/>
          <a:stretch/>
        </p:blipFill>
        <p:spPr>
          <a:xfrm>
            <a:off x="5929200" y="1285920"/>
            <a:ext cx="1247760" cy="17510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" descr="6"/>
          <p:cNvPicPr/>
          <p:nvPr/>
        </p:nvPicPr>
        <p:blipFill>
          <a:blip r:embed="rId4"/>
          <a:stretch/>
        </p:blipFill>
        <p:spPr>
          <a:xfrm>
            <a:off x="7526160" y="1285920"/>
            <a:ext cx="1222560" cy="17143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6"/>
          <p:cNvPicPr/>
          <p:nvPr/>
        </p:nvPicPr>
        <p:blipFill>
          <a:blip r:embed="rId5"/>
          <a:stretch/>
        </p:blipFill>
        <p:spPr>
          <a:xfrm>
            <a:off x="7694640" y="4572000"/>
            <a:ext cx="1163520" cy="16336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6"/>
          <p:cNvPicPr/>
          <p:nvPr/>
        </p:nvPicPr>
        <p:blipFill>
          <a:blip r:embed="rId6"/>
          <a:stretch/>
        </p:blipFill>
        <p:spPr>
          <a:xfrm>
            <a:off x="6122880" y="4643280"/>
            <a:ext cx="1127160" cy="15717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5" descr="6"/>
          <p:cNvPicPr/>
          <p:nvPr/>
        </p:nvPicPr>
        <p:blipFill>
          <a:blip r:embed="rId7"/>
          <a:stretch/>
        </p:blipFill>
        <p:spPr>
          <a:xfrm>
            <a:off x="285840" y="4643280"/>
            <a:ext cx="1076400" cy="15112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6"/>
          <p:cNvPicPr/>
          <p:nvPr/>
        </p:nvPicPr>
        <p:blipFill>
          <a:blip r:embed="rId8"/>
          <a:stretch/>
        </p:blipFill>
        <p:spPr>
          <a:xfrm>
            <a:off x="1714680" y="4643280"/>
            <a:ext cx="1076040" cy="1511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7" descr="6"/>
          <p:cNvPicPr/>
          <p:nvPr/>
        </p:nvPicPr>
        <p:blipFill>
          <a:blip r:embed="rId9"/>
          <a:stretch/>
        </p:blipFill>
        <p:spPr>
          <a:xfrm>
            <a:off x="4643280" y="4643280"/>
            <a:ext cx="1076400" cy="15112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9" descr="6"/>
          <p:cNvPicPr/>
          <p:nvPr/>
        </p:nvPicPr>
        <p:blipFill>
          <a:blip r:embed="rId10"/>
          <a:stretch/>
        </p:blipFill>
        <p:spPr>
          <a:xfrm>
            <a:off x="214200" y="1214280"/>
            <a:ext cx="1177920" cy="16434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6"/>
          <p:cNvPicPr/>
          <p:nvPr/>
        </p:nvPicPr>
        <p:blipFill>
          <a:blip r:embed="rId11"/>
          <a:stretch/>
        </p:blipFill>
        <p:spPr>
          <a:xfrm>
            <a:off x="2071800" y="1285920"/>
            <a:ext cx="1214280" cy="17049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2" descr="5"/>
          <p:cNvPicPr/>
          <p:nvPr/>
        </p:nvPicPr>
        <p:blipFill>
          <a:blip r:embed="rId12"/>
          <a:stretch/>
        </p:blipFill>
        <p:spPr>
          <a:xfrm>
            <a:off x="3214800" y="4572000"/>
            <a:ext cx="114300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31945E-006 L 0.60121 0.44437 E">
                                      <p:cBhvr>
                                        <p:cTn id="125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67 0.07263 L 0.56945 0.40851 E">
                                      <p:cBhvr>
                                        <p:cTn id="129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84617E-006 L -0.40937 0.39857 E">
                                      <p:cBhvr>
                                        <p:cTn id="13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28406E-006 L -0.46476 0.38816 E">
                                      <p:cBhvr>
                                        <p:cTn id="137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7194 L -0.31111 0.40782 E">
                                      <p:cBhvr>
                                        <p:cTn id="141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Прямоугольник 4" descr=""/>
          <p:cNvPicPr/>
          <p:nvPr/>
        </p:nvPicPr>
        <p:blipFill>
          <a:blip r:embed="rId1"/>
          <a:stretch/>
        </p:blipFill>
        <p:spPr>
          <a:xfrm>
            <a:off x="1109520" y="1646280"/>
            <a:ext cx="722340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16:18:49Z</dcterms:created>
  <dc:creator>Svin</dc:creator>
  <dc:description/>
  <dc:language>en-US</dc:language>
  <cp:lastModifiedBy>Metodist</cp:lastModifiedBy>
  <dcterms:modified xsi:type="dcterms:W3CDTF">2017-10-12T08:59:22Z</dcterms:modified>
  <cp:revision>21</cp:revision>
  <dc:subject/>
  <dc:title>Найди такой же знак, как  на образце.</dc:title>
</cp:coreProperties>
</file>