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30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7A0-7723-40D7-A92A-D98B9E2F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46C-82D5-4C9A-A054-576730D3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C35-B686-4E78-B4EE-8F18055C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835-3FEB-4BC2-A1B5-65DE9306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B4C-EC8A-4EA3-A821-F9E50265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C38-5067-4807-95C3-4965574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3B9-4E77-40DE-9876-A0E38B2D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9A4-B2E7-4DDE-A544-E24E2B64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986-75F2-4F2B-BB00-FB34555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78F-533F-49C6-A801-0555B3C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9A0-7064-4882-83DC-56F8219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F53-079B-4F8C-92C8-BBEB30B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7BC-B619-4570-9155-E3A3D938F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19.jpeg"/><Relationship Id="rId8" Type="http://schemas.openxmlformats.org/officeDocument/2006/relationships/image" Target="../media/image12.jpeg"/><Relationship Id="rId9" Type="http://schemas.openxmlformats.org/officeDocument/2006/relationships/image" Target="../media/image16.jpeg"/><Relationship Id="rId10" Type="http://schemas.openxmlformats.org/officeDocument/2006/relationships/image" Target="../media/image8.jpeg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7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22.jpeg"/><Relationship Id="rId11" Type="http://schemas.openxmlformats.org/officeDocument/2006/relationships/image" Target="../media/image30.jpeg"/><Relationship Id="rId12" Type="http://schemas.openxmlformats.org/officeDocument/2006/relationships/image" Target="../media/image10.jpe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hyperlink" Target="http://www.bing.com/images/search?q=&#1082;&#1072;&#1088;&#1090;&#1080;&#1085;&#1082;&#1080;+&#1055;&#1091;&#1096;&#1082;&#1080;&#1085;&amp;FORM=HDRSC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603360" y="554040"/>
            <a:ext cx="6711840" cy="1712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50920" y="5516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знецова Вера Леонидовна, учитель русского языка и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БОУ «ООШ №15 н.п. Нив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:\Users\user\Pictures\russkij24.jpg"/>
          <p:cNvPicPr/>
          <p:nvPr/>
        </p:nvPicPr>
        <p:blipFill>
          <a:blip r:embed="rId3"/>
          <a:stretch/>
        </p:blipFill>
        <p:spPr>
          <a:xfrm>
            <a:off x="3492360" y="2352600"/>
            <a:ext cx="43354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11280" y="350028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предел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ие иллюстрации выпали из книг писателей-класс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F:\иллюстрац к произведен\polka.png"/>
          <p:cNvPicPr/>
          <p:nvPr/>
        </p:nvPicPr>
        <p:blipFill>
          <a:blip r:embed="rId2"/>
          <a:stretch/>
        </p:blipFill>
        <p:spPr>
          <a:xfrm>
            <a:off x="900000" y="1916280"/>
            <a:ext cx="7488360" cy="1031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иллюстрац к произведен\GgHk3318tt.png"/>
          <p:cNvPicPr/>
          <p:nvPr/>
        </p:nvPicPr>
        <p:blipFill>
          <a:blip r:embed="rId3"/>
          <a:stretch/>
        </p:blipFill>
        <p:spPr>
          <a:xfrm>
            <a:off x="4500720" y="3500280"/>
            <a:ext cx="4227480" cy="304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иллюстрац к произведен\601141044.jpg"/>
          <p:cNvPicPr/>
          <p:nvPr/>
        </p:nvPicPr>
        <p:blipFill>
          <a:blip r:embed="rId4"/>
          <a:stretch/>
        </p:blipFill>
        <p:spPr>
          <a:xfrm>
            <a:off x="1797120" y="549360"/>
            <a:ext cx="16225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7"/>
          <p:cNvGrpSpPr/>
          <p:nvPr/>
        </p:nvGrpSpPr>
        <p:grpSpPr>
          <a:xfrm>
            <a:off x="3851280" y="549360"/>
            <a:ext cx="1584360" cy="2143080"/>
            <a:chOff x="3851280" y="549360"/>
            <a:chExt cx="1584360" cy="2143080"/>
          </a:xfrm>
        </p:grpSpPr>
        <p:pic>
          <p:nvPicPr>
            <p:cNvPr id="51" name="Picture 2" descr="F:\иллюстрац к произведен\images (2).jpg"/>
            <p:cNvPicPr/>
            <p:nvPr/>
          </p:nvPicPr>
          <p:blipFill>
            <a:blip r:embed="rId5"/>
            <a:stretch/>
          </p:blipFill>
          <p:spPr>
            <a:xfrm>
              <a:off x="3851280" y="549360"/>
              <a:ext cx="1584360" cy="20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F:\иллюстрац к произведен\images (1).jpg"/>
            <p:cNvPicPr/>
            <p:nvPr/>
          </p:nvPicPr>
          <p:blipFill>
            <a:blip r:embed="rId6"/>
            <a:stretch/>
          </p:blipFill>
          <p:spPr>
            <a:xfrm>
              <a:off x="4163400" y="1502280"/>
              <a:ext cx="969480" cy="119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Группа 10"/>
          <p:cNvGrpSpPr/>
          <p:nvPr/>
        </p:nvGrpSpPr>
        <p:grpSpPr>
          <a:xfrm>
            <a:off x="5867280" y="549360"/>
            <a:ext cx="1729080" cy="2158920"/>
            <a:chOff x="5867280" y="549360"/>
            <a:chExt cx="1729080" cy="2158920"/>
          </a:xfrm>
        </p:grpSpPr>
        <p:pic>
          <p:nvPicPr>
            <p:cNvPr id="54" name="Picture 2" descr="F:\иллюстрац к произведен\images (6).jpg"/>
            <p:cNvPicPr/>
            <p:nvPr/>
          </p:nvPicPr>
          <p:blipFill>
            <a:blip r:embed="rId7"/>
            <a:stretch/>
          </p:blipFill>
          <p:spPr>
            <a:xfrm>
              <a:off x="5867280" y="549360"/>
              <a:ext cx="172908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F:\иллюстрац к произведен\images (5).jpg"/>
            <p:cNvPicPr/>
            <p:nvPr/>
          </p:nvPicPr>
          <p:blipFill>
            <a:blip r:embed="rId8"/>
            <a:stretch/>
          </p:blipFill>
          <p:spPr>
            <a:xfrm>
              <a:off x="5979960" y="1004760"/>
              <a:ext cx="139644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F:\иллюстрац к произведен\[LI7RK_3-04]_[IL_04]-k.jpg"/>
          <p:cNvPicPr/>
          <p:nvPr/>
        </p:nvPicPr>
        <p:blipFill>
          <a:blip r:embed="rId2"/>
          <a:stretch/>
        </p:blipFill>
        <p:spPr>
          <a:xfrm>
            <a:off x="3132000" y="333360"/>
            <a:ext cx="1432080" cy="190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F:\иллюстрац к произведен\1030.jpg"/>
          <p:cNvPicPr/>
          <p:nvPr/>
        </p:nvPicPr>
        <p:blipFill>
          <a:blip r:embed="rId3"/>
          <a:stretch/>
        </p:blipFill>
        <p:spPr>
          <a:xfrm>
            <a:off x="324000" y="3933720"/>
            <a:ext cx="182556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F:\иллюстрац к произведен\1_html_4d7c7f1d.png"/>
          <p:cNvPicPr/>
          <p:nvPr/>
        </p:nvPicPr>
        <p:blipFill>
          <a:blip r:embed="rId4"/>
          <a:stretch/>
        </p:blipFill>
        <p:spPr>
          <a:xfrm>
            <a:off x="2468520" y="4340160"/>
            <a:ext cx="1798560" cy="22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F:\иллюстрац к произведен\beleetparusodinokajsnostihotvorenieyamyulermontova.jpg"/>
          <p:cNvPicPr/>
          <p:nvPr/>
        </p:nvPicPr>
        <p:blipFill>
          <a:blip r:embed="rId5"/>
          <a:stretch/>
        </p:blipFill>
        <p:spPr>
          <a:xfrm>
            <a:off x="6862680" y="2637000"/>
            <a:ext cx="201924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F:\иллюстрац к произведен\illjustracija_1.jpg"/>
          <p:cNvPicPr/>
          <p:nvPr/>
        </p:nvPicPr>
        <p:blipFill>
          <a:blip r:embed="rId6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F:\иллюстрац к произведен\n_v_gogol_majskaja_noch_ili_utoplennitsa_1.jpg"/>
          <p:cNvPicPr/>
          <p:nvPr/>
        </p:nvPicPr>
        <p:blipFill>
          <a:blip r:embed="rId7"/>
          <a:stretch/>
        </p:blipFill>
        <p:spPr>
          <a:xfrm>
            <a:off x="3635280" y="2708280"/>
            <a:ext cx="2519280" cy="149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F:\иллюстрац к произведен\Метель.jpg"/>
          <p:cNvPicPr/>
          <p:nvPr/>
        </p:nvPicPr>
        <p:blipFill>
          <a:blip r:embed="rId8"/>
          <a:stretch/>
        </p:blipFill>
        <p:spPr>
          <a:xfrm>
            <a:off x="4788000" y="4653000"/>
            <a:ext cx="208584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F:\иллюстрац к произведен\illyustraciyakpovestipushkinakapitanskayadochka18.jpg"/>
          <p:cNvPicPr/>
          <p:nvPr/>
        </p:nvPicPr>
        <p:blipFill>
          <a:blip r:embed="rId9"/>
          <a:stretch/>
        </p:blipFill>
        <p:spPr>
          <a:xfrm>
            <a:off x="6516720" y="620640"/>
            <a:ext cx="238752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user\Pictures\bg_029.jpg"/>
          <p:cNvPicPr/>
          <p:nvPr/>
        </p:nvPicPr>
        <p:blipFill>
          <a:blip r:embed="rId10"/>
          <a:stretch/>
        </p:blipFill>
        <p:spPr>
          <a:xfrm>
            <a:off x="5003640" y="404640"/>
            <a:ext cx="1478160" cy="209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F:\иллюстрац к произведен\601141044.jpg"/>
          <p:cNvPicPr/>
          <p:nvPr/>
        </p:nvPicPr>
        <p:blipFill>
          <a:blip r:embed="rId11"/>
          <a:stretch/>
        </p:blipFill>
        <p:spPr>
          <a:xfrm>
            <a:off x="324000" y="260280"/>
            <a:ext cx="2519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09991E-006 C 0.00313 -0.01965 0.00608 -0.04694 0.01528 -0.06336 C 0.02031 -0.08372 0.02379 -0.10615 0.02761 -0.12696 C 0.03073 -0.14361 0.03073 -0.15495 0.03542 -0.16998 C 0.0349 -0.21369 0.0349 -0.2574 0.03386 -0.30111 C 0.03368 -0.3099 0.03108 -0.31498 0.02604 -0.31961 C 0.02274 -0.3388 0.02795 -0.31637 0.0184 -0.33395 C 0.01719 -0.33626 0.01771 -0.3395 0.01684 -0.34204 C 0.01441 -0.34967 0.00833 -0.35615 0.00451 -0.36262 C 0.0033 -0.36725 0.00052 -0.37974 -0.00156 -0.38321 C -0.00417 -0.3876 -0.00746 -0.38691 -0.01076 -0.38922 C -0.01684 -0.39338 -0.02101 -0.39731 -0.02778 -0.39963 C -0.02934 -0.40101 -0.03055 -0.40263 -0.03229 -0.40356 C -0.03628 -0.40541 -0.04462 -0.40772 -0.04462 -0.40772 C -0.05399 -0.41605 -0.06424 -0.41628 -0.07535 -0.4179 C -0.20729 -0.41628 -0.33455 -0.40541 -0.46614 -0.40356 C -0.47292 -0.40055 -0.47951 -0.40101 -0.48611 -0.40564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75301E-007 C -0.00052 0.01365 -0.00122 0.02729 -0.00139 0.04094 C -0.00208 0.08048 -0.00208 0.12026 -0.00295 0.15981 C -0.00347 0.18155 -0.00868 0.20491 -0.01372 0.22526 C -0.01563 0.23266 -0.01389 0.24306 -0.0184 0.24792 C -0.02136 0.25116 -0.0257 0.25047 -0.02917 0.25208 C -0.06493 0.25093 -0.09288 0.25139 -0.12604 0.24584 C -0.14896 0.23543 -0.12049 0.24746 -0.14601 0.23983 C -0.15747 0.23636 -0.16823 0.23058 -0.17986 0.22734 C -0.1974 0.21647 -0.1691 0.23358 -0.20313 0.21716 C -0.20486 0.21624 -0.20608 0.21393 -0.20764 0.213 C -0.21615 0.20907 -0.22379 0.20722 -0.23229 0.20491 C -0.23906 0.20028 -0.24479 0.19889 -0.25243 0.19658 C -0.25764 0.19473 -0.2625 0.1908 -0.26771 0.18849 C -0.27483 0.18201 -0.28247 0.18085 -0.2908 0.17831 C -0.3033 0.17438 -0.30122 0.17484 -0.31233 0.16998 C -0.31458 0.16906 -0.31632 0.16652 -0.3184 0.16605 C -0.32656 0.16443 -0.3349 0.16467 -0.34306 0.16397 C -0.37726 0.15472 -0.41945 0.15495 -0.45382 0.15356 C -0.59879 0.16328 -0.4132 0.15171 -0.61528 0.15981 C -0.63524 0.1605 -0.65504 0.16998 -0.67535 0.16998 E">
                                      <p:cBhvr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C 0.00296 0.01505 0.00851 0.02755 0.01077 0.04282 C 0.01042 0.07245 0.01025 0.10208 0.00955 0.13171 C 0.00938 0.13866 0.00521 0.14722 0.00122 0.15069 C -0.00051 0.15741 -0.0026 0.15972 -0.0059 0.16505 C -0.01701 0.18241 -0.02881 0.18935 -0.04288 0.20139 C -0.04808 0.20579 -0.0526 0.21088 -0.05833 0.21412 C -0.06058 0.21551 -0.06545 0.21736 -0.06545 0.21736 C -0.07239 0.21505 -0.07847 0.21991 -0.08558 0.2206 C -0.09392 0.2213 -0.10225 0.22176 -0.11058 0.22222 C -0.13333 0.23079 -0.16232 0.22731 -0.18558 0.22847 C -0.19947 0.22801 -0.21336 0.22778 -0.22725 0.22685 C -0.23628 0.22616 -0.24479 0.21806 -0.25347 0.21574 C -0.26006 0.21389 -0.26701 0.21389 -0.27378 0.2125 C -0.28992 0.20602 -0.30694 0.2037 -0.32378 0.20139 C -0.34149 0.19606 -0.35972 0.19583 -0.37725 0.18889 C -0.38645 0.18079 -0.3743 0.19028 -0.39513 0.18403 C -0.39774 0.18333 -0.39965 0.18032 -0.40225 0.17917 C -0.40451 0.17824 -0.40711 0.17824 -0.40954 0.17778 C -0.4151 0.17523 -0.42065 0.17384 -0.42621 0.1713 C -0.42881 0.16875 -0.43229 0.16806 -0.43454 0.16505 C -0.43541 0.16389 -0.43506 0.16181 -0.43558 0.16019 C -0.43628 0.15856 -0.43801 0.15556 -0.43801 0.15556 E">
                                      <p:cBhvr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иллюстрац к произведен\1030.jpg"/>
          <p:cNvPicPr/>
          <p:nvPr/>
        </p:nvPicPr>
        <p:blipFill>
          <a:blip r:embed="rId2"/>
          <a:stretch/>
        </p:blipFill>
        <p:spPr>
          <a:xfrm>
            <a:off x="324000" y="3933720"/>
            <a:ext cx="1825560" cy="12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F:\иллюстрац к произведен\1_html_4d7c7f1d.png"/>
          <p:cNvPicPr/>
          <p:nvPr/>
        </p:nvPicPr>
        <p:blipFill>
          <a:blip r:embed="rId3"/>
          <a:stretch/>
        </p:blipFill>
        <p:spPr>
          <a:xfrm>
            <a:off x="6875640" y="1989000"/>
            <a:ext cx="1798560" cy="22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F:\иллюстрац к произведен\beleetparusodinokajsnostihotvorenieyamyulermontova.jpg"/>
          <p:cNvPicPr/>
          <p:nvPr/>
        </p:nvPicPr>
        <p:blipFill>
          <a:blip r:embed="rId4"/>
          <a:stretch/>
        </p:blipFill>
        <p:spPr>
          <a:xfrm>
            <a:off x="2556000" y="3860640"/>
            <a:ext cx="203040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F:\иллюстрац к произведен\n_v_gogol_majskaja_noch_ili_utoplennitsa_1.jpg"/>
          <p:cNvPicPr/>
          <p:nvPr/>
        </p:nvPicPr>
        <p:blipFill>
          <a:blip r:embed="rId5"/>
          <a:stretch/>
        </p:blipFill>
        <p:spPr>
          <a:xfrm>
            <a:off x="3708360" y="2349360"/>
            <a:ext cx="2303640" cy="149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F:\иллюстрац к произведен\Метель.jpg"/>
          <p:cNvPicPr/>
          <p:nvPr/>
        </p:nvPicPr>
        <p:blipFill>
          <a:blip r:embed="rId6"/>
          <a:stretch/>
        </p:blipFill>
        <p:spPr>
          <a:xfrm>
            <a:off x="4716360" y="4221000"/>
            <a:ext cx="2086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F:\иллюстрац к произведен\illyustraciyakpovestipushkinakapitanskayadochka18.jpg"/>
          <p:cNvPicPr/>
          <p:nvPr/>
        </p:nvPicPr>
        <p:blipFill>
          <a:blip r:embed="rId7"/>
          <a:stretch/>
        </p:blipFill>
        <p:spPr>
          <a:xfrm>
            <a:off x="6516720" y="333360"/>
            <a:ext cx="2387520" cy="157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F:\иллюстрац к произведен\[LI7RK_3-04]_[IL_04]-k.jpg"/>
          <p:cNvPicPr/>
          <p:nvPr/>
        </p:nvPicPr>
        <p:blipFill>
          <a:blip r:embed="rId8"/>
          <a:stretch/>
        </p:blipFill>
        <p:spPr>
          <a:xfrm>
            <a:off x="3419640" y="333360"/>
            <a:ext cx="143172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F:\иллюстрац к произведен\illjustracija_1.jpg"/>
          <p:cNvPicPr/>
          <p:nvPr/>
        </p:nvPicPr>
        <p:blipFill>
          <a:blip r:embed="rId9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grpSp>
        <p:nvGrpSpPr>
          <p:cNvPr id="76" name="Группа 13"/>
          <p:cNvGrpSpPr/>
          <p:nvPr/>
        </p:nvGrpSpPr>
        <p:grpSpPr>
          <a:xfrm>
            <a:off x="324000" y="333360"/>
            <a:ext cx="2519280" cy="3392640"/>
            <a:chOff x="324000" y="333360"/>
            <a:chExt cx="2519280" cy="3392640"/>
          </a:xfrm>
        </p:grpSpPr>
        <p:pic>
          <p:nvPicPr>
            <p:cNvPr id="77" name="Picture 2" descr="F:\иллюстрац к произведен\images (2).jpg"/>
            <p:cNvPicPr/>
            <p:nvPr/>
          </p:nvPicPr>
          <p:blipFill>
            <a:blip r:embed="rId10"/>
            <a:stretch/>
          </p:blipFill>
          <p:spPr>
            <a:xfrm>
              <a:off x="324000" y="333360"/>
              <a:ext cx="2519280" cy="33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F:\иллюстрац к произведен\images (1).jpg"/>
            <p:cNvPicPr/>
            <p:nvPr/>
          </p:nvPicPr>
          <p:blipFill>
            <a:blip r:embed="rId11"/>
            <a:stretch/>
          </p:blipFill>
          <p:spPr>
            <a:xfrm>
              <a:off x="822960" y="1767960"/>
              <a:ext cx="1536120" cy="193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12" descr="C:\Users\user\Pictures\bg_029.jpg"/>
          <p:cNvPicPr/>
          <p:nvPr/>
        </p:nvPicPr>
        <p:blipFill>
          <a:blip r:embed="rId12"/>
          <a:stretch/>
        </p:blipFill>
        <p:spPr>
          <a:xfrm>
            <a:off x="5143680" y="428760"/>
            <a:ext cx="1214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0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7086E-006 C 0.06527 0.00162 0.06215 0.00046 0.10468 0.01018 C 0.11492 0.01943 0.11788 0.01943 0.12933 0.02451 C 0.13958 0.03839 0.13437 0.03538 0.14305 0.03885 C 0.14947 0.04579 0.15433 0.05065 0.16163 0.05527 C 0.16874 0.07031 0.15989 0.05342 0.16926 0.06568 C 0.17308 0.07077 0.1769 0.07794 0.18003 0.08395 C 0.18176 0.09089 0.18298 0.09759 0.18472 0.10453 C 0.18697 0.13575 0.1894 0.16813 0.17847 0.19681 C 0.17517 0.21855 0.16961 0.21554 0.16163 0.2315 C 0.15416 0.2463 0.14079 0.25763 0.12777 0.26018 C 0.11267 0.26827 0.09479 0.27174 0.07847 0.27451 C 0.05902 0.27382 0.0394 0.27382 0.01996 0.27266 C 0.01249 0.2722 0.00277 0.26411 -0.00313 0.26018 C -0.00608 0.25833 -0.00956 0.25809 -0.01232 0.25624 C -0.02223 0.24954 -0.03212 0.24283 -0.04306 0.23982 C -0.05035 0.23335 -0.05782 0.2308 -0.06615 0.22757 C -0.07553 0.21809 -0.08421 0.2167 -0.09532 0.21323 C -0.10296 0.20814 -0.11077 0.20352 -0.11841 0.19889 C -0.13021 0.19172 -0.14358 0.18964 -0.15539 0.18247 C -0.17084 0.17322 -0.18646 0.16096 -0.20313 0.15772 C -0.21598 0.15842 -0.22865 0.15865 -0.2415 0.15981 C -0.24306 0.16004 -0.24619 0.16189 -0.24619 0.16189 E">
                                      <p:cBhvr>
                                        <p:cTn id="15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-1.32285E-006 C -0.01598 0.03978 -0.004 -0.00786000000000001 -0.01025 0.11217 C -0.01059 0.11841 -0.01407 0.12558 -0.0158 0.13136 C -0.01979 0.14408 -0.02136 0.15749 -0.02587 0.16998 C -0.02795 0.18317 -0.03351 0.1938 -0.03907 0.2049 C -0.0408 0.21323 -0.04236 0.22456 -0.04618 0.23196 C -0.0474 0.23404 -0.04931 0.23566 -0.0507 0.23774 C -0.05174 0.23959 -0.05243 0.24144 -0.05348 0.24353 C -0.05886 0.26526 -0.07188 0.27267 -0.08664 0.27845 C -0.10868 0.28724 -0.11424 0.28932 -0.13698 0.29209 C -0.14028 0.29186 -0.19462 0.29996 -0.2165 0.28423 C -0.22726 0.27637 -0.23993 0.26596 -0.24948 0.25509 C -0.25382 0.25023 -0.2625 0.24144 -0.2625 0.24168 C -0.27466 0.21924 -0.25608 0.25162 -0.27552 0.22595 C -0.28334 0.21577 -0.28993 0.20444 -0.29844 0.19519 C -0.30591 0.18756 -0.30625 0.18964 -0.31164 0.18178 C -0.31979 0.16906 -0.32535 0.15241 -0.33021 0.13714 C -0.33195 0.1265 -0.33386 0.11679 -0.33611 0.10615 C -0.33889 0.07724 -0.33907 0.04764 -0.34323 0.0192 C -0.34427 -0.02775 -0.34306 -0.04047 -0.34757 -0.07562 C -0.34931 -0.08857 -0.34879 -0.09597 -0.35625 -0.10268 C -0.36025 -0.11101 -0.36476 -0.11609 -0.37188 -0.11609 E">
                                      <p:cBhvr>
                                        <p:cTn id="1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3.14524E-007 C 0.00226 -0.02428 0.00348 -0.04093 0.00452 -0.06753 C 0.00365 -0.13367 0.00504 -0.20745 -0.0092 -0.27266 C -0.01319 -0.2907 -0.01545 -0.31869 -0.0309 -0.32377 C -0.03802 -0.33811 -0.03385 -0.33325 -0.04166 -0.34019 C -0.04722 -0.35199 -0.0592 -0.35893 -0.06927 -0.36263 C -0.1184 -0.3802 -0.17222 -0.3735 -0.22152 -0.37511 C -0.2401 -0.38298 -0.22135 -0.37604 -0.2493 -0.38113 C -0.26423 -0.3839 -0.27882 -0.39408 -0.29392 -0.39755 C -0.3059 -0.4031 -0.29201 -0.39732 -0.31857 -0.40171 C -0.36979 -0.41027 -0.41597 -0.41073 -0.46927 -0.41189 C -0.49097 -0.4216 -0.52222 -0.41628 -0.54618 -0.41813 C -0.57864 -0.42437 -0.53021 -0.41559 -0.60781 -0.42206 C -0.62118 -0.42322 -0.63437 -0.42669 -0.64774 -0.42831 C -0.64826 -0.44195 -0.64843 -0.4556 -0.6493 -0.46924 C -0.64948 -0.47225 -0.65208 -0.47965 -0.65382 -0.4815 C -0.65503 -0.48288 -0.6585 -0.48358 -0.6585 -0.48358 E">
                                      <p:cBhvr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:\иллюстрац к произведен\[LI7RK_3-04]_[IL_04]-k.jpg"/>
          <p:cNvPicPr/>
          <p:nvPr/>
        </p:nvPicPr>
        <p:blipFill>
          <a:blip r:embed="rId2"/>
          <a:stretch/>
        </p:blipFill>
        <p:spPr>
          <a:xfrm>
            <a:off x="3071880" y="428760"/>
            <a:ext cx="1431720" cy="1901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F:\иллюстрац к произведен\illjustracija_1.jpg"/>
          <p:cNvPicPr/>
          <p:nvPr/>
        </p:nvPicPr>
        <p:blipFill>
          <a:blip r:embed="rId3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F:\иллюстрац к произведен\n_v_gogol_majskaja_noch_ili_utoplennitsa_1.jpg"/>
          <p:cNvPicPr/>
          <p:nvPr/>
        </p:nvPicPr>
        <p:blipFill>
          <a:blip r:embed="rId4"/>
          <a:stretch/>
        </p:blipFill>
        <p:spPr>
          <a:xfrm>
            <a:off x="3708360" y="2637000"/>
            <a:ext cx="2519280" cy="1492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F:\иллюстрац к произведен\Метель.jpg"/>
          <p:cNvPicPr/>
          <p:nvPr/>
        </p:nvPicPr>
        <p:blipFill>
          <a:blip r:embed="rId5"/>
          <a:stretch/>
        </p:blipFill>
        <p:spPr>
          <a:xfrm>
            <a:off x="2411280" y="5013360"/>
            <a:ext cx="247824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F:\иллюстрац к произведен\illyustraciyakpovestipushkinakapitanskayadochka18.jpg"/>
          <p:cNvPicPr/>
          <p:nvPr/>
        </p:nvPicPr>
        <p:blipFill>
          <a:blip r:embed="rId6"/>
          <a:stretch/>
        </p:blipFill>
        <p:spPr>
          <a:xfrm>
            <a:off x="6429240" y="428760"/>
            <a:ext cx="238788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F:\иллюстрац к произведен\601141044.jpg"/>
          <p:cNvPicPr/>
          <p:nvPr/>
        </p:nvPicPr>
        <p:blipFill>
          <a:blip r:embed="rId7"/>
          <a:stretch/>
        </p:blipFill>
        <p:spPr>
          <a:xfrm>
            <a:off x="324000" y="260280"/>
            <a:ext cx="25192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Users\user\Pictures\bg_029.jpg"/>
          <p:cNvPicPr/>
          <p:nvPr/>
        </p:nvPicPr>
        <p:blipFill>
          <a:blip r:embed="rId8"/>
          <a:stretch/>
        </p:blipFill>
        <p:spPr>
          <a:xfrm>
            <a:off x="4786200" y="571680"/>
            <a:ext cx="1214640" cy="172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F:\иллюстрац к произведен\1_html_4d7c7f1d.png"/>
          <p:cNvPicPr/>
          <p:nvPr/>
        </p:nvPicPr>
        <p:blipFill>
          <a:blip r:embed="rId9"/>
          <a:stretch/>
        </p:blipFill>
        <p:spPr>
          <a:xfrm>
            <a:off x="7000920" y="2071800"/>
            <a:ext cx="1622520" cy="198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:\иллюстрац к произведен\beleetparusodinokajsnostihotvorenieyamyulermontova.jpg"/>
          <p:cNvPicPr/>
          <p:nvPr/>
        </p:nvPicPr>
        <p:blipFill>
          <a:blip r:embed="rId10"/>
          <a:stretch/>
        </p:blipFill>
        <p:spPr>
          <a:xfrm>
            <a:off x="4859280" y="4292640"/>
            <a:ext cx="20304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F:\иллюстрац к произведен\1030.jpg"/>
          <p:cNvPicPr/>
          <p:nvPr/>
        </p:nvPicPr>
        <p:blipFill>
          <a:blip r:embed="rId11"/>
          <a:stretch/>
        </p:blipFill>
        <p:spPr>
          <a:xfrm>
            <a:off x="324000" y="3860640"/>
            <a:ext cx="19429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13"/>
          <p:cNvGrpSpPr/>
          <p:nvPr/>
        </p:nvGrpSpPr>
        <p:grpSpPr>
          <a:xfrm>
            <a:off x="324000" y="260280"/>
            <a:ext cx="2519280" cy="3384720"/>
            <a:chOff x="324000" y="260280"/>
            <a:chExt cx="2519280" cy="3384720"/>
          </a:xfrm>
        </p:grpSpPr>
        <p:pic>
          <p:nvPicPr>
            <p:cNvPr id="92" name="Picture 2" descr="F:\иллюстрац к произведен\images (6).jpg"/>
            <p:cNvPicPr/>
            <p:nvPr/>
          </p:nvPicPr>
          <p:blipFill>
            <a:blip r:embed="rId12"/>
            <a:stretch/>
          </p:blipFill>
          <p:spPr>
            <a:xfrm>
              <a:off x="324000" y="260280"/>
              <a:ext cx="2519280" cy="33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" descr="F:\иллюстрац к произведен\images (5).jpg"/>
            <p:cNvPicPr/>
            <p:nvPr/>
          </p:nvPicPr>
          <p:blipFill>
            <a:blip r:embed="rId13"/>
            <a:stretch/>
          </p:blipFill>
          <p:spPr>
            <a:xfrm>
              <a:off x="603360" y="1126080"/>
              <a:ext cx="1914120" cy="251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C -0.00086 0.00556 -0.00138 0.01297 -0.00468 0.01736 C -0.01111 0.02593 -0.02152 0.03125 -0.02968 0.03658 C -0.03437 0.03959 -0.03645 0.04283 -0.04166 0.04445 C -0.05173 0.05486 -0.06493 0.05972 -0.07743 0.06181 C -0.09045 0.06783 -0.10451 0.06898 -0.11788 0.07292 C -0.14704 0.07222 -0.17309 0.07199 -0.20121 0.06829 C -0.20677 0.06667 -0.21215 0.06435 -0.21788 0.06343 C -0.2302 0.06158 -0.24565 0.06181 -0.25833 0.05718 C -0.26614 0.05417 -0.27326 0.04861 -0.2809 0.04607 C -0.28732 0.03959 -0.29583 0.03357 -0.30347 0.03009 C -0.31336 0.02084 -0.32378 0.01621 -0.33454 0.00949 C -0.34027 0.00602 -0.34531 0.00093 -0.35121 -0.00162 C -0.35625 -0.00648 -0.36145 -0.00972 -0.36666 -0.01435 C -0.36944 -0.0169 -0.375 -0.02222 -0.375 -0.02222 C -0.3835 -0.0375 -0.37274 -0.01898 -0.38333 -0.03495 C -0.3875 -0.04143 -0.38871 -0.0493 -0.39513 -0.05231 C -0.40104 -0.06412 -0.4059 -0.08055 -0.41302 -0.09051 C -0.41527 -0.0993 -0.42065 -0.10463 -0.42621 -0.10949 C -0.43263 -0.12338 -0.44131 -0.13472 -0.44635 -0.1493 C -0.44791 -0.15926 -0.45156 -0.17037 -0.45711 -0.17778 C -0.46041 -0.19491 -0.46319 -0.21111 -0.46909 -0.22708 C -0.47031 -0.23611 -0.47204 -0.24514 -0.47378 -0.25393 C -0.47482 -0.27963 -0.47777 -0.30694 -0.47135 -0.33171 C -0.47013 -0.34305 -0.46788 -0.35532 -0.46788 -0.36666 E">
                                      <p:cBhvr>
                                        <p:cTn id="2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0741E-007 C 0.00208 0.00788 -0.00035 0.00255 0.0059 0.00625 C 0.00989 0.00857 0.01354 0.01297 0.01788 0.01436 C 0.02551 0.01713 0.03367 0.01644 0.04166 0.01737 C 0.06354 0.02338 0.09079 0.02153 0.11197 0.02223 C 0.12656 0.02176 0.14131 0.02153 0.1559 0.02061 C 0.15919 0.02038 0.1611 0.01829 0.16423 0.01737 C 0.17777 0.01274 0.19044 0.00579 0.20364 -7.40741E-007 C 0.221 -0.01805 0.19704 0.00556 0.21301 -0.00648 C 0.2144 -0.00763 0.21527 -0.00995 0.21666 -0.01111 C 0.2184 -0.0125 0.22065 -0.01319 0.22256 -0.01435 C 0.22482 -0.01712 0.22777 -0.01898 0.22968 -0.02222 C 0.2309 -0.02407 0.23107 -0.02685 0.23211 -0.0287 C 0.23489 -0.03379 0.23871 -0.03819 0.24166 -0.04282 C 0.24253 -0.04421 0.2434 -0.04606 0.24409 -0.04768 C 0.24496 -0.04976 0.24531 -0.05208 0.24635 -0.05393 C 0.24843 -0.0574 0.25121 -0.06018 0.25364 -0.06342 C 0.2552 -0.0655 0.25694 -0.06759 0.25833 -0.0699 C 0.26076 -0.07407 0.26544 -0.08263 0.26544 -0.08263 C 0.26753 -0.0905 0.26944 -0.0949 0.27256 -0.10162 C 0.27187 -0.11643 0.27308 -0.13125 0.26788 -0.14444 C 0.2651 -0.15925 0.25815 -0.17337 0.24878 -0.18263 C 0.246 -0.19282 0.24843 -0.18611 0.23801 -0.2 C 0.23176 -0.20833 0.22847 -0.21736 0.21909 -0.2206 C 0.21544 -0.23032 0.20694 -0.2331 0.19999 -0.23819 C 0.18159 -0.25162 0.20242 -0.23726 0.18801 -0.25092 C 0.17933 -0.25902 0.15416 -0.26296 0.14409 -0.26342 C 0.12534 -0.26412 0.10676 -0.26458 0.08801 -0.26504 C 0.0868 -0.2655 0.08558 -0.26597 0.08454 -0.26666 C 0.08333 -0.26759 0.08229 -0.26921 0.0809 -0.2699 C 0.071 -0.27569 0.06024 -0.2787 0.04999 -0.28263 C 0.04756 -0.28356 0.04114 -0.28726 0.03801 -0.28726 E">
                                      <p:cBhvr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C -0.00521 0.00695 -0.00782 0.01713 -0.01198 0.02546 C -0.01354 0.03264 -0.01684 0.03588 -0.02032 0.0412 C -0.02882 0.0544 -0.04063 0.07315 -0.05243 0.08102 C -0.05747 0.09005 -0.06077 0.10023 -0.06545 0.10949 C -0.07101 0.12037 -0.0691 0.11435 -0.075 0.12384 C -0.07743 0.12801 -0.07882 0.13357 -0.08212 0.13658 C -0.09115 0.14514 -0.10018 0.15417 -0.10955 0.16181 C -0.11823 0.16898 -0.12726 0.17338 -0.13577 0.18102 C -0.14705 0.19097 -0.17466 0.19421 -0.18698 0.19514 C -0.19757 0.20509 -0.21146 0.20533 -0.22379 0.20625 C -0.2349 0.21366 -0.22136 0.20556 -0.24167 0.21111 C -0.24532 0.21204 -0.24861 0.21528 -0.25243 0.21597 C -0.2632 0.21806 -0.25712 0.2169 -0.27032 0.21898 C -0.28802 0.225 -0.30539 0.2213 -0.32379 0.2206 C -0.33802 0.21875 -0.35052 0.21227 -0.36424 0.20949 C -0.37518 0.20463 -0.38177 0.20301 -0.3941 0.20162 C -0.42709 0.19051 -0.48091 0.19306 -0.51302 0.19213 C -0.52466 0.19097 -0.54757 0.18889 -0.55712 0.18727 C -0.5724 0.18472 -0.58716 0.17755 -0.60243 0.17454 C -0.60556 0.17269 -0.60903 0.17222 -0.61198 0.16991 C -0.61615 0.16667 -0.61754 0.1625 -0.62257 0.16042 C -0.62587 0.15579 -0.62848 0.15 -0.63212 0.14607 C -0.63351 0.14445 -0.63559 0.14445 -0.63698 0.14283 C -0.63959 0.14005 -0.6441 0.13333 -0.6441 0.13333 C -0.64566 0.125 -0.65104 0.1125 -0.65469 0.10486 C -0.65573 0.09537 -0.65643 0.09097 -0.65955 0.08264 C -0.66111 0.07338 -0.66146 0.06343 -0.66545 0.05556 C -0.66736 0.03542 -0.66511 0.04977 -0.6691 0.03495 C -0.67032 0.03033 -0.67257 0.0206 -0.67257 0.0206 C -0.67466 -0.00671 -0.67604 -0.03704 -0.6691 -0.06342 C -0.66945 -0.06551 -0.67032 -0.06991 -0.67032 -0.06991 E">
                                      <p:cBhvr>
                                        <p:cTn id="2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5" descr=""/>
          <p:cNvPicPr/>
          <p:nvPr/>
        </p:nvPicPr>
        <p:blipFill>
          <a:blip r:embed="rId2"/>
          <a:stretch/>
        </p:blipFill>
        <p:spPr>
          <a:xfrm>
            <a:off x="822240" y="384120"/>
            <a:ext cx="7572600" cy="7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95280" y="1989000"/>
            <a:ext cx="799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ртинк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Электронный ресурс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]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жим доступ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ing.com/images/search?q=%d0%ba%d0%b0%d1%80%d1%82%d0%b8%d0%bd%d0%ba%d0%b8+%d0%9f%d1%83%d1%88%d0%ba%d0%b8%d0%bd&amp;FORM=HDRS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4:41:32Z</dcterms:created>
  <dc:creator>Татьяна</dc:creator>
  <dc:description/>
  <dc:language>en-US</dc:language>
  <cp:lastModifiedBy>Директор</cp:lastModifiedBy>
  <dcterms:modified xsi:type="dcterms:W3CDTF">2017-10-12T12:55:18Z</dcterms:modified>
  <cp:revision>66</cp:revision>
  <dc:subject/>
  <dc:title>Слайд 1</dc:title>
</cp:coreProperties>
</file>