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6E1-AFE7-4F3C-8FBD-EE4DD57033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E5AE-87DF-4704-8FAB-8213877BEF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9CE9-0CB6-49BC-A179-812FE948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2A6-22B4-49F8-9C2C-5CF1F9405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D51-588E-4EF8-896D-0ADF6EB9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1CA-96AD-4165-B681-FCDA7962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C89-FD37-40E2-83CF-9D79A769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5B86-5C8D-4D8D-A4DC-12FBFD67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4DA-6D0B-4FB5-93CE-016AF4D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B75E-7F2F-48F6-AA58-8C05375F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E0D0-7F95-4405-B62D-0EBED24B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F73F-7D24-4E0B-A7E1-3B7168E4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227-B834-48D3-AE24-6FCF98A3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C77-0041-467F-AE60-5705A8F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4FB2-0BFB-48C2-822B-F2F2541258B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итературное чтение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: Люблю природу русскую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сен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486040" y="3886200"/>
            <a:ext cx="3352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читель начальных классов Тебенева О.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БОУС(К)НШ №2 г.Нерюнг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ttp://wallpaper-gallery.net/images/autumn-pics/autumn-pics-1.jpg"/>
          <p:cNvPicPr/>
          <p:nvPr/>
        </p:nvPicPr>
        <p:blipFill>
          <a:blip r:embed="rId1"/>
          <a:stretch/>
        </p:blipFill>
        <p:spPr>
          <a:xfrm>
            <a:off x="304920" y="3562200"/>
            <a:ext cx="525780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garderob-chic.ru/wp-content/uploads/2017/07/picture.jpg"/>
          <p:cNvPicPr/>
          <p:nvPr/>
        </p:nvPicPr>
        <p:blipFill>
          <a:blip r:embed="rId1"/>
          <a:stretch/>
        </p:blipFill>
        <p:spPr>
          <a:xfrm>
            <a:off x="106200" y="1060560"/>
            <a:ext cx="9037800" cy="57974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сень, любимое время года А.С. Пушки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666880" y="3962520"/>
            <a:ext cx="601992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Унылая пора! очей очарованье!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Приятна мне твоя прощальная краса –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Люблю я пышное природы увяд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багрец и в золото одетые леса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их сенях ветра шум и свежее дыханье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мглой волнистою покрыты небеса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редкий солнца луч, и первые морозы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отдалённые седой зимы угрозы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cdn.wallpapersafari.com/79/24/523CHO.jpg"/>
          <p:cNvPicPr/>
          <p:nvPr/>
        </p:nvPicPr>
        <p:blipFill>
          <a:blip r:embed="rId1"/>
          <a:stretch/>
        </p:blipFill>
        <p:spPr>
          <a:xfrm>
            <a:off x="3200400" y="1257480"/>
            <a:ext cx="5943600" cy="445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304560" y="609120"/>
            <a:ext cx="28954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 – излюбленное время года многих писателей  и поэтов.   Сколько произведений посвящено ей, не счесть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- то находил в ней покой и очарование, кто-то грусть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topfonpack.ru/uploads/images/k/a/r/kartinki_osen_dlja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274320"/>
            <a:ext cx="7924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Физминут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ы по лесу  прогулялис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 немножко отдохн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станем, глубоко вздохне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уки в стороны, впер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деса у нас на свете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али карликами дет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 потом все дружно встал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ликанами мы стали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ружно хлопае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гами топ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Хорошо мы погулял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И не сколько не устали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6840" y="5028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фольклоре много упоминаний об осени – после сбора урожая у крестьян появлялось   свободное время, которое не грех было скоротать за сочинением загадок, потешек,  стихов.  Немало об осени и примет, большая часть которых пытается предсказать  холодность зимы, и засушливость будущей весны.   Загадайте друг –другу загадки с. 67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s://bisquit-mag.ru/wp-content/uploads/2014/09/osen.jpg"/>
          <p:cNvPicPr/>
          <p:nvPr/>
        </p:nvPicPr>
        <p:blipFill>
          <a:blip r:embed="rId1"/>
          <a:stretch/>
        </p:blipFill>
        <p:spPr>
          <a:xfrm>
            <a:off x="838080" y="304920"/>
            <a:ext cx="7559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219320"/>
          <a:ext cx="5715000" cy="446076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 txBox="1"/>
          <p:nvPr/>
        </p:nvSpPr>
        <p:spPr>
          <a:xfrm>
            <a:off x="6400800" y="1294920"/>
            <a:ext cx="2286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С моего цветка бере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челка самый вкусный ме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меня всеж обижаю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куру тонкую сдир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228600" y="304920"/>
            <a:ext cx="1768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219320"/>
          <a:ext cx="5715000" cy="446076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90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  Весной зеленела, летом загоре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енью красные кораллы на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228600" y="304920"/>
            <a:ext cx="15238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19320"/>
          <a:ext cx="5715000" cy="448308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44460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72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"/>
          <p:cNvSpPr txBox="1"/>
          <p:nvPr/>
        </p:nvSpPr>
        <p:spPr>
          <a:xfrm>
            <a:off x="6400800" y="1294920"/>
            <a:ext cx="2286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Что за дерево стоит? Ветра нет, а лист  дрожи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Есть у родственницы ел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еколючие иго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о в отличии от ел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падают те иголк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219320"/>
          <a:ext cx="5715000" cy="452592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346320"/>
                <a:gridCol w="9828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584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 меня длинней иголки, чем у е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чень прямо я расту в выс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я не на опушке, ветви -  только на мак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Меня в лесу оставили весь век торчать заста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ушанке заячьей зимой, а летом с бритой голов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304920" y="2286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219320"/>
          <a:ext cx="5715000" cy="4525920"/>
        </p:xfrm>
        <a:graphic>
          <a:graphicData uri="http://schemas.openxmlformats.org/drawingml/2006/table">
            <a:tbl>
              <a:tblPr/>
              <a:tblGrid>
                <a:gridCol w="442800"/>
                <a:gridCol w="444600"/>
                <a:gridCol w="442800"/>
                <a:gridCol w="346320"/>
                <a:gridCol w="98280"/>
                <a:gridCol w="358920"/>
                <a:gridCol w="528480"/>
                <a:gridCol w="442800"/>
                <a:gridCol w="444600"/>
                <a:gridCol w="442800"/>
                <a:gridCol w="444600"/>
                <a:gridCol w="442800"/>
                <a:gridCol w="444600"/>
                <a:gridCol w="390600"/>
              </a:tblGrid>
              <a:tr h="55584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200">
                <a:tc gridSpan="4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200"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6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3720" rIns="63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6172200" y="1294920"/>
            <a:ext cx="2743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У меня длинней иголки, чем у елк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чень прямо я расту в высо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Если я не на опушке, ветви -  только на макушк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Меня в лесу оставили весь век торчать заставили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ушанке заячьей зимой, а летом с бритой голово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304920" y="228600"/>
            <a:ext cx="137160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оссворд «Деревь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09480" y="1295280"/>
          <a:ext cx="5715000" cy="5121360"/>
        </p:xfrm>
        <a:graphic>
          <a:graphicData uri="http://schemas.openxmlformats.org/drawingml/2006/table">
            <a:tbl>
              <a:tblPr/>
              <a:tblGrid>
                <a:gridCol w="443160"/>
                <a:gridCol w="444240"/>
                <a:gridCol w="443160"/>
                <a:gridCol w="444240"/>
                <a:gridCol w="443160"/>
                <a:gridCol w="444240"/>
                <a:gridCol w="443160"/>
                <a:gridCol w="444240"/>
                <a:gridCol w="443160"/>
                <a:gridCol w="444600"/>
                <a:gridCol w="442800"/>
                <a:gridCol w="444600"/>
                <a:gridCol w="390240"/>
              </a:tblGrid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4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66240" rIns="66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7" name=""/>
          <p:cNvSpPr txBox="1"/>
          <p:nvPr/>
        </p:nvSpPr>
        <p:spPr>
          <a:xfrm>
            <a:off x="6400800" y="1371240"/>
            <a:ext cx="2362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7. Зелена, а не луг, бела, а не снег, кудрява, а не челове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8. Я из крошки бочки вылез, корешки пустил и выро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л высок я и могуч, не боюсь достать до туч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кормлю свиней и белок – ничего, что плод мой мелок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https://img.fonwall.ru/o/68/fgf_8.jpg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57135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Цель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накомить учащихся с новым разделом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ть правильному чтению стихов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ть память, речь, мыш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638280"/>
                <a:gridCol w="639720"/>
                <a:gridCol w="638280"/>
                <a:gridCol w="639720"/>
                <a:gridCol w="637920"/>
                <a:gridCol w="639720"/>
                <a:gridCol w="638280"/>
                <a:gridCol w="639720"/>
                <a:gridCol w="638280"/>
                <a:gridCol w="639720"/>
                <a:gridCol w="638280"/>
                <a:gridCol w="639720"/>
                <a:gridCol w="561960"/>
              </a:tblGrid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969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1" name="Picture 4" descr="https://previews.123rf.com/images/sinaappel/sinaappel1208/sinaappel120800002/14704450-art-autumn-tree-Maple-Stock-Photo.jpg"/>
          <p:cNvPicPr/>
          <p:nvPr/>
        </p:nvPicPr>
        <p:blipFill>
          <a:blip r:embed="rId1"/>
          <a:stretch/>
        </p:blipFill>
        <p:spPr>
          <a:xfrm>
            <a:off x="0" y="457200"/>
            <a:ext cx="20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ыбери и продолжи любое  предло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205000"/>
            <a:ext cx="896472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годняшнем уроке я узна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ом уроке я похвалил бы себя за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уроков мне захотелось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сумел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дведем итог уро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й раздел учебника мы начали изуч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произведения в нем мы будем чит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овы основные признаки осен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s://cdn.photoclub.by/images/main13/138547_main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3505320"/>
            <a:ext cx="41148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ончается лето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кончается ле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солнце не светит, 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ячется где-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 дождь- первоклассник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беет немножко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косую линейку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линует окошк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. Токмак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ttp://flamber.ru/files/photos/1190115759/1226933788_g.jpg"/>
          <p:cNvPicPr/>
          <p:nvPr/>
        </p:nvPicPr>
        <p:blipFill>
          <a:blip r:embed="rId1"/>
          <a:stretch/>
        </p:blipFill>
        <p:spPr>
          <a:xfrm>
            <a:off x="0" y="152280"/>
            <a:ext cx="9150480" cy="6096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191120" y="3886200"/>
            <a:ext cx="44956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Понравилось вам стихотворение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О чем рассказывает нам автор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libri"/>
              </a:rPr>
              <a:t>Как автор называет дождь? Почему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s://www.look.com.ua/download.php?file=201407/1366x768/look.com.ua-108142.jpg"/>
          <p:cNvPicPr/>
          <p:nvPr/>
        </p:nvPicPr>
        <p:blipFill>
          <a:blip r:embed="rId1"/>
          <a:stretch/>
        </p:blipFill>
        <p:spPr>
          <a:xfrm>
            <a:off x="0" y="0"/>
            <a:ext cx="914868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Calibri"/>
              </a:rPr>
              <a:t>Прочитайте стихотворение медленно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2174760"/>
            <a:ext cx="6172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чается лето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нчается лет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солнце не светит, 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рячется где-т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 дождь- первоклассник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обеет немножко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 косую линей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линует окошк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            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И. Токма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s://ds01.infourok.ru/uploads/ex/0b8a/0000ced9-1addab05/640/img4.jpg"/>
          <p:cNvPicPr/>
          <p:nvPr/>
        </p:nvPicPr>
        <p:blipFill>
          <a:blip r:embed="rId1"/>
          <a:stretch/>
        </p:blipFill>
        <p:spPr>
          <a:xfrm>
            <a:off x="63360" y="47520"/>
            <a:ext cx="9080640" cy="6810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0" lang="ru-RU" sz="2900" spc="-1" strike="noStrike">
                <a:solidFill>
                  <a:srgbClr val="ffffff"/>
                </a:solidFill>
                <a:latin typeface="Calibri"/>
              </a:rPr>
              <a:t>Прочитайте с удивлением,(с восхищением)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666880" y="4419720"/>
            <a:ext cx="6477120" cy="17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Кончается лето!     кончается лет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солнце не светит, а   прячется где-т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И дождь- первоклассник,  робеет немножк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 косую линейку  линует окошко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сшифруй шарад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228600" y="2590920"/>
            <a:ext cx="86104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ЬНЕСО ЮУКССУ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УДОРИРП    ЮЛБЮ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 с. 6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ы думаете, с какими произведения мы  будем знакомиться в этом разделе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м ваши предположения. Прочитайте с. 66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вы знаете об А.С. Пушки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42840" y="304920"/>
            <a:ext cx="6172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ликий русский поэт и писатель Александр Сергеевич Пушки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6 июня 1799г.- 1837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раннего детства Пушкин рос и воспитывался в литературной сред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втор  поэмы «Руслан и Людмила», романа «Евгений Онегин» «Сказке о рыбаке и рыбке»  «Сказке о царе Салтане» и друг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litceysel.ru/amda/%D0%9C.+%D0%A4.+%D0%9E%D1%80%D0%BB%D0%BE%D0%B2+%E2%80%A6%D0%9F%D1%83%D1%88%D0%BA%D0%B8%D0%BD+%E2%80%95+%D1%81%D0%BE%D0%BB%D0%BD%D1%86%D0%B5+%D0%BD%D0%B0%D1%88%D0%B5%D0%B9+%D0%9F%D0%BE%D1%8D%D0%B7%D0%B8%D0%B8a/167659_html_m7c3161e0.jpg"/>
          <p:cNvPicPr/>
          <p:nvPr/>
        </p:nvPicPr>
        <p:blipFill>
          <a:blip r:embed="rId1"/>
          <a:stretch/>
        </p:blipFill>
        <p:spPr>
          <a:xfrm>
            <a:off x="-6480" y="225360"/>
            <a:ext cx="2859120" cy="3975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http://ru.warnet.ru/img/books_covers/1005695888.jpg"/>
          <p:cNvPicPr/>
          <p:nvPr/>
        </p:nvPicPr>
        <p:blipFill>
          <a:blip r:embed="rId2"/>
          <a:stretch/>
        </p:blipFill>
        <p:spPr>
          <a:xfrm>
            <a:off x="457200" y="4572000"/>
            <a:ext cx="1536840" cy="2021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https://rusemporium.ru/static/productimage/name/44196-kniga-biblioteka-detskogo-sada-pushkin-a-s-skazka-o-tsare-saltane-83b1a3.jpg"/>
          <p:cNvPicPr/>
          <p:nvPr/>
        </p:nvPicPr>
        <p:blipFill>
          <a:blip r:embed="rId3"/>
          <a:stretch/>
        </p:blipFill>
        <p:spPr>
          <a:xfrm>
            <a:off x="2362320" y="4572000"/>
            <a:ext cx="1550880" cy="205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2" descr="http://www.ruskniga.com/media/catalog/product/6/3/63_1.jpg"/>
          <p:cNvPicPr/>
          <p:nvPr/>
        </p:nvPicPr>
        <p:blipFill>
          <a:blip r:embed="rId4"/>
          <a:stretch/>
        </p:blipFill>
        <p:spPr>
          <a:xfrm>
            <a:off x="4191120" y="45720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http://www.dez-flor.ru/bidatublit/5218"/>
          <p:cNvPicPr/>
          <p:nvPr/>
        </p:nvPicPr>
        <p:blipFill>
          <a:blip r:embed="rId5"/>
          <a:stretch/>
        </p:blipFill>
        <p:spPr>
          <a:xfrm>
            <a:off x="6019920" y="4572000"/>
            <a:ext cx="13064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tatic.dochkisinochki.ru/upload/catalog/dfbf898c789dca590ca630b8fc065cbe/GL000160007_001.jpg"/>
          <p:cNvPicPr/>
          <p:nvPr/>
        </p:nvPicPr>
        <p:blipFill>
          <a:blip r:embed="rId6"/>
          <a:stretch/>
        </p:blipFill>
        <p:spPr>
          <a:xfrm>
            <a:off x="7543800" y="4572000"/>
            <a:ext cx="13082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2T13:29:23Z</dcterms:created>
  <dc:creator>оля</dc:creator>
  <dc:description/>
  <dc:language>en-US</dc:language>
  <cp:lastModifiedBy>оля</cp:lastModifiedBy>
  <dcterms:modified xsi:type="dcterms:W3CDTF">2017-10-12T12:45:58Z</dcterms:modified>
  <cp:revision>6</cp:revision>
  <dc:subject/>
  <dc:title>Люблю природу русскую. Осень.</dc:title>
</cp:coreProperties>
</file>