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CAAC-D6EF-4DBA-A096-545D7F9002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CF5-3620-440F-AE1F-3C2A046AF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225-2B84-43C1-AA94-71742CD0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5E8-94F1-4700-8209-E8B552B7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F66-5BDA-4D27-8DFD-2DF51255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7A0-3AA3-4C38-B754-CAC4E30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3A8-7659-4554-95A6-3581145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436-FDA6-48EA-B98E-61EDFA8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EFE-C2BE-49E2-B4F4-0A3A312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8B3-4828-46E6-B6B8-24D0868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0B1-F80B-4D16-BE58-B5E1520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671-A10A-4D67-89E6-1DD3536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8C5-59E5-419B-BFF3-AAB9A2F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AE1-0640-43FE-B522-EB9829D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A25-27D1-4A94-B275-6500A33734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ое чте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Люблю природу русску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486040" y="38862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ль начальных классов Тебенева О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БОУС(К)НШ №2 г.Нерюнг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allpaper-gallery.net/images/autumn-pics/autumn-pics-1.jpg"/>
          <p:cNvPicPr/>
          <p:nvPr/>
        </p:nvPicPr>
        <p:blipFill>
          <a:blip r:embed="rId1"/>
          <a:stretch/>
        </p:blipFill>
        <p:spPr>
          <a:xfrm>
            <a:off x="304920" y="3562200"/>
            <a:ext cx="5257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garderob-chic.ru/wp-content/uploads/2017/07/picture.jpg"/>
          <p:cNvPicPr/>
          <p:nvPr/>
        </p:nvPicPr>
        <p:blipFill>
          <a:blip r:embed="rId1"/>
          <a:stretch/>
        </p:blipFill>
        <p:spPr>
          <a:xfrm>
            <a:off x="106200" y="1060560"/>
            <a:ext cx="9037800" cy="5797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сень, любимое время года А.С. Пушк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66880" y="3962520"/>
            <a:ext cx="601992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нылая пора! очей очаровань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ятна мне твоя прощальная краса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юблю я пышное природы увяд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багрец и в золото одетые лес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их сенях ветра шум и свежее дых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мглой волнистою покрыты небес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редкий солнца луч, и первые мороз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отдалённые седой зимы угроз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cdn.wallpapersafari.com/79/24/523CHO.jpg"/>
          <p:cNvPicPr/>
          <p:nvPr/>
        </p:nvPicPr>
        <p:blipFill>
          <a:blip r:embed="rId1"/>
          <a:stretch/>
        </p:blipFill>
        <p:spPr>
          <a:xfrm>
            <a:off x="3200400" y="1257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04560" y="609120"/>
            <a:ext cx="2895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– излюбленное время года многих писателей  и поэтов.   Сколько произведений посвящено ей, не счесть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- то находил в ней покой и очарование, кто-то грусть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opfonpack.ru/uploads/images/k/a/r/kartinki_osen_dlja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измину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по лесу  прогулялис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 немножко отдохн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нем, глубоко вздох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и в стороны,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деса у нас на свет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ли карликами де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потом все дружно вста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ликанами мы стал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жно хлопае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гами топ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 мы погуля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е сколько не уста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5028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фольклоре много упоминаний об осени – после сбора урожая у крестьян появлялось   свободное время, которое не грех было скоротать за сочинением загадок, потешек,  стихов.  Немало об осени и примет, большая часть которых пытается предсказать  холодность зимы, и засушливость будущей весны.   Загадайте друг –другу загадки с. 6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bisquit-mag.ru/wp-content/uploads/2014/09/osen.jpg"/>
          <p:cNvPicPr/>
          <p:nvPr/>
        </p:nvPicPr>
        <p:blipFill>
          <a:blip r:embed="rId1"/>
          <a:stretch/>
        </p:blipFill>
        <p:spPr>
          <a:xfrm>
            <a:off x="838080" y="304920"/>
            <a:ext cx="755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5715000" cy="446076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 txBox="1"/>
          <p:nvPr/>
        </p:nvSpPr>
        <p:spPr>
          <a:xfrm>
            <a:off x="6400800" y="1294920"/>
            <a:ext cx="2286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 моего цветка бер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челка самый вкусный м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еня всеж обижаю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уру тонкую сдир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228600" y="304920"/>
            <a:ext cx="1768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219320"/>
          <a:ext cx="5715000" cy="446076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 Весной зеленела, летом загоре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красные кораллы на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228600" y="304920"/>
            <a:ext cx="15238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19320"/>
          <a:ext cx="5715000" cy="448308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6400800" y="1294920"/>
            <a:ext cx="2286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Что за дерево стоит? Ветра нет, а лист  дрож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Есть у родственницы ел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колючие иго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в отличии от ел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адают те игол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219320"/>
          <a:ext cx="5715000" cy="452592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346320"/>
                <a:gridCol w="9828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584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 меня длинней иголки, чем у е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чень прямо я расту в выс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я не на опушке, ветви -  только на мак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Меня в лесу оставили весь век торчать заста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ушанке заячьей зимой, а летом с бритой голов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304920" y="2286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19320"/>
          <a:ext cx="5715000" cy="452592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346320"/>
                <a:gridCol w="9828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584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 меня длинней иголки, чем у е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чень прямо я расту в выс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я не на опушке, ветви -  только на мак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Меня в лесу оставили весь век торчать заста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ушанке заячьей зимой, а летом с бритой голов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304920" y="2286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295280"/>
          <a:ext cx="5715000" cy="5121360"/>
        </p:xfrm>
        <a:graphic>
          <a:graphicData uri="http://schemas.openxmlformats.org/drawingml/2006/table">
            <a:tbl>
              <a:tblPr/>
              <a:tblGrid>
                <a:gridCol w="443160"/>
                <a:gridCol w="444240"/>
                <a:gridCol w="443160"/>
                <a:gridCol w="444240"/>
                <a:gridCol w="443160"/>
                <a:gridCol w="444240"/>
                <a:gridCol w="443160"/>
                <a:gridCol w="444240"/>
                <a:gridCol w="443160"/>
                <a:gridCol w="444600"/>
                <a:gridCol w="442800"/>
                <a:gridCol w="444600"/>
                <a:gridCol w="390240"/>
              </a:tblGrid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4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 txBox="1"/>
          <p:nvPr/>
        </p:nvSpPr>
        <p:spPr>
          <a:xfrm>
            <a:off x="6400800" y="1371240"/>
            <a:ext cx="236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Зелена, а не луг, бела, а не снег, кудрява, а не челов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Я из крошки бочки вылез, корешки пустил и выро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л высок я и могуч, не боюсь достать до ту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кормлю свиней и белок – ничего, что плод мой мел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s://img.fonwall.ru/o/68/fgf_8.jpg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учащихся с новым раздело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ть правильному чтению стих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память, речь, мыш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638280"/>
                <a:gridCol w="639720"/>
                <a:gridCol w="638280"/>
                <a:gridCol w="639720"/>
                <a:gridCol w="637920"/>
                <a:gridCol w="639720"/>
                <a:gridCol w="638280"/>
                <a:gridCol w="639720"/>
                <a:gridCol w="638280"/>
                <a:gridCol w="639720"/>
                <a:gridCol w="638280"/>
                <a:gridCol w="639720"/>
                <a:gridCol w="561960"/>
              </a:tblGrid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бери и продолжи любое  пред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205000"/>
            <a:ext cx="8964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ем уроке 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я похвалил бы себя з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роков мне захотелос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суме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ведем итог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раздел учебника мы начали изуч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изведения в нем мы будем 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основные признаки осе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cdn.photoclub.by/images/main13/138547_main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3505320"/>
            <a:ext cx="4114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ончается лет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ончается л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солнце не светит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ячется где-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дождь- первоклассни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беет немнож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сую линей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инует око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. Токма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lamber.ru/files/photos/1190115759/1226933788_g.jpg"/>
          <p:cNvPicPr/>
          <p:nvPr/>
        </p:nvPicPr>
        <p:blipFill>
          <a:blip r:embed="rId1"/>
          <a:stretch/>
        </p:blipFill>
        <p:spPr>
          <a:xfrm>
            <a:off x="0" y="152280"/>
            <a:ext cx="915048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44956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онравилось вам стихотвор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 чем рассказывает нам автор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Как автор называет дождь? Почему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www.look.com.ua/download.php?file=201407/1366x768/look.com.ua-108142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читайте стихотворение медленно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6172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чается лет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чается л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солнце не светит, 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ячется где-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дождь- первоклассни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беет немнож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осую линей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инует окош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. Токма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ds01.infourok.ru/uploads/ex/0b8a/0000ced9-1addab05/640/img4.jpg"/>
          <p:cNvPicPr/>
          <p:nvPr/>
        </p:nvPicPr>
        <p:blipFill>
          <a:blip r:embed="rId1"/>
          <a:stretch/>
        </p:blipFill>
        <p:spPr>
          <a:xfrm>
            <a:off x="63360" y="47520"/>
            <a:ext cx="9080640" cy="6810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рочитайте с удивлением,(с восхищением)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66880" y="4419720"/>
            <a:ext cx="647712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нчается лето!     кончается лет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солнце не светит, а   прячется где-т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дождь- первоклассник,  робеет немножк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косую линейку  линует окошк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сшифруй шар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28600" y="25909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ЬНЕСО ЮУКСС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УДОРИРП    ЮЛБЮ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 с. 6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 думаете, с какими произведения мы  будем знакомиться в этом раздел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м ваши предположения. Прочитайте с. 6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ы знаете об А.С. Пушки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42840" y="3049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ликий русский поэт и писатель Александр Сергеевич Пушк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июня 1799г.- 183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раннего детства Пушкин рос и воспитывался в литературной сре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  поэмы «Руслан и Людмила», романа «Евгений Онегин» «Сказке о рыбаке и рыбке»  «Сказке о царе Салтане»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litceysel.ru/amda/%D0%9C.+%D0%A4.+%D0%9E%D1%80%D0%BB%D0%BE%D0%B2+%E2%80%A6%D0%9F%D1%83%D1%88%D0%BA%D0%B8%D0%BD+%E2%80%95+%D1%81%D0%BE%D0%BB%D0%BD%D1%86%D0%B5+%D0%BD%D0%B0%D1%88%D0%B5%D0%B9+%D0%9F%D0%BE%D1%8D%D0%B7%D0%B8%D0%B8a/167659_html_m7c3161e0.jpg"/>
          <p:cNvPicPr/>
          <p:nvPr/>
        </p:nvPicPr>
        <p:blipFill>
          <a:blip r:embed="rId1"/>
          <a:stretch/>
        </p:blipFill>
        <p:spPr>
          <a:xfrm>
            <a:off x="-6480" y="225360"/>
            <a:ext cx="285912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ru.warnet.ru/img/books_covers/1005695888.jpg"/>
          <p:cNvPicPr/>
          <p:nvPr/>
        </p:nvPicPr>
        <p:blipFill>
          <a:blip r:embed="rId2"/>
          <a:stretch/>
        </p:blipFill>
        <p:spPr>
          <a:xfrm>
            <a:off x="457200" y="4572000"/>
            <a:ext cx="1536840" cy="202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s://rusemporium.ru/static/productimage/name/44196-kniga-biblioteka-detskogo-sada-pushkin-a-s-skazka-o-tsare-saltane-83b1a3.jpg"/>
          <p:cNvPicPr/>
          <p:nvPr/>
        </p:nvPicPr>
        <p:blipFill>
          <a:blip r:embed="rId3"/>
          <a:stretch/>
        </p:blipFill>
        <p:spPr>
          <a:xfrm>
            <a:off x="2362320" y="4572000"/>
            <a:ext cx="1550880" cy="205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www.ruskniga.com/media/catalog/product/6/3/63_1.jpg"/>
          <p:cNvPicPr/>
          <p:nvPr/>
        </p:nvPicPr>
        <p:blipFill>
          <a:blip r:embed="rId4"/>
          <a:stretch/>
        </p:blipFill>
        <p:spPr>
          <a:xfrm>
            <a:off x="4191120" y="45720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dez-flor.ru/bidatublit/5218"/>
          <p:cNvPicPr/>
          <p:nvPr/>
        </p:nvPicPr>
        <p:blipFill>
          <a:blip r:embed="rId5"/>
          <a:stretch/>
        </p:blipFill>
        <p:spPr>
          <a:xfrm>
            <a:off x="6019920" y="4572000"/>
            <a:ext cx="13064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tatic.dochkisinochki.ru/upload/catalog/dfbf898c789dca590ca630b8fc065cbe/GL000160007_001.jpg"/>
          <p:cNvPicPr/>
          <p:nvPr/>
        </p:nvPicPr>
        <p:blipFill>
          <a:blip r:embed="rId6"/>
          <a:stretch/>
        </p:blipFill>
        <p:spPr>
          <a:xfrm>
            <a:off x="7543800" y="4572000"/>
            <a:ext cx="130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2T13:29:23Z</dcterms:created>
  <dc:creator>оля</dc:creator>
  <dc:description/>
  <dc:language>en-US</dc:language>
  <cp:lastModifiedBy>оля</cp:lastModifiedBy>
  <dcterms:modified xsi:type="dcterms:W3CDTF">2017-10-12T12:45:58Z</dcterms:modified>
  <cp:revision>6</cp:revision>
  <dc:subject/>
  <dc:title>Люблю природу русскую. Осень.</dc:title>
</cp:coreProperties>
</file>