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6.jpeg" ContentType="image/jpe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7B67-5550-4B89-86AC-E95DE9AA0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34B4-676E-41B5-BD44-D69E559E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271F-4E0B-44A9-AC60-9B48ED87D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D4E8-1467-442C-AA35-ABA0EFF5E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2462-0C38-4033-9934-1154F0844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25D9-3E00-472B-8F74-47EF4A6A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D156-8614-4280-B0B7-589A10F4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7F40-63A4-47F1-BCC7-9E3543A7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86C9-C9A5-4E50-98EC-28C56EF4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64FC-7CB1-4048-B89F-E0E0DF93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9185-DDD5-4533-8AE5-4BB875F6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607A-4986-42B0-A5F6-DFE66D04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FF99-01B1-4AFA-9BD6-38E52356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9FFD-EBCA-4931-9BDA-C34EDA6B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93EB-F9C6-484A-88EC-9DF3AD41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9609-58CA-4C3C-BE05-D7C930020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DF4D-79B5-40AA-A5DE-D6020B05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63DD-CDFB-4491-8883-3932DF28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B87C-5DCC-46B5-9A33-D9EDDDB2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5674-D30D-47C2-ADE8-9C7AC638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5B16-C0A6-4FD3-92D9-A4227E81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F7F6-97A7-4FF0-B976-1068EB59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FDF5-0146-4392-AFFC-3C7051A2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3CCE-6356-4B9C-8F17-E67AB5E2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120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486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9828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D2EB-8DC4-43B3-9695-1CBA4A7D7F1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600"/>
            <a:chOff x="0" y="-36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600"/>
              <a:ext cx="8078760" cy="22464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0"/>
              <a:ext cx="1203120" cy="684684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8800"/>
                <a:chOff x="8381880" y="-360"/>
                <a:chExt cx="762120" cy="22788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7040" y="-360"/>
                  <a:ext cx="279360" cy="275400"/>
                  <a:chOff x="8717040" y="-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7040" y="-360"/>
                    <a:ext cx="279360" cy="275400"/>
                    <a:chOff x="8717040" y="-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55920" y="-392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65280" y="91800"/>
                      <a:ext cx="14076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6560" y="1396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70320" y="7164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41240" y="5904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10720" y="10872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6560" y="20160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85080" y="1771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90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90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436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237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74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83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84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86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8480"/>
                <a:ext cx="828720" cy="4701960"/>
                <a:chOff x="7848720" y="1608480"/>
                <a:chExt cx="828720" cy="470196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84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126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210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93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9012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58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821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86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1036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905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876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68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70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94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96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18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401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206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83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11480"/>
              <a:ext cx="1190520" cy="193680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61080"/>
              <a:ext cx="1219320" cy="19965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4200"/>
              <a:ext cx="1231920" cy="403020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3840"/>
              <a:ext cx="979560" cy="21808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37400"/>
              <a:ext cx="914400" cy="50400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72520"/>
              <a:ext cx="909720" cy="306648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0"/>
              <a:ext cx="576360" cy="33469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2240"/>
              <a:ext cx="300240" cy="334728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2240"/>
              <a:ext cx="88920" cy="684684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30160"/>
              <a:ext cx="1165320" cy="6181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9720" y="3321360"/>
              <a:ext cx="684684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27A5-4506-4DD4-8DE9-4D73F5DB848F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2388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Педагогический проект 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«Экономическое воспитание детей дошкольного возраста посредством сказки»</a:t>
            </a:r>
            <a:br>
              <a:rPr sz="3600"/>
            </a:b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воспитателя структурного подразделения «Детский сад №16 комбинированного вида» МБДОУ «Детский сад «Радуга» комбинированного вида» Рузаевского муниципального района</a:t>
            </a: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3352320"/>
            <a:ext cx="42321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7d47d"/>
                </a:solidFill>
                <a:latin typeface="Monotype Corsiva"/>
              </a:rPr>
              <a:t>Родионовой Людмилы Геннадьевны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Рисунок 1" descr="D:\Документы\хлам с р.с\Новая папка\Photo-0012.jpg"/>
          <p:cNvPicPr/>
          <p:nvPr/>
        </p:nvPicPr>
        <p:blipFill>
          <a:blip r:embed="rId1"/>
          <a:stretch/>
        </p:blipFill>
        <p:spPr>
          <a:xfrm>
            <a:off x="4460760" y="2971800"/>
            <a:ext cx="2778120" cy="3489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3" descr="D:\Документы\работа\садик\018.JPG"/>
          <p:cNvPicPr/>
          <p:nvPr/>
        </p:nvPicPr>
        <p:blipFill>
          <a:blip r:embed="rId1"/>
          <a:stretch/>
        </p:blipFill>
        <p:spPr>
          <a:xfrm>
            <a:off x="609480" y="1676520"/>
            <a:ext cx="6705720" cy="44193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Дидактическая игра «Хочу- Надо»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3" descr="D:\Документы\работа\фото\49.jpg"/>
          <p:cNvPicPr/>
          <p:nvPr/>
        </p:nvPicPr>
        <p:blipFill>
          <a:blip r:embed="rId1"/>
          <a:stretch/>
        </p:blipFill>
        <p:spPr>
          <a:xfrm>
            <a:off x="762120" y="1676520"/>
            <a:ext cx="6553080" cy="43434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Сюжетно- ролевая игра «Магазин»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Работа осуществляется по двум направлениям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Содержимое 6" descr=""/>
          <p:cNvPicPr/>
          <p:nvPr/>
        </p:nvPicPr>
        <p:blipFill>
          <a:blip r:embed="rId1"/>
          <a:stretch/>
        </p:blipFill>
        <p:spPr>
          <a:xfrm>
            <a:off x="244440" y="1590840"/>
            <a:ext cx="7424640" cy="4511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Работа с родителями осуществляется по следующим направлениям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1" name="Содержимое 3" descr=""/>
          <p:cNvPicPr/>
          <p:nvPr/>
        </p:nvPicPr>
        <p:blipFill>
          <a:blip r:embed="rId1"/>
          <a:stretch/>
        </p:blipFill>
        <p:spPr>
          <a:xfrm>
            <a:off x="244440" y="1554120"/>
            <a:ext cx="742464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едполагаемый результат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Содержимое 7" descr=""/>
          <p:cNvPicPr/>
          <p:nvPr/>
        </p:nvPicPr>
        <p:blipFill>
          <a:blip r:embed="rId1"/>
          <a:stretch/>
        </p:blipFill>
        <p:spPr>
          <a:xfrm>
            <a:off x="255600" y="1566720"/>
            <a:ext cx="740088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18000" y="2520"/>
            <a:ext cx="394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66920"/>
                <a:tab algn="l" pos="2552760"/>
                <a:tab algn="ctr" pos="4626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ктуальность.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Схема 13" descr=""/>
          <p:cNvPicPr/>
          <p:nvPr/>
        </p:nvPicPr>
        <p:blipFill>
          <a:blip r:embed="rId1"/>
          <a:stretch/>
        </p:blipFill>
        <p:spPr>
          <a:xfrm>
            <a:off x="-19080" y="774720"/>
            <a:ext cx="7658280" cy="53640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7"/>
          <p:cNvSpPr/>
          <p:nvPr/>
        </p:nvSpPr>
        <p:spPr>
          <a:xfrm>
            <a:off x="0" y="567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2266920"/>
                <a:tab algn="ctr" pos="4626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Научное обоснова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Исследования  И.А. Сасовой, А.А. Смоленцевой, А.Д. Шатовой доказали, что экономическое образование и воспитание необходимо начинать   с дошкольного возраста, когда приобретается первичный  опыт  ориентировки в элементарных экономических  явлениях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40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Рисунок 7" descr="D:\Картинки\фото\ывук.jpeg"/>
          <p:cNvPicPr/>
          <p:nvPr/>
        </p:nvPicPr>
        <p:blipFill>
          <a:blip r:embed="rId1"/>
          <a:stretch/>
        </p:blipFill>
        <p:spPr>
          <a:xfrm>
            <a:off x="609480" y="3657600"/>
            <a:ext cx="1905120" cy="160020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8" descr="D:\Картинки\фото\олд.jpeg"/>
          <p:cNvPicPr/>
          <p:nvPr/>
        </p:nvPicPr>
        <p:blipFill>
          <a:blip r:embed="rId2"/>
          <a:stretch/>
        </p:blipFill>
        <p:spPr>
          <a:xfrm>
            <a:off x="3276720" y="3657600"/>
            <a:ext cx="2057400" cy="160020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9" descr="D:\Картинки\фото\ьтибю.jpeg"/>
          <p:cNvPicPr/>
          <p:nvPr/>
        </p:nvPicPr>
        <p:blipFill>
          <a:blip r:embed="rId3"/>
          <a:stretch/>
        </p:blipFill>
        <p:spPr>
          <a:xfrm>
            <a:off x="5791320" y="358128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Схема 8" descr=""/>
          <p:cNvPicPr/>
          <p:nvPr/>
        </p:nvPicPr>
        <p:blipFill>
          <a:blip r:embed="rId1"/>
          <a:stretch/>
        </p:blipFill>
        <p:spPr>
          <a:xfrm>
            <a:off x="603360" y="944640"/>
            <a:ext cx="708984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Задачи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6" name="Содержимое 7" descr=""/>
          <p:cNvPicPr/>
          <p:nvPr/>
        </p:nvPicPr>
        <p:blipFill>
          <a:blip r:embed="rId1"/>
          <a:stretch/>
        </p:blipFill>
        <p:spPr>
          <a:xfrm>
            <a:off x="255600" y="1579680"/>
            <a:ext cx="7400880" cy="4535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Схема 4" descr=""/>
          <p:cNvPicPr/>
          <p:nvPr/>
        </p:nvPicPr>
        <p:blipFill>
          <a:blip r:embed="rId1"/>
          <a:stretch/>
        </p:blipFill>
        <p:spPr>
          <a:xfrm>
            <a:off x="298440" y="920880"/>
            <a:ext cx="7559640" cy="5016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477200" cy="1143000"/>
          </a:xfrm>
          <a:prstGeom prst="rect">
            <a:avLst/>
          </a:prstGeom>
          <a:solidFill>
            <a:srgbClr val="00b050"/>
          </a:solidFill>
          <a:ln w="9360">
            <a:solidFill>
              <a:srgbClr val="d5b78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Перспективный план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9" name="Содержимое 3" descr=""/>
          <p:cNvPicPr/>
          <p:nvPr/>
        </p:nvPicPr>
        <p:blipFill>
          <a:blip r:embed="rId1"/>
          <a:stretch/>
        </p:blipFill>
        <p:spPr>
          <a:xfrm>
            <a:off x="255600" y="1560600"/>
            <a:ext cx="74008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Понятие « Деньги»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1" name="Picture 4" descr="D:\Документы\работа\работа\047.JPG"/>
          <p:cNvPicPr/>
          <p:nvPr/>
        </p:nvPicPr>
        <p:blipFill>
          <a:blip r:embed="rId1"/>
          <a:stretch/>
        </p:blipFill>
        <p:spPr>
          <a:xfrm>
            <a:off x="990720" y="1905120"/>
            <a:ext cx="6172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Понятие «потребности» - проблемная ситуация </a:t>
            </a:r>
            <a:br>
              <a:rPr sz="24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«</a:t>
            </a: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Необитаемый остров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»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3" name="Picture 3" descr="D:\Документы\работа\работа\004.JPG"/>
          <p:cNvPicPr/>
          <p:nvPr/>
        </p:nvPicPr>
        <p:blipFill>
          <a:blip r:embed="rId1"/>
          <a:stretch/>
        </p:blipFill>
        <p:spPr>
          <a:xfrm>
            <a:off x="1143000" y="1828800"/>
            <a:ext cx="6248520" cy="4800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ina</dc:creator>
  <dc:description/>
  <dc:language>en-US</dc:language>
  <cp:lastModifiedBy>Alina</cp:lastModifiedBy>
  <dcterms:modified xsi:type="dcterms:W3CDTF">2014-09-19T17:37:25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