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6.jpeg" ContentType="image/jpe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46E-2B84-4DFF-A1D3-68F370AC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269-9C74-4605-9C56-C3998DC8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DF6-E623-4780-BB5E-3BC28F61C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15C-8A0B-4CA6-8BF0-318C703D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192D-C259-48C3-8E48-9E9D7245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7D94-7202-41C8-B4F2-4A9098BC6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7852-46E6-44B4-AD1B-5FB5360D1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0DC7-AC88-42C9-ABB8-F169D775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0F96-8C6E-4C61-B81E-56AA56EE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03C25-47F3-4AEA-AE66-ED83CA8C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4C43-D057-483C-9406-C954F029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3DD-7965-4DFA-BDCF-7208C0B3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9376-C83D-4AD7-A06A-25AF24EC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8C38-5FBA-4484-86C6-29181612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9743-31D8-4EF5-9342-CF3F5891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3E12-DEE7-4DEA-B566-3C9703F0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C8DDB-F6EC-464F-ADA6-F18F8FDC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CEC-AFA3-49DE-93F1-512C17FC4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5341-953A-406C-A7A9-BD43374D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79DC-4D9B-4DC8-BDD9-8C75A981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EEE-57C7-46D7-A164-166862B9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811-1A9A-48CF-A249-9EE4932F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7C1C-0409-45EE-ADB3-FAA0B6BA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FF58-E93C-4D70-8CF6-72B793E5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120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86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82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CC1D2-0E65-42B0-B4A0-11491226B6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080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0800"/>
              <a:ext cx="1203120" cy="684684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8800"/>
                <a:chOff x="8381880" y="-360"/>
                <a:chExt cx="762120" cy="227880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7040" y="-360"/>
                  <a:ext cx="279360" cy="275400"/>
                  <a:chOff x="871704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7040" y="-360"/>
                    <a:ext cx="279360" cy="275400"/>
                    <a:chOff x="871704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55920" y="-392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65280" y="91800"/>
                      <a:ext cx="14076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6560" y="1396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70320" y="71640"/>
                    <a:ext cx="4248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41240" y="5904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10720" y="10872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6560" y="2016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85080" y="1771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90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90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360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37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74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83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84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86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8480"/>
                <a:ext cx="828720" cy="4701960"/>
                <a:chOff x="7848720" y="1608480"/>
                <a:chExt cx="828720" cy="470196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84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26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10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93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124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58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21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8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03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052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876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688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70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94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960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188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12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0640"/>
                  <a:ext cx="29556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8360"/>
                  <a:ext cx="295200" cy="289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1480"/>
              <a:ext cx="1190520" cy="193680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1080"/>
              <a:ext cx="1219320" cy="19965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4200"/>
              <a:ext cx="1231920" cy="403020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3840"/>
              <a:ext cx="979560" cy="21808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7400"/>
              <a:ext cx="914400" cy="504000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2520"/>
              <a:ext cx="909720" cy="3066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0800"/>
              <a:ext cx="576360" cy="334692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2240"/>
              <a:ext cx="300240" cy="334728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2240"/>
              <a:ext cx="88920" cy="684684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160"/>
              <a:ext cx="1165320" cy="6181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9720" y="3321360"/>
              <a:ext cx="684684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AF44-D907-422D-9BEE-0EDDB2312D1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2388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дагогический проект </a:t>
            </a: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«Экономическое воспитание детей дошкольного возраста посредством сказки»</a:t>
            </a:r>
            <a:br>
              <a:rPr sz="3600"/>
            </a:b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воспитателя структурного подразделения «Детский сад №16 комбинированного вида» МБДОУ «Детский сад «Радуга» комбинированного вида» Рузаевского муниципального района</a:t>
            </a:r>
            <a:endParaRPr b="0" lang="en-US" sz="1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3352320"/>
            <a:ext cx="4232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7d47d"/>
                </a:solidFill>
                <a:latin typeface="Monotype Corsiva"/>
              </a:rPr>
              <a:t>Родионовой Людмилы Геннадьевны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Рисунок 1" descr="D:\Документы\хлам с р.с\Новая папка\Photo-0012.jpg"/>
          <p:cNvPicPr/>
          <p:nvPr/>
        </p:nvPicPr>
        <p:blipFill>
          <a:blip r:embed="rId1"/>
          <a:stretch/>
        </p:blipFill>
        <p:spPr>
          <a:xfrm>
            <a:off x="4460760" y="2971800"/>
            <a:ext cx="2778120" cy="3489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D:\Документы\работа\садик\018.JPG"/>
          <p:cNvPicPr/>
          <p:nvPr/>
        </p:nvPicPr>
        <p:blipFill>
          <a:blip r:embed="rId1"/>
          <a:stretch/>
        </p:blipFill>
        <p:spPr>
          <a:xfrm>
            <a:off x="609480" y="1676520"/>
            <a:ext cx="6705720" cy="44193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Дидактическая игра «Хочу- Надо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D:\Документы\работа\фото\49.jpg"/>
          <p:cNvPicPr/>
          <p:nvPr/>
        </p:nvPicPr>
        <p:blipFill>
          <a:blip r:embed="rId1"/>
          <a:stretch/>
        </p:blipFill>
        <p:spPr>
          <a:xfrm>
            <a:off x="762120" y="1676520"/>
            <a:ext cx="655308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Сюжетно- ролевая игра «Магазин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осуществляется по двум направлениям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9" name="Содержимое 6" descr=""/>
          <p:cNvPicPr/>
          <p:nvPr/>
        </p:nvPicPr>
        <p:blipFill>
          <a:blip r:embed="rId1"/>
          <a:stretch/>
        </p:blipFill>
        <p:spPr>
          <a:xfrm>
            <a:off x="244440" y="1590840"/>
            <a:ext cx="7424640" cy="45115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Работа с родителями осуществляется по следующим направлениям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1" name="Содержимое 3" descr=""/>
          <p:cNvPicPr/>
          <p:nvPr/>
        </p:nvPicPr>
        <p:blipFill>
          <a:blip r:embed="rId1"/>
          <a:stretch/>
        </p:blipFill>
        <p:spPr>
          <a:xfrm>
            <a:off x="244440" y="1554120"/>
            <a:ext cx="7424640" cy="45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едполагаемый результат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3" name="Содержимое 7" descr=""/>
          <p:cNvPicPr/>
          <p:nvPr/>
        </p:nvPicPr>
        <p:blipFill>
          <a:blip r:embed="rId1"/>
          <a:stretch/>
        </p:blipFill>
        <p:spPr>
          <a:xfrm>
            <a:off x="255600" y="1566720"/>
            <a:ext cx="740088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18000" y="2520"/>
            <a:ext cx="394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66920"/>
                <a:tab algn="l" pos="255276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уальность.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Схема 13" descr=""/>
          <p:cNvPicPr/>
          <p:nvPr/>
        </p:nvPicPr>
        <p:blipFill>
          <a:blip r:embed="rId1"/>
          <a:stretch/>
        </p:blipFill>
        <p:spPr>
          <a:xfrm>
            <a:off x="-19080" y="774720"/>
            <a:ext cx="7658280" cy="5364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0" y="567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2266920"/>
                <a:tab algn="ctr" pos="4626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Научное обоснова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1311"/>
                </a:solidFill>
                <a:latin typeface="Arial"/>
              </a:rPr>
              <a:t>Исследования  И.А. Сасовой, А.А. Смоленцевой, А.Д. Шатовой доказали, что экономическое образование и воспитание необходимо начинать   с дошкольного возраста, когда приобретается первичный  опыт  ориентировки в элементарных экономических  явлениях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Рисунок 7" descr="D:\Картинки\фото\ывук.jpeg"/>
          <p:cNvPicPr/>
          <p:nvPr/>
        </p:nvPicPr>
        <p:blipFill>
          <a:blip r:embed="rId1"/>
          <a:stretch/>
        </p:blipFill>
        <p:spPr>
          <a:xfrm>
            <a:off x="609480" y="36576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8" descr="D:\Картинки\фото\олд.jpeg"/>
          <p:cNvPicPr/>
          <p:nvPr/>
        </p:nvPicPr>
        <p:blipFill>
          <a:blip r:embed="rId2"/>
          <a:stretch/>
        </p:blipFill>
        <p:spPr>
          <a:xfrm>
            <a:off x="3276720" y="3657600"/>
            <a:ext cx="2057400" cy="160020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9" descr="D:\Картинки\фото\ьтибю.jpeg"/>
          <p:cNvPicPr/>
          <p:nvPr/>
        </p:nvPicPr>
        <p:blipFill>
          <a:blip r:embed="rId3"/>
          <a:stretch/>
        </p:blipFill>
        <p:spPr>
          <a:xfrm>
            <a:off x="5791320" y="358128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Схема 8" descr=""/>
          <p:cNvPicPr/>
          <p:nvPr/>
        </p:nvPicPr>
        <p:blipFill>
          <a:blip r:embed="rId1"/>
          <a:stretch/>
        </p:blipFill>
        <p:spPr>
          <a:xfrm>
            <a:off x="603360" y="944640"/>
            <a:ext cx="7089840" cy="52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дачи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Содержимое 7" descr=""/>
          <p:cNvPicPr/>
          <p:nvPr/>
        </p:nvPicPr>
        <p:blipFill>
          <a:blip r:embed="rId1"/>
          <a:stretch/>
        </p:blipFill>
        <p:spPr>
          <a:xfrm>
            <a:off x="255600" y="1579680"/>
            <a:ext cx="7400880" cy="4535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Схема 4" descr=""/>
          <p:cNvPicPr/>
          <p:nvPr/>
        </p:nvPicPr>
        <p:blipFill>
          <a:blip r:embed="rId1"/>
          <a:stretch/>
        </p:blipFill>
        <p:spPr>
          <a:xfrm>
            <a:off x="298440" y="920880"/>
            <a:ext cx="7559640" cy="5016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477200" cy="1143000"/>
          </a:xfrm>
          <a:prstGeom prst="rect">
            <a:avLst/>
          </a:prstGeom>
          <a:solidFill>
            <a:srgbClr val="00b050"/>
          </a:solidFill>
          <a:ln w="9360">
            <a:solidFill>
              <a:srgbClr val="d5b7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Перспективный план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9" name="Содержимое 3" descr=""/>
          <p:cNvPicPr/>
          <p:nvPr/>
        </p:nvPicPr>
        <p:blipFill>
          <a:blip r:embed="rId1"/>
          <a:stretch/>
        </p:blipFill>
        <p:spPr>
          <a:xfrm>
            <a:off x="255600" y="1560600"/>
            <a:ext cx="74008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d47d"/>
                </a:solidFill>
                <a:latin typeface="Arial"/>
              </a:rPr>
              <a:t>Понятие « Деньги»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Picture 4" descr="D:\Документы\работа\работа\047.JPG"/>
          <p:cNvPicPr/>
          <p:nvPr/>
        </p:nvPicPr>
        <p:blipFill>
          <a:blip r:embed="rId1"/>
          <a:stretch/>
        </p:blipFill>
        <p:spPr>
          <a:xfrm>
            <a:off x="990720" y="1905120"/>
            <a:ext cx="6172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Понятие «потребности» - проблемная ситуация </a:t>
            </a:r>
            <a:br>
              <a:rPr sz="2400"/>
            </a:b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«</a:t>
            </a:r>
            <a:r>
              <a:rPr b="0" lang="ru-RU" sz="2400" spc="-1" strike="noStrike">
                <a:solidFill>
                  <a:srgbClr val="f7d47d"/>
                </a:solidFill>
                <a:latin typeface="Arial"/>
              </a:rPr>
              <a:t>Необитаемый остров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3" name="Picture 3" descr="D:\Документы\работа\работа\004.JPG"/>
          <p:cNvPicPr/>
          <p:nvPr/>
        </p:nvPicPr>
        <p:blipFill>
          <a:blip r:embed="rId1"/>
          <a:stretch/>
        </p:blipFill>
        <p:spPr>
          <a:xfrm>
            <a:off x="1143000" y="1828800"/>
            <a:ext cx="624852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ina</dc:creator>
  <dc:description/>
  <dc:language>en-US</dc:language>
  <cp:lastModifiedBy>Alina</cp:lastModifiedBy>
  <dcterms:modified xsi:type="dcterms:W3CDTF">2014-09-19T17:37:2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