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B51-B625-4A7A-9211-524828DF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E33-8004-4F62-96CB-D850DA3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C8F-8E69-4F55-A33D-EBEFC76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5B7-7044-47BF-89F0-7CD6A513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9812-743D-4BA3-93B8-666D0FC3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BF6-6787-4E0C-B7C1-8A149FF6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4A29-446A-4581-8072-FA43167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253F-E21E-4934-9616-AE7EE40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B140-8E32-441C-B1A7-5B5EB74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40E-1419-4843-A794-F8FE7ED7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899-F215-414F-ADB3-EF882AA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A29-AAB6-455C-A6BF-F090CB5B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F9E-9481-4BCE-BC44-B674A84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9B1B-C864-45EA-B1B6-9B6EC0CE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F9FA-91C8-4980-94D6-C2EDA5FB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0C2C-CD92-44DD-950C-B706AC0F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8C37-DE8C-47F5-9AF3-C57F82BB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866C-8E29-462B-BFDD-9704445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A868-A9E0-44F4-BE91-4B01E08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CF57-84F9-4F8F-92A6-F1D26626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DF0E-A349-414E-9657-1485146B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E385-969B-419F-93A9-378B44BF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62D-3226-41F2-B751-75FC7AC9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3CC7-17B5-4079-A6D2-F2B85FC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472E-CFB2-4352-B74F-8C0A0E5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EF8B-7578-41DB-9D48-34E4898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66ED-9183-4DA6-B9A4-D7B9929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BDC7-8EB0-48C6-A0FD-C796F630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88A7-AD32-46AA-A6C6-1F3B84FE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4C0A-9152-4AB0-9DAA-3E739752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8E99-9A5A-4CCB-8407-96692C0A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AB6D-FD91-461F-BB96-832CFE0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913C-DE50-467A-876D-04A41DD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2F3-5735-4E18-B7D1-1914D86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77CD-D57C-47B7-ACF6-E62B73E1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54AD-76E2-4593-939B-6F3615D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DC5E-B453-42FC-AB2C-BEB0382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512C-01E9-4F1B-A1CF-119FA402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1C1A-3CC7-4F37-A216-683E203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AFF9-E0BE-4856-9E94-14B8618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C3B9-CCCA-4F8E-994B-2CE52D4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E875-81ED-49F2-80B4-62119686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EC48-CF44-4197-8D35-85F67AA9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414E-7F32-4E4E-8735-CCFA47DB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6C7-4E72-455A-A208-4C170AC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B898-2725-45CD-9242-879C072C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9B26-FDD0-4D32-9F2E-C3D4412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A194-8587-4FFB-8C97-AF18C5F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FA7A-1D4B-4229-84E8-A7507E67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0747-81EB-4426-9BA3-B193545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6F208-CAE2-47D8-A1E2-675CBEB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FB51-ABCA-424D-B63F-170AA84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6254-A552-496E-B0A9-A6D47BC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39388-EEFE-4EBD-ACC7-2551A12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2D3A-9EFC-43A4-86F4-12E30B1A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5C6-4688-45B1-9A8F-34E383F5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37D0-42FB-44B9-946C-FF8D1709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7D2-E472-4A2C-A5FB-AB26579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112-D539-47A3-A44E-504AD8A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40A-EECF-4D73-AA94-0F3C4E6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AC3-8BDD-4DAF-8FB2-EA6179D69F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E28-3645-4FD1-8489-D1F03561FE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0D0-FDEF-4922-A8A3-8F77137A42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08B-47E3-471D-95D3-7E91BD305D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6AB4-7318-4628-9FB1-ED16FD98D5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ursiv.kz/uploads/posts/2012-02/thumbs/1329717076_petr_pervyj.jp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2" name="AutoShape 4">
            <a:hlinkClick r:id="rId1"/>
          </p:cNvPr>
          <p:cNvSpPr/>
          <p:nvPr/>
        </p:nvSpPr>
        <p:spPr>
          <a:xfrm>
            <a:off x="155520" y="-822240"/>
            <a:ext cx="2428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Прямоугольник 5" descr=""/>
          <p:cNvPicPr/>
          <p:nvPr/>
        </p:nvPicPr>
        <p:blipFill>
          <a:blip r:embed="rId2"/>
          <a:stretch/>
        </p:blipFill>
        <p:spPr>
          <a:xfrm>
            <a:off x="371520" y="128520"/>
            <a:ext cx="8839080" cy="1712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446040" y="1413000"/>
            <a:ext cx="830268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2"/>
          <p:cNvSpPr/>
          <p:nvPr/>
        </p:nvSpPr>
        <p:spPr>
          <a:xfrm>
            <a:off x="250920" y="40464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годин М.П. «Петр Великий» 184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Мы просыпаемся. Какой сегодня день? 1 января 1841 года? Петр Великий велел считать месяцы от рождества Христова. Пора одеваться – наше платье сшито по фасону, данному Петром, мундир по его форме. Сукно выткано на фабрике, которую завел он, шерсть настрижена с овец, которые развел о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адает на глаза книга – Петр ввел в употребление этот шрифт. Вы начинаете читать ее – этот язык сделался при Петре письменным, литературным, вытеснив церковны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осят газеты – Петр их нача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обедом от соленых огурцов до сельдей до картофеля, который указал он сажать, до виноградного вина, им разведенного, все блюда будут говорить нам о Пет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еда вы едете в гости – это ассамблея Петра. Встречаете там дам, допущенных до мужской компании по требованию Петра Великог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Как оценивает автор Петра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Докажите данную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2"/>
          <p:cNvSpPr/>
          <p:nvPr/>
        </p:nvSpPr>
        <p:spPr>
          <a:xfrm>
            <a:off x="684360" y="69228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следующая точка зрения на  оценку преобразовательной деятельности Петра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еобразования Петра 1 способствовали преодолению отсталости России, превращению ее в великую европейскую и морскую держа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я исторические  знания, приведите два аргумента подтверждающих данную точку зрения, и два аргумента, опровергающих 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826920" y="119700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синквей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Петр Перв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омашнее задание (на выбор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826920" y="1989000"/>
            <a:ext cx="749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ссе: «Петр 1-великий реформатор или великий тиран?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символ Петровской эпох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с контурной карт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7812000" y="227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урока – обобщение материала, формирование своей точки зрения на деятельность и личность Петра 1, значение петровских реформ для будущего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должите предло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комиться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ть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ть выводы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0a084fef807f817ccb6d09796e80da52.jpeg"/>
          <p:cNvPicPr/>
          <p:nvPr/>
        </p:nvPicPr>
        <p:blipFill>
          <a:blip r:embed="rId1"/>
          <a:stretch/>
        </p:blipFill>
        <p:spPr>
          <a:xfrm>
            <a:off x="1476360" y="384120"/>
            <a:ext cx="5759640" cy="605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авайте вспомн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Первая половина 18 в. в историю России вошла как:___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елизаветинское врем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петровская эпох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екатерининская эпох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Укажите даты Северной войны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1700-1721 гг.; в) 1699-1720 гг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1709-1721 гг.; г) 1701-1721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Полтавская битва произошла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в 1705 г.; в) в 1707 г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в 1709 г.; г) в 170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703 г. в ходе Северной войны царь Пётр основал город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Санкт-Петербур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Архангельс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А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Россия в 18 в. становится империей. Первым императором был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Пётр Второй; б) Михаил Романов; в) Пётр Перв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Укажите итоги Северной войны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Россия отвоевала выход в Балтийское мор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Россия лишилась части своей северной территор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Россия получила выход в Чёрное м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Ухудшение положения крестьян в начале 18в.объясняется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возросшими государственными повинностя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мобилизацией на строительство флота и Санкт-Петербур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приписыванием к мануфактура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верны все отве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1685 год - дата осн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Москвы; б)Санкт-Петербурга; в)Пензы; г)Индер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. Основное занятие индерцев в начале 18 ве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земледелие; б)дозорная служба; в)лашманство; г)работа на суконной фабр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468360" y="981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8 год, Аналитический Центр Юрия Лева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пятерка «самых выдающихся людей всех времен и народов», по мнению россия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89 году: Ленин, Петр I, Пушкин, Ломоносов, Жу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4 году: Петр I, Ленин, Пушкин, Сталин, Наполе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9 году: Петр I, Пушкин и Ленин, Сталин, Гагари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03 году: Петр I , Ленин, Сталин, Пушкин, Гагари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08 году: Пушкин, Петр I, Сталин, Ленин, Пути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17 году: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 думаете, почем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ссияне назвали выдающейся личностью всех времен и народов Петра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это за сражения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Рисунок 4" descr="Описание: http://xn--i1abbnckbmcl9fb.xn--p1ai/%D1%81%D1%82%D0%B0%D1%82%D1%8C%D0%B8/584958/1.gif"/>
          <p:cNvPicPr/>
          <p:nvPr/>
        </p:nvPicPr>
        <p:blipFill>
          <a:blip r:embed="rId1"/>
          <a:stretch/>
        </p:blipFill>
        <p:spPr>
          <a:xfrm>
            <a:off x="0" y="0"/>
            <a:ext cx="2781360" cy="3381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3" descr="Описание: http://xn--i1abbnckbmcl9fb.xn--p1ai/%D1%81%D1%82%D0%B0%D1%82%D1%8C%D0%B8/584958/image003.jpg"/>
          <p:cNvPicPr/>
          <p:nvPr/>
        </p:nvPicPr>
        <p:blipFill>
          <a:blip r:embed="rId2"/>
          <a:stretch/>
        </p:blipFill>
        <p:spPr>
          <a:xfrm>
            <a:off x="3162240" y="549360"/>
            <a:ext cx="3162240" cy="27525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Описание: http://xn--i1abbnckbmcl9fb.xn--p1ai/%D1%81%D1%82%D0%B0%D1%82%D1%8C%D0%B8/584958/image004.jpg"/>
          <p:cNvPicPr/>
          <p:nvPr/>
        </p:nvPicPr>
        <p:blipFill>
          <a:blip r:embed="rId3"/>
          <a:stretch/>
        </p:blipFill>
        <p:spPr>
          <a:xfrm>
            <a:off x="6588000" y="549360"/>
            <a:ext cx="2563920" cy="22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img025"/>
          <p:cNvPicPr/>
          <p:nvPr/>
        </p:nvPicPr>
        <p:blipFill>
          <a:blip r:embed="rId1"/>
          <a:stretch/>
        </p:blipFill>
        <p:spPr>
          <a:xfrm>
            <a:off x="539640" y="476280"/>
            <a:ext cx="2880000" cy="2711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ределите оценку Петра разными художникам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Рисунок 49" descr=""/>
          <p:cNvPicPr/>
          <p:nvPr/>
        </p:nvPicPr>
        <p:blipFill>
          <a:blip r:embed="rId2"/>
          <a:srcRect l="711" t="0" r="711" b="0"/>
          <a:stretch/>
        </p:blipFill>
        <p:spPr>
          <a:xfrm>
            <a:off x="3564000" y="115920"/>
            <a:ext cx="4726080" cy="2778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Описание: D:\Школа\Эпоха Петра\Ге.jpg"/>
          <p:cNvPicPr/>
          <p:nvPr/>
        </p:nvPicPr>
        <p:blipFill>
          <a:blip r:embed="rId3"/>
          <a:stretch/>
        </p:blipFill>
        <p:spPr>
          <a:xfrm>
            <a:off x="3992400" y="2927520"/>
            <a:ext cx="3305160" cy="201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3:07:11Z</dcterms:created>
  <dc:creator>Asus</dc:creator>
  <dc:description/>
  <dc:language>en-US</dc:language>
  <cp:lastModifiedBy>Администратор</cp:lastModifiedBy>
  <dcterms:modified xsi:type="dcterms:W3CDTF">2017-10-10T18:03:38Z</dcterms:modified>
  <cp:revision>56</cp:revision>
  <dc:subject/>
  <dc:title>Слайд 1</dc:title>
</cp:coreProperties>
</file>