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CC59-F108-4240-9A2D-F8EE6357D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86FE-605E-4635-BD67-AC671615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9BA-C8DC-4480-A2C9-A985CEF9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7E8F-83D2-4959-B339-F450817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A8D4-0FF8-42CE-AC86-72BED3F1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BA27-30F7-4063-9BAC-DD997FC0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B15E-BF5F-4CB0-824A-DAB35244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4C44-3186-4A15-825A-5866B60C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CAA2-E80A-4249-B3A1-C182940F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1351-D182-4520-81DB-31F08EF8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565F-A211-45EC-992B-902F2054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3CBA-2059-4803-AB1D-3CCA557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00CF0-41F0-4EE3-8AAE-23DCB1C3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0EEC-9963-4341-B9D1-CCC7C76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2F10-29BB-421B-9A7F-6E666C72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769-4BAA-446B-A5C5-DD7B19DBD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2DDC-8A77-48D1-A357-6E616E521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8E1BF-810C-4C13-ADB5-E9AF13CC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4947-480D-4D95-85BA-304743CC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71EBB-871B-4B0E-B13B-8D7C5A4E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8CC01-81E8-4BBB-A956-055923BC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29E56-AE5C-4032-8804-EF8165E8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EFE6-D0AE-4533-B500-E9E8EDE0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7B31E-CA86-44C4-8E9D-7DDE578C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ED4CB-3F71-4EBD-AD29-87049CE4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D40EB-B095-4844-8EBA-A3F21D6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B101B-03BE-4155-A615-0349589E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83B0E-269D-4EB4-B3A8-97CCCF13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1D9C7-6724-4CDA-BC45-F75201CB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2982F-E26F-471C-BACD-6D1A76C7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01FD-1639-467F-88C8-095C29A6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984B8-A2F5-445B-A477-490457D9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8DB08-333F-4D17-AA54-AAE60BF7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8B5A-57CD-4111-945B-92CA42C0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435BA-E04C-40F2-B4F9-1A9D84CE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BCCA8-2FFC-4F23-8ED7-55E95930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38AC6-0A19-43BB-947A-ED94D0B6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F5E6F-AE43-4279-9486-4F07BD8C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462B3-B4E1-4255-AA57-D65E7DB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F738D-867A-41C1-B98E-70A9529A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DA4C-036B-434C-98AA-F700C8E3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F6F5-DE0A-4B24-A12F-23AEEDD9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43E4A-E365-478C-84A5-9726B645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F8E3B-1ABD-4BF9-BAD4-397B8947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6858-03B0-43C7-BEE6-8E82A188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9F9BC-CEA9-4570-A4BE-90EFF08A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9B9F-5AE3-4E27-8BF8-3B60190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7926B-0132-485A-B95D-6A8908A3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DC0A3-FA28-4F8D-A9C9-8875E6231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A89A3-1CD2-4BA4-B6D2-B56144F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2DA3-F073-4337-8654-8FE5B829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71C32-3CDD-4671-BB10-9A02BEE0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08717-0448-427C-961A-8684F5A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A087-C068-476C-ABFC-D436EC7C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A6BD-A53F-4B60-A28E-760DA0C6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60CD-0913-41BD-A457-40DE098E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7C353-6BDA-4E3A-9A72-DE3D1D03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2EE-5EC4-4949-A55A-B457D1E7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956-4AED-4667-AF2A-E7344FDC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B1FB-10AA-437B-A4C1-9154F588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88C8B-05D2-40A9-9B0B-0DA4179B4D1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B7B4-D8D4-4614-85BC-7109DCE0967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F650-5737-4E7B-B995-07E8C34F9DB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15EE-D245-416F-9BC4-8933B63BFBF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CBB-5766-4A79-9EE7-3180191BDCC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kursiv.kz/uploads/posts/2012-02/thumbs/1329717076_petr_pervyj.jpg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  <p:sp>
        <p:nvSpPr>
          <p:cNvPr id="222" name="AutoShape 4">
            <a:hlinkClick r:id="rId1"/>
          </p:cNvPr>
          <p:cNvSpPr/>
          <p:nvPr/>
        </p:nvSpPr>
        <p:spPr>
          <a:xfrm>
            <a:off x="155520" y="-822240"/>
            <a:ext cx="242892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Прямоугольник 5" descr=""/>
          <p:cNvPicPr/>
          <p:nvPr/>
        </p:nvPicPr>
        <p:blipFill>
          <a:blip r:embed="rId2"/>
          <a:stretch/>
        </p:blipFill>
        <p:spPr>
          <a:xfrm>
            <a:off x="371520" y="128520"/>
            <a:ext cx="8839080" cy="171288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3" descr=""/>
          <p:cNvPicPr/>
          <p:nvPr/>
        </p:nvPicPr>
        <p:blipFill>
          <a:blip r:embed="rId3"/>
          <a:stretch/>
        </p:blipFill>
        <p:spPr>
          <a:xfrm>
            <a:off x="446040" y="1413000"/>
            <a:ext cx="8302680" cy="4968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2"/>
          <p:cNvSpPr/>
          <p:nvPr/>
        </p:nvSpPr>
        <p:spPr>
          <a:xfrm>
            <a:off x="250920" y="404640"/>
            <a:ext cx="842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годин М.П. «Петр Великий» 1841 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«Мы просыпаемся. Какой сегодня день? 1 января 1841 года? Петр Великий велел считать месяцы от рождества Христова. Пора одеваться – наше платье сшито по фасону, данному Петром, мундир по его форме. Сукно выткано на фабрике, которую завел он, шерсть настрижена с овец, которые развел о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падает на глаза книга – Петр ввел в употребление этот шрифт. Вы начинаете читать ее – этот язык сделался при Петре письменным, литературным, вытеснив церковный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носят газеты – Петр их нача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 обедом от соленых огурцов до сельдей до картофеля, который указал он сажать, до виноградного вина, им разведенного, все блюда будут говорить нам о Петр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  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ле обеда вы едете в гости – это ассамблея Петра. Встречаете там дам, допущенных до мужской компании по требованию Петра Великого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Как оценивает автор Петра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Докажите данную точку зр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2"/>
          <p:cNvSpPr/>
          <p:nvPr/>
        </p:nvSpPr>
        <p:spPr>
          <a:xfrm>
            <a:off x="684360" y="69228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уществует следующая точка зрения на  оценку преобразовательной деятельности Петра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Преобразования Петра 1 способствовали преодолению отсталости России, превращению ее в великую европейскую и морскую держав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я исторические  знания, приведите два аргумента подтверждающих данную точку зрения, и два аргумента, опровергающих е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"/>
          <p:cNvSpPr/>
          <p:nvPr/>
        </p:nvSpPr>
        <p:spPr>
          <a:xfrm>
            <a:off x="826920" y="1197000"/>
            <a:ext cx="7561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синквей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1.Петр Первы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79200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Домашнее задание (на выбор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826920" y="1989000"/>
            <a:ext cx="7490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ссе: «Петр 1-великий реформатор или великий тиран?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думать символ Петровской эпох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бота с контурной карто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7812000" y="2276640"/>
            <a:ext cx="185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ь урока – обобщение материала, формирование своей точки зрения на деятельность и личность Петра 1, значение петровских реформ для будущего Росс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должите предлож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знакомиться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мотреть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ть выводы. .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1" descr="0a084fef807f817ccb6d09796e80da52.jpeg"/>
          <p:cNvPicPr/>
          <p:nvPr/>
        </p:nvPicPr>
        <p:blipFill>
          <a:blip r:embed="rId1"/>
          <a:stretch/>
        </p:blipFill>
        <p:spPr>
          <a:xfrm>
            <a:off x="1476360" y="384120"/>
            <a:ext cx="5759640" cy="605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Давайте вспомним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Первая половина 18 в. в историю России вошла как:___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елизаветинское время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петровская эпох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екатерининская эпох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Укажите даты Северной войны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1700-1721 гг.; в) 1699-1720 гг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1709-1721 гг.; г) 1701-1721 г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Полтавская битва произошла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в 1705 г.; в) в 1707 г.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в 1709 г.; г) в 1704 г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1703 г. в ходе Северной войны царь Пётр основал город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Санкт-Петербург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Архангельск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Азо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Россия в 18 в. становится империей. Первым императором был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Пётр Второй; б) Михаил Романов; в) Пётр Первы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Укажите итоги Северной войны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Россия отвоевала выход в Балтийское море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Россия лишилась части своей северной территори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Россия получила выход в Чёрное мо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Ухудшение положения крестьян в начале 18в.объясняется: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 возросшими государственными повинностями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) мобилизацией на строительство флота и Санкт-Петербурга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) приписыванием к мануфактурам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) верны все ответ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1685 год - дата основа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Москвы; б)Санкт-Петербурга; в)Пензы; г)Индерк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. Основное занятие индерцев в начале 18 века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)земледелие; б)дозорная служба; в)лашманство; г)работа на суконной фабр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Прямоугольник 2"/>
          <p:cNvSpPr/>
          <p:nvPr/>
        </p:nvSpPr>
        <p:spPr>
          <a:xfrm>
            <a:off x="468360" y="98100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008 год, Аналитический Центр Юрия Левад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ервая пятерка «самых выдающихся людей всех времен и народов», по мнению россиян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89 году: Ленин, Петр I, Пушкин, Ломоносов, Жуков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4 году: Петр I, Ленин, Пушкин, Сталин, Наполео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1999 году: Петр I, Пушкин и Ленин, Сталин, Гагари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03 году: Петр I , Ленин, Сталин, Пушкин, Гагарин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08 году: Пушкин, Петр I, Сталин, Ленин, Путин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2017 году: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 думаете, почему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оссияне назвали выдающейся личностью всех времен и народов Петра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Что это за сражения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Рисунок 4" descr="Описание: http://xn--i1abbnckbmcl9fb.xn--p1ai/%D1%81%D1%82%D0%B0%D1%82%D1%8C%D0%B8/584958/1.gif"/>
          <p:cNvPicPr/>
          <p:nvPr/>
        </p:nvPicPr>
        <p:blipFill>
          <a:blip r:embed="rId1"/>
          <a:stretch/>
        </p:blipFill>
        <p:spPr>
          <a:xfrm>
            <a:off x="0" y="0"/>
            <a:ext cx="2781360" cy="338148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3" descr="Описание: http://xn--i1abbnckbmcl9fb.xn--p1ai/%D1%81%D1%82%D0%B0%D1%82%D1%8C%D0%B8/584958/image003.jpg"/>
          <p:cNvPicPr/>
          <p:nvPr/>
        </p:nvPicPr>
        <p:blipFill>
          <a:blip r:embed="rId2"/>
          <a:stretch/>
        </p:blipFill>
        <p:spPr>
          <a:xfrm>
            <a:off x="3162240" y="549360"/>
            <a:ext cx="3162240" cy="275256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2" descr="Описание: http://xn--i1abbnckbmcl9fb.xn--p1ai/%D1%81%D1%82%D0%B0%D1%82%D1%8C%D0%B8/584958/image004.jpg"/>
          <p:cNvPicPr/>
          <p:nvPr/>
        </p:nvPicPr>
        <p:blipFill>
          <a:blip r:embed="rId3"/>
          <a:stretch/>
        </p:blipFill>
        <p:spPr>
          <a:xfrm>
            <a:off x="6588000" y="549360"/>
            <a:ext cx="2563920" cy="226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img025"/>
          <p:cNvPicPr/>
          <p:nvPr/>
        </p:nvPicPr>
        <p:blipFill>
          <a:blip r:embed="rId1"/>
          <a:stretch/>
        </p:blipFill>
        <p:spPr>
          <a:xfrm>
            <a:off x="539640" y="476280"/>
            <a:ext cx="2880000" cy="271152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ределите оценку Петра разными художниками.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8" name="Рисунок 49" descr=""/>
          <p:cNvPicPr/>
          <p:nvPr/>
        </p:nvPicPr>
        <p:blipFill>
          <a:blip r:embed="rId2"/>
          <a:srcRect l="711" t="0" r="711" b="0"/>
          <a:stretch/>
        </p:blipFill>
        <p:spPr>
          <a:xfrm>
            <a:off x="3564000" y="115920"/>
            <a:ext cx="4726080" cy="2778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Описание: D:\Школа\Эпоха Петра\Ге.jpg"/>
          <p:cNvPicPr/>
          <p:nvPr/>
        </p:nvPicPr>
        <p:blipFill>
          <a:blip r:embed="rId3"/>
          <a:stretch/>
        </p:blipFill>
        <p:spPr>
          <a:xfrm>
            <a:off x="3992400" y="2927520"/>
            <a:ext cx="3305160" cy="2014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03:07:11Z</dcterms:created>
  <dc:creator>Asus</dc:creator>
  <dc:description/>
  <dc:language>en-US</dc:language>
  <cp:lastModifiedBy>Администратор</cp:lastModifiedBy>
  <dcterms:modified xsi:type="dcterms:W3CDTF">2017-10-10T18:03:38Z</dcterms:modified>
  <cp:revision>56</cp:revision>
  <dc:subject/>
  <dc:title>Слайд 1</dc:title>
</cp:coreProperties>
</file>