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3AF4-047B-4944-9465-0FF3A1D1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DED-583D-4712-8556-6086C6A0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2697-E728-4761-B773-0E2C4249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DE3-964A-4B7E-8DD6-6BC2E8146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0AC7-D56E-4807-BE1E-1315A063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C05-B922-4F8D-BE1F-44A598D4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2A6B-3D7A-42FE-A5DD-CB5F6D60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4BEF-E49E-4D24-A95B-C02B7EFED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BE21-A426-4C5A-ACFB-81000B5E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F0F-C599-4035-8148-029EC807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E35-A578-40D4-92DB-7BE7603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260-438F-4B3A-B2F1-9B568C86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F39E-5356-4936-8E0A-105CEF49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pptforschool.ru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кутник 1" descr=""/>
          <p:cNvPicPr/>
          <p:nvPr/>
        </p:nvPicPr>
        <p:blipFill>
          <a:blip r:embed="rId1"/>
          <a:stretch/>
        </p:blipFill>
        <p:spPr>
          <a:xfrm>
            <a:off x="2603520" y="365040"/>
            <a:ext cx="3936960" cy="14511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0" descr=""/>
          <p:cNvPicPr/>
          <p:nvPr/>
        </p:nvPicPr>
        <p:blipFill>
          <a:blip r:embed="rId2"/>
          <a:stretch/>
        </p:blipFill>
        <p:spPr>
          <a:xfrm>
            <a:off x="1555920" y="1752480"/>
            <a:ext cx="6032160" cy="4241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>
            <a:hlinkClick r:id="rId3"/>
          </p:cNvPr>
          <p:cNvSpPr/>
          <p:nvPr/>
        </p:nvSpPr>
        <p:spPr>
          <a:xfrm>
            <a:off x="7090560" y="6400800"/>
            <a:ext cx="1099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Comic Sans MS"/>
              </a:rPr>
              <a:t>Pptforschool.ru</a:t>
            </a:r>
            <a:endParaRPr b="0" lang="en-US" sz="1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"/>
          <p:cNvPicPr/>
          <p:nvPr/>
        </p:nvPicPr>
        <p:blipFill>
          <a:blip r:embed="rId1"/>
          <a:srcRect l="10580" t="7067" r="11980" b="7180"/>
          <a:stretch/>
        </p:blipFill>
        <p:spPr>
          <a:xfrm>
            <a:off x="1400040" y="985680"/>
            <a:ext cx="6229440" cy="48722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705720" y="24382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"/>
          <p:cNvPicPr/>
          <p:nvPr/>
        </p:nvPicPr>
        <p:blipFill>
          <a:blip r:embed="rId1"/>
          <a:srcRect l="7560" t="6467" r="14643" b="10137"/>
          <a:stretch/>
        </p:blipFill>
        <p:spPr>
          <a:xfrm>
            <a:off x="1157400" y="957240"/>
            <a:ext cx="6257880" cy="4729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838080" y="1143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n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"/>
          <p:cNvPicPr/>
          <p:nvPr/>
        </p:nvPicPr>
        <p:blipFill>
          <a:blip r:embed="rId1"/>
          <a:srcRect l="7261" t="6889" r="11834" b="7783"/>
          <a:stretch/>
        </p:blipFill>
        <p:spPr>
          <a:xfrm>
            <a:off x="1114560" y="971640"/>
            <a:ext cx="6543720" cy="48578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914400" y="12952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ing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8" descr=""/>
          <p:cNvPicPr/>
          <p:nvPr/>
        </p:nvPicPr>
        <p:blipFill>
          <a:blip r:embed="rId1"/>
          <a:srcRect l="7560" t="6139" r="15178" b="8281"/>
          <a:stretch/>
        </p:blipFill>
        <p:spPr>
          <a:xfrm>
            <a:off x="1157400" y="928800"/>
            <a:ext cx="6215040" cy="48718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5"/>
          <p:cNvSpPr/>
          <p:nvPr/>
        </p:nvSpPr>
        <p:spPr>
          <a:xfrm>
            <a:off x="838080" y="121932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m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"/>
          <p:cNvPicPr/>
          <p:nvPr/>
        </p:nvPicPr>
        <p:blipFill>
          <a:blip r:embed="rId1"/>
          <a:srcRect l="9688" t="11178" r="13225" b="10199"/>
          <a:stretch/>
        </p:blipFill>
        <p:spPr>
          <a:xfrm>
            <a:off x="1328760" y="1219320"/>
            <a:ext cx="6200640" cy="44672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609480" y="1219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lbow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rcRect l="7970" t="7737" r="8126" b="7598"/>
          <a:stretch/>
        </p:blipFill>
        <p:spPr>
          <a:xfrm>
            <a:off x="1171440" y="1014480"/>
            <a:ext cx="6786720" cy="48290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990720" y="35053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kne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7912" t="5714" r="9509" b="5854"/>
          <a:stretch/>
        </p:blipFill>
        <p:spPr>
          <a:xfrm>
            <a:off x="1185840" y="914400"/>
            <a:ext cx="6643800" cy="50148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914400" y="48769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shoulde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rcRect l="5785" t="6214" r="13046" b="9884"/>
          <a:stretch/>
        </p:blipFill>
        <p:spPr>
          <a:xfrm>
            <a:off x="1014480" y="942840"/>
            <a:ext cx="6529320" cy="47577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17220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ack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rcRect l="5070" t="5381" r="9688" b="6779"/>
          <a:stretch/>
        </p:blipFill>
        <p:spPr>
          <a:xfrm>
            <a:off x="957240" y="885960"/>
            <a:ext cx="6858000" cy="500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066680" y="464832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oo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rcRect l="6673" t="7891" r="10558" b="8533"/>
          <a:stretch/>
        </p:blipFill>
        <p:spPr>
          <a:xfrm>
            <a:off x="1085760" y="1028880"/>
            <a:ext cx="6658200" cy="4757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60199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o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rcRect l="6137" t="7467" r="11980" b="6843"/>
          <a:stretch/>
        </p:blipFill>
        <p:spPr>
          <a:xfrm>
            <a:off x="1042920" y="1028880"/>
            <a:ext cx="6586560" cy="48290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838080" y="44956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ead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rcRect l="5731" t="6988" r="9540" b="7347"/>
          <a:stretch/>
        </p:blipFill>
        <p:spPr>
          <a:xfrm>
            <a:off x="990720" y="971640"/>
            <a:ext cx="6852960" cy="48862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990720" y="28195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le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8" descr=""/>
          <p:cNvPicPr/>
          <p:nvPr/>
        </p:nvPicPr>
        <p:blipFill>
          <a:blip r:embed="rId1"/>
          <a:srcRect l="5428" t="5031" r="7716" b="6944"/>
          <a:stretch/>
        </p:blipFill>
        <p:spPr>
          <a:xfrm>
            <a:off x="985680" y="885960"/>
            <a:ext cx="6986880" cy="4971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6705720" y="1143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ai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"/>
          <p:cNvPicPr/>
          <p:nvPr/>
        </p:nvPicPr>
        <p:blipFill>
          <a:blip r:embed="rId1"/>
          <a:srcRect l="5037" t="5691" r="9955" b="6595"/>
          <a:stretch/>
        </p:blipFill>
        <p:spPr>
          <a:xfrm>
            <a:off x="914400" y="928800"/>
            <a:ext cx="6915240" cy="49435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914400" y="441972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fac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1"/>
          <a:srcRect l="4289" t="6305" r="8555" b="5694"/>
          <a:stretch/>
        </p:blipFill>
        <p:spPr>
          <a:xfrm>
            <a:off x="914400" y="928800"/>
            <a:ext cx="6972480" cy="5029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086600" y="403848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os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"/>
          <p:cNvPicPr/>
          <p:nvPr/>
        </p:nvPicPr>
        <p:blipFill>
          <a:blip r:embed="rId1"/>
          <a:srcRect l="5959" t="8330" r="11445" b="7016"/>
          <a:stretch/>
        </p:blipFill>
        <p:spPr>
          <a:xfrm>
            <a:off x="1028880" y="1057320"/>
            <a:ext cx="6643440" cy="48099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934320" y="5105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a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"/>
          <p:cNvPicPr/>
          <p:nvPr/>
        </p:nvPicPr>
        <p:blipFill>
          <a:blip r:embed="rId1"/>
          <a:srcRect l="4541" t="5564" r="11628" b="6675"/>
          <a:stretch/>
        </p:blipFill>
        <p:spPr>
          <a:xfrm>
            <a:off x="914400" y="900000"/>
            <a:ext cx="6743880" cy="4986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7391520" y="3733920"/>
            <a:ext cx="114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y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5" descr=""/>
          <p:cNvPicPr/>
          <p:nvPr/>
        </p:nvPicPr>
        <p:blipFill>
          <a:blip r:embed="rId1"/>
          <a:srcRect l="6137" t="6315" r="11802" b="7180"/>
          <a:stretch/>
        </p:blipFill>
        <p:spPr>
          <a:xfrm>
            <a:off x="1042920" y="942840"/>
            <a:ext cx="6600960" cy="4915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762120" y="274320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u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"/>
          <p:cNvPicPr/>
          <p:nvPr/>
        </p:nvPicPr>
        <p:blipFill>
          <a:blip r:embed="rId1"/>
          <a:srcRect l="7793" t="6139" r="14486" b="7531"/>
          <a:stretch/>
        </p:blipFill>
        <p:spPr>
          <a:xfrm>
            <a:off x="1157400" y="928800"/>
            <a:ext cx="6286320" cy="4914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914400" y="44956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et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54:36Z</dcterms:created>
  <dc:creator>User</dc:creator>
  <dc:description/>
  <dc:language>en-US</dc:language>
  <cp:lastModifiedBy>Inna Manchak</cp:lastModifiedBy>
  <dcterms:modified xsi:type="dcterms:W3CDTF">2014-01-20T15:18:02Z</dcterms:modified>
  <cp:revision>14</cp:revision>
  <dc:subject/>
  <dc:title>Slide 1</dc:title>
</cp:coreProperties>
</file>