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0DEF-5DE9-4C92-9F39-28D479E25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0C6A-E039-4665-9D0F-515D1D32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A9E9-0F5E-45EC-B018-5F1070103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ABAE-6A3E-4122-9E27-26EA6ADB0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F9C8-1C6C-4F2A-A18B-9569C9A1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8541-70BD-41D1-8E49-4371B3F2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107C-80D3-4F60-8035-30B219FA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139E-A424-45D7-A844-FCA580F9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567A-5024-4608-BDA5-7A0F0315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7E29-1C3F-489D-9AB9-B574AE7F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A3FA-8B61-4989-B9B5-2ABF0CFD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C99E-C120-40DC-BEF0-DEB011B9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5D9E-57E9-4CC0-946B-4EE7E3BD3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Допустимы ли наказан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19640" y="1341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Arial"/>
              </a:rPr>
              <a:t>Детям больше нужен пример для подражания, чем кри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Arial"/>
              </a:rPr>
              <a:t>                                      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d60093"/>
                </a:solidFill>
                <a:latin typeface="Arial"/>
              </a:rPr>
              <a:t>(Ж. Жубе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476360" y="5300640"/>
            <a:ext cx="5688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ff"/>
                </a:solidFill>
                <a:latin typeface="Times New Roman"/>
              </a:rPr>
              <a:t>Презентацию составила воспитатель: Болотина М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4000" y="1484280"/>
            <a:ext cx="3313080" cy="4149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54100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Воспитывая ребенка, нельзя забывать, что послушание детей не самоцель, а способ, при помощи которого формируется сознание человека, подготовленность к жизни в обществе. А это возможно лишь в том случае, если взрослые относятся к детям с уваж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Этих принципов необходимо придерживаться и в воспитании своих детей.  Но очень часто в семьях педагогов происходит обратное.  Мало того,  зачастую получается так, что на своих детей у воспитателей не хватает ни  время,  ни сил.  Не всегда и не каждому  удается сдерживать свою усталость, недовольство, свою негативную энергию, которую сдерживали в течении дня  при общении с детьми в саду, и не выплеснуть как  из рога изобилия на своих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724360" y="549360"/>
            <a:ext cx="3121200" cy="2798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ff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280" y="6165720"/>
            <a:ext cx="663588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66ff"/>
                </a:solidFill>
                <a:latin typeface="Arial"/>
              </a:rPr>
              <a:t>Литература: Л.Ф. Островская «Почему ребенок не слушаетс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5111640" cy="3471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867280" y="1268280"/>
            <a:ext cx="2640240" cy="1913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446544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Еще А. С. Макаренко говорил, что наказание очень трудная вещь, которая требует от взрослого большого такта и осторожности, и применять его следует «как можно реже, только в том случае, когда без наказания нельзя обойтись». Кроме того, надо помнить, что этот метод не является ведущим, а тем более единственным, при помощи которого можно добиться от ребенка послуш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148360" y="260280"/>
            <a:ext cx="3600360" cy="3673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61308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Когда мы говорим о допустимости наказания (конечно, речь идет не о физических мерах), то имеем в виду, что наказание как исключение (а не как система) применяется на виду с другими педагогическими способами воздейств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  разъяснени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  убеждени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  поощрение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 разумной требовательностью  в сочетании с уважением к личности ребен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  положительным примером окружающ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4330800" cy="57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Умение воспитателя обходиться без наказания - залог успешного развития в детях лучших черт человека. Правильное воспитание - воспитание без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наказ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788000" y="620640"/>
            <a:ext cx="4038480" cy="2827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Надо приучать детей с малых лет к тому, чтобы они ощущали неловкость от сделанного замечания. Но если вы твердо уверены, что в данной ситуации без наказания не обойтись, то необходимо учитывать какова мера и какое действие оно окажет на ребенка: поможет ли исправить его поведение, предотвратит ли в дальнейшем непослушание в аналогичных ситуациях. Прежде всего, должны быть исключены такие наказания, которые вызывают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физическую боль, страх, подавляют детскую волю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6840" y="333360"/>
            <a:ext cx="469116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На детей дошкольного возраста впечатляющее воздействие оказывает временное изменение обычно теплого отношения на более холодное, официальное: лишение ласки, к которой ребенок привык, воспринимается им как наказ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Опытные педагоги иногда используют такую форму наказания, как обсуждение детского проступка в коллективе сверстников. Особенно это применимо к старшим дошкольникам, так как их сознание более высоко развито. Но тут важно не превратить серьезный разговор о проступке в суд над ребен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219640" y="836640"/>
            <a:ext cx="3229200" cy="2905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447516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Частые наказания за незначительные провинности ранят сердце ребенка, чтобы избавиться от этого, ребенок пытается скрыться за спину «спасительной лжи». «Это не я Борьку толкнул, он сам упал!». «Это не я, это Саша сломал!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Как было уже сказано, наказание - крайняя мера воздействия. Они допустимы, когда использованы все возможные формы убеждения и не принесли желанного результ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076720" y="476280"/>
            <a:ext cx="3741840" cy="2879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447516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Arial"/>
              </a:rPr>
              <a:t>Возможные формы наказ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Порица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замечания в строгом то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временная холодность в общении и лишение ребенка лас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обсуждение детского поступ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лишение ребенка удовольствий, любимых иг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временное отстранение от игр с товарища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наконец: насорил - убери, сломал - почи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716360" y="692280"/>
            <a:ext cx="4427640" cy="2822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6840" y="549000"/>
            <a:ext cx="469116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Недопустимые формы наказ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Лишение сна, прогулки, ед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наказание труд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применение физической сил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унижение ребен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оскорбле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запугивание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148360" y="981000"/>
            <a:ext cx="3779640" cy="2516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7T09:44:35Z</dcterms:created>
  <dc:creator>User</dc:creator>
  <dc:description/>
  <dc:language>en-US</dc:language>
  <cp:lastModifiedBy>User</cp:lastModifiedBy>
  <dcterms:modified xsi:type="dcterms:W3CDTF">2017-10-13T18:58:09Z</dcterms:modified>
  <cp:revision>6</cp:revision>
  <dc:subject/>
  <dc:title>Допустимы ли наказания?</dc:title>
</cp:coreProperties>
</file>