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50B-E001-4D6D-A104-B70195E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4E3-809B-4590-88A3-8A86FF25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4DC-6167-4829-A041-42EEE998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F09-F75F-4FC6-947D-78D87E81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0E2-E25F-44F6-A8F6-423CEC0C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1CA-65BC-465E-A425-C650CF35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592-6260-4D32-BF68-31E3BA60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4EC-F97B-4F1C-ADB7-0FBC973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F08-3BA0-42A9-9AAE-356446F2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9BD-E9DA-460E-A33B-3841BF1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99C-5FC0-4C17-A733-EEC11DA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579-ABDB-4F86-A070-9D4C0AC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465F-6954-4B37-818B-49B62A9FB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Допустимы ли наказ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1964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Детям больше нужен пример для подражания, чем кр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(Ж. Жуб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76360" y="530064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Презентацию составила воспитатель: Болотина М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31308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5410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оспитывая ребенка, нельзя забывать, что послушание детей не самоцель, а способ, при помощи которого формируется сознание человека, подготовленность к жизни в обществе. А это возможно лишь в том случае, если взрослые относятся к детям с ув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Этих принципов необходимо придерживаться и в воспитании своих детей.  Но очень часто в семьях педагогов происходит обратное.  Мало того,  зачастую получается так, что на своих детей у воспитателей не хватает ни  время,  ни сил.  Не всегда и не каждому  удается сдерживать свою усталость, недовольство, свою негативную энергию, которую сдерживали в течении дня  при общении с детьми в саду, и не выплеснуть как  из рога изобилия на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312120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6165720"/>
            <a:ext cx="663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ff"/>
                </a:solidFill>
                <a:latin typeface="Arial"/>
              </a:rPr>
              <a:t>Литература: Л.Ф. Островская «Почему ребенок не слушаетс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5111640" cy="347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264024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46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Еще А. С. Макаренко говорил, что наказание очень трудная вещь, которая требует от взрослого большого такта и осторожности, и применять его следует «как можно реже, только в том случае, когда без наказания нельзя обойтись». Кроме того, надо помнить, что этот метод не является ведущим, а тем более единственным, при помощи которого можно добиться от ребенка 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60036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6130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огда мы говорим о допустимости наказания (конечно, речь идет не о физических мерах), то имеем в виду, что наказание как исключение (а не как система) применяется на виду с другими педагогическими способами воз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разъясне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убежде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поощр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разумной требовательностью  в сочетании с уважением к личности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положительным примером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43308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мение воспитателя обходиться без наказания - залог успешного развития в детях лучших черт человека. Правильное воспитание - воспитание без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адо приучать детей с малых лет к тому, чтобы они ощущали неловкость от сделанного замечания. Но если вы твердо уверены, что в данной ситуации без наказания не обойтись, то необходимо учитывать какова мера и какое действие оно окажет на ребенка: поможет ли исправить его поведение, предотвратит ли в дальнейшем непослушание в аналогичных ситуациях. Прежде всего, должны быть исключены такие наказания, которые вызывают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изическую боль, страх, подавляют детскую вол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691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детей дошкольного возраста впечатляющее воздействие оказывает временное изменение обычно теплого отношения на более холодное, официальное: лишение ласки, к которой ребенок привык, воспринимается им как нака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пытные педагоги иногда используют такую форму наказания, как обсуждение детского проступка в коллективе сверстников. Особенно это применимо к старшим дошкольникам, так как их сознание более высоко развито. Но тут важно не превратить серьезный разговор о проступке в суд над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22920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Частые наказания за незначительные провинности ранят сердце ребенка, чтобы избавиться от этого, ребенок пытается скрыться за спину «спасительной лжи». «Это не я Борьку толкнул, он сам упал!». «Это не я, это Саша сломал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ак было уже сказано, наказание - крайняя мера воздействия. Они допустимы, когда использованы все возможные формы убеждения и не принесли жела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7418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475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Возможные формы наказ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риц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мечания в строгом т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ременная холодность в общении и лишение ребенка лас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бсуждение детского посту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лишение ребенка удовольствий, любимых иг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ременное отстранение от игр с товарищ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конец: насорил - убери, сломал - поч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427640" cy="282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691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Недопустимые формы на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Лишение сна, прогулки, 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аказание тру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именение физической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нижение реб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скорб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угивани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779640" cy="251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09:44:35Z</dcterms:created>
  <dc:creator>User</dc:creator>
  <dc:description/>
  <dc:language>en-US</dc:language>
  <cp:lastModifiedBy>User</cp:lastModifiedBy>
  <dcterms:modified xsi:type="dcterms:W3CDTF">2017-10-13T18:58:09Z</dcterms:modified>
  <cp:revision>6</cp:revision>
  <dc:subject/>
  <dc:title>Допустимы ли наказания?</dc:title>
</cp:coreProperties>
</file>