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29C-42F3-42BE-8290-A5351C67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F40-C6DD-4FAE-AAAA-0540BC0F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274-711A-4BE8-9CD1-21C065DF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613-FF74-4A29-9CF3-6518C243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F38-414F-4D54-9ECB-B5A54B8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C5FB-DE3E-48BE-98C0-95979EB5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6AB-00D1-4772-BAFA-A59ED2F3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F6B-8385-4DF3-9E11-8B5E43A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D707-53C7-4949-8BC8-E6C16E28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288-616C-4C0D-B04A-123DE3C3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629-F858-4CEA-84EE-F2643FD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95E-579D-4DA3-841E-4C796AA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5137-9C26-414F-BA14-A518B35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8467-7B82-4FC6-88E1-EDA9E97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4413-29A8-4EE4-8652-8BF84644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E8B2-4DD0-4728-B84A-A9A1A9F3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D28-0F15-4400-9FB9-1D97C038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F40-ECE5-4472-BA12-27338A5B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899-51B0-43D9-BAEE-85F19BF0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D25-D14E-46AD-B3F7-1C7B66A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D8B-935F-4AE9-AB07-DE701C1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B07-F896-437F-8A1F-7B049FC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F6E-8109-43A9-97F3-E9E5C73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1AB-D892-4408-8894-A639EE0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5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875-5ECC-4E60-B607-83B9686B7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5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F8D-A090-451C-B310-29FBC5FDE3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Эмоциональные нарушения у детей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ошкольного возраст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13" descr="images"/>
          <p:cNvPicPr/>
          <p:nvPr/>
        </p:nvPicPr>
        <p:blipFill>
          <a:blip r:embed="rId1"/>
          <a:stretch/>
        </p:blipFill>
        <p:spPr>
          <a:xfrm>
            <a:off x="2428920" y="1857240"/>
            <a:ext cx="43578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94920" y="285840"/>
            <a:ext cx="8373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ое неблагополучие, как отклонение в развитии личности, возникает при потере согласия со своими чувствами, и невозможностью самореализов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3932_big"/>
          <p:cNvPicPr/>
          <p:nvPr/>
        </p:nvPicPr>
        <p:blipFill>
          <a:blip r:embed="rId1"/>
          <a:stretch/>
        </p:blipFill>
        <p:spPr>
          <a:xfrm>
            <a:off x="2143080" y="3000240"/>
            <a:ext cx="49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68360" y="2854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одной из причин эмоциональных расстройств являются неадекватные поощрения и наказания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y7lag4e17f4e13fl"/>
          <p:cNvPicPr/>
          <p:nvPr/>
        </p:nvPicPr>
        <p:blipFill>
          <a:blip r:embed="rId1"/>
          <a:stretch/>
        </p:blipFill>
        <p:spPr>
          <a:xfrm>
            <a:off x="1979640" y="227664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ой невроза является П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травма, это внешний раздраж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ывающий патологическое, болезненное воздействие на инди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Т бывают двух видов: 1) ситу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олонгирова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8279687763"/>
          <p:cNvPicPr/>
          <p:nvPr/>
        </p:nvPicPr>
        <p:blipFill>
          <a:blip r:embed="rId1"/>
          <a:stretch/>
        </p:blipFill>
        <p:spPr>
          <a:xfrm>
            <a:off x="2071800" y="3763800"/>
            <a:ext cx="5643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опасное влияние на личность ребенка оказывают пролонг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травмы как в школе, так и в сем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64e560fd41c0f3c391be3554bee1d586"/>
          <p:cNvPicPr/>
          <p:nvPr/>
        </p:nvPicPr>
        <p:blipFill>
          <a:blip r:embed="rId1"/>
          <a:stretch/>
        </p:blipFill>
        <p:spPr>
          <a:xfrm>
            <a:off x="468360" y="2565360"/>
            <a:ext cx="3959280" cy="352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alg_spanking"/>
          <p:cNvPicPr/>
          <p:nvPr/>
        </p:nvPicPr>
        <p:blipFill>
          <a:blip r:embed="rId2"/>
          <a:stretch/>
        </p:blipFill>
        <p:spPr>
          <a:xfrm>
            <a:off x="4716360" y="2565360"/>
            <a:ext cx="4032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но можно выдел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группы дет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ющих проблемы в эмоциональной сфер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грессивные дети(с длительными аффективными поведенческими реакци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2009-11-171217504924_6_boi"/>
          <p:cNvPicPr/>
          <p:nvPr/>
        </p:nvPicPr>
        <p:blipFill>
          <a:blip r:embed="rId1"/>
          <a:stretch/>
        </p:blipFill>
        <p:spPr>
          <a:xfrm>
            <a:off x="2571840" y="3571920"/>
            <a:ext cx="4357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эмоционально- расторможенные де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е реагируют на все слишком бурно, «заводят других детей», слишком громко и вызывающе  кричат, плачу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f_2208"/>
          <p:cNvPicPr/>
          <p:nvPr/>
        </p:nvPicPr>
        <p:blipFill>
          <a:blip r:embed="rId1"/>
          <a:stretch/>
        </p:blipFill>
        <p:spPr>
          <a:xfrm>
            <a:off x="2000160" y="2954160"/>
            <a:ext cx="5286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лишком застенчивые, ранимые, тревожные, обидчивые, робкие д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стесняются громко и явно выражать свои чувства и эмоции. Тихо переживают свои пробл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f_3809"/>
          <p:cNvPicPr/>
          <p:nvPr/>
        </p:nvPicPr>
        <p:blipFill>
          <a:blip r:embed="rId1"/>
          <a:srcRect l="22148" t="0" r="0" b="0"/>
          <a:stretch/>
        </p:blipFill>
        <p:spPr>
          <a:xfrm>
            <a:off x="2571840" y="3214800"/>
            <a:ext cx="4462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проявления эмоциональных реакций зависит от типа НД – темперамента. Дети, относящиеся ко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е – холерики, а к 3 – меланхол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флегматики. Однако можно встрет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агрессивных с ранимой, неж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ой, где агрессия играет защит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енсаторный харак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000" y="214200"/>
            <a:ext cx="8218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ют 4 типа наиболее распространенного деструктивного семейного воспитания, приводящ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эмоциональным расстройствам дет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епри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явное или скрыт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13-1065"/>
          <p:cNvPicPr/>
          <p:nvPr/>
        </p:nvPicPr>
        <p:blipFill>
          <a:blip r:embed="rId1"/>
          <a:stretch/>
        </p:blipFill>
        <p:spPr>
          <a:xfrm>
            <a:off x="1857240" y="3071880"/>
            <a:ext cx="5451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500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вное непри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гда р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 было нежелательным,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о желаемого мальчика род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крыт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гда внешне в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глядит благополучно ,но н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евного контакта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иятие порождает в характе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 негативизм, агрессию, либ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ерие в свои сил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блема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ого самочувствия детей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емье и дошкольном учреждении является одной из самых актуальных, так как положительное эмоциональное состояние относится к числу важнейших условий развития ли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кая эмоциональность ребенка, которая окрашивает его психическую жизнь и практический опыт, составляет характерную особенность дошкольного детства.  Внутренним, субъективным отношением ребенка к миру, к людям, к самому факту собственного существования является эмоциональное мироощущение.  В одних случаях – это радость, полнота жизни, согласие с миром и самим собой, отсутствие аффективности и уходов в себя; в других – чрезмерная напряженность взаимодействия, состояние подавленности, сниженное настроение или, наоборот, выраженная агресс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000" y="356760"/>
            <a:ext cx="82184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Гиперсоциоальное воспита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чрезмерное дисциплинировани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ительность, где «надо» произведено в абсолю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давляет эмо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, и привод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утоагрессии, либо 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кнутости,отгорожен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ой холо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x_3653e89f"/>
          <p:cNvPicPr/>
          <p:nvPr/>
        </p:nvPicPr>
        <p:blipFill>
          <a:blip r:embed="rId1"/>
          <a:stretch/>
        </p:blipFill>
        <p:spPr>
          <a:xfrm>
            <a:off x="6215040" y="1928880"/>
            <a:ext cx="2657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8360" y="4287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ревожно – мнительное воспит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с рождением ребенка возникает постоянная тревога за него, за его здоровье и благополучие. В результа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вырастает робким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вожн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самостоятельн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чительно неувере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е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63630183"/>
          <p:cNvPicPr/>
          <p:nvPr/>
        </p:nvPicPr>
        <p:blipFill>
          <a:blip r:embed="rId1"/>
          <a:stretch/>
        </p:blipFill>
        <p:spPr>
          <a:xfrm>
            <a:off x="6000840" y="2928960"/>
            <a:ext cx="2369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71320" y="357120"/>
            <a:ext cx="812628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гоцентрический тип вос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у навязывается пред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себе, как о сверхценности: он «кумир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жизни родителей. При эт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ы окружающих игнорирую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зультате он 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ит ника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ения, каприз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орможен, агрессив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ринимает люб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град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podrostok-strogo-po-pravilam400x400"/>
          <p:cNvPicPr/>
          <p:nvPr/>
        </p:nvPicPr>
        <p:blipFill>
          <a:blip r:embed="rId1"/>
          <a:stretch/>
        </p:blipFill>
        <p:spPr>
          <a:xfrm>
            <a:off x="5643720" y="3357720"/>
            <a:ext cx="3227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50560" y="428760"/>
            <a:ext cx="8218440" cy="62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м фактор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ых нарушений относ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огении ,то есть негативные псих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оя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званные неправиль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ш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бия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х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чать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яяя"/>
          <p:cNvPicPr/>
          <p:nvPr/>
        </p:nvPicPr>
        <p:blipFill>
          <a:blip r:embed="rId1"/>
          <a:stretch/>
        </p:blipFill>
        <p:spPr>
          <a:xfrm>
            <a:off x="3059280" y="2349360"/>
            <a:ext cx="576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оррекция эмоциональных нарушени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Ведущим методом педагогической коррекции эмоциональных нарушений в дошкольном возрасте является имитация детьми различных эмоциональных состояний.  Значимость данного метода обусловлена рядом особенно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) активные мимические и пантомимические проявления помогают предотвращать перерастание некоторых эмоций в патолог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2) благодаря работе мышц лица и тела обеспечивается активная разрядка эмо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) у детей при произвольном воспроизведении выразительных движений происходит оживление соответствующих эмоций и могут возникать яркие воспоминания о неотреагарованных ранее переживаниях, что позволяет, в ряде случаев, найти первопричину нервного напряжения ребенка и нивелировать его реальные страх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) имитация осуществляет функцию «начальной, исходной ориентировки развивающегося субъекта в проблемных областях, наиболее значимых на данной конкретной ступени онтогенез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) имитация эмоциональных состояний позволяет не только расширить представления детей об эмоциях, умение их дифференцировать и понимать, но и активизировать эмоциональный словарь дошкольников, так как при освоении значения слов, обозначающих эмоции, дети выделяют не существенные признаки, на основе которых формируются видовые обобщения, а ситуацию, в которой эта эмоция возникла, свои действия в ней, эмоциональные пережи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6) имитация эмоциональных состояний способствует развитию устойчивости, концентрации, переключаемости внимания, позволяет произвольно изменять мышечный тонус, что формирует у детей произвольную регуляцию поведени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7) имитация выполняет важную функцию в социально-эмоциональном развитии дошкольника: с помощью имитации строится образ другого лица и, одновременно, строится и углубляется представление ребенка о самом себе. В теории социального научения имитация рассматривается как «ключевой процесс социализации, как способ приобретения ребенком поведения, принятого, одобряемого в его социальном окружен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3" descr="Частные детсады появились в законе АН - Между строк"/>
          <p:cNvPicPr/>
          <p:nvPr/>
        </p:nvPicPr>
        <p:blipFill>
          <a:blip r:embed="rId1"/>
          <a:stretch/>
        </p:blipFill>
        <p:spPr>
          <a:xfrm>
            <a:off x="2071800" y="3929040"/>
            <a:ext cx="5572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новными направлениями корре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х нарушений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мягчение эмоционального дискомфорта у де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вышение их активности и самосто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кция самооценки, уровня самосознания, формирование  эмоциональной устойчивости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морегуляции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2" descr="http://www.intex-press.by/get_img?ImageWidth=628&amp;ImageId=19811"/>
          <p:cNvPicPr/>
          <p:nvPr/>
        </p:nvPicPr>
        <p:blipFill>
          <a:blip r:embed="rId1"/>
          <a:stretch/>
        </p:blipFill>
        <p:spPr>
          <a:xfrm>
            <a:off x="2500200" y="4000680"/>
            <a:ext cx="4500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эмоциональное мироощущение дошкольника – это «выражение субъективного переживания, его интенсивности и глубины, зрелости эмоций и чувств в цел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ый опыт ребенка, то есть опыт его переживаний, может иметь как позитивную, так и негативную окрашенность, что оказывает непосредственное влияние на его актуальное самочувствие. Современные научные данные убедительно показывают, что результат положительно-направленного детского опыта: доверие к миру, открытость, готовность к сотрудничеству обеспечивает основу для позитивной самореализации растуще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психического здоровья детей необходима сбалансированность положительных и отрицательных эмоций, обеспечивающая поддержание душевного равновесия и жизнеутверждающего поведения. Нарушение эмоционального баланса способствует возникновению эмоциональных расстройств, приводящих к отклонению в развитии личности ребенка, к нарушению у него социальных конта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0d2ff"/>
                </a:solidFill>
                <a:latin typeface="Arial"/>
                <a:ea typeface="Arial"/>
              </a:rPr>
              <a:t>В эмоциях имеются три составные ча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АФФЕК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е напряжение, возбу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КОГНИ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осознание своего состояния, обозначение его слов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ЭКСПРЕСС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внешнее выражение в телесной моторике или поведен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ервичные</a:t>
            </a:r>
            <a:r>
              <a:rPr b="0" lang="ru-RU" sz="3200" spc="-1" strike="noStrike">
                <a:solidFill>
                  <a:srgbClr val="41577e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основные) эмоции: радость, печаль, тревога, гнев, отвращение, стыд, удив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торичные</a:t>
            </a:r>
            <a:r>
              <a:rPr b="0" lang="ru-RU" sz="3200" spc="-1" strike="noStrike">
                <a:solidFill>
                  <a:srgbClr val="004d4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сложные): смещение первичных эмоций, а также эмоций и их узких интерпрет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ы нарушений в развитии эмоциональной сф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яю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 групп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ушений в развитии эмоциональной сферы дошкольника: – расстройства настроения; – расстройства поведения; – нарушения психомотор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Расстройства настро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условно разделить на 2 вида: с усилением эмоциональности и ее понижением. К 1-й группе относятся такие состояния, как эйфория, дисфория, депрессия, тревожный синдром, страхи. Ко 2-й группе относятся апатия, эмоциональная тупость, парат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К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асстройствам пов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ия можно отнести гиперактивность и агрессивное поведение: нормативно-инструментальную агрессию, пассивно – агрессивное поведение, инфантильную агрессивность, защитную агрессию, демонстративную агрессию, целенаправленно враждебную агресс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логическ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Гене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деп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родит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 у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ма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ность из-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ых болез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4565937_f520"/>
          <p:cNvPicPr/>
          <p:nvPr/>
        </p:nvPicPr>
        <p:blipFill>
          <a:blip r:embed="rId1"/>
          <a:stretch/>
        </p:blipFill>
        <p:spPr>
          <a:xfrm>
            <a:off x="4684680" y="0"/>
            <a:ext cx="44593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Психологичес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нервной системы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ру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еква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г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оздейств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до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16624"/>
          <p:cNvPicPr/>
          <p:nvPr/>
        </p:nvPicPr>
        <p:blipFill>
          <a:blip r:embed="rId1"/>
          <a:stretch/>
        </p:blipFill>
        <p:spPr>
          <a:xfrm>
            <a:off x="3857760" y="2214720"/>
            <a:ext cx="47005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Социально – психологическ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гармоничный стиль воспитания: внутрисемейные проблемы, конфли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питате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ссорятся родители"/>
          <p:cNvPicPr/>
          <p:nvPr/>
        </p:nvPicPr>
        <p:blipFill>
          <a:blip r:embed="rId1"/>
          <a:stretch/>
        </p:blipFill>
        <p:spPr>
          <a:xfrm>
            <a:off x="3643200" y="2643120"/>
            <a:ext cx="48578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16:12:41Z</dcterms:created>
  <dc:creator>Admin</dc:creator>
  <dc:description/>
  <dc:language>en-US</dc:language>
  <cp:lastModifiedBy>Детсад</cp:lastModifiedBy>
  <dcterms:modified xsi:type="dcterms:W3CDTF">2017-10-06T08:20:02Z</dcterms:modified>
  <cp:revision>86</cp:revision>
  <dc:subject/>
  <dc:title>Эмоциональные расстройства у детей</dc:title>
</cp:coreProperties>
</file>