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278C-D069-4EF7-8A6B-4A8F08FC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2A23-636E-4C61-B4BF-5C05DCA3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F955-BD70-48F2-8CDC-C35ADED8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5D7B-4FF0-49C7-98E7-C9CB46D66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A0A5-D822-4A00-87FA-83BFE5EA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F02C-2DDB-4F2A-83BE-7B83DA6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53BB-9700-488C-999E-C2B3EF85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57E3-FED0-4BB1-8950-B1317A1C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F40A-A5B7-46C9-84E7-8F30BDFC0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1741-32FC-4258-9859-E751967D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56C-FC0D-48D4-9130-CDFBB6B0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C24B-5F34-4CD4-B85D-84E25491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829D2-C7FF-45FE-A9D4-8E80EB02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BD32-1D95-4853-AEF3-F871B76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589C-1E83-4A91-B02C-30E94F94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4FE7-A682-4A7E-A7BA-B4ADB3B5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5802-C274-4BC5-8EBD-70FD24E55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1771-A1BF-49FF-9010-A68A3D8E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25D-29E7-4C08-9C98-B8AD90B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5A0C-69A7-4A23-BDBB-1779E7F1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DF6-B718-4C80-A037-E35EE8BAF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3D1-6F83-4437-9093-C92022E2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9944-13F1-480F-9BE8-CF8DBEC4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E73-AA74-49DE-86E1-ACB05186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5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26F-7CFB-4F88-8BFF-F9BB7C6939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b85b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7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7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8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0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2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3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3A2A-5651-4945-BC55-9D521DBA2C3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6000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Эмоциональные нарушения у детей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дошкольного возраста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Picture 13" descr="images"/>
          <p:cNvPicPr/>
          <p:nvPr/>
        </p:nvPicPr>
        <p:blipFill>
          <a:blip r:embed="rId1"/>
          <a:stretch/>
        </p:blipFill>
        <p:spPr>
          <a:xfrm>
            <a:off x="2428920" y="1857240"/>
            <a:ext cx="43578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94920" y="285840"/>
            <a:ext cx="837396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ое неблагополучие, как отклонение в развитии личности, возникает при потере согласия со своими чувствами, и невозможностью самореализоватьс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4" descr="3932_big"/>
          <p:cNvPicPr/>
          <p:nvPr/>
        </p:nvPicPr>
        <p:blipFill>
          <a:blip r:embed="rId1"/>
          <a:stretch/>
        </p:blipFill>
        <p:spPr>
          <a:xfrm>
            <a:off x="2143080" y="3000240"/>
            <a:ext cx="49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468360" y="285480"/>
            <a:ext cx="82296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е одной из причин эмоциональных расстройств являются неадекватные поощрения и наказания взрос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y7lag4e17f4e13fl"/>
          <p:cNvPicPr/>
          <p:nvPr/>
        </p:nvPicPr>
        <p:blipFill>
          <a:blip r:embed="rId1"/>
          <a:stretch/>
        </p:blipFill>
        <p:spPr>
          <a:xfrm>
            <a:off x="1979640" y="2276640"/>
            <a:ext cx="5429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24000" y="35676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ой невроза является ПТ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травма, это внешний раздражител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ывающий патологическое, болезненное воздействие на индиви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Т бывают двух видов: 1) ситуацио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пролонгированн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4" descr="8279687763"/>
          <p:cNvPicPr/>
          <p:nvPr/>
        </p:nvPicPr>
        <p:blipFill>
          <a:blip r:embed="rId1"/>
          <a:stretch/>
        </p:blipFill>
        <p:spPr>
          <a:xfrm>
            <a:off x="2071800" y="3763800"/>
            <a:ext cx="564336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е опасное влияние на личность ребенка оказывают пролонгированн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сихотравмы как в школе, так и в сем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64e560fd41c0f3c391be3554bee1d586"/>
          <p:cNvPicPr/>
          <p:nvPr/>
        </p:nvPicPr>
        <p:blipFill>
          <a:blip r:embed="rId1"/>
          <a:stretch/>
        </p:blipFill>
        <p:spPr>
          <a:xfrm>
            <a:off x="468360" y="2565360"/>
            <a:ext cx="3959280" cy="35276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alg_spanking"/>
          <p:cNvPicPr/>
          <p:nvPr/>
        </p:nvPicPr>
        <p:blipFill>
          <a:blip r:embed="rId2"/>
          <a:stretch/>
        </p:blipFill>
        <p:spPr>
          <a:xfrm>
            <a:off x="4716360" y="2565360"/>
            <a:ext cx="4032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но можно выделить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3 группы дете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меющих проблемы в эмоциональной сфере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) агрессивные дети(с длительными аффективными поведенческими реакциям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2009-11-171217504924_6_boi"/>
          <p:cNvPicPr/>
          <p:nvPr/>
        </p:nvPicPr>
        <p:blipFill>
          <a:blip r:embed="rId1"/>
          <a:stretch/>
        </p:blipFill>
        <p:spPr>
          <a:xfrm>
            <a:off x="2571840" y="3571920"/>
            <a:ext cx="43574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) эмоционально- расторможенные де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торые реагируют на все слишком бурно, «заводят других детей», слишком громко и вызывающе  кричат, плачу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4" descr="f_2208"/>
          <p:cNvPicPr/>
          <p:nvPr/>
        </p:nvPicPr>
        <p:blipFill>
          <a:blip r:embed="rId1"/>
          <a:stretch/>
        </p:blipFill>
        <p:spPr>
          <a:xfrm>
            <a:off x="2000160" y="2954160"/>
            <a:ext cx="52866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356760"/>
            <a:ext cx="82915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) слишком застенчивые, ранимые, тревожные, обидчивые, робкие д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ни стесняются громко и явно выражать свои чувства и эмоции. Тихо переживают свои проблем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4" descr="f_3809"/>
          <p:cNvPicPr/>
          <p:nvPr/>
        </p:nvPicPr>
        <p:blipFill>
          <a:blip r:embed="rId1"/>
          <a:srcRect l="22148" t="0" r="0" b="0"/>
          <a:stretch/>
        </p:blipFill>
        <p:spPr>
          <a:xfrm>
            <a:off x="2571840" y="3214800"/>
            <a:ext cx="44622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арактер проявления эмоциональных реакций зависит от типа НД – темперамента. Дети, относящиеся ко 2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руппе – холерики, а к 3 – меланхол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ли флегматики. Однако можно встрети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тей агрессивных с ранимой, неж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ой, где агрессия играет защит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енсаторный характе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68000" y="214200"/>
            <a:ext cx="821844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ществуют 4 типа наиболее распространенного деструктивного семейного воспитания, приводящ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эмоциональным расстройствам детей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Непри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 явное или скрыт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13-1065"/>
          <p:cNvPicPr/>
          <p:nvPr/>
        </p:nvPicPr>
        <p:blipFill>
          <a:blip r:embed="rId1"/>
          <a:stretch/>
        </p:blipFill>
        <p:spPr>
          <a:xfrm>
            <a:off x="1857240" y="3071880"/>
            <a:ext cx="545148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95280" y="5000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Явное неприяти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гда рожд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 было нежелательным, ил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место желаемого мальчика родилас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воч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крытое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гда внешне вс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глядит благополучно ,но не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шевного контакта с ребенк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риятие порождает в характер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 негативизм, агрессию, либ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46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ерие в свои силы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Проблема </a:t>
            </a:r>
            <a:r>
              <a:rPr b="1" i="1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ого самочувствия детей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 семье и дошкольном учреждении является одной из самых актуальных, так как положительное эмоциональное состояние относится к числу важнейших условий развития личност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Высокая эмоциональность ребенка, которая окрашивает его психическую жизнь и практический опыт, составляет характерную особенность дошкольного детства.  Внутренним, субъективным отношением ребенка к миру, к людям, к самому факту собственного существования является эмоциональное мироощущение.  В одних случаях – это радость, полнота жизни, согласие с миром и самим собой, отсутствие аффективности и уходов в себя; в других – чрезмерная напряженность взаимодействия, состояние подавленности, сниженное настроение или, наоборот, выраженная агресс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68000" y="356760"/>
            <a:ext cx="82184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Гиперсоциоальное воспита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чрезмерное дисциплинирование 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нительность, где «надо» произведено в абсолют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давляет эмоц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а, и приводи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 аутоагрессии, либо 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мкнутости,отгорожен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моциональной холод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4" descr="x_3653e89f"/>
          <p:cNvPicPr/>
          <p:nvPr/>
        </p:nvPicPr>
        <p:blipFill>
          <a:blip r:embed="rId1"/>
          <a:stretch/>
        </p:blipFill>
        <p:spPr>
          <a:xfrm>
            <a:off x="6215040" y="1928880"/>
            <a:ext cx="26575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468360" y="4287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Тревожно – мнительное воспита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с рождением ребенка возникает постоянная тревога за него, за его здоровье и благополучие. В результа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ок вырастает робким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ревожн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самостоятельны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учительно неуверен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еб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4" descr="63630183"/>
          <p:cNvPicPr/>
          <p:nvPr/>
        </p:nvPicPr>
        <p:blipFill>
          <a:blip r:embed="rId1"/>
          <a:stretch/>
        </p:blipFill>
        <p:spPr>
          <a:xfrm>
            <a:off x="6000840" y="2928960"/>
            <a:ext cx="236988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571320" y="357120"/>
            <a:ext cx="812628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Эгоцентрический тип воспит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бенку навязывается представл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себе, как о сверхценности: он «кумир»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мысл жизни родителей. При эт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ересы окружающих игнорируют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езультате он н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ит никак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шения, капризен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орможен, агрессив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ринимает люб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град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podrostok-strogo-po-pravilam400x400"/>
          <p:cNvPicPr/>
          <p:nvPr/>
        </p:nvPicPr>
        <p:blipFill>
          <a:blip r:embed="rId1"/>
          <a:stretch/>
        </p:blipFill>
        <p:spPr>
          <a:xfrm>
            <a:off x="5643720" y="3357720"/>
            <a:ext cx="32274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250560" y="428760"/>
            <a:ext cx="8218440" cy="62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социально – психологическим фактора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моциональных нарушений относя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дактогении ,то есть негативные псих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оя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званные неправильн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нош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коль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биям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трах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вечать 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с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4" descr="яяя"/>
          <p:cNvPicPr/>
          <p:nvPr/>
        </p:nvPicPr>
        <p:blipFill>
          <a:blip r:embed="rId1"/>
          <a:stretch/>
        </p:blipFill>
        <p:spPr>
          <a:xfrm>
            <a:off x="3059280" y="2349360"/>
            <a:ext cx="576072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оррекция эмоциональных нарушений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Ведущим методом педагогической коррекции эмоциональных нарушений в дошкольном возрасте является имитация детьми различных эмоциональных состояний.  Значимость данного метода обусловлена рядом особенносте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1) активные мимические и пантомимические проявления помогают предотвращать перерастание некоторых эмоций в патологию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2) благодаря работе мышц лица и тела обеспечивается активная разрядка эмо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428760"/>
            <a:ext cx="82580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3) у детей при произвольном воспроизведении выразительных движений происходит оживление соответствующих эмоций и могут возникать яркие воспоминания о неотреагарованных ранее переживаниях, что позволяет, в ряде случаев, найти первопричину нервного напряжения ребенка и нивелировать его реальные страх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4) имитация осуществляет функцию «начальной, исходной ориентировки развивающегося субъекта в проблемных областях, наиболее значимых на данной конкретной ступени онтогенеза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) имитация эмоциональных состояний позволяет не только расширить представления детей об эмоциях, умение их дифференцировать и понимать, но и активизировать эмоциональный словарь дошкольников, так как при освоении значения слов, обозначающих эмоции, дети выделяют не существенные признаки, на основе которых формируются видовые обобщения, а ситуацию, в которой эта эмоция возникла, свои действия в ней, эмоциональные переживания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6) имитация эмоциональных состояний способствует развитию устойчивости, концентрации, переключаемости внимания, позволяет произвольно изменять мышечный тонус, что формирует у детей произвольную регуляцию поведения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57240" indent="380880"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7) имитация выполняет важную функцию в социально-эмоциональном развитии дошкольника: с помощью имитации строится образ другого лица и, одновременно, строится и углубляется представление ребенка о самом себе. В теории социального научения имитация рассматривается как «ключевой процесс социализации, как способ приобретения ребенком поведения, принятого, одобряемого в его социальном окружени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Рисунок 3" descr="Частные детсады появились в законе АН - Между строк"/>
          <p:cNvPicPr/>
          <p:nvPr/>
        </p:nvPicPr>
        <p:blipFill>
          <a:blip r:embed="rId1"/>
          <a:stretch/>
        </p:blipFill>
        <p:spPr>
          <a:xfrm>
            <a:off x="2071800" y="3929040"/>
            <a:ext cx="557208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68000" y="285480"/>
            <a:ext cx="821844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сновными направлениями корре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эмоциональных нарушений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мягчение эмоционального дискомфорта у детей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овышение их активности и самостоятельности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кция самооценки, уровня самосознания, формирование  эмоциональной устойчивости 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морегуляции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2" descr="http://www.intex-press.by/get_img?ImageWidth=628&amp;ImageId=19811"/>
          <p:cNvPicPr/>
          <p:nvPr/>
        </p:nvPicPr>
        <p:blipFill>
          <a:blip r:embed="rId1"/>
          <a:stretch/>
        </p:blipFill>
        <p:spPr>
          <a:xfrm>
            <a:off x="2500200" y="4000680"/>
            <a:ext cx="4500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57200" y="0"/>
            <a:ext cx="822960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аким образом, эмоциональное мироощущение дошкольника – это «выражение субъективного переживания, его интенсивности и глубины, зрелости эмоций и чувств в целом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Эмоциональный опыт ребенка, то есть опыт его переживаний, может иметь как позитивную, так и негативную окрашенность, что оказывает непосредственное влияние на его актуальное самочувствие. Современные научные данные убедительно показывают, что результат положительно-направленного детского опыта: доверие к миру, открытость, готовность к сотрудничеству обеспечивает основу для позитивной самореализации растущей ли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Для психического здоровья детей необходима сбалансированность положительных и отрицательных эмоций, обеспечивающая поддержание душевного равновесия и жизнеутверждающего поведения. Нарушение эмоционального баланса способствует возникновению эмоциональных расстройств, приводящих к отклонению в развитии личности ребенка, к нарушению у него социальных контак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8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0d2ff"/>
                </a:solidFill>
                <a:latin typeface="Arial"/>
                <a:ea typeface="Arial"/>
              </a:rPr>
              <a:t>В эмоциях имеются три составные части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АФФЕКТ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(эмоциональное напряжение, возбуждение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КОГНИЦ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осознание своего состояния, обозначение его слов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  <a:ea typeface="Arial"/>
              </a:rPr>
              <a:t>ЭКСПРЕСС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(внешнее выражение в телесной моторике или поведен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Различают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первичные</a:t>
            </a:r>
            <a:r>
              <a:rPr b="0" lang="ru-RU" sz="3200" spc="-1" strike="noStrike">
                <a:solidFill>
                  <a:srgbClr val="41577e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основные) эмоции: радость, печаль, тревога, гнев, отвращение, стыд, удивл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  <a:ea typeface="Arial"/>
              </a:rPr>
              <a:t>вторичные</a:t>
            </a:r>
            <a:r>
              <a:rPr b="0" lang="ru-RU" sz="3200" spc="-1" strike="noStrike">
                <a:solidFill>
                  <a:srgbClr val="004d4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(сложные): смещение первичных эмоций, а также эмоций и их узких интерпретац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руппы нарушений в развитии эмоциональной сф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Выделяются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три группы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нарушений в развитии эмоциональной сферы дошкольника: – расстройства настроения; – расстройства поведения; – нарушения психомотори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.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 Расстройства настро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можно условно разделить на 2 вида: с усилением эмоциональности и ее понижением. К 1-й группе относятся такие состояния, как эйфория, дисфория, депрессия, тревожный синдром, страхи. Ко 2-й группе относятся апатия, эмоциональная тупость, паратим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840" indent="346320" algn="just">
              <a:lnSpc>
                <a:spcPct val="115000"/>
              </a:lnSpc>
              <a:spcBef>
                <a:spcPts val="601"/>
              </a:spcBef>
              <a:spcAft>
                <a:spcPts val="374"/>
              </a:spcAft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I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К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расстройствам пове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ения можно отнести гиперактивность и агрессивное поведение: нормативно-инструментальную агрессию, пассивно – агрессивное поведение, инфантильную агрессивность, защитную агрессию, демонстративную агрессию, целенаправленно враждебную агресс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иологическ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Генетическ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депресс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родител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том у детей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оматическ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лабленность из-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астых болезн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4" descr="4565937_f520"/>
          <p:cNvPicPr/>
          <p:nvPr/>
        </p:nvPicPr>
        <p:blipFill>
          <a:blip r:embed="rId1"/>
          <a:stretch/>
        </p:blipFill>
        <p:spPr>
          <a:xfrm>
            <a:off x="4684680" y="0"/>
            <a:ext cx="445932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 Психологическ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 тип нервной системы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аруше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декват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агирова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воздейств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в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недоразвит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контр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ед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4" descr="16624"/>
          <p:cNvPicPr/>
          <p:nvPr/>
        </p:nvPicPr>
        <p:blipFill>
          <a:blip r:embed="rId1"/>
          <a:stretch/>
        </p:blipFill>
        <p:spPr>
          <a:xfrm>
            <a:off x="3857760" y="2214720"/>
            <a:ext cx="470052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3. Социально – психологические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сгармоничный стиль воспитания: внутрисемейные проблемы, конфлик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нош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питател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-  Отнош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кружающ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Picture 5" descr="ссорятся родители"/>
          <p:cNvPicPr/>
          <p:nvPr/>
        </p:nvPicPr>
        <p:blipFill>
          <a:blip r:embed="rId1"/>
          <a:stretch/>
        </p:blipFill>
        <p:spPr>
          <a:xfrm>
            <a:off x="3643200" y="2643120"/>
            <a:ext cx="48578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30T16:12:41Z</dcterms:created>
  <dc:creator>Admin</dc:creator>
  <dc:description/>
  <dc:language>en-US</dc:language>
  <cp:lastModifiedBy>Детсад</cp:lastModifiedBy>
  <dcterms:modified xsi:type="dcterms:W3CDTF">2017-10-06T08:20:02Z</dcterms:modified>
  <cp:revision>86</cp:revision>
  <dc:subject/>
  <dc:title>Эмоциональные расстройства у детей</dc:title>
</cp:coreProperties>
</file>