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7798-CF26-496B-9A41-EF161541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5CB-60B3-476C-B9E4-1BF6ED53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ED3-17EF-46EF-8B76-7F42F06D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D9E-F793-4F6B-B48E-5EC665C6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7669-F77E-4826-B4EC-B96016E7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1647-9DBF-4DC6-A80E-3C4A9C9E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6D2-46E8-4791-8A4E-9BBA35FC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B84-AD42-416B-9A74-9E52A192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DAA-5123-4E37-AED5-808BDBDE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EC92-1C4C-465B-B9FF-F98AB727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D0D5-1FDE-4724-BC15-980A824A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249-307B-46AC-A801-9F41F1BB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E931-14A4-4DBE-8B94-E003DE167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ейзажная лирика М.Ю.Лермонто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сихология лирического героя в стихотвор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арус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365720"/>
            <a:ext cx="2543040" cy="223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867280" y="4435560"/>
            <a:ext cx="27702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ветообраз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леет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акой мо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лубом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ирод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ветлей лазури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олотой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запечатлё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Штиль, спокойствие            гармо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1628640"/>
            <a:ext cx="368280" cy="2283120"/>
          </a:xfrm>
          <a:custGeom>
            <a:avLst/>
            <a:gdLst>
              <a:gd name="textAreaLeft" fmla="*/ 0 w 368280"/>
              <a:gd name="textAreaRight" fmla="*/ 132840 w 368280"/>
              <a:gd name="textAreaTop" fmla="*/ 59400 h 2283120"/>
              <a:gd name="textAreaBottom" fmla="*/ 2223720 h 2283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27640" y="4797360"/>
            <a:ext cx="1081080" cy="216000"/>
          </a:xfrm>
          <a:prstGeom prst="rightArrow">
            <a:avLst>
              <a:gd name="adj1" fmla="val 50000"/>
              <a:gd name="adj2" fmla="val 125125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Что означает образ возможной бури?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Какова семантика образа у романт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р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3357720"/>
            <a:ext cx="2951280" cy="107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295272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оксюмо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единение противоположных по смыслу понятий в художественном образе; совмещение несовместим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сладостные муч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в бурях… пок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3789360"/>
            <a:ext cx="1439640" cy="1079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Что является для автора идеальным душевным состоян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Борь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Есть ли причина для внешнег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ротивостояния</a:t>
            </a:r>
            <a:br>
              <a:rPr sz="4400"/>
            </a:b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руса и водной стих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армония в                             отсут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роде,                                 конфли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сутствие бу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3933720"/>
            <a:ext cx="1584360" cy="647640"/>
          </a:xfrm>
          <a:prstGeom prst="rightArrow">
            <a:avLst>
              <a:gd name="adj1" fmla="val 50000"/>
              <a:gd name="adj2" fmla="val 6115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Парус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– нужен ли в безветренную погоду?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чему лирический герой – парус,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тица, корабль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3357720"/>
            <a:ext cx="2376360" cy="1584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а</a:t>
            </a:r>
            <a:br>
              <a:rPr sz="4800"/>
            </a:b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н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11280" y="3141720"/>
            <a:ext cx="2305080" cy="2016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300720" y="3141720"/>
            <a:ext cx="23036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Парус</a:t>
            </a:r>
            <a:br>
              <a:rPr sz="48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ятежность, стремление к единоборству со стихией, жаждет бури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Лирический герой стремится к борьбе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ЦЕЛЬ? </a:t>
            </a: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211640" y="2781360"/>
            <a:ext cx="86508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онцепция Шеллинг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уш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нутренне противореч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ена борьбы добра(+) и зла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Душ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ражает противоречия человеческой прир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2133720"/>
            <a:ext cx="215640" cy="503280"/>
          </a:xfrm>
          <a:prstGeom prst="downArrow">
            <a:avLst>
              <a:gd name="adj1" fmla="val 50000"/>
              <a:gd name="adj2" fmla="val 5834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5640" y="3645000"/>
            <a:ext cx="215640" cy="504720"/>
          </a:xfrm>
          <a:prstGeom prst="downArrow">
            <a:avLst>
              <a:gd name="adj1" fmla="val 50000"/>
              <a:gd name="adj2" fmla="val 585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43640" y="213372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16360" y="5445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Общественное неблагополучие как отражение внутренних противоречий человеческ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подлежит изменению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ловеческая природа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овы способы такого измен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1773360"/>
            <a:ext cx="574560" cy="718920"/>
          </a:xfrm>
          <a:prstGeom prst="downArrow">
            <a:avLst>
              <a:gd name="adj1" fmla="val 50000"/>
              <a:gd name="adj2" fmla="val 312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141720"/>
            <a:ext cx="576360" cy="718920"/>
          </a:xfrm>
          <a:prstGeom prst="downArrow">
            <a:avLst>
              <a:gd name="adj1" fmla="val 50000"/>
              <a:gd name="adj2" fmla="val 311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Лексическая работа с термина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сихология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ка, изучающая процессы и закономерности психическ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окупность психических процессов, обусловливающих какой-либо род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ушевный склад, псих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рический герой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раз поэта в лирике, художественный «двойник» автора в условном мире художественного произведения. Условное, сотворённое «я» поэта, возникающее на основе художественного обобщения, вымысла, трансформации реальных жизненных ф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20280"/>
            <a:ext cx="754524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ожно ли ответить на последний вопрос однозначно и предложить «рецепты»?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 размышлять об этом, искать ответы на нег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ем, следовательно, стала эпоха 30-х годов – временем революционного действия или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временем размышле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Проблемный вопрос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1483920"/>
            <a:ext cx="6400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взаимосвязаны стилистика поэзии Лермонтова и исторический облик его эпо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 чём свидетельствует огромное количество вопросов в поэзии Лермонтов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ите, есть ли в этом тексте слова с предметным значением? 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они ведут себя в текст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Слова с предметным значением.</a:t>
            </a:r>
            <a:br>
              <a:rPr sz="3200"/>
            </a:b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арус» -        «одинокий»,  «ищет», «кинул»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 тумане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ря» -           «голубом»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лны» -      «играют»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етер» -        «свищет»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мачта» -        «гнётся и скрыпит»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струя» -        «светлей лазури»;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уч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лнца» -       «золотой».</a:t>
            </a: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 метафор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Что глав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йзаж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ли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нутреннее состояние       лирического геро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но ли эту поэтическую зарисовку назвать пейзажной?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строки представляют собственно пейзаж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леет парус одино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умане моря голубом!.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грают волны – ветер свищет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мачта гнётся и скрыпит…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ним струя светлей лазури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 ним луч солнца золотой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Кого характеризуют оставшиеся строк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91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ищет он в стране далёко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кинул он в краю родно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вы! он счастия не ищ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е от счастия бежи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он, мятежный, ищет бур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будто в бурях есть поко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Зачем автору понадобилась такая организация стихотворения? В чём смысл символизации поэтической реальнос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30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ус                               Лирический гер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3357720"/>
            <a:ext cx="3024000" cy="287280"/>
          </a:xfrm>
          <a:prstGeom prst="rightArrow">
            <a:avLst>
              <a:gd name="adj1" fmla="val 50000"/>
              <a:gd name="adj2" fmla="val 2631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7T18:37:27Z</dcterms:created>
  <dc:creator>Лоскутова</dc:creator>
  <dc:description/>
  <dc:language>en-US</dc:language>
  <cp:lastModifiedBy>Лоскутова</cp:lastModifiedBy>
  <dcterms:modified xsi:type="dcterms:W3CDTF">2014-01-27T20:41:17Z</dcterms:modified>
  <cp:revision>2</cp:revision>
  <dc:subject/>
  <dc:title>Пейзажная лирика М.Ю.Лермонтова.</dc:title>
</cp:coreProperties>
</file>