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688-828C-47AF-9660-580007FF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ACF9-3A38-46FF-8B82-76C64BBF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CF2F-FCBF-4294-BD6E-F2E65A72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B1C-3C78-43D8-91CB-D3638B92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A75-DA3C-443B-BECB-B5E75542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3BB-658E-4E1C-A758-B595AFBF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D0E-A3B5-4D3B-94F2-A52AB85C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ABC-50D4-4F5E-BC21-F68E1300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DD29-0A61-4CAE-945D-4C37AAF5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9044-C3A9-474C-8ECC-EC8BB040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29D-DF3C-4B28-8244-78CD9AA3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B8B6-981F-4A7F-A94D-7BC0B441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C46E-3230-4318-B77F-796DC216E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ейзажная лирика М.Ю.Лермонто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64008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сихология лирического героя в стихотвор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ару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4365720"/>
            <a:ext cx="2543040" cy="223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867280" y="4435560"/>
            <a:ext cx="277020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Цветообраз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еет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акой мо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лубом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ирод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етлей лазури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олотой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печатл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Штиль, спокойствие            гарм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84720" y="1628640"/>
            <a:ext cx="368280" cy="2283120"/>
          </a:xfrm>
          <a:custGeom>
            <a:avLst/>
            <a:gdLst>
              <a:gd name="textAreaLeft" fmla="*/ 0 w 368280"/>
              <a:gd name="textAreaRight" fmla="*/ 132840 w 368280"/>
              <a:gd name="textAreaTop" fmla="*/ 59400 h 2283120"/>
              <a:gd name="textAreaBottom" fmla="*/ 2223720 h 228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4797360"/>
            <a:ext cx="1081080" cy="216000"/>
          </a:xfrm>
          <a:prstGeom prst="rightArrow">
            <a:avLst>
              <a:gd name="adj1" fmla="val 50000"/>
              <a:gd name="adj2" fmla="val 125125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Что означает образ возможной бури?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акова семантика образа у романт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рь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360" y="3357720"/>
            <a:ext cx="2951280" cy="107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29527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ксюмо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единение противоположных по смыслу понятий в художественном образе; совмещение несовместим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сладостные муч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в бурях… пок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3789360"/>
            <a:ext cx="1439640" cy="1079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Что является для автора идеальным душевным состояни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Борьб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Есть ли причина для внешнег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противостояния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паруса и водной стих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армония в                             отсут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роде,                                 конфли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сутствие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3933720"/>
            <a:ext cx="1584360" cy="647640"/>
          </a:xfrm>
          <a:prstGeom prst="rightArrow">
            <a:avLst>
              <a:gd name="adj1" fmla="val 50000"/>
              <a:gd name="adj2" fmla="val 6115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Парус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– нужен ли в безветренную погоду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чему лирический герой – парус,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тица, корабл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3357720"/>
            <a:ext cx="2376360" cy="1584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а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2305080" cy="201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300720" y="3141720"/>
            <a:ext cx="2303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Парус</a:t>
            </a: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ятежность, стремление к единоборству со стихией, жаждет бури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ирический герой стремится к борьбе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ЕЛЬ? </a:t>
            </a: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2781360"/>
            <a:ext cx="865080" cy="71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Концепция Шеллинг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3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уш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утренне противореч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ена борьбы добра(+) и зла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уш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ражает противоречия человеческой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213372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95640" y="3645000"/>
            <a:ext cx="215640" cy="504720"/>
          </a:xfrm>
          <a:prstGeom prst="downArrow">
            <a:avLst>
              <a:gd name="adj1" fmla="val 50000"/>
              <a:gd name="adj2" fmla="val 585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43640" y="2133720"/>
            <a:ext cx="216000" cy="574560"/>
          </a:xfrm>
          <a:prstGeom prst="downArrow">
            <a:avLst>
              <a:gd name="adj1" fmla="val 50000"/>
              <a:gd name="adj2" fmla="val 66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6360" y="5445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бщественное неблагополучие как отражение внутренних противоречий человеческой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Чт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подлежит изменению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ловеческая природа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вы способы такого измен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1773360"/>
            <a:ext cx="574560" cy="718920"/>
          </a:xfrm>
          <a:prstGeom prst="downArrow">
            <a:avLst>
              <a:gd name="adj1" fmla="val 50000"/>
              <a:gd name="adj2" fmla="val 312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141720"/>
            <a:ext cx="576360" cy="718920"/>
          </a:xfrm>
          <a:prstGeom prst="downArrow">
            <a:avLst>
              <a:gd name="adj1" fmla="val 50000"/>
              <a:gd name="adj2" fmla="val 311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Лексическая работа с терминам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сихология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ука, изучающая процессы и закономерности псих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окупность психических процессов, обусловливающих какой-либо род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шевный склад, псих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рический герой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 поэта в лирике, художественный «двойник» автора в условном мире художественного произведения. Условное, сотворённое «я» поэта, возникающее на основе художественного обобщения, вымысла, трансформации реальных жизненных фа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20280"/>
            <a:ext cx="754524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жно ли ответить на последний вопрос однозначно и предложить «рецепты»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 размышлять об этом, искать ответы на н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, следовательно, стала эпоха 30-х годов – временем революционного действия или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ременем размышле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роблемный 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03280" y="1483920"/>
            <a:ext cx="6400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взаимосвязаны стилистика поэзии Лермонтова и исторический облик его эпох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 чём свидетельствует огромное количество вопросов в поэзии Лермонто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ределите, есть ли в этом тексте слова с предметным значением?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они ведут себя в текст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лова с предметным значением.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арус» -        «одинокий»,  «ищет», «кинул»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 туман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я» -           «голубом»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олны» -      «играют»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етер» -        «свищет»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ачта» -        «гнётся и скрыпит»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струя» -        «светлей лазури»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луч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лнца» -       «золотой»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ения метафор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Что главн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ейзаж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ли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нутреннее состояние       лирического гер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но ли эту поэтическую зарисовку назвать пейзажной?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строки представляют собственно пейзаж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еет парус одинок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умане моря голубом!.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ают волны – ветер свищет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мачта гнётся и скрыпит…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ним струя светлей лазур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 ним луч солнца золо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Кого характеризуют оставшиеся стро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ищет он в стране далё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кинул он в краю родн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ы! он счастия не ищ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е от счастия беж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он, мятежный, ищет бу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будто в бурях есть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Зачем автору понадобилась такая организация стихотворения? В чём смысл символизации поэтической реаль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30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ус                               Лирический ге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3357720"/>
            <a:ext cx="3024000" cy="287280"/>
          </a:xfrm>
          <a:prstGeom prst="rightArrow">
            <a:avLst>
              <a:gd name="adj1" fmla="val 50000"/>
              <a:gd name="adj2" fmla="val 2631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18:37:27Z</dcterms:created>
  <dc:creator>Лоскутова</dc:creator>
  <dc:description/>
  <dc:language>en-US</dc:language>
  <cp:lastModifiedBy>Лоскутова</cp:lastModifiedBy>
  <dcterms:modified xsi:type="dcterms:W3CDTF">2014-01-27T20:41:17Z</dcterms:modified>
  <cp:revision>2</cp:revision>
  <dc:subject/>
  <dc:title>Пейзажная лирика М.Ю.Лермонтова.</dc:title>
</cp:coreProperties>
</file>