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21F-5F8F-4D7E-B376-9D9818E5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AE5-C995-49D9-83ED-B0431ACB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C6B-202E-44F0-8D48-EB85B207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791C-3424-4896-8849-2A6127D3F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CE6C-AE86-4E1C-8637-2D9B1B7F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5C54-35E3-4865-BC96-B6C86FB4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FC95-02EA-44BD-BF74-39DD1ED5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DFEF-823C-4323-9491-377677A2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E9B3-0E4A-4477-BCE4-2DF9885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5364-88DC-4AE2-A300-0CC0DA28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F2ED-2D94-4C9B-9D32-1A21C15E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94ED-D80D-4294-AC53-B099AE02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6A50-5EC3-4941-8583-70A1E053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3CDC-2620-44F8-BEB1-73DFD9CF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AFDA-10D0-4B34-A199-E74AE93B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73AB-DB1E-4FBE-98BE-6F01E80A0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CA54-8928-4234-B6AA-F26365601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B94-CB67-4FFD-8689-79B62DF8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2C60-074F-4694-BE7B-8A1565628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AF2B-24A8-4665-B5A9-A4556C0B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E1B-9CDD-47A5-AFCF-26BE3E2E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8D47-DE1C-47A6-A184-92803A03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64C7-9A81-4306-BD01-B6135F02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0D4-1B53-465B-B2AC-C7F4D604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4FB3-A7FB-420F-9906-26A01A89531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0711-C9C2-406F-8FDB-71B7D977F9B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аткосрочный проект в средней  группе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комство детей с ПД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195640" y="5157720"/>
            <a:ext cx="640080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Чистякова О.В.-  воспитате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У д/с  № 200 « Волшебный башмач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о. Тольятти , Самарская обла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3" descr="26032015586.jpg"/>
          <p:cNvPicPr/>
          <p:nvPr/>
        </p:nvPicPr>
        <p:blipFill>
          <a:blip r:embed="rId1"/>
          <a:stretch/>
        </p:blipFill>
        <p:spPr>
          <a:xfrm>
            <a:off x="395280" y="1700280"/>
            <a:ext cx="3857760" cy="244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6" name="TextBox 4"/>
          <p:cNvSpPr/>
          <p:nvPr/>
        </p:nvSpPr>
        <p:spPr>
          <a:xfrm flipV="1" rot="10800000">
            <a:off x="179280" y="132480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ассматривание картинок дорожных знак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6" descr="C:\Users\виталий\Desktop\DSC_3783.JPG"/>
          <p:cNvPicPr/>
          <p:nvPr/>
        </p:nvPicPr>
        <p:blipFill>
          <a:blip r:embed="rId2"/>
          <a:stretch/>
        </p:blipFill>
        <p:spPr>
          <a:xfrm>
            <a:off x="5148360" y="2276640"/>
            <a:ext cx="2879640" cy="3867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2" descr="DSC_3770.JPG"/>
          <p:cNvPicPr/>
          <p:nvPr/>
        </p:nvPicPr>
        <p:blipFill>
          <a:blip r:embed="rId3"/>
          <a:stretch/>
        </p:blipFill>
        <p:spPr>
          <a:xfrm>
            <a:off x="1476360" y="4292640"/>
            <a:ext cx="3544920" cy="2349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12"/>
          <p:cNvSpPr/>
          <p:nvPr/>
        </p:nvSpPr>
        <p:spPr>
          <a:xfrm>
            <a:off x="4527000" y="1773360"/>
            <a:ext cx="449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Дидактическая игра «Дорожные зна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5" descr="DSC_3764.JPG"/>
          <p:cNvPicPr/>
          <p:nvPr/>
        </p:nvPicPr>
        <p:blipFill>
          <a:blip r:embed="rId1"/>
          <a:stretch/>
        </p:blipFill>
        <p:spPr>
          <a:xfrm>
            <a:off x="395280" y="1557360"/>
            <a:ext cx="3670200" cy="23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виталий\Desktop\P1130458.JPG"/>
          <p:cNvPicPr/>
          <p:nvPr/>
        </p:nvPicPr>
        <p:blipFill>
          <a:blip r:embed="rId2"/>
          <a:stretch/>
        </p:blipFill>
        <p:spPr>
          <a:xfrm>
            <a:off x="5051520" y="1484280"/>
            <a:ext cx="3263760" cy="252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виталий\Desktop\игра.jpg"/>
          <p:cNvPicPr/>
          <p:nvPr/>
        </p:nvPicPr>
        <p:blipFill>
          <a:blip r:embed="rId3"/>
          <a:stretch/>
        </p:blipFill>
        <p:spPr>
          <a:xfrm>
            <a:off x="468360" y="4076640"/>
            <a:ext cx="3340080" cy="2506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виталий\Desktop\игра2.jpg"/>
          <p:cNvPicPr/>
          <p:nvPr/>
        </p:nvPicPr>
        <p:blipFill>
          <a:blip r:embed="rId4"/>
          <a:stretch/>
        </p:blipFill>
        <p:spPr>
          <a:xfrm>
            <a:off x="4572000" y="4292640"/>
            <a:ext cx="3130560" cy="2347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9"/>
          <p:cNvSpPr/>
          <p:nvPr/>
        </p:nvSpPr>
        <p:spPr>
          <a:xfrm>
            <a:off x="971640" y="119700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Сюжетно-ролевые игры  « Мы- водители», «Светофор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Users\виталий\Desktop\DSC03894.JPG"/>
          <p:cNvPicPr/>
          <p:nvPr/>
        </p:nvPicPr>
        <p:blipFill>
          <a:blip r:embed="rId1"/>
          <a:stretch/>
        </p:blipFill>
        <p:spPr>
          <a:xfrm>
            <a:off x="1187280" y="1700280"/>
            <a:ext cx="2880000" cy="21603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1042920" y="126828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Коллективная аппликация « Машины едут по дорог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C:\Users\виталий\Desktop\DSC03896.JPG"/>
          <p:cNvPicPr/>
          <p:nvPr/>
        </p:nvPicPr>
        <p:blipFill>
          <a:blip r:embed="rId2"/>
          <a:stretch/>
        </p:blipFill>
        <p:spPr>
          <a:xfrm>
            <a:off x="4932360" y="1700280"/>
            <a:ext cx="2987640" cy="22413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3"/>
          <p:cNvSpPr/>
          <p:nvPr/>
        </p:nvSpPr>
        <p:spPr>
          <a:xfrm>
            <a:off x="755640" y="39337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Выставка совместных работ родителей и детей по ПД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C:\Users\виталий\Desktop\DSC03901.JPG"/>
          <p:cNvPicPr/>
          <p:nvPr/>
        </p:nvPicPr>
        <p:blipFill>
          <a:blip r:embed="rId3"/>
          <a:stretch/>
        </p:blipFill>
        <p:spPr>
          <a:xfrm>
            <a:off x="755640" y="4292640"/>
            <a:ext cx="3529080" cy="2376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Проект &quot;Безопасная дорога&quot;"/>
          <p:cNvPicPr/>
          <p:nvPr/>
        </p:nvPicPr>
        <p:blipFill>
          <a:blip r:embed="rId4"/>
          <a:stretch/>
        </p:blipFill>
        <p:spPr>
          <a:xfrm>
            <a:off x="4932360" y="4319640"/>
            <a:ext cx="36720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C:\Users\виталий\Desktop\1.jpg"/>
          <p:cNvPicPr/>
          <p:nvPr/>
        </p:nvPicPr>
        <p:blipFill>
          <a:blip r:embed="rId1"/>
          <a:stretch/>
        </p:blipFill>
        <p:spPr>
          <a:xfrm>
            <a:off x="179280" y="3141720"/>
            <a:ext cx="4057920" cy="34844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250920" y="2060640"/>
            <a:ext cx="4825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Продукта проекта – макет  из картона «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Безопасная дорога из дома до детского сад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www.maam.ru/upload/blogs/60b09e695675dca99fe268ffddfe66b0.jpg.jpg"/>
          <p:cNvPicPr/>
          <p:nvPr/>
        </p:nvPicPr>
        <p:blipFill>
          <a:blip r:embed="rId2"/>
          <a:stretch/>
        </p:blipFill>
        <p:spPr>
          <a:xfrm>
            <a:off x="4788000" y="2421000"/>
            <a:ext cx="4152960" cy="33303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5003640" y="155736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ыставка  папки-раскладушки для родителей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1f497d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</a:rPr>
              <a:t>«</a:t>
            </a:r>
            <a:r>
              <a:rPr b="0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еленый огоне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1f497d"/>
                </a:solidFill>
                <a:latin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000" y="836640"/>
            <a:ext cx="821844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екта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осрочны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и реализации проек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 меся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редней групп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омашки», родители, воспитатели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посвящён актуальной проблеме – обучению детей младшего дошкольного возраста правилам дорожного движения. Детей с раннего возраста привлекает разнообразие окружающего: дома, улицы, движущиеся по ним пешеходы и транспорт. Поэтому учить детей дорожной грамот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с самого раннего детства. Известно, что привычки, закреплённые в детстве, остаются на всю жизнь. Одной из важных проблем  в обеспечении безопасности дорожного движения является профилактика детского дорожно- транспортного травматизма в дошкольных учреждениях. Изучение Правил дорожного движения, является одной из главных задач на сегодняшний день, а способствовать этому будет работа над проектом, посвящённая изучению  Правил дорожного движения. Дети – наше будущее, и их безопасность зависит только от нас сами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056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у детей младшего дошкольного возраста навыков безопасного, осознанного поведения на дорогах через ознакомление с правилами дорожного движ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знакомить детей с правилами дорожного движения, дорожными знаками, предназначенными для водителей и пешеход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Учить понимать значение световых сигналов светофор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Формировать начальные навыки безопасного поведения на дороге и на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овышение компетентности родителей по вопросам касающихся ПД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реализуется в соответствии с образовательными областям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-коммуникативное развитие, познавательное развитие, речевое развитие, художественно-эстетическое развитие, физическое развит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У детей сформированы первоначальные знания правил дорожного движения и навыков безопасного поведения на дороге и на улице. Знания назначения светофора и каждого его цвета, какой транспорт передвигается по дорог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ети самостоятельно проявляют инициативу: рассматривают иллюстрации, участвуют в беседах, задают вопросы; проявляют творчество: рисуют, лепят, играют в разные игр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нимательное отношение родителей к воспитанию у детей навыков безопасного поведения на улиц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кт проектной деятельности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макета из картона «Безопасная дорога из дома до детского сад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ых работ родителей и детей по ПД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апки - раскладушки для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 огонек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-3636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1197000"/>
          <a:ext cx="8496360" cy="5425920"/>
        </p:xfrm>
        <a:graphic>
          <a:graphicData uri="http://schemas.openxmlformats.org/drawingml/2006/table">
            <a:tbl>
              <a:tblPr/>
              <a:tblGrid>
                <a:gridCol w="2081160"/>
                <a:gridCol w="3346560"/>
                <a:gridCol w="1485720"/>
                <a:gridCol w="158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478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этап - подготов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консультации  и рекомендации с родителями на тему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ям о правилах дорожного движения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ор материала, приобретение книг и оснащения для оформления уголка ПДД в групп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бор стихотворений, загад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ить и проанализировать литературу по обучению детей основам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обрать художественную литературу, подготовить наглядный иллюстрированный материал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роди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воспита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воспита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воспита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03.2015-06.03.2015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03.2015-06.03.2015г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недели до начал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недели до начал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24000" y="1341360"/>
          <a:ext cx="8569080" cy="5303880"/>
        </p:xfrm>
        <a:graphic>
          <a:graphicData uri="http://schemas.openxmlformats.org/drawingml/2006/table">
            <a:tbl>
              <a:tblPr/>
              <a:tblGrid>
                <a:gridCol w="2087280"/>
                <a:gridCol w="3456000"/>
                <a:gridCol w="1513080"/>
                <a:gridCol w="1512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информации для родителей по  созданию  макет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Безопасная дорога из дома до детского сад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ечение недели до начала прое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37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этап- основн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седы: «Как правильно переходить улицу». Беседа по картине «Улица города». Рассматривание картинок дорожных зна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южетные игры: «Гаражи и автомобили», «Мы- водители», «Светофор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дактические игры:  «Красный, жёлтый, зелёный», : «Собери светофор», « Дорожные знаки»,  «Собери машину»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блюдения на прогулке за проезжающими машин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.03.2015-06.03.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24000" y="981000"/>
          <a:ext cx="8569080" cy="5761080"/>
        </p:xfrm>
        <a:graphic>
          <a:graphicData uri="http://schemas.openxmlformats.org/drawingml/2006/table">
            <a:tbl>
              <a:tblPr/>
              <a:tblGrid>
                <a:gridCol w="1944360"/>
                <a:gridCol w="3598920"/>
                <a:gridCol w="1584360"/>
                <a:gridCol w="1441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51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 художественной литературы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С.Михалков «Если свет зажёгся красный», «Дядя Стёпа – милиционер». Н.Мигунова «Учимся переходить дорогу». Стихи, загадки о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ктивная аппликация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 Машины едут по дороге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ижные игры: «Воробушки и автомобиль», «Цветные автомобили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отовление макета из картон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«Безопасная дорога из дома до детского сада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Оформление папки - раскладушки для родителе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Зеленый огоне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местное рисование родителей и детей рисунков по ПД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спитатель Романенко И.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 2015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2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84360" y="1413000"/>
          <a:ext cx="8229600" cy="3862440"/>
        </p:xfrm>
        <a:graphic>
          <a:graphicData uri="http://schemas.openxmlformats.org/drawingml/2006/table">
            <a:tbl>
              <a:tblPr/>
              <a:tblGrid>
                <a:gridCol w="1871640"/>
                <a:gridCol w="3395520"/>
                <a:gridCol w="1511280"/>
                <a:gridCol w="145116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ни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оки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07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этап- заключите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тавка совместных работ родителей и детей по ПД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зентация продукта проекта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ета из картона 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опасная дорога из дома до детского сада»  старшей группе № 9, обыгрывание макета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авка  папки - раскладушки для родителе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 огоне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, родители, де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и, дети группы №4 и №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питатель Романенко И. П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неделя м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0:28:03Z</dcterms:created>
  <dc:creator>Федотова Виктория Александровна</dc:creator>
  <dc:description/>
  <dc:language>en-US</dc:language>
  <cp:lastModifiedBy>Царь</cp:lastModifiedBy>
  <dcterms:modified xsi:type="dcterms:W3CDTF">2017-10-13T12:26:22Z</dcterms:modified>
  <cp:revision>71</cp:revision>
  <dc:subject/>
  <dc:title>Слайд 1</dc:title>
</cp:coreProperties>
</file>