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E6F-22CE-4FE7-96C3-AC2C5AA2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C6B-951D-4A48-A500-92BCC86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B24-FEAA-4DB4-B92D-BF708CA7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3CF-3831-46C1-B37B-20ECD2B1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693-DB2C-4F17-B77A-7C0B8E5A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7A95-1573-40F5-A2E3-A1E84008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3960-5EC3-4DC3-8030-12A0998F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0248-71A0-4231-A695-33DD39D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40B-35E9-4D92-92F8-4874B13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AA09-70B8-4348-8F92-B5C2306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42E3-43ED-4CAB-B340-FC2D915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CF4-1AC0-4173-828D-09436BF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1F12-C71F-4F1E-9942-7CC1946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D6F-768F-4FD8-B048-C8AA718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C360-FE4B-4D31-86C2-7093AE7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095-1A46-44A8-B20F-5DFE310A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B092-67F8-43F6-8641-C5C35D24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0A8-1CB2-4A4B-891E-296911B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59B-B001-4623-B3BA-4C444A78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72B-6FBF-4845-9896-AF1A3CF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BBA-E6DF-4AEE-89C6-14CC2AF1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85E-6735-404E-9449-123C179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B1B-210D-44AB-A1A2-F98CBBF2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150-6D4A-4433-A3DA-2AA5A93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CA82-A090-4D78-829E-69FC3493BA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08F-F08A-4034-8834-3FD178A362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ткосрочный проект в средней  группе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детей с П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640" y="515772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Чистякова О.В.-  воспит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/с  № 200 « Волшебный башмач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 Тольятти , Самарская обла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26032015586.jpg"/>
          <p:cNvPicPr/>
          <p:nvPr/>
        </p:nvPicPr>
        <p:blipFill>
          <a:blip r:embed="rId1"/>
          <a:stretch/>
        </p:blipFill>
        <p:spPr>
          <a:xfrm>
            <a:off x="395280" y="1700280"/>
            <a:ext cx="3857760" cy="24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TextBox 4"/>
          <p:cNvSpPr/>
          <p:nvPr/>
        </p:nvSpPr>
        <p:spPr>
          <a:xfrm flipV="1" rot="10800000">
            <a:off x="179280" y="13248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сматривание картинок дорожных зна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C:\Users\виталий\Desktop\DSC_3783.JPG"/>
          <p:cNvPicPr/>
          <p:nvPr/>
        </p:nvPicPr>
        <p:blipFill>
          <a:blip r:embed="rId2"/>
          <a:stretch/>
        </p:blipFill>
        <p:spPr>
          <a:xfrm>
            <a:off x="5148360" y="2276640"/>
            <a:ext cx="2879640" cy="3867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2" descr="DSC_3770.JPG"/>
          <p:cNvPicPr/>
          <p:nvPr/>
        </p:nvPicPr>
        <p:blipFill>
          <a:blip r:embed="rId3"/>
          <a:stretch/>
        </p:blipFill>
        <p:spPr>
          <a:xfrm>
            <a:off x="1476360" y="4292640"/>
            <a:ext cx="3544920" cy="2349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2"/>
          <p:cNvSpPr/>
          <p:nvPr/>
        </p:nvSpPr>
        <p:spPr>
          <a:xfrm>
            <a:off x="4527000" y="1773360"/>
            <a:ext cx="44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Дидактическая игра «Дорожные зна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5" descr="DSC_3764.JPG"/>
          <p:cNvPicPr/>
          <p:nvPr/>
        </p:nvPicPr>
        <p:blipFill>
          <a:blip r:embed="rId1"/>
          <a:stretch/>
        </p:blipFill>
        <p:spPr>
          <a:xfrm>
            <a:off x="395280" y="1557360"/>
            <a:ext cx="3670200" cy="23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виталий\Desktop\P1130458.JPG"/>
          <p:cNvPicPr/>
          <p:nvPr/>
        </p:nvPicPr>
        <p:blipFill>
          <a:blip r:embed="rId2"/>
          <a:stretch/>
        </p:blipFill>
        <p:spPr>
          <a:xfrm>
            <a:off x="5051520" y="148428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виталий\Desktop\игра.jpg"/>
          <p:cNvPicPr/>
          <p:nvPr/>
        </p:nvPicPr>
        <p:blipFill>
          <a:blip r:embed="rId3"/>
          <a:stretch/>
        </p:blipFill>
        <p:spPr>
          <a:xfrm>
            <a:off x="468360" y="4076640"/>
            <a:ext cx="3340080" cy="250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виталий\Desktop\игра2.jpg"/>
          <p:cNvPicPr/>
          <p:nvPr/>
        </p:nvPicPr>
        <p:blipFill>
          <a:blip r:embed="rId4"/>
          <a:stretch/>
        </p:blipFill>
        <p:spPr>
          <a:xfrm>
            <a:off x="4572000" y="4292640"/>
            <a:ext cx="3130560" cy="2347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971640" y="11970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Сюжетно-ролевые игры  « Мы- водители», «Светофо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виталий\Desktop\DSC03894.JPG"/>
          <p:cNvPicPr/>
          <p:nvPr/>
        </p:nvPicPr>
        <p:blipFill>
          <a:blip r:embed="rId1"/>
          <a:stretch/>
        </p:blipFill>
        <p:spPr>
          <a:xfrm>
            <a:off x="1187280" y="1700280"/>
            <a:ext cx="2880000" cy="2160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1042920" y="126828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Коллективная аппликация « Машины едут по дорог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Users\виталий\Desktop\DSC03896.JPG"/>
          <p:cNvPicPr/>
          <p:nvPr/>
        </p:nvPicPr>
        <p:blipFill>
          <a:blip r:embed="rId2"/>
          <a:stretch/>
        </p:blipFill>
        <p:spPr>
          <a:xfrm>
            <a:off x="4932360" y="170028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3"/>
          <p:cNvSpPr/>
          <p:nvPr/>
        </p:nvSpPr>
        <p:spPr>
          <a:xfrm>
            <a:off x="755640" y="39337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Выставка совместных работ родителей и детей по ПД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виталий\Desktop\DSC03901.JPG"/>
          <p:cNvPicPr/>
          <p:nvPr/>
        </p:nvPicPr>
        <p:blipFill>
          <a:blip r:embed="rId3"/>
          <a:stretch/>
        </p:blipFill>
        <p:spPr>
          <a:xfrm>
            <a:off x="755640" y="4292640"/>
            <a:ext cx="352908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Проект &quot;Безопасная дорога&quot;"/>
          <p:cNvPicPr/>
          <p:nvPr/>
        </p:nvPicPr>
        <p:blipFill>
          <a:blip r:embed="rId4"/>
          <a:stretch/>
        </p:blipFill>
        <p:spPr>
          <a:xfrm>
            <a:off x="4932360" y="4319640"/>
            <a:ext cx="36720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C:\Users\виталий\Desktop\1.jpg"/>
          <p:cNvPicPr/>
          <p:nvPr/>
        </p:nvPicPr>
        <p:blipFill>
          <a:blip r:embed="rId1"/>
          <a:stretch/>
        </p:blipFill>
        <p:spPr>
          <a:xfrm>
            <a:off x="179280" y="3141720"/>
            <a:ext cx="4057920" cy="3484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50920" y="206064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Продукта проекта – макет  из картона «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езопасная дорога из дома до детского са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www.maam.ru/upload/blogs/60b09e695675dca99fe268ffddfe66b0.jpg.jpg"/>
          <p:cNvPicPr/>
          <p:nvPr/>
        </p:nvPicPr>
        <p:blipFill>
          <a:blip r:embed="rId2"/>
          <a:stretch/>
        </p:blipFill>
        <p:spPr>
          <a:xfrm>
            <a:off x="4788000" y="2421000"/>
            <a:ext cx="4152960" cy="333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5003640" y="155736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ставка  папки-раскладушки для родителей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еленый огон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f497d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000" y="83664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 про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 мес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омашки», родители, воспитател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свящён актуальной проблеме – обучению детей младшего дошкольного возраста правилам дорожного движения. Детей с раннего возраста привлекает разнообразие окружающего: дома, улицы, движущиеся по ним пешеходы и транспорт. Поэтому учить детей дорожной грамо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с самого раннего детства. Известно, что привычки, закреплённые в детстве, остаются на всю жизнь. Одной из важных проблем  в обеспечении безопасности дорожного движения является профилактика детского дорожно- транспортного травматизма в дошкольных учреждениях. Изучение Правил дорожного движения, является одной из главных задач на сегодняшний день, а способствовать этому будет работа над проектом, посвящённая изучению  Правил дорожного движения. Дети – наше будущее, и их безопасность зависит только от нас сам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56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у детей младшего дошкольного возраста навыков безопасного, осознанного поведения на дорогах через ознакомление с правилами дорожного движ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детей с правилами дорожного движения, дорожными знаками, предназначенными для водителей и пешехо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ить понимать значение световых сигналов светоф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ормировать начальные навыки безопасного поведения на дороге и на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вышение компетентности родителей по вопросам касающихся ПД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ализуется в соответствии с образовательными областям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, познавательное развитие, речевое развитие, художественно-эстетическое развитие, физическое развит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 детей сформированы первоначальные знания правил дорожного движения и навыков безопасного поведения на дороге и на улице. Знания назначения светофора и каждого его цвета, какой транспорт передвигается по дорог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самостоятельно проявляют инициативу: рассматривают иллюстрации, участвуют в беседах, задают вопросы; проявляют творчество: рисуют, лепят, играют в разные иг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нимательное отношение родителей к воспитанию у детей навыков безопасного поведения на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 проектной деятельност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из картона «Безопасная дорога из дома до детского сад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х работ родителей и детей по ПД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апки - раскладушки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огоне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36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1197000"/>
          <a:ext cx="8496360" cy="5425920"/>
        </p:xfrm>
        <a:graphic>
          <a:graphicData uri="http://schemas.openxmlformats.org/drawingml/2006/table">
            <a:tbl>
              <a:tblPr/>
              <a:tblGrid>
                <a:gridCol w="2081160"/>
                <a:gridCol w="3346560"/>
                <a:gridCol w="1485720"/>
                <a:gridCol w="158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47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этап - 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консультации  и рекомендации с родителями на тему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ям о правилах дорожного движени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 материала, приобретение книг и оснащения для оформления уголка ПДД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бор стихотворений, загад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ить и проанализировать литературу по обучению детей основам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ать художественную литературу, подготовить наглядный иллюстрированный материал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роди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воспита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воспита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воспита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03.2015-06.03.2015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03.2015-06.03.2015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недели до начал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недели до начал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24000" y="1341360"/>
          <a:ext cx="8569080" cy="5303880"/>
        </p:xfrm>
        <a:graphic>
          <a:graphicData uri="http://schemas.openxmlformats.org/drawingml/2006/table">
            <a:tbl>
              <a:tblPr/>
              <a:tblGrid>
                <a:gridCol w="2087280"/>
                <a:gridCol w="3456000"/>
                <a:gridCol w="1513080"/>
                <a:gridCol w="151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информации для родителей по  созданию  маке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Безопасная дорога из дома до детского сад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недели до начал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этап- 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ы: «Как правильно переходить улицу». Беседа по картине «Улица города». Рассматривание картинок дорожных зна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южетные игры: «Гаражи и автомобили», «Мы- водители», «Светофор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дактические игры:  «Красный, жёлтый, зелёный», : «Собери светофор», « Дорожные знаки»,  «Собери машину»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я на прогулке за проезжающими машин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03.2015-06.03.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24000" y="981000"/>
          <a:ext cx="8569080" cy="5761080"/>
        </p:xfrm>
        <a:graphic>
          <a:graphicData uri="http://schemas.openxmlformats.org/drawingml/2006/table">
            <a:tbl>
              <a:tblPr/>
              <a:tblGrid>
                <a:gridCol w="1944360"/>
                <a:gridCol w="3598920"/>
                <a:gridCol w="1584360"/>
                <a:gridCol w="1441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художественной литерат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С.Михалков «Если свет зажёгся красный», «Дядя Стёпа – милиционер». Н.Мигунова «Учимся переходить дорогу». Стихи, загадки о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тивная аппликаци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 Машины едут по дорог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ижные игры: «Воробушки и автомобиль», «Цветные автомобил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макета из картон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Безопасная дорога из дома до детского сад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формление папки - раскладушки для родителе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леный огон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ое рисование родителей и детей рисунков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413000"/>
          <a:ext cx="8229600" cy="3862440"/>
        </p:xfrm>
        <a:graphic>
          <a:graphicData uri="http://schemas.openxmlformats.org/drawingml/2006/table">
            <a:tbl>
              <a:tblPr/>
              <a:tblGrid>
                <a:gridCol w="1871640"/>
                <a:gridCol w="3395520"/>
                <a:gridCol w="1511280"/>
                <a:gridCol w="145116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0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этап- 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авка совместных работ родителей и детей по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 продукта проекта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ета из картон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ая дорога из дома до детского сада»  старшей группе № 9, обыгрывание макета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 папки - раскладушки для родителе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 огоне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, 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, дети группы №4 и №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Романенко И. 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Царь</cp:lastModifiedBy>
  <dcterms:modified xsi:type="dcterms:W3CDTF">2017-10-13T12:26:22Z</dcterms:modified>
  <cp:revision>71</cp:revision>
  <dc:subject/>
  <dc:title>Слайд 1</dc:title>
</cp:coreProperties>
</file>