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8.jpeg" ContentType="image/jpeg"/>
  <Override PartName="/ppt/media/image1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A53-0B45-4117-8AFE-A0253AA2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1DB-9A20-484D-A6F3-6871EE6B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7DF-0325-41E3-AE10-EE8331AE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D76-9AD7-4BC2-A66C-4E3E249A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FFC-505B-4E7B-AE20-035102B6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244-2887-4E90-B2F3-290705F2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433-8A3B-48FC-BAB5-25861F5D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EFB-9A18-4804-A475-B922E08D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7DE-951A-418D-9ECF-8DB7791D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11E-CCF0-4BE9-8FC8-69FAFA36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01B-A3DC-48DA-885E-B424026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615-6053-488E-9C44-9CA11092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38A1-A98D-4299-9361-1E02E20B3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7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1.xml"/><Relationship Id="rId10" Type="http://schemas.openxmlformats.org/officeDocument/2006/relationships/image" Target="../media/image14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3.xml"/><Relationship Id="rId17" Type="http://schemas.openxmlformats.org/officeDocument/2006/relationships/slide" Target="slide13.xml"/><Relationship Id="rId18" Type="http://schemas.openxmlformats.org/officeDocument/2006/relationships/slide" Target="slide13.xml"/><Relationship Id="rId19" Type="http://schemas.openxmlformats.org/officeDocument/2006/relationships/slide" Target="slide13.xml"/><Relationship Id="rId20" Type="http://schemas.openxmlformats.org/officeDocument/2006/relationships/slide" Target="slide9.xml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image" Target="../media/image9.png"/><Relationship Id="rId6" Type="http://schemas.openxmlformats.org/officeDocument/2006/relationships/slide" Target="slide10.xml"/><Relationship Id="rId7" Type="http://schemas.openxmlformats.org/officeDocument/2006/relationships/image" Target="../media/image10.png"/><Relationship Id="rId8" Type="http://schemas.openxmlformats.org/officeDocument/2006/relationships/slide" Target="slide11.xml"/><Relationship Id="rId9" Type="http://schemas.openxmlformats.org/officeDocument/2006/relationships/image" Target="../media/image9.png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image" Target="../media/image8.png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image" Target="../media/image13.png"/><Relationship Id="rId20" Type="http://schemas.openxmlformats.org/officeDocument/2006/relationships/slide" Target="slide16.xml"/><Relationship Id="rId21" Type="http://schemas.openxmlformats.org/officeDocument/2006/relationships/slide" Target="slide16.xml"/><Relationship Id="rId22" Type="http://schemas.openxmlformats.org/officeDocument/2006/relationships/image" Target="../media/image9.png"/><Relationship Id="rId23" Type="http://schemas.openxmlformats.org/officeDocument/2006/relationships/slide" Target="slide3.xml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2"/>
          <p:cNvSpPr/>
          <p:nvPr/>
        </p:nvSpPr>
        <p:spPr>
          <a:xfrm>
            <a:off x="3071880" y="500040"/>
            <a:ext cx="2857320" cy="85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3"/>
          <p:cNvSpPr/>
          <p:nvPr/>
        </p:nvSpPr>
        <p:spPr>
          <a:xfrm>
            <a:off x="0" y="285840"/>
            <a:ext cx="2643120" cy="12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Единиц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1857240" y="1714680"/>
            <a:ext cx="2714760" cy="12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Единиц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5"/>
          <p:cNvSpPr/>
          <p:nvPr/>
        </p:nvSpPr>
        <p:spPr>
          <a:xfrm>
            <a:off x="5072040" y="1785960"/>
            <a:ext cx="2500200" cy="12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Единиц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6"/>
          <p:cNvSpPr/>
          <p:nvPr/>
        </p:nvSpPr>
        <p:spPr>
          <a:xfrm>
            <a:off x="6572160" y="428760"/>
            <a:ext cx="2571840" cy="12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Единицы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Блок-схема: знак завершения 7"/>
          <p:cNvSpPr/>
          <p:nvPr/>
        </p:nvSpPr>
        <p:spPr>
          <a:xfrm>
            <a:off x="428760" y="1928880"/>
            <a:ext cx="1143000" cy="2643120"/>
          </a:xfrm>
          <a:prstGeom prst="flowChartTerminator">
            <a:avLst/>
          </a:pr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Блок-схема: знак завершения 8"/>
          <p:cNvSpPr/>
          <p:nvPr/>
        </p:nvSpPr>
        <p:spPr>
          <a:xfrm>
            <a:off x="2786040" y="3214800"/>
            <a:ext cx="1714680" cy="2643120"/>
          </a:xfrm>
          <a:prstGeom prst="flowChartTerminator">
            <a:avLst/>
          </a:pr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м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д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к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знак завершения 9"/>
          <p:cNvSpPr/>
          <p:nvPr/>
        </p:nvSpPr>
        <p:spPr>
          <a:xfrm>
            <a:off x="5643720" y="3214800"/>
            <a:ext cx="1143000" cy="2571480"/>
          </a:xfrm>
          <a:prstGeom prst="flowChartTerminator">
            <a:avLst/>
          </a:pr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знак завершения 10"/>
          <p:cNvSpPr/>
          <p:nvPr/>
        </p:nvSpPr>
        <p:spPr>
          <a:xfrm>
            <a:off x="7715160" y="1857240"/>
            <a:ext cx="1143000" cy="2571840"/>
          </a:xfrm>
          <a:prstGeom prst="flowChartTerminator">
            <a:avLst/>
          </a:pr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с одним скругленным углом 10"/>
          <p:cNvSpPr/>
          <p:nvPr/>
        </p:nvSpPr>
        <p:spPr>
          <a:xfrm>
            <a:off x="285840" y="6072120"/>
            <a:ext cx="5000400" cy="78588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ПРАКТИЧЕСКАЯ РАБО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1"/>
          <p:cNvSpPr/>
          <p:nvPr/>
        </p:nvSpPr>
        <p:spPr>
          <a:xfrm>
            <a:off x="6500880" y="5715000"/>
            <a:ext cx="23572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ИТОГ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8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ая единица времени самая крупная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         секунда              век                   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е утверждение верно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век = 365 суток          1 час = 60 сек        1 год = 12 ме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е утверждение верно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од = 365 сут           1 час = 60 сек        1 век = 365 ме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ом ряду единицы измерения расположены в порядке возрастания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тонна, центнер, килограмм, грам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центнер, грамм, тонна, килограмм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в) грамм, килограмм, центнер, тон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йди ошиб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1 час 15 мин = 115 мин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б) 2 сут = 48 ча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2 в = 200 л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йди ошибку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2 час 10 мин = 130 м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2 сут = 74 ча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1 в = 100 л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11948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лево 14">
            <a:hlinkClick r:id="rId1" action="ppaction://hlinksldjump"/>
          </p:cNvPr>
          <p:cNvSpPr/>
          <p:nvPr/>
        </p:nvSpPr>
        <p:spPr>
          <a:xfrm>
            <a:off x="8001000" y="6215040"/>
            <a:ext cx="857160" cy="6429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8"/>
          <p:cNvSpPr/>
          <p:nvPr/>
        </p:nvSpPr>
        <p:spPr>
          <a:xfrm>
            <a:off x="3571920" y="785880"/>
            <a:ext cx="78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0"/>
          <p:cNvSpPr/>
          <p:nvPr/>
        </p:nvSpPr>
        <p:spPr>
          <a:xfrm>
            <a:off x="571680" y="6572160"/>
            <a:ext cx="2000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21"/>
          <p:cNvSpPr/>
          <p:nvPr/>
        </p:nvSpPr>
        <p:spPr>
          <a:xfrm>
            <a:off x="5929200" y="1571760"/>
            <a:ext cx="18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23"/>
          <p:cNvSpPr/>
          <p:nvPr/>
        </p:nvSpPr>
        <p:spPr>
          <a:xfrm>
            <a:off x="285840" y="2214720"/>
            <a:ext cx="207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5"/>
          <p:cNvSpPr/>
          <p:nvPr/>
        </p:nvSpPr>
        <p:spPr>
          <a:xfrm>
            <a:off x="928800" y="4071960"/>
            <a:ext cx="4929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8"/>
          <p:cNvSpPr/>
          <p:nvPr/>
        </p:nvSpPr>
        <p:spPr>
          <a:xfrm>
            <a:off x="785880" y="4786200"/>
            <a:ext cx="328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ОВУШ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2205000"/>
            <a:ext cx="3564000" cy="1366920"/>
          </a:xfrm>
          <a:prstGeom prst="rect">
            <a:avLst/>
          </a:prstGeom>
          <a:solidFill>
            <a:srgbClr val="ccff66"/>
          </a:solidFill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 - 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а) сут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б) секун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) сантимет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3573360"/>
            <a:ext cx="3564000" cy="1511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 - 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) мину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б) миллимет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) меся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г) мет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5084640"/>
            <a:ext cx="3564000" cy="13669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г - ?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а) грам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б) го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p5_2"/>
          <p:cNvPicPr/>
          <p:nvPr/>
        </p:nvPicPr>
        <p:blipFill>
          <a:blip r:embed="rId10"/>
          <a:stretch/>
        </p:blipFill>
        <p:spPr>
          <a:xfrm>
            <a:off x="8007480" y="260280"/>
            <a:ext cx="1136520" cy="15829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0"/>
          <p:cNvSpPr/>
          <p:nvPr/>
        </p:nvSpPr>
        <p:spPr>
          <a:xfrm>
            <a:off x="684360" y="907920"/>
            <a:ext cx="5543280" cy="1152720"/>
          </a:xfrm>
          <a:prstGeom prst="cloudCallout">
            <a:avLst>
              <a:gd name="adj1" fmla="val 79152"/>
              <a:gd name="adj2" fmla="val -46967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 правильный вариан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635280" y="2205000"/>
            <a:ext cx="5508720" cy="1739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метр – э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а) внутренняя часть геометрической фигур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б) все отрезки, из которых сделана фигура (гран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фигуры)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) сумма длин всех сторон геометрической фигу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11948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3635280" y="4365720"/>
            <a:ext cx="5508720" cy="1739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66ffff"/>
              </a:gs>
            </a:gsLst>
            <a:lin ang="5400000"/>
          </a:gradFill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Площадь – э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а) внутренняя часть геометрической фигур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б) все отрезки, из которых сделана фиг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(гран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фигуры)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) сумма длин всех сторон геометрической фигу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7">
            <a:hlinkClick r:id="rId20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189920" y="1412640"/>
            <a:ext cx="1954080" cy="17571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рифметические действия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 величин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50920" y="1628640"/>
            <a:ext cx="6767280" cy="1557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кг 375 г + 625 г = __________ 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дм – 12 см = _____________ с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ми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9 =  ________________ м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5 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 _______________ 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11948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84360" y="3500280"/>
            <a:ext cx="6624360" cy="1557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 в более крупных единицах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0 мм  = _______ с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более мелких единицах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дм 5 см = ________ м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258920" y="5229360"/>
            <a:ext cx="7885080" cy="1557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вел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м 2 д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130 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 ч 25 м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ми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кг 95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95г    400 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2627280" y="5661000"/>
            <a:ext cx="6476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203640" y="6165720"/>
            <a:ext cx="6476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7020000" y="5661000"/>
            <a:ext cx="6476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6732720" y="6093000"/>
            <a:ext cx="64764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570840" y="1557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3135960" y="198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135960" y="234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35088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704320" y="38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2345040" y="4581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2627280" y="558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3276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165800" y="558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78520" y="602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>
            <a:hlinkClick r:id="rId2" action="ppaction://hlinksldjump"/>
          </p:cNvPr>
          <p:cNvSpPr/>
          <p:nvPr/>
        </p:nvSpPr>
        <p:spPr>
          <a:xfrm>
            <a:off x="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диницы длины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kp5_2"/>
          <p:cNvPicPr/>
          <p:nvPr/>
        </p:nvPicPr>
        <p:blipFill>
          <a:blip r:embed="rId1"/>
          <a:stretch/>
        </p:blipFill>
        <p:spPr>
          <a:xfrm>
            <a:off x="250920" y="260280"/>
            <a:ext cx="1633320" cy="1657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987480" indent="-808200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му равна сторона прямоугольника, ес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80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го периметр равен 14 см, а другая сторона – 2 с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80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) (14 + 2) : 2 = 8 (см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вер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80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) 14 : 2 - 2 = 5 (см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вер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80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3) (14 - 2) : 2 = 6 (см)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вер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00360" y="836640"/>
            <a:ext cx="5543640" cy="1152360"/>
          </a:xfrm>
          <a:prstGeom prst="cloudCallout">
            <a:avLst>
              <a:gd name="adj1" fmla="val -84476"/>
              <a:gd name="adj2" fmla="val -38152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 задачи и проверь себя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2060640"/>
            <a:ext cx="9144000" cy="1224000"/>
          </a:xfrm>
          <a:prstGeom prst="rect">
            <a:avLst/>
          </a:prstGeom>
          <a:solidFill>
            <a:srgbClr val="cc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ота Эвереста 8900 м, он выше Эльбруса на 3200 м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ысота Белухи в Алтае на 1100 м меньше, чем высот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ьбруса. Какова высота Белух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140360" y="5734080"/>
            <a:ext cx="201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140360" y="6093000"/>
            <a:ext cx="201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140360" y="6491160"/>
            <a:ext cx="201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1080" y="3357720"/>
            <a:ext cx="10965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154764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1400040" y="3714840"/>
            <a:ext cx="774396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8900 – 3200 = 5700 (м) – высота Эльбр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5700 – 1100 = 4600 (м) – высота Белухи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8">
            <a:hlinkClick r:id="rId2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G00421_"/>
          <p:cNvPicPr/>
          <p:nvPr/>
        </p:nvPicPr>
        <p:blipFill>
          <a:blip r:embed="rId3"/>
          <a:stretch/>
        </p:blipFill>
        <p:spPr>
          <a:xfrm>
            <a:off x="357120" y="3929040"/>
            <a:ext cx="1000080" cy="909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диницы площад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2205000"/>
            <a:ext cx="8893080" cy="2160720"/>
          </a:xfrm>
          <a:prstGeom prst="rect">
            <a:avLst/>
          </a:prstGeom>
          <a:solidFill>
            <a:srgbClr val="cc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прямоугольника равна 45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го длина равна 9 м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у равна ширина прямоугольник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508640"/>
            <a:ext cx="3924360" cy="2349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kp5_2"/>
          <p:cNvPicPr/>
          <p:nvPr/>
        </p:nvPicPr>
        <p:blipFill>
          <a:blip r:embed="rId1"/>
          <a:stretch/>
        </p:blipFill>
        <p:spPr>
          <a:xfrm>
            <a:off x="8015400" y="549360"/>
            <a:ext cx="1128600" cy="15127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684360" y="907920"/>
            <a:ext cx="5543280" cy="1152720"/>
          </a:xfrm>
          <a:prstGeom prst="cloudCallout">
            <a:avLst>
              <a:gd name="adj1" fmla="val 81240"/>
              <a:gd name="adj2" fmla="val -10467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йди верное реш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321300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(45 -9) : 2 = 18 (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45 - 9 = 36 (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45 : 9 = 5 (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0" y="472428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0" y="4508640"/>
            <a:ext cx="40356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верные утверждения  формул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прямоу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вадр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a ∙ 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вадр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a ∙ 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рямоу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(a + b) ∙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рямоу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3995640" y="4508640"/>
            <a:ext cx="5148360" cy="2349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.Сумма длин сторон квадрата равна 12 дм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ему равна площадь этого квадрат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)1 2 : 4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∙ 3 = 9 (дм</a:t>
            </a:r>
            <a:r>
              <a:rPr b="1" lang="ru-RU" sz="1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) 12 : 4 ∙ 5 = 15 (дм)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) 12 : 2 ∙ 4 = 16 (дм</a:t>
            </a:r>
            <a:r>
              <a:rPr b="1" lang="ru-RU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636720" y="3213000"/>
            <a:ext cx="11318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3636720" y="3500280"/>
            <a:ext cx="11318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3635280" y="3789360"/>
            <a:ext cx="1154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627280" y="5084640"/>
            <a:ext cx="115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627280" y="5373720"/>
            <a:ext cx="1135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2627280" y="5661000"/>
            <a:ext cx="115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627280" y="5950080"/>
            <a:ext cx="1135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2627280" y="6308640"/>
            <a:ext cx="115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6804000" y="5373720"/>
            <a:ext cx="115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6804000" y="5734080"/>
            <a:ext cx="1135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6804000" y="6093000"/>
            <a:ext cx="1135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4" descr="C21-13"/>
          <p:cNvPicPr/>
          <p:nvPr/>
        </p:nvPicPr>
        <p:blipFill>
          <a:blip r:embed="rId2"/>
          <a:stretch/>
        </p:blipFill>
        <p:spPr>
          <a:xfrm>
            <a:off x="6300720" y="2781360"/>
            <a:ext cx="2454480" cy="14842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26">
            <a:hlinkClick r:id="rId3" action="ppaction://hlinksldjump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10800"/>
                </a:moveTo>
                <a:lnTo>
                  <a:pt x="26421" y="3794"/>
                </a:lnTo>
                <a:lnTo>
                  <a:pt x="2642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диницы времен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2" descr="Часы"/>
          <p:cNvPicPr/>
          <p:nvPr/>
        </p:nvPicPr>
        <p:blipFill>
          <a:blip r:embed="rId1"/>
          <a:stretch/>
        </p:blipFill>
        <p:spPr>
          <a:xfrm>
            <a:off x="6858000" y="285840"/>
            <a:ext cx="1492200" cy="16873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0" y="785880"/>
            <a:ext cx="6178680" cy="2879640"/>
          </a:xfrm>
          <a:prstGeom prst="cloudCallout">
            <a:avLst>
              <a:gd name="adj1" fmla="val 78129"/>
              <a:gd name="adj2" fmla="val -16537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0" y="472428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571680" y="150012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йте точное время п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м часам, если известно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 они отстают на 20 м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2916360" y="3716280"/>
            <a:ext cx="6048360" cy="2808360"/>
          </a:xfrm>
          <a:prstGeom prst="wedgeRoundRectCallout">
            <a:avLst>
              <a:gd name="adj1" fmla="val -72439"/>
              <a:gd name="adj2" fmla="val 833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3255840" y="4240080"/>
            <a:ext cx="534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Запиши двумя способами, например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ч вечера = 19 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ч утра = 6 ч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____ = 5 ч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2 ч дня = ____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____ = 18 ч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4 ч утра =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____ = 22 ч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_____ = 11 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764160" y="501336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ч у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3380040" y="551664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6ч веч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3241440" y="60213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0ч веч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7161120" y="494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4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156800" y="55166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5640120" y="609300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1ч у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5" descr="kp5_2"/>
          <p:cNvPicPr/>
          <p:nvPr/>
        </p:nvPicPr>
        <p:blipFill>
          <a:blip r:embed="rId3"/>
          <a:stretch/>
        </p:blipFill>
        <p:spPr>
          <a:xfrm>
            <a:off x="0" y="4653000"/>
            <a:ext cx="1457280" cy="1800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8"/>
          <p:cNvSpPr/>
          <p:nvPr/>
        </p:nvSpPr>
        <p:spPr>
          <a:xfrm>
            <a:off x="7667640" y="2708280"/>
            <a:ext cx="14763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11 ч 35 м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7886880" y="2060640"/>
            <a:ext cx="12124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0">
            <a:hlinkClick r:id="rId4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57240" y="0"/>
            <a:ext cx="5214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диницы массы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1928880"/>
            <a:ext cx="8820000" cy="1928880"/>
          </a:xfrm>
          <a:prstGeom prst="rect">
            <a:avLst/>
          </a:prstGeom>
          <a:solidFill>
            <a:srgbClr val="cc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очная  норма  употребления  картофеля  взрослым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ом – 2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то на 60 г больше, чем мясных продукт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3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меньш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вощей и фруктов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мяса и сколько овощей и фруктов долж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взрослый человек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3929040"/>
            <a:ext cx="7380360" cy="22860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 время ходьбы человек вдыхает за 1ми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л воздуха, а во время бега - в 4 раз больш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литров воздуха вдыхает человек во врем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га за 2 мину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357120" y="714240"/>
            <a:ext cx="7715160" cy="1152720"/>
          </a:xfrm>
          <a:prstGeom prst="cloudCallout">
            <a:avLst>
              <a:gd name="adj1" fmla="val 81240"/>
              <a:gd name="adj2" fmla="val -10467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 правильный вариант определения   величин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517440" y="3357720"/>
            <a:ext cx="10965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8030520" y="3357720"/>
            <a:ext cx="718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805 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1286640" y="6276960"/>
            <a:ext cx="10965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928960" y="5533920"/>
            <a:ext cx="4964040" cy="13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∙ 4 = 36 (л) – воздуха за 1 м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 время бег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36 ∙ 2 = 72 (л) – воздуха за 2 м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 время бег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3">
            <a:hlinkClick r:id="rId1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kp5_2"/>
          <p:cNvPicPr/>
          <p:nvPr/>
        </p:nvPicPr>
        <p:blipFill>
          <a:blip r:embed="rId1"/>
          <a:stretch/>
        </p:blipFill>
        <p:spPr>
          <a:xfrm>
            <a:off x="250920" y="3805200"/>
            <a:ext cx="2254320" cy="30528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4"/>
          <p:cNvSpPr/>
          <p:nvPr/>
        </p:nvSpPr>
        <p:spPr>
          <a:xfrm>
            <a:off x="2627280" y="476280"/>
            <a:ext cx="5905440" cy="4321080"/>
          </a:xfrm>
          <a:prstGeom prst="cloudCallout">
            <a:avLst>
              <a:gd name="adj1" fmla="val -62824"/>
              <a:gd name="adj2" fmla="val 4504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707840" y="2357280"/>
            <a:ext cx="323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ЦЫ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лево 5"/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kp5_2"/>
          <p:cNvPicPr/>
          <p:nvPr/>
        </p:nvPicPr>
        <p:blipFill>
          <a:blip r:embed="rId1"/>
          <a:stretch/>
        </p:blipFill>
        <p:spPr>
          <a:xfrm>
            <a:off x="250920" y="3805200"/>
            <a:ext cx="2254320" cy="30528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2627280" y="476280"/>
            <a:ext cx="5905440" cy="4321080"/>
          </a:xfrm>
          <a:prstGeom prst="cloudCallout">
            <a:avLst>
              <a:gd name="adj1" fmla="val -62824"/>
              <a:gd name="adj2" fmla="val 4504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707840" y="2357280"/>
            <a:ext cx="323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ЦЫ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ИЦЫ ДЛИН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       см        дм       м       к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flipH="1">
            <a:off x="6357240" y="2071800"/>
            <a:ext cx="1366920" cy="35856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 flipH="1">
            <a:off x="3142440" y="2000160"/>
            <a:ext cx="1366920" cy="35892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flipH="1">
            <a:off x="4714200" y="2071800"/>
            <a:ext cx="1366920" cy="35856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flipH="1">
            <a:off x="1285200" y="2000160"/>
            <a:ext cx="1366920" cy="35892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6645960" y="2643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716840" y="2571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645720" y="2571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5217120" y="2643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лево 12">
            <a:hlinkClick r:id="rId1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Картинки по запросу смешные картинки единицы длины"/>
          <p:cNvPicPr/>
          <p:nvPr/>
        </p:nvPicPr>
        <p:blipFill>
          <a:blip r:embed="rId2"/>
          <a:stretch/>
        </p:blipFill>
        <p:spPr>
          <a:xfrm>
            <a:off x="2286000" y="3071880"/>
            <a:ext cx="435780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ИЦЫ ПЛОЩАД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00040" y="121428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д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а       га       к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flipH="1">
            <a:off x="6857280" y="1785960"/>
            <a:ext cx="1152360" cy="223920"/>
          </a:xfrm>
          <a:custGeom>
            <a:avLst/>
            <a:gdLst>
              <a:gd name="textAreaLeft" fmla="*/ 154080 w 1152360"/>
              <a:gd name="textAreaRight" fmla="*/ 819720 w 115236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 flipH="1">
            <a:off x="5714280" y="1857240"/>
            <a:ext cx="1152360" cy="223920"/>
          </a:xfrm>
          <a:custGeom>
            <a:avLst/>
            <a:gdLst>
              <a:gd name="textAreaLeft" fmla="*/ 154080 w 1152360"/>
              <a:gd name="textAreaRight" fmla="*/ 819720 w 115236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 flipH="1">
            <a:off x="4571280" y="1857240"/>
            <a:ext cx="1152360" cy="223920"/>
          </a:xfrm>
          <a:custGeom>
            <a:avLst/>
            <a:gdLst>
              <a:gd name="textAreaLeft" fmla="*/ 154080 w 1152360"/>
              <a:gd name="textAreaRight" fmla="*/ 819720 w 115236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 flipH="1">
            <a:off x="3357000" y="1857240"/>
            <a:ext cx="1152360" cy="223920"/>
          </a:xfrm>
          <a:custGeom>
            <a:avLst/>
            <a:gdLst>
              <a:gd name="textAreaLeft" fmla="*/ 154080 w 1152360"/>
              <a:gd name="textAreaRight" fmla="*/ 819720 w 115236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 flipH="1">
            <a:off x="2143080" y="1857240"/>
            <a:ext cx="1152720" cy="223920"/>
          </a:xfrm>
          <a:custGeom>
            <a:avLst/>
            <a:gdLst>
              <a:gd name="textAreaLeft" fmla="*/ 154080 w 1152720"/>
              <a:gd name="textAreaRight" fmla="*/ 820080 w 115272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 flipH="1">
            <a:off x="857160" y="1785960"/>
            <a:ext cx="1152720" cy="223920"/>
          </a:xfrm>
          <a:custGeom>
            <a:avLst/>
            <a:gdLst>
              <a:gd name="textAreaLeft" fmla="*/ 154080 w 1152720"/>
              <a:gd name="textAreaRight" fmla="*/ 820080 w 115272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3718800" y="228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1218240" y="2214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2504160" y="2214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8"/>
          <p:cNvSpPr/>
          <p:nvPr/>
        </p:nvSpPr>
        <p:spPr>
          <a:xfrm>
            <a:off x="4861800" y="228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6004800" y="2214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7219080" y="2214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14200" y="3000240"/>
            <a:ext cx="89298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ОЩАДЬ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это то место, которое занимает фигур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14200" y="3857760"/>
            <a:ext cx="44290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утём наложения фигу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14200" y="4643280"/>
            <a:ext cx="5286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Деление на одинаковые квадра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85840" y="5357880"/>
            <a:ext cx="19288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алетк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лево 21">
            <a:hlinkClick r:id="rId4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ЛОЖЕНИЕ ФИГ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68360" y="3789360"/>
            <a:ext cx="3600360" cy="2160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003640" y="1557360"/>
            <a:ext cx="3600720" cy="216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300720" y="364500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496200" y="366552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640560" y="3592440"/>
            <a:ext cx="11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6372360" y="37162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003640" y="1628640"/>
            <a:ext cx="3529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щадь первого прямоугольник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28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330200" y="3084480"/>
            <a:ext cx="180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148360" y="5013360"/>
            <a:ext cx="3456000" cy="579600"/>
          </a:xfrm>
          <a:prstGeom prst="rect">
            <a:avLst/>
          </a:prstGeom>
          <a:solidFill>
            <a:srgbClr val="66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24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539640" y="3933720"/>
            <a:ext cx="3672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ощадь второго прямоугольник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лево 13">
            <a:hlinkClick r:id="rId1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3.75723E-006 L -0.49601 0.32508 E">
                                      <p:cBhvr>
                                        <p:cTn id="14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WordArt 11" descr=""/>
          <p:cNvPicPr/>
          <p:nvPr/>
        </p:nvPicPr>
        <p:blipFill>
          <a:blip r:embed="rId1"/>
          <a:stretch/>
        </p:blipFill>
        <p:spPr>
          <a:xfrm>
            <a:off x="523800" y="542880"/>
            <a:ext cx="5127840" cy="878040"/>
          </a:xfrm>
          <a:prstGeom prst="rect">
            <a:avLst/>
          </a:prstGeom>
          <a:ln w="0">
            <a:noFill/>
          </a:ln>
        </p:spPr>
      </p:pic>
      <p:sp>
        <p:nvSpPr>
          <p:cNvPr id="96" name="WordArt 12"/>
          <p:cNvSpPr txBox="1"/>
          <p:nvPr/>
        </p:nvSpPr>
        <p:spPr>
          <a:xfrm>
            <a:off x="2357280" y="1500120"/>
            <a:ext cx="43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ДИНАКОВЫЕ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13"/>
          <p:cNvSpPr txBox="1"/>
          <p:nvPr/>
        </p:nvSpPr>
        <p:spPr>
          <a:xfrm>
            <a:off x="5357880" y="2500200"/>
            <a:ext cx="339084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ВАДРАТЫ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39640" y="3141720"/>
            <a:ext cx="1800360" cy="17287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2f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539640" y="4005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1403280" y="31417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539640" y="3141720"/>
            <a:ext cx="86364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1403280" y="3141720"/>
            <a:ext cx="93672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1403280" y="4005360"/>
            <a:ext cx="93672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539640" y="4005360"/>
            <a:ext cx="86364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39640" y="5300640"/>
            <a:ext cx="2737080" cy="7034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 = 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71760" y="3499920"/>
            <a:ext cx="2808360" cy="2305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5" descr="kp5_2"/>
          <p:cNvPicPr/>
          <p:nvPr/>
        </p:nvPicPr>
        <p:blipFill>
          <a:blip r:embed="rId3"/>
          <a:stretch/>
        </p:blipFill>
        <p:spPr>
          <a:xfrm>
            <a:off x="3419640" y="3789360"/>
            <a:ext cx="2592360" cy="23320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лево 15">
            <a:hlinkClick r:id="rId4" action="ppaction://hlinksldjump"/>
          </p:cNvPr>
          <p:cNvSpPr/>
          <p:nvPr/>
        </p:nvSpPr>
        <p:spPr>
          <a:xfrm>
            <a:off x="7072200" y="585792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5724360" y="3357720"/>
            <a:ext cx="2880000" cy="172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71680" y="3214800"/>
            <a:ext cx="2879640" cy="1728720"/>
          </a:xfrm>
          <a:prstGeom prst="rect">
            <a:avLst/>
          </a:prstGeom>
          <a:solidFill>
            <a:srgbClr val="cc99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508720" y="51577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алет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700360" y="5877000"/>
            <a:ext cx="25398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98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м</a:t>
            </a:r>
            <a:r>
              <a:rPr b="1" lang="ru-RU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2411280" y="189000"/>
            <a:ext cx="432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АЛЕТКА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476360" y="1773360"/>
            <a:ext cx="57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57120" y="1125360"/>
            <a:ext cx="8786880" cy="1800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ЛЕТК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это прозрачная пленка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деленная на одинаковые квадраты: это могут быть  квадратные дециметры, квадратные сантиметры, квадратные миллиметр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5724360" y="342900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летка разделена на квадратные сантимет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лево 11">
            <a:hlinkClick r:id="rId2" action="ppaction://hlinksldjump"/>
          </p:cNvPr>
          <p:cNvSpPr/>
          <p:nvPr/>
        </p:nvSpPr>
        <p:spPr>
          <a:xfrm>
            <a:off x="7072200" y="578628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7.40741E-007 L -0.5592 -0.02107 E">
                                      <p:cBhvr>
                                        <p:cTn id="19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4763 L -0.44097 -0.06775 E"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0.04763 L -0.14687 -0.3089 E">
                                      <p:cBhvr>
                                        <p:cTn id="19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ИЦЫ М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7168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 flipH="1">
            <a:off x="857160" y="2071800"/>
            <a:ext cx="2160720" cy="64764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 flipH="1">
            <a:off x="3214080" y="2143080"/>
            <a:ext cx="2160360" cy="647640"/>
          </a:xfrm>
          <a:custGeom>
            <a:avLst/>
            <a:gdLst>
              <a:gd name="textAreaLeft" fmla="*/ 378000 w 2160360"/>
              <a:gd name="textAreaRight" fmla="*/ 1566360 w 2160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 flipH="1">
            <a:off x="5786280" y="2071800"/>
            <a:ext cx="2160720" cy="64764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576440" y="30002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47200" y="30718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47040" y="3071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596520" y="4071960"/>
            <a:ext cx="785268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массы больших грузов использую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крупные, чем килограмм, единицы массы 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центнер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онн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12">
            <a:hlinkClick r:id="rId1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ИЦЫ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285840" y="1643040"/>
            <a:ext cx="9429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е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мин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ч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сут.         1г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1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7455600" y="30686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082840" y="300024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5 или 36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788400" y="3071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860920" y="3000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143600" y="3068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 flipH="1">
            <a:off x="357120" y="228600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 flipH="1">
            <a:off x="2143080" y="221472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flipH="1">
            <a:off x="3714840" y="221472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 flipH="1">
            <a:off x="5072040" y="221472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 flipH="1">
            <a:off x="6659640" y="220500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лево 15">
            <a:hlinkClick r:id="rId1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6" descr="Картинки по запросу смешные картинки единицы времени"/>
          <p:cNvPicPr/>
          <p:nvPr/>
        </p:nvPicPr>
        <p:blipFill>
          <a:blip r:embed="rId2"/>
          <a:stretch/>
        </p:blipFill>
        <p:spPr>
          <a:xfrm>
            <a:off x="928800" y="378612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Картинки по запросу смешные картинки единицы времени"/>
          <p:cNvPicPr/>
          <p:nvPr/>
        </p:nvPicPr>
        <p:blipFill>
          <a:blip r:embed="rId3"/>
          <a:stretch/>
        </p:blipFill>
        <p:spPr>
          <a:xfrm>
            <a:off x="4429080" y="3714840"/>
            <a:ext cx="2300400" cy="27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Diagram 22"/>
          <p:cNvGrpSpPr/>
          <p:nvPr/>
        </p:nvGrpSpPr>
        <p:grpSpPr>
          <a:xfrm>
            <a:off x="441720" y="285480"/>
            <a:ext cx="8261280" cy="6154560"/>
            <a:chOff x="441720" y="285480"/>
            <a:chExt cx="8261280" cy="6154560"/>
          </a:xfrm>
        </p:grpSpPr>
        <p:sp>
          <p:nvSpPr>
            <p:cNvPr id="145" name="_s1028"/>
            <p:cNvSpPr/>
            <p:nvPr/>
          </p:nvSpPr>
          <p:spPr>
            <a:xfrm flipH="1" flipV="1">
              <a:off x="2920680" y="2487240"/>
              <a:ext cx="829440" cy="49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>
              <a:off x="1051920" y="1188720"/>
              <a:ext cx="2106000" cy="1598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Арифметически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действи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с величинам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 flipH="1">
              <a:off x="2517120" y="3657240"/>
              <a:ext cx="1029240" cy="182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31"/>
            <p:cNvSpPr/>
            <p:nvPr/>
          </p:nvSpPr>
          <p:spPr>
            <a:xfrm>
              <a:off x="441720" y="3215880"/>
              <a:ext cx="2106000" cy="1598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ТЕСТ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32"/>
            <p:cNvSpPr/>
            <p:nvPr/>
          </p:nvSpPr>
          <p:spPr>
            <a:xfrm flipH="1">
              <a:off x="3659040" y="4197960"/>
              <a:ext cx="454320" cy="72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3"/>
            <p:cNvSpPr/>
            <p:nvPr/>
          </p:nvSpPr>
          <p:spPr>
            <a:xfrm>
              <a:off x="2149560" y="4841640"/>
              <a:ext cx="2106720" cy="1598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400" rIns="10440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«ЛОВУШКИ»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4"/>
            <p:cNvSpPr/>
            <p:nvPr/>
          </p:nvSpPr>
          <p:spPr>
            <a:xfrm>
              <a:off x="5024880" y="4200120"/>
              <a:ext cx="461880" cy="72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4889160" y="4841640"/>
              <a:ext cx="2106000" cy="15984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10" action="ppaction://hlinksldjump"/>
                </a:rPr>
                <a:t>Единиц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11" action="ppaction://hlinksldjump"/>
                </a:rPr>
                <a:t>длин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36"/>
            <p:cNvSpPr/>
            <p:nvPr/>
          </p:nvSpPr>
          <p:spPr>
            <a:xfrm>
              <a:off x="5593680" y="3659760"/>
              <a:ext cx="1031400" cy="176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597000" y="3215880"/>
              <a:ext cx="2106000" cy="1598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13" action="ppaction://hlinksldjump"/>
                </a:rPr>
                <a:t>Единиц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14" action="ppaction://hlinksldjump"/>
                </a:rPr>
                <a:t>площад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38"/>
            <p:cNvSpPr/>
            <p:nvPr/>
          </p:nvSpPr>
          <p:spPr>
            <a:xfrm flipV="1">
              <a:off x="5392440" y="2483280"/>
              <a:ext cx="824400" cy="501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5986800" y="1188720"/>
              <a:ext cx="2106000" cy="159840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lvl="1" marL="457200" algn="ctr">
                <a:lnSpc>
                  <a:spcPct val="100000"/>
                </a:lnSpc>
                <a:spcBef>
                  <a:spcPts val="524"/>
                </a:spcBef>
                <a:buSzPct val="102757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17" action="ppaction://hlinksldjump"/>
                </a:rPr>
                <a:t>Единиц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18" action="ppaction://hlinksldjump"/>
                </a:rPr>
                <a:t>времен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40"/>
            <p:cNvSpPr/>
            <p:nvPr/>
          </p:nvSpPr>
          <p:spPr>
            <a:xfrm flipV="1">
              <a:off x="4570200" y="1882080"/>
              <a:ext cx="0" cy="801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41"/>
            <p:cNvSpPr/>
            <p:nvPr/>
          </p:nvSpPr>
          <p:spPr>
            <a:xfrm>
              <a:off x="3518280" y="285480"/>
              <a:ext cx="2106000" cy="159840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20" action="ppaction://hlinksldjump"/>
                </a:rPr>
                <a:t>Единиц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21" action="ppaction://hlinksldjump"/>
                </a:rPr>
                <a:t> масс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42"/>
            <p:cNvSpPr/>
            <p:nvPr/>
          </p:nvSpPr>
          <p:spPr>
            <a:xfrm>
              <a:off x="3518280" y="2684520"/>
              <a:ext cx="2106000" cy="159912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44"/>
          <p:cNvSpPr/>
          <p:nvPr/>
        </p:nvSpPr>
        <p:spPr>
          <a:xfrm>
            <a:off x="3492360" y="2997360"/>
            <a:ext cx="24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ЗАД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для самопровер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0">
            <a:hlinkClick r:id="rId23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7:10:07Z</dcterms:created>
  <dc:creator>пользователь</dc:creator>
  <dc:description/>
  <dc:language>en-US</dc:language>
  <cp:lastModifiedBy>User</cp:lastModifiedBy>
  <dcterms:modified xsi:type="dcterms:W3CDTF">2016-12-13T04:25:48Z</dcterms:modified>
  <cp:revision>201</cp:revision>
  <dc:subject/>
  <dc:title>Тема: ВЕЛИЧИНЫ</dc:title>
</cp:coreProperties>
</file>