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8.jpeg" ContentType="image/jpeg"/>
  <Override PartName="/ppt/media/image1.png" ContentType="image/png"/>
  <Override PartName="/ppt/media/image19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6AA-F1C8-463E-A05E-1AC5BD72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0AD-59FD-4684-A404-9D532F54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074D-C99E-493E-9292-5EEBF869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5F7-34FA-4033-B245-1BEF7963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E273-B3D6-49EF-9FE0-221D6A20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05A-71C3-4B37-90D8-C9B4A5D0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B5E4-9DBF-40C9-BB9A-8D2166E3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435-3002-4B2F-AC4B-EBC95A43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4E2-979C-49E5-B79E-E7F72655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0C1-EE3D-45FF-8613-58F209A09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2A1-C011-418E-B706-977A4162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A454-162F-4885-97ED-5ED491FB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863D-E418-4273-9158-9C1D2B8414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7.xml"/><Relationship Id="rId3" Type="http://schemas.openxmlformats.org/officeDocument/2006/relationships/slide" Target="slide11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1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1.xml"/><Relationship Id="rId10" Type="http://schemas.openxmlformats.org/officeDocument/2006/relationships/image" Target="../media/image14.png"/><Relationship Id="rId11" Type="http://schemas.openxmlformats.org/officeDocument/2006/relationships/slide" Target="slide13.xml"/><Relationship Id="rId12" Type="http://schemas.openxmlformats.org/officeDocument/2006/relationships/slide" Target="slide13.xml"/><Relationship Id="rId13" Type="http://schemas.openxmlformats.org/officeDocument/2006/relationships/slide" Target="slide13.xml"/><Relationship Id="rId14" Type="http://schemas.openxmlformats.org/officeDocument/2006/relationships/slide" Target="slide17.xml"/><Relationship Id="rId15" Type="http://schemas.openxmlformats.org/officeDocument/2006/relationships/slide" Target="slide17.xml"/><Relationship Id="rId16" Type="http://schemas.openxmlformats.org/officeDocument/2006/relationships/slide" Target="slide13.xml"/><Relationship Id="rId17" Type="http://schemas.openxmlformats.org/officeDocument/2006/relationships/slide" Target="slide13.xml"/><Relationship Id="rId18" Type="http://schemas.openxmlformats.org/officeDocument/2006/relationships/slide" Target="slide13.xml"/><Relationship Id="rId19" Type="http://schemas.openxmlformats.org/officeDocument/2006/relationships/slide" Target="slide13.xml"/><Relationship Id="rId20" Type="http://schemas.openxmlformats.org/officeDocument/2006/relationships/slide" Target="slide9.xml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7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4.png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image" Target="../media/image9.png"/><Relationship Id="rId6" Type="http://schemas.openxmlformats.org/officeDocument/2006/relationships/slide" Target="slide10.xml"/><Relationship Id="rId7" Type="http://schemas.openxmlformats.org/officeDocument/2006/relationships/image" Target="../media/image10.png"/><Relationship Id="rId8" Type="http://schemas.openxmlformats.org/officeDocument/2006/relationships/slide" Target="slide11.xml"/><Relationship Id="rId9" Type="http://schemas.openxmlformats.org/officeDocument/2006/relationships/image" Target="../media/image9.png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image" Target="../media/image8.png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image" Target="../media/image11.png"/><Relationship Id="rId16" Type="http://schemas.openxmlformats.org/officeDocument/2006/relationships/image" Target="../media/image12.png"/><Relationship Id="rId17" Type="http://schemas.openxmlformats.org/officeDocument/2006/relationships/slide" Target="slide15.xml"/><Relationship Id="rId18" Type="http://schemas.openxmlformats.org/officeDocument/2006/relationships/slide" Target="slide15.xml"/><Relationship Id="rId19" Type="http://schemas.openxmlformats.org/officeDocument/2006/relationships/image" Target="../media/image13.png"/><Relationship Id="rId20" Type="http://schemas.openxmlformats.org/officeDocument/2006/relationships/slide" Target="slide16.xml"/><Relationship Id="rId21" Type="http://schemas.openxmlformats.org/officeDocument/2006/relationships/slide" Target="slide16.xml"/><Relationship Id="rId22" Type="http://schemas.openxmlformats.org/officeDocument/2006/relationships/image" Target="../media/image9.png"/><Relationship Id="rId23" Type="http://schemas.openxmlformats.org/officeDocument/2006/relationships/slide" Target="slide3.xml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Скругленный прямоугольник 2"/>
          <p:cNvSpPr/>
          <p:nvPr/>
        </p:nvSpPr>
        <p:spPr>
          <a:xfrm>
            <a:off x="3071880" y="500040"/>
            <a:ext cx="2857320" cy="8571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Овал 3"/>
          <p:cNvSpPr/>
          <p:nvPr/>
        </p:nvSpPr>
        <p:spPr>
          <a:xfrm>
            <a:off x="0" y="285840"/>
            <a:ext cx="2643120" cy="1214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Единиц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4"/>
          <p:cNvSpPr/>
          <p:nvPr/>
        </p:nvSpPr>
        <p:spPr>
          <a:xfrm>
            <a:off x="1857240" y="1714680"/>
            <a:ext cx="2714760" cy="1214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Единиц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щад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вал 5"/>
          <p:cNvSpPr/>
          <p:nvPr/>
        </p:nvSpPr>
        <p:spPr>
          <a:xfrm>
            <a:off x="5072040" y="1785960"/>
            <a:ext cx="2500200" cy="1214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Единицы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6"/>
          <p:cNvSpPr/>
          <p:nvPr/>
        </p:nvSpPr>
        <p:spPr>
          <a:xfrm>
            <a:off x="6572160" y="428760"/>
            <a:ext cx="2571840" cy="1214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Единицы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Блок-схема: знак завершения 7"/>
          <p:cNvSpPr/>
          <p:nvPr/>
        </p:nvSpPr>
        <p:spPr>
          <a:xfrm>
            <a:off x="428760" y="1928880"/>
            <a:ext cx="1143000" cy="2643120"/>
          </a:xfrm>
          <a:prstGeom prst="flowChartTerminator">
            <a:avLst/>
          </a:pr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Блок-схема: знак завершения 8"/>
          <p:cNvSpPr/>
          <p:nvPr/>
        </p:nvSpPr>
        <p:spPr>
          <a:xfrm>
            <a:off x="2786040" y="3214800"/>
            <a:ext cx="1714680" cy="2643120"/>
          </a:xfrm>
          <a:prstGeom prst="flowChartTerminator">
            <a:avLst/>
          </a:pr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. м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. с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. д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. 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. к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Блок-схема: знак завершения 9"/>
          <p:cNvSpPr/>
          <p:nvPr/>
        </p:nvSpPr>
        <p:spPr>
          <a:xfrm>
            <a:off x="5643720" y="3214800"/>
            <a:ext cx="1143000" cy="2571480"/>
          </a:xfrm>
          <a:prstGeom prst="flowChartTerminator">
            <a:avLst/>
          </a:pr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знак завершения 10"/>
          <p:cNvSpPr/>
          <p:nvPr/>
        </p:nvSpPr>
        <p:spPr>
          <a:xfrm>
            <a:off x="7715160" y="1857240"/>
            <a:ext cx="1143000" cy="2571840"/>
          </a:xfrm>
          <a:prstGeom prst="flowChartTerminator">
            <a:avLst/>
          </a:prstGeom>
          <a:solidFill>
            <a:srgbClr val="66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с одним скругленным углом 10"/>
          <p:cNvSpPr/>
          <p:nvPr/>
        </p:nvSpPr>
        <p:spPr>
          <a:xfrm>
            <a:off x="285840" y="6072120"/>
            <a:ext cx="5000400" cy="785880"/>
          </a:xfrm>
          <a:prstGeom prst="pie">
            <a:avLst/>
          </a:prstGeom>
          <a:solidFill>
            <a:srgbClr val="f2f2f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 action="ppaction://hlinksldjump"/>
              </a:rPr>
              <a:t>ПРАКТИЧЕСКАЯ РАБОТ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Овал 11"/>
          <p:cNvSpPr/>
          <p:nvPr/>
        </p:nvSpPr>
        <p:spPr>
          <a:xfrm>
            <a:off x="6500880" y="5715000"/>
            <a:ext cx="2357280" cy="78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ИТОГ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8"/>
          <p:cNvSpPr/>
          <p:nvPr/>
        </p:nvSpPr>
        <p:spPr>
          <a:xfrm>
            <a:off x="0" y="0"/>
            <a:ext cx="9144000" cy="81406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ая единица времени самая крупная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         секунда              век                    го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е утверждение верно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век = 365 суток          1 час = 60 сек        1 год = 12 ме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акое утверждение верное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год = 365 сут           1 час = 60 сек        1 век = 365 ме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 каком ряду единицы измерения расположены в порядке возрастания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тонна, центнер, килограмм, грам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центнер, грамм, тонна, килограмм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в) грамм, килограмм, центнер, тон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Найди ошибк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1 час 15 мин = 115 мин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б) 2 сут = 48 ча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2 в = 200 л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Найди ошибку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2 час 10 мин = 130 м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2 сут = 74 ча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1 в = 100 л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411948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лево 14">
            <a:hlinkClick r:id="rId1" action="ppaction://hlinksldjump"/>
          </p:cNvPr>
          <p:cNvSpPr/>
          <p:nvPr/>
        </p:nvSpPr>
        <p:spPr>
          <a:xfrm>
            <a:off x="8001000" y="6215040"/>
            <a:ext cx="857160" cy="642960"/>
          </a:xfrm>
          <a:prstGeom prst="leftArrow">
            <a:avLst>
              <a:gd name="adj1" fmla="val 50000"/>
              <a:gd name="adj2" fmla="val 4999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18"/>
          <p:cNvSpPr/>
          <p:nvPr/>
        </p:nvSpPr>
        <p:spPr>
          <a:xfrm>
            <a:off x="3571920" y="785880"/>
            <a:ext cx="785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20"/>
          <p:cNvSpPr/>
          <p:nvPr/>
        </p:nvSpPr>
        <p:spPr>
          <a:xfrm>
            <a:off x="571680" y="6572160"/>
            <a:ext cx="2000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21"/>
          <p:cNvSpPr/>
          <p:nvPr/>
        </p:nvSpPr>
        <p:spPr>
          <a:xfrm>
            <a:off x="5929200" y="1571760"/>
            <a:ext cx="1857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23"/>
          <p:cNvSpPr/>
          <p:nvPr/>
        </p:nvSpPr>
        <p:spPr>
          <a:xfrm>
            <a:off x="285840" y="2214720"/>
            <a:ext cx="207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5"/>
          <p:cNvSpPr/>
          <p:nvPr/>
        </p:nvSpPr>
        <p:spPr>
          <a:xfrm>
            <a:off x="928800" y="4071960"/>
            <a:ext cx="4929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8"/>
          <p:cNvSpPr/>
          <p:nvPr/>
        </p:nvSpPr>
        <p:spPr>
          <a:xfrm>
            <a:off x="785880" y="4786200"/>
            <a:ext cx="3286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ЛОВУШ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2205000"/>
            <a:ext cx="3564000" cy="1366920"/>
          </a:xfrm>
          <a:prstGeom prst="rect">
            <a:avLst/>
          </a:prstGeom>
          <a:solidFill>
            <a:srgbClr val="ccff66"/>
          </a:solidFill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с - 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а) сут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б) секунд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) сантимет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3573360"/>
            <a:ext cx="3564000" cy="15112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м - ?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а) минут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б) миллимет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) меся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г) метр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5084640"/>
            <a:ext cx="3564000" cy="1366920"/>
          </a:xfrm>
          <a:prstGeom prst="rect">
            <a:avLst/>
          </a:prstGeom>
          <a:solidFill>
            <a:srgbClr val="ffff66"/>
          </a:solidFill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г - ?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а) грамм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б) го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kp5_2"/>
          <p:cNvPicPr/>
          <p:nvPr/>
        </p:nvPicPr>
        <p:blipFill>
          <a:blip r:embed="rId10"/>
          <a:stretch/>
        </p:blipFill>
        <p:spPr>
          <a:xfrm>
            <a:off x="8007480" y="260280"/>
            <a:ext cx="1136520" cy="1582920"/>
          </a:xfrm>
          <a:prstGeom prst="rect">
            <a:avLst/>
          </a:prstGeom>
          <a:ln w="0">
            <a:noFill/>
          </a:ln>
        </p:spPr>
      </p:pic>
      <p:sp>
        <p:nvSpPr>
          <p:cNvPr id="176" name="AutoShape 10"/>
          <p:cNvSpPr/>
          <p:nvPr/>
        </p:nvSpPr>
        <p:spPr>
          <a:xfrm>
            <a:off x="684360" y="907920"/>
            <a:ext cx="5543280" cy="1152720"/>
          </a:xfrm>
          <a:prstGeom prst="cloudCallout">
            <a:avLst>
              <a:gd name="adj1" fmla="val 79152"/>
              <a:gd name="adj2" fmla="val -46967"/>
            </a:avLst>
          </a:prstGeom>
          <a:solidFill>
            <a:srgbClr val="0000ff"/>
          </a:solidFill>
          <a:ln w="25560">
            <a:solidFill>
              <a:srgbClr val="8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ери правильный вариант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3635280" y="2205000"/>
            <a:ext cx="5508720" cy="17398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иметр – эт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а) внутренняя часть геометрической фигуры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б) все отрезки, из которых сделана фигура (грани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фигуры)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в) сумма длин всех сторон геометрической фигу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411948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3635280" y="4365720"/>
            <a:ext cx="5508720" cy="17398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66ffff"/>
              </a:gs>
            </a:gsLst>
            <a:lin ang="5400000"/>
          </a:gradFill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Площадь – эт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а) внутренняя часть геометрической фигуры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б) все отрезки, из которых сделана фигу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 (границ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фигуры);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в) сумма длин всех сторон геометрической фигу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7">
            <a:hlinkClick r:id="rId20" action="ppaction://hlinksldjump"/>
          </p:cNvPr>
          <p:cNvSpPr/>
          <p:nvPr/>
        </p:nvSpPr>
        <p:spPr>
          <a:xfrm>
            <a:off x="7956720" y="6237360"/>
            <a:ext cx="1187280" cy="620640"/>
          </a:xfrm>
          <a:custGeom>
            <a:avLst/>
            <a:gdLst>
              <a:gd name="textAreaLeft" fmla="*/ 39960 w 1187280"/>
              <a:gd name="textAreaRight" fmla="*/ 1147320 w 1187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1309" h="21600">
                <a:moveTo>
                  <a:pt x="0" y="0"/>
                </a:moveTo>
                <a:lnTo>
                  <a:pt x="41309" y="0"/>
                </a:lnTo>
                <a:lnTo>
                  <a:pt x="41309" y="21600"/>
                </a:lnTo>
                <a:lnTo>
                  <a:pt x="0" y="21600"/>
                </a:lnTo>
                <a:close/>
              </a:path>
              <a:path fill="lightenLess" w="41309" h="21600">
                <a:moveTo>
                  <a:pt x="0" y="0"/>
                </a:moveTo>
                <a:lnTo>
                  <a:pt x="41309" y="0"/>
                </a:lnTo>
                <a:lnTo>
                  <a:pt x="39909" y="1400"/>
                </a:lnTo>
                <a:lnTo>
                  <a:pt x="1400" y="1400"/>
                </a:lnTo>
                <a:close/>
              </a:path>
              <a:path fill="darken" w="41309" h="21600">
                <a:moveTo>
                  <a:pt x="41309" y="0"/>
                </a:moveTo>
                <a:lnTo>
                  <a:pt x="41309" y="21600"/>
                </a:lnTo>
                <a:lnTo>
                  <a:pt x="39909" y="20200"/>
                </a:lnTo>
                <a:lnTo>
                  <a:pt x="39909" y="1400"/>
                </a:lnTo>
                <a:close/>
              </a:path>
              <a:path fill="darkenLess" w="41309" h="21600">
                <a:moveTo>
                  <a:pt x="41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9" y="20200"/>
                </a:lnTo>
                <a:close/>
              </a:path>
              <a:path fill="lighten" w="41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9" h="21600">
                <a:moveTo>
                  <a:pt x="13648" y="10800"/>
                </a:moveTo>
                <a:lnTo>
                  <a:pt x="27661" y="3794"/>
                </a:lnTo>
                <a:lnTo>
                  <a:pt x="27661" y="17806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189920" y="1412640"/>
            <a:ext cx="1954080" cy="17571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Арифметические действия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 величин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50920" y="1628640"/>
            <a:ext cx="6767280" cy="15570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кг 375 г + 625 г = __________ 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дм – 12 см = _____________ с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мин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∙ 9 =  ________________ ми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5 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=  _______________ м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119480" y="4889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684360" y="3500280"/>
            <a:ext cx="6624360" cy="15570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ази в более крупных единицах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0 мм  = _______ с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более мелких единицах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дм 5 см = ________ м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258920" y="5229360"/>
            <a:ext cx="7885080" cy="155700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величины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 м 2 д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130 с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1 ч 25 м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5ми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кг 95 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95г    400 д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 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2627280" y="5661000"/>
            <a:ext cx="64764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3203640" y="6165720"/>
            <a:ext cx="64764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7020000" y="5661000"/>
            <a:ext cx="647640" cy="358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6732720" y="6093000"/>
            <a:ext cx="647640" cy="358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3570840" y="1557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3135960" y="198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135960" y="234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3350880" y="2708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2704320" y="3860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2345040" y="4581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2627280" y="558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7"/>
          <p:cNvSpPr/>
          <p:nvPr/>
        </p:nvSpPr>
        <p:spPr>
          <a:xfrm>
            <a:off x="3276720" y="6093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7165800" y="5589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9"/>
          <p:cNvSpPr/>
          <p:nvPr/>
        </p:nvSpPr>
        <p:spPr>
          <a:xfrm>
            <a:off x="6878520" y="602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0">
            <a:hlinkClick r:id="rId2" action="ppaction://hlinksldjump"/>
          </p:cNvPr>
          <p:cNvSpPr/>
          <p:nvPr/>
        </p:nvSpPr>
        <p:spPr>
          <a:xfrm>
            <a:off x="0" y="6237360"/>
            <a:ext cx="1187280" cy="620640"/>
          </a:xfrm>
          <a:custGeom>
            <a:avLst/>
            <a:gdLst>
              <a:gd name="textAreaLeft" fmla="*/ 39960 w 1187280"/>
              <a:gd name="textAreaRight" fmla="*/ 1147320 w 1187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1309" h="21600">
                <a:moveTo>
                  <a:pt x="0" y="0"/>
                </a:moveTo>
                <a:lnTo>
                  <a:pt x="41309" y="0"/>
                </a:lnTo>
                <a:lnTo>
                  <a:pt x="41309" y="21600"/>
                </a:lnTo>
                <a:lnTo>
                  <a:pt x="0" y="21600"/>
                </a:lnTo>
                <a:close/>
              </a:path>
              <a:path fill="lightenLess" w="41309" h="21600">
                <a:moveTo>
                  <a:pt x="0" y="0"/>
                </a:moveTo>
                <a:lnTo>
                  <a:pt x="41309" y="0"/>
                </a:lnTo>
                <a:lnTo>
                  <a:pt x="39909" y="1400"/>
                </a:lnTo>
                <a:lnTo>
                  <a:pt x="1400" y="1400"/>
                </a:lnTo>
                <a:close/>
              </a:path>
              <a:path fill="darken" w="41309" h="21600">
                <a:moveTo>
                  <a:pt x="41309" y="0"/>
                </a:moveTo>
                <a:lnTo>
                  <a:pt x="41309" y="21600"/>
                </a:lnTo>
                <a:lnTo>
                  <a:pt x="39909" y="20200"/>
                </a:lnTo>
                <a:lnTo>
                  <a:pt x="39909" y="1400"/>
                </a:lnTo>
                <a:close/>
              </a:path>
              <a:path fill="darkenLess" w="41309" h="21600">
                <a:moveTo>
                  <a:pt x="41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9" y="20200"/>
                </a:lnTo>
                <a:close/>
              </a:path>
              <a:path fill="lighten" w="41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9" h="21600">
                <a:moveTo>
                  <a:pt x="13648" y="10800"/>
                </a:moveTo>
                <a:lnTo>
                  <a:pt x="27661" y="3794"/>
                </a:lnTo>
                <a:lnTo>
                  <a:pt x="27661" y="17806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диницы длины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kp5_2"/>
          <p:cNvPicPr/>
          <p:nvPr/>
        </p:nvPicPr>
        <p:blipFill>
          <a:blip r:embed="rId1"/>
          <a:stretch/>
        </p:blipFill>
        <p:spPr>
          <a:xfrm>
            <a:off x="250920" y="260280"/>
            <a:ext cx="1633320" cy="1657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0" y="4869000"/>
            <a:ext cx="9144000" cy="19890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prstDash val="dash"/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987480" indent="-808200">
              <a:lnSpc>
                <a:spcPct val="100000"/>
              </a:lnSpc>
              <a:buClr>
                <a:srgbClr val="333399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му равна сторона прямоугольника, если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808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его периметр равен 14 см, а другая сторона – 2 см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808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1) (14 + 2) : 2 = 8 (см)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верь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808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) 14 : 2 - 2 = 5 (см)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вер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7480" indent="-808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3) (14 - 2) : 2 = 6 (см)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оверь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/>
          <p:cNvSpPr/>
          <p:nvPr/>
        </p:nvSpPr>
        <p:spPr>
          <a:xfrm>
            <a:off x="3600360" y="836640"/>
            <a:ext cx="5543640" cy="1152360"/>
          </a:xfrm>
          <a:prstGeom prst="cloudCallout">
            <a:avLst>
              <a:gd name="adj1" fmla="val -84476"/>
              <a:gd name="adj2" fmla="val -38152"/>
            </a:avLst>
          </a:prstGeom>
          <a:solidFill>
            <a:srgbClr val="0000ff"/>
          </a:solidFill>
          <a:ln w="25560">
            <a:solidFill>
              <a:srgbClr val="8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 задачи и проверь себя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0" y="2060640"/>
            <a:ext cx="9144000" cy="1224000"/>
          </a:xfrm>
          <a:prstGeom prst="rect">
            <a:avLst/>
          </a:prstGeom>
          <a:solidFill>
            <a:srgbClr val="ccff66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ысота Эвереста 8900 м, он выше Эльбруса на 3200 м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ысота Белухи в Алтае на 1100 м меньше, чем высот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ьбруса. Какова высота Белухи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140360" y="5734080"/>
            <a:ext cx="2017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4140360" y="6093000"/>
            <a:ext cx="2017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4140360" y="6491160"/>
            <a:ext cx="2017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1080" y="3357720"/>
            <a:ext cx="10965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5"/>
          <p:cNvSpPr/>
          <p:nvPr/>
        </p:nvSpPr>
        <p:spPr>
          <a:xfrm>
            <a:off x="1547640" y="4221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6"/>
          <p:cNvSpPr/>
          <p:nvPr/>
        </p:nvSpPr>
        <p:spPr>
          <a:xfrm>
            <a:off x="1400040" y="3714840"/>
            <a:ext cx="774396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) 8900 – 3200 = 5700 (м) – высота Эльбрус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) 5700 – 1100 = 4600 (м) – высота Белухи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8">
            <a:hlinkClick r:id="rId2" action="ppaction://hlinksldjump"/>
          </p:cNvPr>
          <p:cNvSpPr/>
          <p:nvPr/>
        </p:nvSpPr>
        <p:spPr>
          <a:xfrm>
            <a:off x="7956720" y="6237360"/>
            <a:ext cx="1187280" cy="620640"/>
          </a:xfrm>
          <a:custGeom>
            <a:avLst/>
            <a:gdLst>
              <a:gd name="textAreaLeft" fmla="*/ 39960 w 1187280"/>
              <a:gd name="textAreaRight" fmla="*/ 1147320 w 1187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1309" h="21600">
                <a:moveTo>
                  <a:pt x="0" y="0"/>
                </a:moveTo>
                <a:lnTo>
                  <a:pt x="41309" y="0"/>
                </a:lnTo>
                <a:lnTo>
                  <a:pt x="41309" y="21600"/>
                </a:lnTo>
                <a:lnTo>
                  <a:pt x="0" y="21600"/>
                </a:lnTo>
                <a:close/>
              </a:path>
              <a:path fill="lightenLess" w="41309" h="21600">
                <a:moveTo>
                  <a:pt x="0" y="0"/>
                </a:moveTo>
                <a:lnTo>
                  <a:pt x="41309" y="0"/>
                </a:lnTo>
                <a:lnTo>
                  <a:pt x="39909" y="1400"/>
                </a:lnTo>
                <a:lnTo>
                  <a:pt x="1400" y="1400"/>
                </a:lnTo>
                <a:close/>
              </a:path>
              <a:path fill="darken" w="41309" h="21600">
                <a:moveTo>
                  <a:pt x="41309" y="0"/>
                </a:moveTo>
                <a:lnTo>
                  <a:pt x="41309" y="21600"/>
                </a:lnTo>
                <a:lnTo>
                  <a:pt x="39909" y="20200"/>
                </a:lnTo>
                <a:lnTo>
                  <a:pt x="39909" y="1400"/>
                </a:lnTo>
                <a:close/>
              </a:path>
              <a:path fill="darkenLess" w="41309" h="21600">
                <a:moveTo>
                  <a:pt x="41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9" y="20200"/>
                </a:lnTo>
                <a:close/>
              </a:path>
              <a:path fill="lighten" w="41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9" h="21600">
                <a:moveTo>
                  <a:pt x="13648" y="10800"/>
                </a:moveTo>
                <a:lnTo>
                  <a:pt x="27661" y="3794"/>
                </a:lnTo>
                <a:lnTo>
                  <a:pt x="27661" y="17806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8" descr="AG00421_"/>
          <p:cNvPicPr/>
          <p:nvPr/>
        </p:nvPicPr>
        <p:blipFill>
          <a:blip r:embed="rId3"/>
          <a:stretch/>
        </p:blipFill>
        <p:spPr>
          <a:xfrm>
            <a:off x="357120" y="3929040"/>
            <a:ext cx="1000080" cy="909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диницы площад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0" y="2205000"/>
            <a:ext cx="8893080" cy="2160720"/>
          </a:xfrm>
          <a:prstGeom prst="rect">
            <a:avLst/>
          </a:prstGeom>
          <a:solidFill>
            <a:srgbClr val="ccff66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прямоугольника равна 45м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Его длина равна 9 м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му равна ширина прямоугольника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4508640"/>
            <a:ext cx="3924360" cy="234936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kp5_2"/>
          <p:cNvPicPr/>
          <p:nvPr/>
        </p:nvPicPr>
        <p:blipFill>
          <a:blip r:embed="rId1"/>
          <a:stretch/>
        </p:blipFill>
        <p:spPr>
          <a:xfrm>
            <a:off x="8015400" y="549360"/>
            <a:ext cx="1128600" cy="15127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6"/>
          <p:cNvSpPr/>
          <p:nvPr/>
        </p:nvSpPr>
        <p:spPr>
          <a:xfrm>
            <a:off x="684360" y="907920"/>
            <a:ext cx="5543280" cy="1152720"/>
          </a:xfrm>
          <a:prstGeom prst="cloudCallout">
            <a:avLst>
              <a:gd name="adj1" fmla="val 81240"/>
              <a:gd name="adj2" fmla="val -10467"/>
            </a:avLst>
          </a:prstGeom>
          <a:solidFill>
            <a:srgbClr val="0000ff"/>
          </a:solidFill>
          <a:ln w="25560">
            <a:solidFill>
              <a:srgbClr val="8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йди верное реше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321300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) (45 -9) : 2 = 18 (м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) 45 - 9 = 36 (м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) 45 : 9 = 5 (м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0" y="4724280"/>
            <a:ext cx="6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0" y="4508640"/>
            <a:ext cx="4035600" cy="25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йди верные утверждения  формул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прямоуг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∙ b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квадр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a ∙ 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квадр.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a ∙ a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прямоуг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(a + b) ∙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прямоуг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 + b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0"/>
          <p:cNvSpPr/>
          <p:nvPr/>
        </p:nvSpPr>
        <p:spPr>
          <a:xfrm>
            <a:off x="3995640" y="4508640"/>
            <a:ext cx="5148360" cy="2349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.Сумма длин сторон квадрата равна 12 дм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Чему равна площадь этого квадрата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1)1 2 : 4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∙ 3 = 9 (дм</a:t>
            </a:r>
            <a:r>
              <a:rPr b="1" lang="ru-RU" sz="1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)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2) 12 : 4 ∙ 5 = 15 (дм)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3) 12 : 2 ∙ 4 = 16 (дм</a:t>
            </a:r>
            <a:r>
              <a:rPr b="1" lang="ru-RU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овер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3636720" y="3213000"/>
            <a:ext cx="11318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3636720" y="3500280"/>
            <a:ext cx="113184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3635280" y="3789360"/>
            <a:ext cx="11541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2627280" y="5084640"/>
            <a:ext cx="1154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6"/>
          <p:cNvSpPr/>
          <p:nvPr/>
        </p:nvSpPr>
        <p:spPr>
          <a:xfrm>
            <a:off x="2627280" y="5373720"/>
            <a:ext cx="1135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2627280" y="5661000"/>
            <a:ext cx="1154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2627280" y="5950080"/>
            <a:ext cx="1135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0"/>
          <p:cNvSpPr/>
          <p:nvPr/>
        </p:nvSpPr>
        <p:spPr>
          <a:xfrm>
            <a:off x="2627280" y="6308640"/>
            <a:ext cx="1154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6804000" y="5373720"/>
            <a:ext cx="11541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6804000" y="5734080"/>
            <a:ext cx="1135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3"/>
          <p:cNvSpPr/>
          <p:nvPr/>
        </p:nvSpPr>
        <p:spPr>
          <a:xfrm>
            <a:off x="6804000" y="6093000"/>
            <a:ext cx="1135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4" descr="C21-13"/>
          <p:cNvPicPr/>
          <p:nvPr/>
        </p:nvPicPr>
        <p:blipFill>
          <a:blip r:embed="rId2"/>
          <a:stretch/>
        </p:blipFill>
        <p:spPr>
          <a:xfrm>
            <a:off x="6300720" y="2781360"/>
            <a:ext cx="2454480" cy="14842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26">
            <a:hlinkClick r:id="rId3" action="ppaction://hlinksldjump"/>
          </p:cNvPr>
          <p:cNvSpPr/>
          <p:nvPr/>
        </p:nvSpPr>
        <p:spPr>
          <a:xfrm>
            <a:off x="8028000" y="6237360"/>
            <a:ext cx="1116000" cy="620640"/>
          </a:xfrm>
          <a:custGeom>
            <a:avLst/>
            <a:gdLst>
              <a:gd name="textAreaLeft" fmla="*/ 39960 w 1116000"/>
              <a:gd name="textAreaRight" fmla="*/ 1076040 w 1116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8830" h="21600">
                <a:moveTo>
                  <a:pt x="0" y="0"/>
                </a:moveTo>
                <a:lnTo>
                  <a:pt x="38830" y="0"/>
                </a:lnTo>
                <a:lnTo>
                  <a:pt x="38830" y="21600"/>
                </a:lnTo>
                <a:lnTo>
                  <a:pt x="0" y="21600"/>
                </a:lnTo>
                <a:close/>
              </a:path>
              <a:path fill="lightenLess" w="38830" h="21600">
                <a:moveTo>
                  <a:pt x="0" y="0"/>
                </a:moveTo>
                <a:lnTo>
                  <a:pt x="38830" y="0"/>
                </a:lnTo>
                <a:lnTo>
                  <a:pt x="37430" y="1400"/>
                </a:lnTo>
                <a:lnTo>
                  <a:pt x="1400" y="1400"/>
                </a:lnTo>
                <a:close/>
              </a:path>
              <a:path fill="darken" w="38830" h="21600">
                <a:moveTo>
                  <a:pt x="38830" y="0"/>
                </a:moveTo>
                <a:lnTo>
                  <a:pt x="38830" y="21600"/>
                </a:lnTo>
                <a:lnTo>
                  <a:pt x="37430" y="20200"/>
                </a:lnTo>
                <a:lnTo>
                  <a:pt x="37430" y="1400"/>
                </a:lnTo>
                <a:close/>
              </a:path>
              <a:path fill="darkenLess" w="38830" h="21600">
                <a:moveTo>
                  <a:pt x="38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0" y="20200"/>
                </a:lnTo>
                <a:close/>
              </a:path>
              <a:path fill="lighten" w="38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0" h="21600">
                <a:moveTo>
                  <a:pt x="12408" y="10800"/>
                </a:moveTo>
                <a:lnTo>
                  <a:pt x="26421" y="3794"/>
                </a:lnTo>
                <a:lnTo>
                  <a:pt x="26421" y="17806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диницы времени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2" descr="Часы"/>
          <p:cNvPicPr/>
          <p:nvPr/>
        </p:nvPicPr>
        <p:blipFill>
          <a:blip r:embed="rId1"/>
          <a:stretch/>
        </p:blipFill>
        <p:spPr>
          <a:xfrm>
            <a:off x="6858000" y="285840"/>
            <a:ext cx="1492200" cy="168732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0" y="785880"/>
            <a:ext cx="6178680" cy="2879640"/>
          </a:xfrm>
          <a:prstGeom prst="cloudCallout">
            <a:avLst>
              <a:gd name="adj1" fmla="val 78129"/>
              <a:gd name="adj2" fmla="val -16537"/>
            </a:avLst>
          </a:prstGeom>
          <a:solidFill>
            <a:srgbClr val="0000ff"/>
          </a:solidFill>
          <a:ln w="25560">
            <a:solidFill>
              <a:srgbClr val="8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0" y="4724280"/>
            <a:ext cx="63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571680" y="1500120"/>
            <a:ext cx="545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найте точное время по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м часам, если известно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 они отстают на 20 ми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4"/>
          <p:cNvSpPr/>
          <p:nvPr/>
        </p:nvSpPr>
        <p:spPr>
          <a:xfrm>
            <a:off x="2916360" y="3716280"/>
            <a:ext cx="6048360" cy="2808360"/>
          </a:xfrm>
          <a:prstGeom prst="wedgeRoundRectCallout">
            <a:avLst>
              <a:gd name="adj1" fmla="val -72439"/>
              <a:gd name="adj2" fmla="val 8337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1908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>
            <a:off x="3255840" y="4240080"/>
            <a:ext cx="5348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Запиши двумя способами, например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ч вечера = 19 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ч утра = 6 ч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____ = 5 ч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2 ч дня = ____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____ = 18 ч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4 ч утра = ____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____ = 22 ч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_____ = 11 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>
            <a:off x="3764160" y="501336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5ч ут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>
            <a:off x="3380040" y="551664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6ч вече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>
            <a:off x="3241440" y="602136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0ч вече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9"/>
          <p:cNvSpPr/>
          <p:nvPr/>
        </p:nvSpPr>
        <p:spPr>
          <a:xfrm>
            <a:off x="7161120" y="49417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4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7156800" y="5516640"/>
            <a:ext cx="4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5640120" y="6093000"/>
            <a:ext cx="119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11ч ут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25" descr="kp5_2"/>
          <p:cNvPicPr/>
          <p:nvPr/>
        </p:nvPicPr>
        <p:blipFill>
          <a:blip r:embed="rId3"/>
          <a:stretch/>
        </p:blipFill>
        <p:spPr>
          <a:xfrm>
            <a:off x="0" y="4653000"/>
            <a:ext cx="1457280" cy="18003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28"/>
          <p:cNvSpPr/>
          <p:nvPr/>
        </p:nvSpPr>
        <p:spPr>
          <a:xfrm>
            <a:off x="7667640" y="2708280"/>
            <a:ext cx="1476360" cy="368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11 ч 35 ми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9"/>
          <p:cNvSpPr/>
          <p:nvPr/>
        </p:nvSpPr>
        <p:spPr>
          <a:xfrm>
            <a:off x="7886880" y="2060640"/>
            <a:ext cx="1212480" cy="4597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ОТВЕ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0">
            <a:hlinkClick r:id="rId4" action="ppaction://hlinksldjump"/>
          </p:cNvPr>
          <p:cNvSpPr/>
          <p:nvPr/>
        </p:nvSpPr>
        <p:spPr>
          <a:xfrm>
            <a:off x="7956720" y="6237360"/>
            <a:ext cx="1187280" cy="620640"/>
          </a:xfrm>
          <a:custGeom>
            <a:avLst/>
            <a:gdLst>
              <a:gd name="textAreaLeft" fmla="*/ 39960 w 1187280"/>
              <a:gd name="textAreaRight" fmla="*/ 1147320 w 1187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1309" h="21600">
                <a:moveTo>
                  <a:pt x="0" y="0"/>
                </a:moveTo>
                <a:lnTo>
                  <a:pt x="41309" y="0"/>
                </a:lnTo>
                <a:lnTo>
                  <a:pt x="41309" y="21600"/>
                </a:lnTo>
                <a:lnTo>
                  <a:pt x="0" y="21600"/>
                </a:lnTo>
                <a:close/>
              </a:path>
              <a:path fill="lightenLess" w="41309" h="21600">
                <a:moveTo>
                  <a:pt x="0" y="0"/>
                </a:moveTo>
                <a:lnTo>
                  <a:pt x="41309" y="0"/>
                </a:lnTo>
                <a:lnTo>
                  <a:pt x="39909" y="1400"/>
                </a:lnTo>
                <a:lnTo>
                  <a:pt x="1400" y="1400"/>
                </a:lnTo>
                <a:close/>
              </a:path>
              <a:path fill="darken" w="41309" h="21600">
                <a:moveTo>
                  <a:pt x="41309" y="0"/>
                </a:moveTo>
                <a:lnTo>
                  <a:pt x="41309" y="21600"/>
                </a:lnTo>
                <a:lnTo>
                  <a:pt x="39909" y="20200"/>
                </a:lnTo>
                <a:lnTo>
                  <a:pt x="39909" y="1400"/>
                </a:lnTo>
                <a:close/>
              </a:path>
              <a:path fill="darkenLess" w="41309" h="21600">
                <a:moveTo>
                  <a:pt x="41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9" y="20200"/>
                </a:lnTo>
                <a:close/>
              </a:path>
              <a:path fill="lighten" w="41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9" h="21600">
                <a:moveTo>
                  <a:pt x="13648" y="10800"/>
                </a:moveTo>
                <a:lnTo>
                  <a:pt x="27661" y="3794"/>
                </a:lnTo>
                <a:lnTo>
                  <a:pt x="27661" y="17806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857240" y="0"/>
            <a:ext cx="5214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диницы массы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0" y="1928880"/>
            <a:ext cx="8820000" cy="1928880"/>
          </a:xfrm>
          <a:prstGeom prst="rect">
            <a:avLst/>
          </a:prstGeom>
          <a:solidFill>
            <a:srgbClr val="ccff66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очная  норма  употребления  картофеля  взрослым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ом – 26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Это на 60 г больше, чем мясных продуктов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33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 меньше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овощей и фруктов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мяса и сколько овощей и фруктов долже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ять взрослый человек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3929040"/>
            <a:ext cx="7380360" cy="228600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 время ходьбы человек вдыхает за 1мин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 л воздуха, а во время бега - в 4 раз больше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колько литров воздуха вдыхает человек во врем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га за 2 минут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"/>
          <p:cNvSpPr/>
          <p:nvPr/>
        </p:nvSpPr>
        <p:spPr>
          <a:xfrm>
            <a:off x="357120" y="714240"/>
            <a:ext cx="7715160" cy="1152720"/>
          </a:xfrm>
          <a:prstGeom prst="cloudCallout">
            <a:avLst>
              <a:gd name="adj1" fmla="val 81240"/>
              <a:gd name="adj2" fmla="val -10467"/>
            </a:avLst>
          </a:prstGeom>
          <a:solidFill>
            <a:srgbClr val="0000ff"/>
          </a:solidFill>
          <a:ln w="25560">
            <a:solidFill>
              <a:srgbClr val="80008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бери правильный вариант определения   величины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6517440" y="3357720"/>
            <a:ext cx="10965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8030520" y="3357720"/>
            <a:ext cx="718560" cy="36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805 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1286640" y="6276960"/>
            <a:ext cx="109656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ОТВЕТ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2928960" y="5533920"/>
            <a:ext cx="4964040" cy="1313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9 ∙ 4 = 36 (л) – воздуха за 1 мин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 время бег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) 36 ∙ 2 = 72 (л) – воздуха за 2 м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 время бег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3">
            <a:hlinkClick r:id="rId1" action="ppaction://hlinksldjump"/>
          </p:cNvPr>
          <p:cNvSpPr/>
          <p:nvPr/>
        </p:nvSpPr>
        <p:spPr>
          <a:xfrm>
            <a:off x="7956720" y="6237360"/>
            <a:ext cx="1187280" cy="620640"/>
          </a:xfrm>
          <a:custGeom>
            <a:avLst/>
            <a:gdLst>
              <a:gd name="textAreaLeft" fmla="*/ 39960 w 1187280"/>
              <a:gd name="textAreaRight" fmla="*/ 1147320 w 1187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1309" h="21600">
                <a:moveTo>
                  <a:pt x="0" y="0"/>
                </a:moveTo>
                <a:lnTo>
                  <a:pt x="41309" y="0"/>
                </a:lnTo>
                <a:lnTo>
                  <a:pt x="41309" y="21600"/>
                </a:lnTo>
                <a:lnTo>
                  <a:pt x="0" y="21600"/>
                </a:lnTo>
                <a:close/>
              </a:path>
              <a:path fill="lightenLess" w="41309" h="21600">
                <a:moveTo>
                  <a:pt x="0" y="0"/>
                </a:moveTo>
                <a:lnTo>
                  <a:pt x="41309" y="0"/>
                </a:lnTo>
                <a:lnTo>
                  <a:pt x="39909" y="1400"/>
                </a:lnTo>
                <a:lnTo>
                  <a:pt x="1400" y="1400"/>
                </a:lnTo>
                <a:close/>
              </a:path>
              <a:path fill="darken" w="41309" h="21600">
                <a:moveTo>
                  <a:pt x="41309" y="0"/>
                </a:moveTo>
                <a:lnTo>
                  <a:pt x="41309" y="21600"/>
                </a:lnTo>
                <a:lnTo>
                  <a:pt x="39909" y="20200"/>
                </a:lnTo>
                <a:lnTo>
                  <a:pt x="39909" y="1400"/>
                </a:lnTo>
                <a:close/>
              </a:path>
              <a:path fill="darkenLess" w="41309" h="21600">
                <a:moveTo>
                  <a:pt x="41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9" y="20200"/>
                </a:lnTo>
                <a:close/>
              </a:path>
              <a:path fill="lighten" w="41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9" h="21600">
                <a:moveTo>
                  <a:pt x="13648" y="10800"/>
                </a:moveTo>
                <a:lnTo>
                  <a:pt x="27661" y="3794"/>
                </a:lnTo>
                <a:lnTo>
                  <a:pt x="27661" y="17806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kp5_2"/>
          <p:cNvPicPr/>
          <p:nvPr/>
        </p:nvPicPr>
        <p:blipFill>
          <a:blip r:embed="rId1"/>
          <a:stretch/>
        </p:blipFill>
        <p:spPr>
          <a:xfrm>
            <a:off x="250920" y="3805200"/>
            <a:ext cx="2254320" cy="3052800"/>
          </a:xfrm>
          <a:prstGeom prst="rect">
            <a:avLst/>
          </a:prstGeom>
          <a:ln w="0">
            <a:noFill/>
          </a:ln>
        </p:spPr>
      </p:pic>
      <p:sp>
        <p:nvSpPr>
          <p:cNvPr id="264" name="AutoShape 4"/>
          <p:cNvSpPr/>
          <p:nvPr/>
        </p:nvSpPr>
        <p:spPr>
          <a:xfrm>
            <a:off x="2627280" y="476280"/>
            <a:ext cx="5905440" cy="4321080"/>
          </a:xfrm>
          <a:prstGeom prst="cloudCallout">
            <a:avLst>
              <a:gd name="adj1" fmla="val -62824"/>
              <a:gd name="adj2" fmla="val 4504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707840" y="2357280"/>
            <a:ext cx="323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ДЦЫ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трелка влево 5"/>
          <p:cNvSpPr/>
          <p:nvPr/>
        </p:nvSpPr>
        <p:spPr>
          <a:xfrm>
            <a:off x="7000920" y="5715000"/>
            <a:ext cx="15717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kp5_2"/>
          <p:cNvPicPr/>
          <p:nvPr/>
        </p:nvPicPr>
        <p:blipFill>
          <a:blip r:embed="rId1"/>
          <a:stretch/>
        </p:blipFill>
        <p:spPr>
          <a:xfrm>
            <a:off x="250920" y="3805200"/>
            <a:ext cx="2254320" cy="305280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4"/>
          <p:cNvSpPr/>
          <p:nvPr/>
        </p:nvSpPr>
        <p:spPr>
          <a:xfrm>
            <a:off x="2627280" y="476280"/>
            <a:ext cx="5905440" cy="4321080"/>
          </a:xfrm>
          <a:prstGeom prst="cloudCallout">
            <a:avLst>
              <a:gd name="adj1" fmla="val -62824"/>
              <a:gd name="adj2" fmla="val 4504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707840" y="2357280"/>
            <a:ext cx="323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ДЦЫ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ДИНИЦЫ ДЛИНЫ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       см        дм       м       км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 flipH="1">
            <a:off x="6357240" y="2071800"/>
            <a:ext cx="1366920" cy="358560"/>
          </a:xfrm>
          <a:custGeom>
            <a:avLst/>
            <a:gdLst>
              <a:gd name="textAreaLeft" fmla="*/ 239040 w 1366920"/>
              <a:gd name="textAreaRight" fmla="*/ 991080 w 1366920"/>
              <a:gd name="textAreaTop" fmla="*/ 47880 h 358560"/>
              <a:gd name="textAreaBottom" fmla="*/ 3106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 flipH="1">
            <a:off x="3142440" y="2000160"/>
            <a:ext cx="1366920" cy="358920"/>
          </a:xfrm>
          <a:custGeom>
            <a:avLst/>
            <a:gdLst>
              <a:gd name="textAreaLeft" fmla="*/ 239040 w 1366920"/>
              <a:gd name="textAreaRight" fmla="*/ 991080 w 136692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 flipH="1">
            <a:off x="4714200" y="2071800"/>
            <a:ext cx="1366920" cy="358560"/>
          </a:xfrm>
          <a:custGeom>
            <a:avLst/>
            <a:gdLst>
              <a:gd name="textAreaLeft" fmla="*/ 239040 w 1366920"/>
              <a:gd name="textAreaRight" fmla="*/ 991080 w 1366920"/>
              <a:gd name="textAreaTop" fmla="*/ 47880 h 358560"/>
              <a:gd name="textAreaBottom" fmla="*/ 31068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 flipH="1">
            <a:off x="1285200" y="2000160"/>
            <a:ext cx="1366920" cy="358920"/>
          </a:xfrm>
          <a:custGeom>
            <a:avLst/>
            <a:gdLst>
              <a:gd name="textAreaLeft" fmla="*/ 239040 w 1366920"/>
              <a:gd name="textAreaRight" fmla="*/ 991080 w 1366920"/>
              <a:gd name="textAreaTop" fmla="*/ 47880 h 358920"/>
              <a:gd name="textAreaBottom" fmla="*/ 31104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6645960" y="26431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00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716840" y="2571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645720" y="25718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5217120" y="2643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лево 12">
            <a:hlinkClick r:id="rId1" action="ppaction://hlinksldjump"/>
          </p:cNvPr>
          <p:cNvSpPr/>
          <p:nvPr/>
        </p:nvSpPr>
        <p:spPr>
          <a:xfrm>
            <a:off x="7000920" y="5715000"/>
            <a:ext cx="15717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Картинки по запросу смешные картинки единицы длины"/>
          <p:cNvPicPr/>
          <p:nvPr/>
        </p:nvPicPr>
        <p:blipFill>
          <a:blip r:embed="rId2"/>
          <a:stretch/>
        </p:blipFill>
        <p:spPr>
          <a:xfrm>
            <a:off x="2286000" y="3071880"/>
            <a:ext cx="435780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ДИНИЦЫ ПЛОЩАДИ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00040" y="121428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с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д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а       га       км</a:t>
            </a:r>
            <a:r>
              <a:rPr b="1" lang="ru-RU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 flipH="1">
            <a:off x="6857280" y="1785960"/>
            <a:ext cx="1152360" cy="223920"/>
          </a:xfrm>
          <a:custGeom>
            <a:avLst/>
            <a:gdLst>
              <a:gd name="textAreaLeft" fmla="*/ 154080 w 1152360"/>
              <a:gd name="textAreaRight" fmla="*/ 819720 w 115236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-2227251"/>
                <a:lnTo>
                  <a:pt x="21269" y="7200"/>
                </a:lnTo>
                <a:lnTo>
                  <a:pt x="14907" y="0"/>
                </a:lnTo>
                <a:lnTo>
                  <a:pt x="7882" y="7200"/>
                </a:lnTo>
                <a:lnTo>
                  <a:pt x="11229" y="7200"/>
                </a:lnTo>
                <a:arcTo wR="5780" hR="21600" stAng="3172749" swAng="1581710"/>
                <a:lnTo>
                  <a:pt x="9127" y="17611"/>
                </a:lnTo>
                <a:arcTo wR="5780" hR="21600" stAng="6045541" swAng="4754459"/>
                <a:close/>
              </a:path>
              <a:path fill="darkenLess"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645541"/>
                <a:lnTo>
                  <a:pt x="9127" y="17611"/>
                </a:lnTo>
                <a:arcTo wR="5780" hR="21600" stAng="6045541" swAng="475445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9"/>
          <p:cNvSpPr/>
          <p:nvPr/>
        </p:nvSpPr>
        <p:spPr>
          <a:xfrm flipH="1">
            <a:off x="5714280" y="1857240"/>
            <a:ext cx="1152360" cy="223920"/>
          </a:xfrm>
          <a:custGeom>
            <a:avLst/>
            <a:gdLst>
              <a:gd name="textAreaLeft" fmla="*/ 154080 w 1152360"/>
              <a:gd name="textAreaRight" fmla="*/ 819720 w 115236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-2227251"/>
                <a:lnTo>
                  <a:pt x="21269" y="7200"/>
                </a:lnTo>
                <a:lnTo>
                  <a:pt x="14907" y="0"/>
                </a:lnTo>
                <a:lnTo>
                  <a:pt x="7882" y="7200"/>
                </a:lnTo>
                <a:lnTo>
                  <a:pt x="11229" y="7200"/>
                </a:lnTo>
                <a:arcTo wR="5780" hR="21600" stAng="3172749" swAng="1581710"/>
                <a:lnTo>
                  <a:pt x="9127" y="17611"/>
                </a:lnTo>
                <a:arcTo wR="5780" hR="21600" stAng="6045541" swAng="4754459"/>
                <a:close/>
              </a:path>
              <a:path fill="darkenLess"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645541"/>
                <a:lnTo>
                  <a:pt x="9127" y="17611"/>
                </a:lnTo>
                <a:arcTo wR="5780" hR="21600" stAng="6045541" swAng="475445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9"/>
          <p:cNvSpPr/>
          <p:nvPr/>
        </p:nvSpPr>
        <p:spPr>
          <a:xfrm flipH="1">
            <a:off x="4571280" y="1857240"/>
            <a:ext cx="1152360" cy="223920"/>
          </a:xfrm>
          <a:custGeom>
            <a:avLst/>
            <a:gdLst>
              <a:gd name="textAreaLeft" fmla="*/ 154080 w 1152360"/>
              <a:gd name="textAreaRight" fmla="*/ 819720 w 115236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-2227251"/>
                <a:lnTo>
                  <a:pt x="21269" y="7200"/>
                </a:lnTo>
                <a:lnTo>
                  <a:pt x="14907" y="0"/>
                </a:lnTo>
                <a:lnTo>
                  <a:pt x="7882" y="7200"/>
                </a:lnTo>
                <a:lnTo>
                  <a:pt x="11229" y="7200"/>
                </a:lnTo>
                <a:arcTo wR="5780" hR="21600" stAng="3172749" swAng="1581710"/>
                <a:lnTo>
                  <a:pt x="9127" y="17611"/>
                </a:lnTo>
                <a:arcTo wR="5780" hR="21600" stAng="6045541" swAng="4754459"/>
                <a:close/>
              </a:path>
              <a:path fill="darkenLess"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645541"/>
                <a:lnTo>
                  <a:pt x="9127" y="17611"/>
                </a:lnTo>
                <a:arcTo wR="5780" hR="21600" stAng="6045541" swAng="475445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9"/>
          <p:cNvSpPr/>
          <p:nvPr/>
        </p:nvSpPr>
        <p:spPr>
          <a:xfrm flipH="1">
            <a:off x="3357000" y="1857240"/>
            <a:ext cx="1152360" cy="223920"/>
          </a:xfrm>
          <a:custGeom>
            <a:avLst/>
            <a:gdLst>
              <a:gd name="textAreaLeft" fmla="*/ 154080 w 1152360"/>
              <a:gd name="textAreaRight" fmla="*/ 819720 w 115236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-2227251"/>
                <a:lnTo>
                  <a:pt x="21269" y="7200"/>
                </a:lnTo>
                <a:lnTo>
                  <a:pt x="14907" y="0"/>
                </a:lnTo>
                <a:lnTo>
                  <a:pt x="7882" y="7200"/>
                </a:lnTo>
                <a:lnTo>
                  <a:pt x="11229" y="7200"/>
                </a:lnTo>
                <a:arcTo wR="5780" hR="21600" stAng="3172749" swAng="1581710"/>
                <a:lnTo>
                  <a:pt x="9127" y="17611"/>
                </a:lnTo>
                <a:arcTo wR="5780" hR="21600" stAng="6045541" swAng="4754459"/>
                <a:close/>
              </a:path>
              <a:path fill="darkenLess"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645541"/>
                <a:lnTo>
                  <a:pt x="9127" y="17611"/>
                </a:lnTo>
                <a:arcTo wR="5780" hR="21600" stAng="6045541" swAng="475445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 flipH="1">
            <a:off x="2143080" y="1857240"/>
            <a:ext cx="1152720" cy="223920"/>
          </a:xfrm>
          <a:custGeom>
            <a:avLst/>
            <a:gdLst>
              <a:gd name="textAreaLeft" fmla="*/ 154080 w 1152720"/>
              <a:gd name="textAreaRight" fmla="*/ 820080 w 115272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-2227251"/>
                <a:lnTo>
                  <a:pt x="21269" y="7200"/>
                </a:lnTo>
                <a:lnTo>
                  <a:pt x="14907" y="0"/>
                </a:lnTo>
                <a:lnTo>
                  <a:pt x="7882" y="7200"/>
                </a:lnTo>
                <a:lnTo>
                  <a:pt x="11229" y="7200"/>
                </a:lnTo>
                <a:arcTo wR="5780" hR="21600" stAng="3172749" swAng="1581710"/>
                <a:lnTo>
                  <a:pt x="9127" y="17611"/>
                </a:lnTo>
                <a:arcTo wR="5780" hR="21600" stAng="6045541" swAng="4754459"/>
                <a:close/>
              </a:path>
              <a:path fill="darkenLess"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645541"/>
                <a:lnTo>
                  <a:pt x="9127" y="17611"/>
                </a:lnTo>
                <a:arcTo wR="5780" hR="21600" stAng="6045541" swAng="475445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 flipH="1">
            <a:off x="857160" y="1785960"/>
            <a:ext cx="1152720" cy="223920"/>
          </a:xfrm>
          <a:custGeom>
            <a:avLst/>
            <a:gdLst>
              <a:gd name="textAreaLeft" fmla="*/ 154080 w 1152720"/>
              <a:gd name="textAreaRight" fmla="*/ 820080 w 1152720"/>
              <a:gd name="textAreaTop" fmla="*/ 29880 h 223920"/>
              <a:gd name="textAreaBottom" fmla="*/ 194040 h 22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-2227251"/>
                <a:lnTo>
                  <a:pt x="21269" y="7200"/>
                </a:lnTo>
                <a:lnTo>
                  <a:pt x="14907" y="0"/>
                </a:lnTo>
                <a:lnTo>
                  <a:pt x="7882" y="7200"/>
                </a:lnTo>
                <a:lnTo>
                  <a:pt x="11229" y="7200"/>
                </a:lnTo>
                <a:arcTo wR="5780" hR="21600" stAng="3172749" swAng="1581710"/>
                <a:lnTo>
                  <a:pt x="9127" y="17611"/>
                </a:lnTo>
                <a:arcTo wR="5780" hR="21600" stAng="6045541" swAng="4754459"/>
                <a:close/>
              </a:path>
              <a:path fill="darkenLess" w="21600" h="21600">
                <a:moveTo>
                  <a:pt x="0" y="0"/>
                </a:moveTo>
                <a:arcTo wR="5780" hR="21600" stAng="10800000" swAng="-5400000"/>
                <a:lnTo>
                  <a:pt x="12473" y="21600"/>
                </a:lnTo>
                <a:arcTo wR="5780" hR="21600" stAng="5400000" swAng="645541"/>
                <a:lnTo>
                  <a:pt x="9127" y="17611"/>
                </a:lnTo>
                <a:arcTo wR="5780" hR="21600" stAng="6045541" swAng="4754459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3718800" y="2286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8"/>
          <p:cNvSpPr/>
          <p:nvPr/>
        </p:nvSpPr>
        <p:spPr>
          <a:xfrm>
            <a:off x="1218240" y="2214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8"/>
          <p:cNvSpPr/>
          <p:nvPr/>
        </p:nvSpPr>
        <p:spPr>
          <a:xfrm>
            <a:off x="2504160" y="2214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8"/>
          <p:cNvSpPr/>
          <p:nvPr/>
        </p:nvSpPr>
        <p:spPr>
          <a:xfrm>
            <a:off x="4861800" y="2286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8"/>
          <p:cNvSpPr/>
          <p:nvPr/>
        </p:nvSpPr>
        <p:spPr>
          <a:xfrm>
            <a:off x="6004800" y="2214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8"/>
          <p:cNvSpPr/>
          <p:nvPr/>
        </p:nvSpPr>
        <p:spPr>
          <a:xfrm>
            <a:off x="7219080" y="2214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214200" y="3000240"/>
            <a:ext cx="8929800" cy="520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ОЩАДЬ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– это то место, которое занимает фигура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14200" y="3857760"/>
            <a:ext cx="442908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Путём наложения фигу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214200" y="4643280"/>
            <a:ext cx="5286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Деление на одинаковые квадрат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285840" y="5357880"/>
            <a:ext cx="192888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 action="ppaction://hlinksldjump"/>
              </a:rPr>
              <a:t>Палетк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лево 21">
            <a:hlinkClick r:id="rId4" action="ppaction://hlinksldjump"/>
          </p:cNvPr>
          <p:cNvSpPr/>
          <p:nvPr/>
        </p:nvSpPr>
        <p:spPr>
          <a:xfrm>
            <a:off x="7000920" y="5715000"/>
            <a:ext cx="15717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ЛОЖЕНИЕ ФИГ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468360" y="3789360"/>
            <a:ext cx="3600360" cy="216072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18184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5003640" y="1557360"/>
            <a:ext cx="3600720" cy="216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6300720" y="364500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496200" y="3665520"/>
            <a:ext cx="138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6640560" y="3592440"/>
            <a:ext cx="117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6372360" y="3716280"/>
            <a:ext cx="124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5003640" y="1628640"/>
            <a:ext cx="35290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лощадь первого прямоугольник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1" lang="ru-RU" sz="28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1330200" y="3084480"/>
            <a:ext cx="1808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2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0"/>
          <p:cNvSpPr/>
          <p:nvPr/>
        </p:nvSpPr>
        <p:spPr>
          <a:xfrm>
            <a:off x="5148360" y="5013360"/>
            <a:ext cx="3456000" cy="579600"/>
          </a:xfrm>
          <a:prstGeom prst="rect">
            <a:avLst/>
          </a:prstGeom>
          <a:solidFill>
            <a:srgbClr val="66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24 см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1"/>
          <p:cNvSpPr/>
          <p:nvPr/>
        </p:nvSpPr>
        <p:spPr>
          <a:xfrm>
            <a:off x="539640" y="3933720"/>
            <a:ext cx="367200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лощадь второго прямоугольника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м</a:t>
            </a:r>
            <a:r>
              <a:rPr b="1" lang="ru-RU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лево 13">
            <a:hlinkClick r:id="rId1" action="ppaction://hlinksldjump"/>
          </p:cNvPr>
          <p:cNvSpPr/>
          <p:nvPr/>
        </p:nvSpPr>
        <p:spPr>
          <a:xfrm>
            <a:off x="7000920" y="5715000"/>
            <a:ext cx="15717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3.75723E-006 L -0.49601 0.32508 E">
                                      <p:cBhvr>
                                        <p:cTn id="14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WordArt 11" descr=""/>
          <p:cNvPicPr/>
          <p:nvPr/>
        </p:nvPicPr>
        <p:blipFill>
          <a:blip r:embed="rId1"/>
          <a:stretch/>
        </p:blipFill>
        <p:spPr>
          <a:xfrm>
            <a:off x="523800" y="542880"/>
            <a:ext cx="5127840" cy="878040"/>
          </a:xfrm>
          <a:prstGeom prst="rect">
            <a:avLst/>
          </a:prstGeom>
          <a:ln w="0">
            <a:noFill/>
          </a:ln>
        </p:spPr>
      </p:pic>
      <p:sp>
        <p:nvSpPr>
          <p:cNvPr id="96" name="WordArt 12"/>
          <p:cNvSpPr txBox="1"/>
          <p:nvPr/>
        </p:nvSpPr>
        <p:spPr>
          <a:xfrm>
            <a:off x="2357280" y="1500120"/>
            <a:ext cx="4321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ОДИНАКОВЫЕ 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WordArt 13"/>
          <p:cNvSpPr txBox="1"/>
          <p:nvPr/>
        </p:nvSpPr>
        <p:spPr>
          <a:xfrm>
            <a:off x="5357880" y="2500200"/>
            <a:ext cx="3390840" cy="64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КВАДРАТЫ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539640" y="3141720"/>
            <a:ext cx="1800360" cy="1728720"/>
          </a:xfrm>
          <a:prstGeom prst="rect">
            <a:avLst/>
          </a:prstGeom>
          <a:gradFill rotWithShape="0">
            <a:gsLst>
              <a:gs pos="0">
                <a:srgbClr val="66ff66"/>
              </a:gs>
              <a:gs pos="100000">
                <a:srgbClr val="2f76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5"/>
          <p:cNvSpPr/>
          <p:nvPr/>
        </p:nvSpPr>
        <p:spPr>
          <a:xfrm>
            <a:off x="539640" y="400536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1403280" y="314172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539640" y="3141720"/>
            <a:ext cx="863640" cy="86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1403280" y="3141720"/>
            <a:ext cx="936720" cy="86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1403280" y="4005360"/>
            <a:ext cx="936720" cy="86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0"/>
          <p:cNvSpPr/>
          <p:nvPr/>
        </p:nvSpPr>
        <p:spPr>
          <a:xfrm>
            <a:off x="539640" y="4005360"/>
            <a:ext cx="863640" cy="86364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539640" y="5300640"/>
            <a:ext cx="2737080" cy="70344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 = 4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м</a:t>
            </a:r>
            <a:r>
              <a:rPr b="0" lang="ru-RU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71760" y="3499920"/>
            <a:ext cx="2808360" cy="230508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5" descr="kp5_2"/>
          <p:cNvPicPr/>
          <p:nvPr/>
        </p:nvPicPr>
        <p:blipFill>
          <a:blip r:embed="rId3"/>
          <a:stretch/>
        </p:blipFill>
        <p:spPr>
          <a:xfrm>
            <a:off x="3419640" y="3789360"/>
            <a:ext cx="2592360" cy="233208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лево 15">
            <a:hlinkClick r:id="rId4" action="ppaction://hlinksldjump"/>
          </p:cNvPr>
          <p:cNvSpPr/>
          <p:nvPr/>
        </p:nvSpPr>
        <p:spPr>
          <a:xfrm>
            <a:off x="7072200" y="5857920"/>
            <a:ext cx="15717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5724360" y="3357720"/>
            <a:ext cx="2880000" cy="1726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571680" y="3214800"/>
            <a:ext cx="2879640" cy="1728720"/>
          </a:xfrm>
          <a:prstGeom prst="rect">
            <a:avLst/>
          </a:prstGeom>
          <a:solidFill>
            <a:srgbClr val="cc99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5508720" y="515772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алетк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700360" y="5877000"/>
            <a:ext cx="2539800" cy="642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98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м</a:t>
            </a:r>
            <a:r>
              <a:rPr b="1" lang="ru-RU" sz="36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9"/>
          <p:cNvSpPr txBox="1"/>
          <p:nvPr/>
        </p:nvSpPr>
        <p:spPr>
          <a:xfrm>
            <a:off x="2411280" y="189000"/>
            <a:ext cx="43214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ПАЛЕТКА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476360" y="1773360"/>
            <a:ext cx="575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57120" y="1125360"/>
            <a:ext cx="8786880" cy="180036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АЛЕТК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– это прозрачная пленка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деленная на одинаковые квадраты: это могут быть  квадратные дециметры, квадратные сантиметры, квадратные миллиметры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5724360" y="342900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алетка разделена на квадратные сантимет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трелка влево 11">
            <a:hlinkClick r:id="rId2" action="ppaction://hlinksldjump"/>
          </p:cNvPr>
          <p:cNvSpPr/>
          <p:nvPr/>
        </p:nvSpPr>
        <p:spPr>
          <a:xfrm>
            <a:off x="7072200" y="5786280"/>
            <a:ext cx="15717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43 7.40741E-007 L -0.5592 -0.02107 E">
                                      <p:cBhvr>
                                        <p:cTn id="191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12 0.04763 L -0.44097 -0.06775 E">
                                      <p:cBhvr>
                                        <p:cTn id="19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83 0.04763 L -0.14687 -0.3089 E">
                                      <p:cBhvr>
                                        <p:cTn id="197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ДИНИЦЫ МАС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57168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 flipH="1">
            <a:off x="857160" y="2071800"/>
            <a:ext cx="2160720" cy="647640"/>
          </a:xfrm>
          <a:custGeom>
            <a:avLst/>
            <a:gdLst>
              <a:gd name="textAreaLeft" fmla="*/ 378000 w 2160720"/>
              <a:gd name="textAreaRight" fmla="*/ 1566720 w 21607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 flipH="1">
            <a:off x="3214080" y="2143080"/>
            <a:ext cx="2160360" cy="647640"/>
          </a:xfrm>
          <a:custGeom>
            <a:avLst/>
            <a:gdLst>
              <a:gd name="textAreaLeft" fmla="*/ 378000 w 2160360"/>
              <a:gd name="textAreaRight" fmla="*/ 1566360 w 216036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 flipH="1">
            <a:off x="5786280" y="2071800"/>
            <a:ext cx="2160720" cy="647640"/>
          </a:xfrm>
          <a:custGeom>
            <a:avLst/>
            <a:gdLst>
              <a:gd name="textAreaLeft" fmla="*/ 378000 w 2160720"/>
              <a:gd name="textAreaRight" fmla="*/ 1566720 w 21607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1576440" y="300024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147200" y="307188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6647040" y="3071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596520" y="4071960"/>
            <a:ext cx="7852680" cy="1373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змерения массы больших грузов использую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крупные, чем килограмм, единицы массы –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центнер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тонн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лево 12">
            <a:hlinkClick r:id="rId1" action="ppaction://hlinksldjump"/>
          </p:cNvPr>
          <p:cNvSpPr/>
          <p:nvPr/>
        </p:nvSpPr>
        <p:spPr>
          <a:xfrm>
            <a:off x="7000920" y="5715000"/>
            <a:ext cx="15717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ДИНИЦЫ ВРЕМ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-285840" y="1643040"/>
            <a:ext cx="94298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сек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мин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ч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1сут.         1г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1в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7455600" y="306864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5082840" y="3000240"/>
            <a:ext cx="203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5 или 36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788400" y="30718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2860920" y="30002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4143600" y="306864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 flipH="1">
            <a:off x="357120" y="2286000"/>
            <a:ext cx="1944720" cy="647640"/>
          </a:xfrm>
          <a:custGeom>
            <a:avLst/>
            <a:gdLst>
              <a:gd name="textAreaLeft" fmla="*/ 340200 w 1944720"/>
              <a:gd name="textAreaRight" fmla="*/ 1410120 w 19447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1"/>
          <p:cNvSpPr/>
          <p:nvPr/>
        </p:nvSpPr>
        <p:spPr>
          <a:xfrm flipH="1">
            <a:off x="2143080" y="2214720"/>
            <a:ext cx="1944720" cy="647640"/>
          </a:xfrm>
          <a:custGeom>
            <a:avLst/>
            <a:gdLst>
              <a:gd name="textAreaLeft" fmla="*/ 340200 w 1944720"/>
              <a:gd name="textAreaRight" fmla="*/ 1410120 w 19447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 flipH="1">
            <a:off x="3714840" y="2214720"/>
            <a:ext cx="1944720" cy="647640"/>
          </a:xfrm>
          <a:custGeom>
            <a:avLst/>
            <a:gdLst>
              <a:gd name="textAreaLeft" fmla="*/ 340200 w 1944720"/>
              <a:gd name="textAreaRight" fmla="*/ 1410120 w 19447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 flipH="1">
            <a:off x="5072040" y="2214720"/>
            <a:ext cx="1944720" cy="647640"/>
          </a:xfrm>
          <a:custGeom>
            <a:avLst/>
            <a:gdLst>
              <a:gd name="textAreaLeft" fmla="*/ 340200 w 1944720"/>
              <a:gd name="textAreaRight" fmla="*/ 1410120 w 19447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 flipH="1">
            <a:off x="6659640" y="2205000"/>
            <a:ext cx="1944720" cy="647640"/>
          </a:xfrm>
          <a:custGeom>
            <a:avLst/>
            <a:gdLst>
              <a:gd name="textAreaLeft" fmla="*/ 340200 w 1944720"/>
              <a:gd name="textAreaRight" fmla="*/ 1410120 w 1944720"/>
              <a:gd name="textAreaTop" fmla="*/ 86760 h 647640"/>
              <a:gd name="textAreaBottom" fmla="*/ 560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трелка влево 15">
            <a:hlinkClick r:id="rId1" action="ppaction://hlinksldjump"/>
          </p:cNvPr>
          <p:cNvSpPr/>
          <p:nvPr/>
        </p:nvSpPr>
        <p:spPr>
          <a:xfrm>
            <a:off x="7000920" y="5715000"/>
            <a:ext cx="157176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6" descr="Картинки по запросу смешные картинки единицы времени"/>
          <p:cNvPicPr/>
          <p:nvPr/>
        </p:nvPicPr>
        <p:blipFill>
          <a:blip r:embed="rId2"/>
          <a:stretch/>
        </p:blipFill>
        <p:spPr>
          <a:xfrm>
            <a:off x="928800" y="378612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" descr="Картинки по запросу смешные картинки единицы времени"/>
          <p:cNvPicPr/>
          <p:nvPr/>
        </p:nvPicPr>
        <p:blipFill>
          <a:blip r:embed="rId3"/>
          <a:stretch/>
        </p:blipFill>
        <p:spPr>
          <a:xfrm>
            <a:off x="4429080" y="3714840"/>
            <a:ext cx="2300400" cy="270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Diagram 22"/>
          <p:cNvGrpSpPr/>
          <p:nvPr/>
        </p:nvGrpSpPr>
        <p:grpSpPr>
          <a:xfrm>
            <a:off x="441720" y="285480"/>
            <a:ext cx="8261280" cy="6154560"/>
            <a:chOff x="441720" y="285480"/>
            <a:chExt cx="8261280" cy="6154560"/>
          </a:xfrm>
        </p:grpSpPr>
        <p:sp>
          <p:nvSpPr>
            <p:cNvPr id="145" name="_s1028"/>
            <p:cNvSpPr/>
            <p:nvPr/>
          </p:nvSpPr>
          <p:spPr>
            <a:xfrm flipH="1" flipV="1">
              <a:off x="2920680" y="2487240"/>
              <a:ext cx="829440" cy="496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029"/>
            <p:cNvSpPr/>
            <p:nvPr/>
          </p:nvSpPr>
          <p:spPr>
            <a:xfrm>
              <a:off x="1051920" y="1188720"/>
              <a:ext cx="2106000" cy="15984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2" action="ppaction://hlinksldjump"/>
                </a:rPr>
                <a:t>Арифметические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3" action="ppaction://hlinksldjump"/>
                </a:rPr>
                <a:t>действия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4" action="ppaction://hlinksldjump"/>
                </a:rPr>
                <a:t>с величинами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030"/>
            <p:cNvSpPr/>
            <p:nvPr/>
          </p:nvSpPr>
          <p:spPr>
            <a:xfrm flipH="1">
              <a:off x="2517120" y="3657240"/>
              <a:ext cx="1029240" cy="182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1031"/>
            <p:cNvSpPr/>
            <p:nvPr/>
          </p:nvSpPr>
          <p:spPr>
            <a:xfrm>
              <a:off x="441720" y="3215880"/>
              <a:ext cx="2106000" cy="159840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6" action="ppaction://hlinksldjump"/>
                </a:rPr>
                <a:t>ТЕСТЫ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1032"/>
            <p:cNvSpPr/>
            <p:nvPr/>
          </p:nvSpPr>
          <p:spPr>
            <a:xfrm flipH="1">
              <a:off x="3659040" y="4197960"/>
              <a:ext cx="454320" cy="725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1033"/>
            <p:cNvSpPr/>
            <p:nvPr/>
          </p:nvSpPr>
          <p:spPr>
            <a:xfrm>
              <a:off x="2149560" y="4841640"/>
              <a:ext cx="2106720" cy="15984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400" rIns="104400" tIns="52200" bIns="52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8" action="ppaction://hlinksldjump"/>
                </a:rPr>
                <a:t>«ЛОВУШКИ»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034"/>
            <p:cNvSpPr/>
            <p:nvPr/>
          </p:nvSpPr>
          <p:spPr>
            <a:xfrm>
              <a:off x="5024880" y="4200120"/>
              <a:ext cx="461880" cy="720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035"/>
            <p:cNvSpPr/>
            <p:nvPr/>
          </p:nvSpPr>
          <p:spPr>
            <a:xfrm>
              <a:off x="4889160" y="4841640"/>
              <a:ext cx="2106000" cy="159840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10" action="ppaction://hlinksldjump"/>
                </a:rPr>
                <a:t>Единицы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11" action="ppaction://hlinksldjump"/>
                </a:rPr>
                <a:t>длины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036"/>
            <p:cNvSpPr/>
            <p:nvPr/>
          </p:nvSpPr>
          <p:spPr>
            <a:xfrm>
              <a:off x="5593680" y="3659760"/>
              <a:ext cx="1031400" cy="1760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037"/>
            <p:cNvSpPr/>
            <p:nvPr/>
          </p:nvSpPr>
          <p:spPr>
            <a:xfrm>
              <a:off x="6597000" y="3215880"/>
              <a:ext cx="2106000" cy="159840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13" action="ppaction://hlinksldjump"/>
                </a:rPr>
                <a:t>Единицы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Arial"/>
                  <a:hlinkClick r:id="rId14" action="ppaction://hlinksldjump"/>
                </a:rPr>
                <a:t>площади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38"/>
            <p:cNvSpPr/>
            <p:nvPr/>
          </p:nvSpPr>
          <p:spPr>
            <a:xfrm flipV="1">
              <a:off x="5392440" y="2483280"/>
              <a:ext cx="824400" cy="5018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9"/>
            <p:cNvSpPr/>
            <p:nvPr/>
          </p:nvSpPr>
          <p:spPr>
            <a:xfrm>
              <a:off x="5986800" y="1188720"/>
              <a:ext cx="2106000" cy="1598400"/>
            </a:xfrm>
            <a:prstGeom prst="ellipse">
              <a:avLst/>
            </a:prstGeom>
            <a:blipFill rotWithShape="0">
              <a:blip r:embed="rId15"/>
              <a:srcRect/>
              <a:stretch/>
            </a:blip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lvl="1" marL="457200" algn="ctr">
                <a:lnSpc>
                  <a:spcPct val="100000"/>
                </a:lnSpc>
                <a:spcBef>
                  <a:spcPts val="524"/>
                </a:spcBef>
                <a:buSzPct val="102757"/>
                <a:buBlip>
                  <a:blip r:embed="rId1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17" action="ppaction://hlinksldjump"/>
                </a:rPr>
                <a:t>Единицы 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18" action="ppaction://hlinksldjump"/>
                </a:rPr>
                <a:t>времени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40"/>
            <p:cNvSpPr/>
            <p:nvPr/>
          </p:nvSpPr>
          <p:spPr>
            <a:xfrm flipV="1">
              <a:off x="4570200" y="1882080"/>
              <a:ext cx="0" cy="801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41"/>
            <p:cNvSpPr/>
            <p:nvPr/>
          </p:nvSpPr>
          <p:spPr>
            <a:xfrm>
              <a:off x="3518280" y="285480"/>
              <a:ext cx="2106000" cy="1598400"/>
            </a:xfrm>
            <a:prstGeom prst="ellipse">
              <a:avLst/>
            </a:prstGeom>
            <a:blipFill rotWithShape="0">
              <a:blip r:embed="rId19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20" action="ppaction://hlinksldjump"/>
                </a:rPr>
                <a:t>Единицы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9999"/>
                  </a:solidFill>
                  <a:uFillTx/>
                  <a:latin typeface="Comic Sans MS"/>
                  <a:hlinkClick r:id="rId21" action="ppaction://hlinksldjump"/>
                </a:rPr>
                <a:t> массы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42"/>
            <p:cNvSpPr/>
            <p:nvPr/>
          </p:nvSpPr>
          <p:spPr>
            <a:xfrm>
              <a:off x="3518280" y="2684520"/>
              <a:ext cx="2106000" cy="1599120"/>
            </a:xfrm>
            <a:prstGeom prst="ellipse">
              <a:avLst/>
            </a:prstGeom>
            <a:blipFill rotWithShape="0">
              <a:blip r:embed="rId2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600" rIns="111600" tIns="55800" bIns="5580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44"/>
          <p:cNvSpPr/>
          <p:nvPr/>
        </p:nvSpPr>
        <p:spPr>
          <a:xfrm>
            <a:off x="3492360" y="2997360"/>
            <a:ext cx="249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ЗАДА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для самопроверк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0">
            <a:hlinkClick r:id="rId23" action="ppaction://hlinksldjump"/>
          </p:cNvPr>
          <p:cNvSpPr/>
          <p:nvPr/>
        </p:nvSpPr>
        <p:spPr>
          <a:xfrm>
            <a:off x="7956720" y="6237360"/>
            <a:ext cx="1187280" cy="620640"/>
          </a:xfrm>
          <a:custGeom>
            <a:avLst/>
            <a:gdLst>
              <a:gd name="textAreaLeft" fmla="*/ 39960 w 1187280"/>
              <a:gd name="textAreaRight" fmla="*/ 1147320 w 1187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1309" h="21600">
                <a:moveTo>
                  <a:pt x="0" y="0"/>
                </a:moveTo>
                <a:lnTo>
                  <a:pt x="41309" y="0"/>
                </a:lnTo>
                <a:lnTo>
                  <a:pt x="41309" y="21600"/>
                </a:lnTo>
                <a:lnTo>
                  <a:pt x="0" y="21600"/>
                </a:lnTo>
                <a:close/>
              </a:path>
              <a:path fill="lightenLess" w="41309" h="21600">
                <a:moveTo>
                  <a:pt x="0" y="0"/>
                </a:moveTo>
                <a:lnTo>
                  <a:pt x="41309" y="0"/>
                </a:lnTo>
                <a:lnTo>
                  <a:pt x="39909" y="1400"/>
                </a:lnTo>
                <a:lnTo>
                  <a:pt x="1400" y="1400"/>
                </a:lnTo>
                <a:close/>
              </a:path>
              <a:path fill="darken" w="41309" h="21600">
                <a:moveTo>
                  <a:pt x="41309" y="0"/>
                </a:moveTo>
                <a:lnTo>
                  <a:pt x="41309" y="21600"/>
                </a:lnTo>
                <a:lnTo>
                  <a:pt x="39909" y="20200"/>
                </a:lnTo>
                <a:lnTo>
                  <a:pt x="39909" y="1400"/>
                </a:lnTo>
                <a:close/>
              </a:path>
              <a:path fill="darkenLess" w="41309" h="21600">
                <a:moveTo>
                  <a:pt x="41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9" y="20200"/>
                </a:lnTo>
                <a:close/>
              </a:path>
              <a:path fill="lighten" w="41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9" h="21600">
                <a:moveTo>
                  <a:pt x="13648" y="10800"/>
                </a:moveTo>
                <a:lnTo>
                  <a:pt x="27661" y="3794"/>
                </a:lnTo>
                <a:lnTo>
                  <a:pt x="27661" y="17806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07:10:07Z</dcterms:created>
  <dc:creator>пользователь</dc:creator>
  <dc:description/>
  <dc:language>en-US</dc:language>
  <cp:lastModifiedBy>User</cp:lastModifiedBy>
  <dcterms:modified xsi:type="dcterms:W3CDTF">2016-12-13T04:25:48Z</dcterms:modified>
  <cp:revision>201</cp:revision>
  <dc:subject/>
  <dc:title>Тема: ВЕЛИЧИНЫ</dc:title>
</cp:coreProperties>
</file>