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5.wmf" ContentType="image/x-wmf"/>
  <Override PartName="/ppt/media/image6.gif" ContentType="image/gif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D412-07F3-4E43-A4CC-D0C33480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312A-B480-4B6B-82C6-A8BDFFA1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99F9-4B97-410B-A143-6D4D3744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DF5F-8F45-41CA-9C57-59BBFFE8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66F-DDB6-46B3-92F1-FA2204AD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5585-F770-4D7E-80E6-01B598F1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FEBB-53D3-4B2A-B27C-946736C4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88B-A760-4A28-B3E5-69190B57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2B70-8168-49C7-ADA7-50669AE2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350F-2104-4D5C-9538-91455B50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4F5-2EF1-46DA-907F-66E8FADD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CB6E-F0C2-4EE5-A3B7-D1600F4D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2438-1D32-4CCA-8BA4-936C3D43C1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ruzhba11"/>
          <p:cNvPicPr/>
          <p:nvPr/>
        </p:nvPicPr>
        <p:blipFill>
          <a:blip r:embed="rId1"/>
          <a:stretch/>
        </p:blipFill>
        <p:spPr>
          <a:xfrm>
            <a:off x="755640" y="0"/>
            <a:ext cx="8426520" cy="6372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11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ы 3"б" класс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ух Крист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barbariki_-_druzja (mp3cut.ru).mp3" descr="barbariki_-_druzja (mp3cut.ru)"/>
          <p:cNvPicPr/>
          <p:nvPr/>
        </p:nvPicPr>
        <p:blipFill>
          <a:blip r:embed="rId2"/>
          <a:stretch/>
        </p:blipFill>
        <p:spPr>
          <a:xfrm>
            <a:off x="-7880400" y="3286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971640" y="620640"/>
            <a:ext cx="604044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Arial Black"/>
              </a:rPr>
              <a:t>Проект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Arial Black"/>
              </a:rPr>
              <a:t>по рускому языку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Arial Black"/>
              </a:rPr>
              <a:t>на тему : "Семья слов"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Unknown Shape" descr=""/>
          <p:cNvPicPr/>
          <p:nvPr/>
        </p:nvPicPr>
        <p:blipFill>
          <a:blip r:embed="rId3"/>
          <a:stretch/>
        </p:blipFill>
        <p:spPr>
          <a:xfrm>
            <a:off x="1521000" y="4384800"/>
            <a:ext cx="1250640" cy="946080"/>
          </a:xfrm>
          <a:prstGeom prst="rect">
            <a:avLst/>
          </a:prstGeom>
          <a:ln w="0">
            <a:noFill/>
          </a:ln>
        </p:spPr>
      </p:pic>
      <p:pic>
        <p:nvPicPr>
          <p:cNvPr id="47" name="Unknown Shape" descr=""/>
          <p:cNvPicPr/>
          <p:nvPr/>
        </p:nvPicPr>
        <p:blipFill>
          <a:blip r:embed="rId4"/>
          <a:stretch/>
        </p:blipFill>
        <p:spPr>
          <a:xfrm>
            <a:off x="4346640" y="5226120"/>
            <a:ext cx="31680" cy="360"/>
          </a:xfrm>
          <a:prstGeom prst="rect">
            <a:avLst/>
          </a:prstGeom>
          <a:ln w="0">
            <a:noFill/>
          </a:ln>
        </p:spPr>
      </p:pic>
      <p:pic>
        <p:nvPicPr>
          <p:cNvPr id="48" name="Unknown Shape" descr=""/>
          <p:cNvPicPr/>
          <p:nvPr/>
        </p:nvPicPr>
        <p:blipFill>
          <a:blip r:embed="rId5"/>
          <a:stretch/>
        </p:blipFill>
        <p:spPr>
          <a:xfrm>
            <a:off x="9458280" y="-9360"/>
            <a:ext cx="184320" cy="13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ruzhba_16"/>
          <p:cNvPicPr/>
          <p:nvPr/>
        </p:nvPicPr>
        <p:blipFill>
          <a:blip r:embed="rId1"/>
          <a:stretch/>
        </p:blipFill>
        <p:spPr>
          <a:xfrm>
            <a:off x="179280" y="1197000"/>
            <a:ext cx="4846680" cy="4375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48320" y="12700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Дружит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 солнцем ветер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А роса – с травою.</a:t>
            </a:r>
            <a:br>
              <a:rPr sz="2400"/>
            </a:b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Дружит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с бабочкой цветок,</a:t>
            </a:r>
            <a:br>
              <a:rPr sz="2400"/>
            </a:b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Дружим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мы с тобою.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сё с 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друзьями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пополам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оделить мы рады!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Только ссор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друзьям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икогда не над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ruzhba5"/>
          <p:cNvPicPr/>
          <p:nvPr/>
        </p:nvPicPr>
        <p:blipFill>
          <a:blip r:embed="rId1"/>
          <a:stretch/>
        </p:blipFill>
        <p:spPr>
          <a:xfrm>
            <a:off x="34920" y="1557360"/>
            <a:ext cx="5222880" cy="4608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292360" y="1196640"/>
            <a:ext cx="3745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Дружба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– это тёплый ветер,</a:t>
            </a:r>
            <a:br>
              <a:rPr sz="16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Дружба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– это светлый мир,</a:t>
            </a:r>
            <a:br>
              <a:rPr sz="16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Дружба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– солнце на рассвете,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Для души весёлый пир.</a:t>
            </a:r>
            <a:br>
              <a:rPr sz="16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Дружба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– это только счастье,</a:t>
            </a:r>
            <a:br>
              <a:rPr sz="16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Дружба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– у людей одна.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дружбой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не страшны ненастья,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дружбой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–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жизнь весной полна.</a:t>
            </a:r>
            <a:br>
              <a:rPr sz="16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Друг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разделит боль и радость,</a:t>
            </a:r>
            <a:br>
              <a:rPr sz="16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Друг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поддержит и спасёт.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другом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– даже злая слабость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В миг растает и уйдет.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Верь, храни, цени же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дружбу,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Это высший идеал.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Тебе она сослужит службу.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Ведь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дружба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– это ценный дар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ачну конфеты е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ен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pуз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сч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закончились конф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pуз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омине н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конфету кажды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pу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и pвет ее из p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у зачем мн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дpужб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и сам люблю конф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0_abc27_fce86340_XL"/>
          <p:cNvPicPr/>
          <p:nvPr/>
        </p:nvPicPr>
        <p:blipFill>
          <a:blip r:embed="rId1"/>
          <a:stretch/>
        </p:blipFill>
        <p:spPr>
          <a:xfrm>
            <a:off x="179280" y="1701720"/>
            <a:ext cx="4038840" cy="3476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spasibo-za-vnimanie-kartinki-dlya-prezentacii-49"/>
          <p:cNvPicPr/>
          <p:nvPr/>
        </p:nvPicPr>
        <p:blipFill>
          <a:blip r:embed="rId1"/>
          <a:stretch/>
        </p:blipFill>
        <p:spPr>
          <a:xfrm>
            <a:off x="1440" y="0"/>
            <a:ext cx="918072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3T01:48:10Z</dcterms:created>
  <dc:creator>Натали</dc:creator>
  <dc:description/>
  <dc:language>en-US</dc:language>
  <cp:lastModifiedBy>User</cp:lastModifiedBy>
  <cp:lastPrinted>1899-12-30T00:00:00Z</cp:lastPrinted>
  <dcterms:modified xsi:type="dcterms:W3CDTF">2016-11-30T08:58:20Z</dcterms:modified>
  <cp:revision>3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550</vt:lpwstr>
  </property>
</Properties>
</file>