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5.wmf" ContentType="image/x-wmf"/>
  <Override PartName="/ppt/media/image6.gif" ContentType="image/gif"/>
  <Override PartName="/ppt/media/image7.gif" ContentType="image/gi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C449-4552-4DEE-8F36-778A68246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81F1-0DDD-430F-9403-4BF1F1B8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2C6-8174-49FF-9901-335247842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D48-4555-4DCC-8091-825A83C3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CD9B-4F67-4A3E-ADDB-8EB4F491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57B7-2208-4C48-A701-15CDD089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41EE-7046-4385-B48A-8D322333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CAE2-100B-41C6-9182-D448F05F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81C8-3D31-4037-BBC5-FE3BA792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419F-9E60-4131-81A0-12532E957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04E2-527D-47EA-B4CA-DE0942B6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911B-8C0D-4819-863E-4A7675F7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EA4B-1601-4EF3-A30F-0D704B82EDD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ruzhba11"/>
          <p:cNvPicPr/>
          <p:nvPr/>
        </p:nvPicPr>
        <p:blipFill>
          <a:blip r:embed="rId1"/>
          <a:stretch/>
        </p:blipFill>
        <p:spPr>
          <a:xfrm>
            <a:off x="755640" y="0"/>
            <a:ext cx="8426520" cy="6372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45929" dir="3371122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1128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ы 3"б" класс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ух Крист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barbariki_-_druzja (mp3cut.ru).mp3" descr="barbariki_-_druzja (mp3cut.ru)"/>
          <p:cNvPicPr/>
          <p:nvPr/>
        </p:nvPicPr>
        <p:blipFill>
          <a:blip r:embed="rId2"/>
          <a:stretch/>
        </p:blipFill>
        <p:spPr>
          <a:xfrm>
            <a:off x="-7880400" y="3286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WordArt 6"/>
          <p:cNvSpPr txBox="1"/>
          <p:nvPr/>
        </p:nvSpPr>
        <p:spPr>
          <a:xfrm>
            <a:off x="971640" y="620640"/>
            <a:ext cx="6040440" cy="19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Arial Black"/>
              </a:rPr>
              <a:t>Проект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Arial Black"/>
              </a:rPr>
              <a:t>по рускому языку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Arial Black"/>
              </a:rPr>
              <a:t>на тему : "Семья слов"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6" name="Unknown Shape" descr=""/>
          <p:cNvPicPr/>
          <p:nvPr/>
        </p:nvPicPr>
        <p:blipFill>
          <a:blip r:embed="rId3"/>
          <a:stretch/>
        </p:blipFill>
        <p:spPr>
          <a:xfrm>
            <a:off x="1521000" y="4384800"/>
            <a:ext cx="1250640" cy="946080"/>
          </a:xfrm>
          <a:prstGeom prst="rect">
            <a:avLst/>
          </a:prstGeom>
          <a:ln w="0">
            <a:noFill/>
          </a:ln>
        </p:spPr>
      </p:pic>
      <p:pic>
        <p:nvPicPr>
          <p:cNvPr id="47" name="Unknown Shape" descr=""/>
          <p:cNvPicPr/>
          <p:nvPr/>
        </p:nvPicPr>
        <p:blipFill>
          <a:blip r:embed="rId4"/>
          <a:stretch/>
        </p:blipFill>
        <p:spPr>
          <a:xfrm>
            <a:off x="4346640" y="5226120"/>
            <a:ext cx="31680" cy="360"/>
          </a:xfrm>
          <a:prstGeom prst="rect">
            <a:avLst/>
          </a:prstGeom>
          <a:ln w="0">
            <a:noFill/>
          </a:ln>
        </p:spPr>
      </p:pic>
      <p:pic>
        <p:nvPicPr>
          <p:cNvPr id="48" name="Unknown Shape" descr=""/>
          <p:cNvPicPr/>
          <p:nvPr/>
        </p:nvPicPr>
        <p:blipFill>
          <a:blip r:embed="rId5"/>
          <a:stretch/>
        </p:blipFill>
        <p:spPr>
          <a:xfrm>
            <a:off x="9458280" y="-9360"/>
            <a:ext cx="184320" cy="13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ruzhba_16"/>
          <p:cNvPicPr/>
          <p:nvPr/>
        </p:nvPicPr>
        <p:blipFill>
          <a:blip r:embed="rId1"/>
          <a:stretch/>
        </p:blipFill>
        <p:spPr>
          <a:xfrm>
            <a:off x="179280" y="1197000"/>
            <a:ext cx="4846680" cy="4375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48320" y="12700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Дружит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 солнцем ветер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А роса – с травою.</a:t>
            </a:r>
            <a:br>
              <a:rPr sz="2400"/>
            </a:b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Дружит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с бабочкой цветок,</a:t>
            </a:r>
            <a:br>
              <a:rPr sz="2400"/>
            </a:b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Дружим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мы с тобою.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сё с 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друзьями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пополам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оделить мы рады!</a:t>
            </a:r>
            <a:br>
              <a:rPr sz="2400"/>
            </a:b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Только ссор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ru-RU" sz="2400" spc="-1" strike="noStrike" u="sng">
                <a:solidFill>
                  <a:srgbClr val="000066"/>
                </a:solidFill>
                <a:uFillTx/>
                <a:latin typeface="Arial"/>
              </a:rPr>
              <a:t>друзьям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икогда не над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druzhba5"/>
          <p:cNvPicPr/>
          <p:nvPr/>
        </p:nvPicPr>
        <p:blipFill>
          <a:blip r:embed="rId1"/>
          <a:stretch/>
        </p:blipFill>
        <p:spPr>
          <a:xfrm>
            <a:off x="34920" y="1557360"/>
            <a:ext cx="5222880" cy="4608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292360" y="1196640"/>
            <a:ext cx="3745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Дружба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– это тёплый ветер,</a:t>
            </a:r>
            <a:br>
              <a:rPr sz="16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Дружба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– это светлый мир,</a:t>
            </a:r>
            <a:br>
              <a:rPr sz="16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Дружба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– солнце на рассвете,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Для души весёлый пир.</a:t>
            </a:r>
            <a:br>
              <a:rPr sz="16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Дружба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– это только счастье,</a:t>
            </a:r>
            <a:br>
              <a:rPr sz="16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Дружба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– у людей одна.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дружбой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не страшны ненастья,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дружбой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–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жизнь весной полна.</a:t>
            </a:r>
            <a:br>
              <a:rPr sz="16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Друг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разделит боль и радость,</a:t>
            </a:r>
            <a:br>
              <a:rPr sz="1600"/>
            </a:b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Друг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поддержит и спасёт.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С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другом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– даже злая слабость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В миг растает и уйдет.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Верь, храни, цени же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дружбу,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Это высший идеал.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Тебе она сослужит службу.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Ведь </a:t>
            </a: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дружба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– это ценный дар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начну конфеты е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ен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pуз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 сче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закончились конф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pуз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помине н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конфету каждый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pу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и pвет ее из p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у зачем мн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дpужб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э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и сам люблю конф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0_abc27_fce86340_XL"/>
          <p:cNvPicPr/>
          <p:nvPr/>
        </p:nvPicPr>
        <p:blipFill>
          <a:blip r:embed="rId1"/>
          <a:stretch/>
        </p:blipFill>
        <p:spPr>
          <a:xfrm>
            <a:off x="179280" y="1701720"/>
            <a:ext cx="4038840" cy="3476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spasibo-za-vnimanie-kartinki-dlya-prezentacii-49"/>
          <p:cNvPicPr/>
          <p:nvPr/>
        </p:nvPicPr>
        <p:blipFill>
          <a:blip r:embed="rId1"/>
          <a:stretch/>
        </p:blipFill>
        <p:spPr>
          <a:xfrm>
            <a:off x="1440" y="0"/>
            <a:ext cx="918072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3T01:48:10Z</dcterms:created>
  <dc:creator>Натали</dc:creator>
  <dc:description/>
  <dc:language>en-US</dc:language>
  <cp:lastModifiedBy>User</cp:lastModifiedBy>
  <cp:lastPrinted>1899-12-30T00:00:00Z</cp:lastPrinted>
  <dcterms:modified xsi:type="dcterms:W3CDTF">2016-11-30T08:58:20Z</dcterms:modified>
  <cp:revision>3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550</vt:lpwstr>
  </property>
</Properties>
</file>