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B87-EEAA-489B-A0B2-D8417F37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F40B-2762-47E3-AD38-12C9FAC0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421-13BE-4938-AE82-99924A2C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882-4AA8-4347-8959-FD3E54CE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7AC-2542-4C85-B1F1-A32925CD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06E-76D7-4429-9E22-F74A3C739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ADC7-DA36-43CF-A7F5-08791417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8DC-AE80-4D30-BADF-7501CE4A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1E17-29C1-4B8C-9A84-BDC604FE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AFE9-5194-49B4-96EA-2F415F3C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478-9ED4-457A-B167-A2668214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339D-CB1F-470F-95E8-5635D873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9D75-297B-48D2-BB8D-C5AA0711E1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39152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cc0000"/>
                </a:solidFill>
                <a:latin typeface="Arial"/>
              </a:rPr>
              <a:t>Устное народное творчеств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23720" y="4800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бщающий у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828800" y="388620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Считал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21277" t="23588" r="46005" b="60906"/>
          <a:stretch/>
        </p:blipFill>
        <p:spPr>
          <a:xfrm>
            <a:off x="1066680" y="1523880"/>
            <a:ext cx="64008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360" y="20574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шь ката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лу – врем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мь раз отмерь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месте тес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495320" y="20574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врозь ску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дин раз отреж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юби и саночки воз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 потехе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2438280"/>
            <a:ext cx="609840" cy="1905120"/>
          </a:xfrm>
          <a:prstGeom prst="line">
            <a:avLst/>
          </a:prstGeom>
          <a:ln w="255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3276720"/>
            <a:ext cx="1219320" cy="190476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962520" y="3428640"/>
            <a:ext cx="53316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429000" y="2437920"/>
            <a:ext cx="1143000" cy="2971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3000" y="762120"/>
            <a:ext cx="6477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Пословицы и поговорки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205740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Ткачи ткали ткани на платье Тани.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905120" y="144792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Скороговор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05120" y="144792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High Tower Text"/>
              </a:rPr>
              <a:t>Скороговор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High Tower Text"/>
              <a:ea typeface="High Tower Tex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5162" t="9851" r="49231" b="8956"/>
          <a:stretch/>
        </p:blipFill>
        <p:spPr>
          <a:xfrm>
            <a:off x="1143000" y="457200"/>
            <a:ext cx="70866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2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Сегодня на уроке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8960" y="2209320"/>
            <a:ext cx="74674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не понравилось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я повтори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мне было сложн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полезным бы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интересным был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13:43:29Z</dcterms:created>
  <dc:creator>АЛЕКСАНДР</dc:creator>
  <dc:description/>
  <dc:language>en-US</dc:language>
  <cp:lastModifiedBy>АЛЕКСАНДР</cp:lastModifiedBy>
  <dcterms:modified xsi:type="dcterms:W3CDTF">2016-09-26T07:01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