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1E3-4DD7-48F3-AE75-24D731A7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28D6-9B9C-4E4D-8981-7B293878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F361-9A29-40E7-BF32-7F3C5B1C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C116-F7F5-42BE-88ED-1B555D9E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969-6DAD-4606-BEE0-45D4E934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26B-BDF8-4B9B-8323-E2AEAC6E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8F56-62E9-4394-A2DD-B7CFC785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DDF-F4DB-4438-9C6A-5A78C2BA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E4E-1C07-4A48-8618-C87E5B15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545-ADCE-45F6-A46B-7F0C2F1F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8B5-5F45-4506-84F1-6958800B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E42-C468-4FC7-A3CF-09383A2A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2E9A-10D6-4DED-AE45-555D11BBC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Устное народное творчеств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123720" y="480060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бщающий у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828800" y="3886200"/>
            <a:ext cx="4724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igh Tower Text"/>
              </a:rPr>
              <a:t>Считал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igh Tower Text"/>
              <a:ea typeface="High Tower Tex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21277" t="23588" r="46005" b="60906"/>
          <a:stretch/>
        </p:blipFill>
        <p:spPr>
          <a:xfrm>
            <a:off x="1066680" y="1523880"/>
            <a:ext cx="64008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90360" y="20574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бишь кат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лу – врем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ь раз отмерь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месте тес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95320" y="20574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врозь ску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ин раз отреж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би и саночки воз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потехе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2438280"/>
            <a:ext cx="609840" cy="1905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3276720"/>
            <a:ext cx="1219320" cy="19047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962520" y="3428640"/>
            <a:ext cx="53316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429000" y="2437920"/>
            <a:ext cx="1143000" cy="2971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43000" y="762120"/>
            <a:ext cx="6477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igh Tower Text"/>
              </a:rPr>
              <a:t>Пословицы и поговорк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205740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Ткачи ткали ткани на платье Тани.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05120" y="1447920"/>
            <a:ext cx="4724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igh Tower Text"/>
              </a:rPr>
              <a:t>Скороговор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igh Tower Text"/>
              <a:ea typeface="High Tower Tex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905120" y="1447920"/>
            <a:ext cx="4724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igh Tower Text"/>
              </a:rPr>
              <a:t>Скороговор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5162" t="9851" r="49231" b="8956"/>
          <a:stretch/>
        </p:blipFill>
        <p:spPr>
          <a:xfrm>
            <a:off x="1143000" y="457200"/>
            <a:ext cx="70866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Сегодня на урок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8960" y="2209320"/>
            <a:ext cx="74674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не понрави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я повтори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не было слож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лезным был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нтересным был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5T13:43:29Z</dcterms:created>
  <dc:creator>АЛЕКСАНДР</dc:creator>
  <dc:description/>
  <dc:language>en-US</dc:language>
  <cp:lastModifiedBy>АЛЕКСАНДР</cp:lastModifiedBy>
  <dcterms:modified xsi:type="dcterms:W3CDTF">2016-09-26T07:01:4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