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chimes.wav" ContentType="audio/x-wav"/>
  <Override PartName="/ppt/media/image6.jpeg" ContentType="image/jpeg"/>
  <Override PartName="/ppt/media/image12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1DAD-EFBE-4CA5-B9EB-030CCEB47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FBBC-10DD-4B3E-91C4-37E3ECF54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7A04-0FFE-4C00-9163-23135F762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9321-B1BF-4170-9419-B654AABF7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9F88-3F84-4000-9751-F884E6EA2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203A-40B3-44B5-BDF8-5D195678C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84E1-C0F4-425D-A22A-AE438EA61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CBA4-A16A-49A9-9555-DABA3FD04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BB56-AD53-45FB-8E8C-95EC61645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D809-806A-437B-BF28-0729C114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5473-E02A-4127-BAB1-30E8807A5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9C19-4CA1-45BE-BFD3-07DF5562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3FDDB-141E-4856-BC6E-EAB2ACFB18D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5480" y="1294920"/>
            <a:ext cx="84294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ЕМА: Чипсы. Вред или польза 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191120" y="34290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боту выполня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дов Александр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ужников Юр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4" descr="Y31FfK5NWDE.jpg"/>
          <p:cNvPicPr/>
          <p:nvPr/>
        </p:nvPicPr>
        <p:blipFill>
          <a:blip r:embed="rId1"/>
          <a:stretch/>
        </p:blipFill>
        <p:spPr>
          <a:xfrm>
            <a:off x="642960" y="278604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p:transition>
    <p:strips dir="ld"/>
    <p:sndAc>
      <p:stSnd>
        <p:snd r:embed="rId2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: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псы содержат большое количество жир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т опыт  опроверг гипотезу о пользе продукта. Чипсы  очень жирный   продукт. В 100 г он содержит  жиры в таких количествах, что для ребенка составляет половину дневной нормы еды.  А это и способствует ожирени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ld"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ыт 2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0040" y="85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ьмём 3%-ый раствор йода и капнем на чип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я показали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з несколько секунд появляется тёмно-синее пятно, что выдаёт присутствие крахма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Рисунок 3" descr="jXjoXo_VxZg.jpg"/>
          <p:cNvPicPr/>
          <p:nvPr/>
        </p:nvPicPr>
        <p:blipFill>
          <a:blip r:embed="rId1"/>
          <a:stretch/>
        </p:blipFill>
        <p:spPr>
          <a:xfrm>
            <a:off x="3357720" y="3429000"/>
            <a:ext cx="2357280" cy="3143160"/>
          </a:xfrm>
          <a:prstGeom prst="rect">
            <a:avLst/>
          </a:prstGeom>
          <a:ln w="0">
            <a:noFill/>
          </a:ln>
        </p:spPr>
      </p:pic>
    </p:spTree>
  </p:cSld>
  <p:transition>
    <p:strips dir="ld"/>
    <p:sndAc>
      <p:stSnd>
        <p:snd r:embed="rId2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: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чипсах много крахмал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т опыт   то же опроверг гипотезу о пользе чипсов. По результатам проведенного в США исследования, крахмал, оставшийся во рту, в течение двух часов преобразуется в глюкозу. А это - идеальная питательная среда для кариесных бактер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ld"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ЫТ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ём ломтик чипсов и осторожно поджигаем его, соблюдая все меры пожарной безопас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ld"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я показал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оджигании ломтика чипсов появляется едкий запах пластмассы (фото 3). Это говорит о присутствии опасного канцерогена – акриламид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3" descr="8ST9DIqEgP8.jpg"/>
          <p:cNvPicPr/>
          <p:nvPr/>
        </p:nvPicPr>
        <p:blipFill>
          <a:blip r:embed="rId1"/>
          <a:stretch/>
        </p:blipFill>
        <p:spPr>
          <a:xfrm>
            <a:off x="2928960" y="3714840"/>
            <a:ext cx="2857320" cy="2571840"/>
          </a:xfrm>
          <a:prstGeom prst="rect">
            <a:avLst/>
          </a:prstGeom>
          <a:ln w="0">
            <a:noFill/>
          </a:ln>
        </p:spPr>
      </p:pic>
    </p:spTree>
  </p:cSld>
  <p:transition>
    <p:strips dir="ld"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ывод: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В чипсах содержится опасный канцероген – акриламид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т опыт так же не подтвердил  гипотезу о пользе чипсов. В них содержится  канцероген – акриламид,  который считается ядом для нашего организма, поражающий главным образом нервную систему, печень и почки.  В пластике его запах ярко выражен, а в чипсах он завуалирован с помощью ароматизатор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ld"/>
    <p:sndAc>
      <p:stSnd>
        <p:snd r:embed="rId1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ыводы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85480" y="642600"/>
            <a:ext cx="642924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-за высокого содержания углеводов (крахмала) и жира чипсы очень калорийны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Жиры, содержащиеся в чипсах, крайне опасны для здоровья, так как обладают канцерогенным действием, то есть способностью вызывать рак.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чипсах содержится  канцероген – акриламид,  который считается ядом для нашего организма, поражающий главным образом нервную систему, печень и поч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5" descr="C:\Documents and Settings\Admin\Рабочий стол\чипсы\13i.jpeg"/>
          <p:cNvPicPr/>
          <p:nvPr/>
        </p:nvPicPr>
        <p:blipFill>
          <a:blip r:embed="rId1"/>
          <a:stretch/>
        </p:blipFill>
        <p:spPr>
          <a:xfrm>
            <a:off x="6831000" y="1000080"/>
            <a:ext cx="2098800" cy="3149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C:\Documents and Settings\Admin\Рабочий стол\чипсы\17i.jpeg"/>
          <p:cNvPicPr/>
          <p:nvPr/>
        </p:nvPicPr>
        <p:blipFill>
          <a:blip r:embed="rId2"/>
          <a:stretch/>
        </p:blipFill>
        <p:spPr>
          <a:xfrm>
            <a:off x="6572160" y="4643280"/>
            <a:ext cx="2465640" cy="1857600"/>
          </a:xfrm>
          <a:prstGeom prst="rect">
            <a:avLst/>
          </a:prstGeom>
          <a:ln w="0">
            <a:noFill/>
          </a:ln>
        </p:spPr>
      </p:pic>
    </p:spTree>
  </p:cSld>
  <p:transition>
    <p:strips dir="ld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2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500"/>
                            </p:stCondLst>
                            <p:childTnLst>
                              <p:par>
                                <p:cTn id="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2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071880" y="428400"/>
            <a:ext cx="58579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пасибо за внимание 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потребляйте полезные продукты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репкого, вам, здоровья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11" descr="j0233258"/>
          <p:cNvPicPr/>
          <p:nvPr/>
        </p:nvPicPr>
        <p:blipFill>
          <a:blip r:embed="rId1"/>
          <a:stretch/>
        </p:blipFill>
        <p:spPr>
          <a:xfrm>
            <a:off x="6357960" y="4572000"/>
            <a:ext cx="2565360" cy="1938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C:\Documents and Settings\Admin\Рабочий стол\чипсы\7i.jpeg"/>
          <p:cNvPicPr/>
          <p:nvPr/>
        </p:nvPicPr>
        <p:blipFill>
          <a:blip r:embed="rId2"/>
          <a:stretch/>
        </p:blipFill>
        <p:spPr>
          <a:xfrm>
            <a:off x="428760" y="285840"/>
            <a:ext cx="2558880" cy="2286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C:\Documents and Settings\Admin\Рабочий стол\чипсы\2i.jpeg"/>
          <p:cNvPicPr/>
          <p:nvPr/>
        </p:nvPicPr>
        <p:blipFill>
          <a:blip r:embed="rId3"/>
          <a:stretch/>
        </p:blipFill>
        <p:spPr>
          <a:xfrm>
            <a:off x="428760" y="3714840"/>
            <a:ext cx="4020840" cy="2214360"/>
          </a:xfrm>
          <a:prstGeom prst="rect">
            <a:avLst/>
          </a:prstGeom>
          <a:ln w="0">
            <a:noFill/>
          </a:ln>
        </p:spPr>
      </p:pic>
    </p:spTree>
  </p:cSld>
  <p:transition>
    <p:strips dir="ld"/>
    <p:sndAc>
      <p:stSnd>
        <p:snd r:embed="rId4" name="chimes.wav"/>
      </p:stSnd>
    </p:sndAc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" dur="2000" fill="hold"/>
                                        <p:tgtEl>
                                          <p:spTgt spid="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2362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Цель: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ыявить влияние  чипсов на организм челове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900000" y="4076640"/>
            <a:ext cx="2592360" cy="2592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"/>
          <p:cNvPicPr/>
          <p:nvPr/>
        </p:nvPicPr>
        <p:blipFill>
          <a:blip r:embed="rId2"/>
          <a:stretch/>
        </p:blipFill>
        <p:spPr>
          <a:xfrm>
            <a:off x="6659640" y="260280"/>
            <a:ext cx="2019240" cy="1511280"/>
          </a:xfrm>
          <a:prstGeom prst="rect">
            <a:avLst/>
          </a:prstGeom>
          <a:ln w="0">
            <a:noFill/>
          </a:ln>
        </p:spPr>
      </p:pic>
    </p:spTree>
  </p:cSld>
  <p:transition>
    <p:strips dir="ld"/>
    <p:sndAc>
      <p:stSnd>
        <p:snd r:embed="rId3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ипотез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дполагаем, что чипсы полезный продук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642960" y="3214800"/>
            <a:ext cx="2592360" cy="2592360"/>
          </a:xfrm>
          <a:prstGeom prst="rect">
            <a:avLst/>
          </a:prstGeom>
          <a:ln w="0">
            <a:noFill/>
          </a:ln>
        </p:spPr>
      </p:pic>
    </p:spTree>
  </p:cSld>
  <p:transition>
    <p:strips dir="ld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ачи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Изучить информации о чипсах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ровести опыты, которые помогут определить  влияние чипсов на организм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к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ыработать рекомендации о чипсах  для одноклассник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Рисунок 4" descr="4428_1.jpg"/>
          <p:cNvPicPr/>
          <p:nvPr/>
        </p:nvPicPr>
        <p:blipFill>
          <a:blip r:embed="rId1"/>
          <a:stretch/>
        </p:blipFill>
        <p:spPr>
          <a:xfrm>
            <a:off x="6858000" y="0"/>
            <a:ext cx="2286000" cy="1913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C:\Documents and Settings\Admin\Рабочий стол\чипсы\1i.jpeg"/>
          <p:cNvPicPr/>
          <p:nvPr/>
        </p:nvPicPr>
        <p:blipFill>
          <a:blip r:embed="rId2"/>
          <a:stretch/>
        </p:blipFill>
        <p:spPr>
          <a:xfrm>
            <a:off x="0" y="4876920"/>
            <a:ext cx="2286000" cy="1981080"/>
          </a:xfrm>
          <a:prstGeom prst="rect">
            <a:avLst/>
          </a:prstGeom>
          <a:ln w="0">
            <a:noFill/>
          </a:ln>
        </p:spPr>
      </p:pic>
    </p:spTree>
  </p:cSld>
  <p:transition>
    <p:strips dir="ld"/>
    <p:sndAc>
      <p:stSnd>
        <p:snd r:embed="rId3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Методы исследования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Анализ научной литератур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Эксперимен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Наблюде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Изучение результатов деятель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ld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аучная статья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Что такое чипсы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и́псы (англ. chips, от chip – стружка) – закуска, которая представляет собой тонкие ломтики картофеля, реже – других корнеплодов, как правило, обжаренных в масле (фритюре). Продаётся как готовый к употреблению продукт питани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ld"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1929 г. была изобретена первая машина для промышленного изготовления чипсов. Ее придумал механик-самоучка Фриман Макбет, который продал машину одной из фир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" descr="C:\Documents and Settings\Admin\Рабочий стол\чипсы\15i.jpeg"/>
          <p:cNvPicPr/>
          <p:nvPr/>
        </p:nvPicPr>
        <p:blipFill>
          <a:blip r:embed="rId1"/>
          <a:stretch/>
        </p:blipFill>
        <p:spPr>
          <a:xfrm>
            <a:off x="3143160" y="2714760"/>
            <a:ext cx="4357800" cy="3282840"/>
          </a:xfrm>
          <a:prstGeom prst="rect">
            <a:avLst/>
          </a:prstGeom>
          <a:ln w="0">
            <a:noFill/>
          </a:ln>
        </p:spPr>
      </p:pic>
    </p:spTree>
  </p:cSld>
  <p:transition>
    <p:strips dir="ld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ПЫТ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ерём ломтик чипсов,  кладем его  на салфетку и осторожно сгибаем её пополам, раздавив испытуемый образец на сгибе бумаги. Удаляем кусочки чипсов с  салфет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ld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аблюдения показали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0040" y="9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алфетке образовалось большое жирное пятно.  Чем больше жира содержит продукт, тем больше размер пропускающего свет пят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3" descr="EMSOul3WZj0.jpg"/>
          <p:cNvPicPr/>
          <p:nvPr/>
        </p:nvPicPr>
        <p:blipFill>
          <a:blip r:embed="rId1"/>
          <a:stretch/>
        </p:blipFill>
        <p:spPr>
          <a:xfrm>
            <a:off x="2286000" y="3071880"/>
            <a:ext cx="4429080" cy="3321000"/>
          </a:xfrm>
          <a:prstGeom prst="rect">
            <a:avLst/>
          </a:prstGeom>
          <a:ln w="0">
            <a:noFill/>
          </a:ln>
        </p:spPr>
      </p:pic>
    </p:spTree>
  </p:cSld>
  <p:transition>
    <p:strips dir="ld"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0T09:19:51Z</dcterms:created>
  <dc:creator>Intel</dc:creator>
  <dc:description/>
  <dc:language>en-US</dc:language>
  <cp:lastModifiedBy>BOOC</cp:lastModifiedBy>
  <dcterms:modified xsi:type="dcterms:W3CDTF">2017-01-22T12:39:16Z</dcterms:modified>
  <cp:revision>72</cp:revision>
  <dc:subject/>
  <dc:title>Слайд 1</dc:title>
</cp:coreProperties>
</file>