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chimes.wav" ContentType="audio/x-wav"/>
  <Override PartName="/ppt/media/image6.jpeg" ContentType="image/jpeg"/>
  <Override PartName="/ppt/media/image12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AF31-97E9-4D5A-93E9-A6E42DD45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ACA-8903-4C1E-A32E-F039A0C2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947E-D75A-40CF-8A42-8E38AA38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1027-96C6-4655-A023-8CA1FBCAE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2BE9-125C-4CAC-B9EC-4B309B0A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BA81-853B-41DD-9943-AD1606FE2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437A-B6C6-4D5A-997B-89ADD0D5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2472-CB6C-47EC-9F78-8AFBD00E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51F-FE53-44F1-BD1E-9D1BF724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811-3EDF-4AC6-B4DE-46388E29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98F-C30A-4F1F-9885-FA60FCC5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7AB-0402-4EFE-9B83-E932A631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B0D-8903-483E-9DCD-67F8C81B9B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5480" y="1294920"/>
            <a:ext cx="8429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ТЕМА: Чипсы. Вред или польза 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91120" y="34290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боту выполня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дов Александр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ужников Юр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Y31FfK5NWDE.jpg"/>
          <p:cNvPicPr/>
          <p:nvPr/>
        </p:nvPicPr>
        <p:blipFill>
          <a:blip r:embed="rId1"/>
          <a:stretch/>
        </p:blipFill>
        <p:spPr>
          <a:xfrm>
            <a:off x="642960" y="27860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псы содержат большое количество жир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 опроверг гипотезу о пользе продукта. Чипсы  очень жирный   продукт. В 100 г он содержит  жиры в таких количествах, что для ребенка составляет половину дневной нормы еды.  А это и способствует ожир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ьмём 3%-ый раствор йода и капнем на чип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али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несколько секунд появляется тёмно-синее пятно, что выдаёт присутствие крахм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jXjoXo_VxZg.jpg"/>
          <p:cNvPicPr/>
          <p:nvPr/>
        </p:nvPicPr>
        <p:blipFill>
          <a:blip r:embed="rId1"/>
          <a:stretch/>
        </p:blipFill>
        <p:spPr>
          <a:xfrm>
            <a:off x="3357720" y="3429000"/>
            <a:ext cx="2357280" cy="31431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чипсах много крахма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опыт   то же опроверг гипотезу о пользе чипсов. По результатам проведенного в США исследования, крахмал, оставшийся во рту, в течение двух часов преобразуется в глюкозу. А это - идеальная питательная среда для кариесных бактер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ломтик чипсов и осторожно поджигаем его, соблюдая все меры пожарной без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показал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оджигании ломтика чипсов появляется едкий запах пластмассы (фото 3). Это говорит о присутствии опасного канцерогена – акриламид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3" descr="8ST9DIqEgP8.jpg"/>
          <p:cNvPicPr/>
          <p:nvPr/>
        </p:nvPicPr>
        <p:blipFill>
          <a:blip r:embed="rId1"/>
          <a:stretch/>
        </p:blipFill>
        <p:spPr>
          <a:xfrm>
            <a:off x="2928960" y="3714840"/>
            <a:ext cx="2857320" cy="25718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В чипсах содержится опасный канцероген – акриламид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т опыт так же не подтвердил  гипотезу о пользе чипсов. В них содержится  канцероген – акриламид,  который считается ядом для нашего организма, поражающий главным образом нервную систему, печень и почки.  В пластике его запах ярко выражен, а в чипсах он завуалирован с помощью ароматизато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85480" y="642600"/>
            <a:ext cx="64292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-за высокого содержания углеводов (крахмала) и жира чипсы очень калорийн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иры, содержащиеся в чипсах, крайне опасны для здоровья, так как обладают канцерогенным действием, то есть способностью вызывать рак.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чипсах содержится  канцероген – акриламид,  который считается ядом для нашего организма, поражающий главным образом нервную систему, печень и поч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Documents and Settings\Admin\Рабочий стол\чипсы\13i.jpeg"/>
          <p:cNvPicPr/>
          <p:nvPr/>
        </p:nvPicPr>
        <p:blipFill>
          <a:blip r:embed="rId1"/>
          <a:stretch/>
        </p:blipFill>
        <p:spPr>
          <a:xfrm>
            <a:off x="6831000" y="1000080"/>
            <a:ext cx="2098800" cy="314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Admin\Рабочий стол\чипсы\17i.jpeg"/>
          <p:cNvPicPr/>
          <p:nvPr/>
        </p:nvPicPr>
        <p:blipFill>
          <a:blip r:embed="rId2"/>
          <a:stretch/>
        </p:blipFill>
        <p:spPr>
          <a:xfrm>
            <a:off x="6572160" y="4643280"/>
            <a:ext cx="2465640" cy="18576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71880" y="428400"/>
            <a:ext cx="58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потребляйте полезные продукт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репкого, вам, здоров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1" descr="j0233258"/>
          <p:cNvPicPr/>
          <p:nvPr/>
        </p:nvPicPr>
        <p:blipFill>
          <a:blip r:embed="rId1"/>
          <a:stretch/>
        </p:blipFill>
        <p:spPr>
          <a:xfrm>
            <a:off x="6357960" y="4572000"/>
            <a:ext cx="2565360" cy="19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C:\Documents and Settings\Admin\Рабочий стол\чипсы\7i.jpeg"/>
          <p:cNvPicPr/>
          <p:nvPr/>
        </p:nvPicPr>
        <p:blipFill>
          <a:blip r:embed="rId2"/>
          <a:stretch/>
        </p:blipFill>
        <p:spPr>
          <a:xfrm>
            <a:off x="428760" y="285840"/>
            <a:ext cx="255888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C:\Documents and Settings\Admin\Рабочий стол\чипсы\2i.jpeg"/>
          <p:cNvPicPr/>
          <p:nvPr/>
        </p:nvPicPr>
        <p:blipFill>
          <a:blip r:embed="rId3"/>
          <a:stretch/>
        </p:blipFill>
        <p:spPr>
          <a:xfrm>
            <a:off x="428760" y="3714840"/>
            <a:ext cx="4020840" cy="22143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4" name="chimes.wav"/>
      </p:stSnd>
    </p:sndAc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362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явить влияние  чипсов на организм челове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0000" y="4076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6659640" y="260280"/>
            <a:ext cx="2019240" cy="15112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ипотез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олагаем, что чипсы полезный продук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42960" y="3214800"/>
            <a:ext cx="2592360" cy="259236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учить информации о чипсах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ести опыты, которые помогут определить  влияние чипсов на организм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Выработать рекомендации о чипсах  для однокласс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4" descr="4428_1.jpg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91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Admin\Рабочий стол\чипсы\1i.jpeg"/>
          <p:cNvPicPr/>
          <p:nvPr/>
        </p:nvPicPr>
        <p:blipFill>
          <a:blip r:embed="rId2"/>
          <a:stretch/>
        </p:blipFill>
        <p:spPr>
          <a:xfrm>
            <a:off x="0" y="4876920"/>
            <a:ext cx="2286000" cy="198108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етоды исслед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Анализ научной литератур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Экспериме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Наблю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Изучение результатов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учная статья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Что такое чипсы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́псы (англ. chips, от chip – стружка) – закуска, которая представляет собой тонкие ломтики картофеля, реже – других корнеплодов, как правило, обжаренных в масле (фритюре). Продаётся как готовый к употреблению продукт пит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929 г. была изобретена первая машина для промышленного изготовления чипсов. Ее придумал механик-самоучка Фриман Макбет, который продал машину одной из фи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C:\Documents and Settings\Admin\Рабочий стол\чипсы\15i.jpeg"/>
          <p:cNvPicPr/>
          <p:nvPr/>
        </p:nvPicPr>
        <p:blipFill>
          <a:blip r:embed="rId1"/>
          <a:stretch/>
        </p:blipFill>
        <p:spPr>
          <a:xfrm>
            <a:off x="3143160" y="2714760"/>
            <a:ext cx="4357800" cy="32828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ЫТ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рём ломтик чипсов,  кладем его  на салфетку и осторожно сгибаем её пополам, раздавив испытуемый образец на сгибе бумаги. Удаляем кусочки чипсов с  салфе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блюдения показали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лфетке образовалось большое жирное пятно.  Чем больше жира содержит продукт, тем больше размер пропускающего свет пят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EMSOul3WZj0.jpg"/>
          <p:cNvPicPr/>
          <p:nvPr/>
        </p:nvPicPr>
        <p:blipFill>
          <a:blip r:embed="rId1"/>
          <a:stretch/>
        </p:blipFill>
        <p:spPr>
          <a:xfrm>
            <a:off x="2286000" y="3071880"/>
            <a:ext cx="4429080" cy="332100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9:19:51Z</dcterms:created>
  <dc:creator>Intel</dc:creator>
  <dc:description/>
  <dc:language>en-US</dc:language>
  <cp:lastModifiedBy>BOOC</cp:lastModifiedBy>
  <dcterms:modified xsi:type="dcterms:W3CDTF">2017-01-22T12:39:16Z</dcterms:modified>
  <cp:revision>72</cp:revision>
  <dc:subject/>
  <dc:title>Слайд 1</dc:title>
</cp:coreProperties>
</file>