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gif" ContentType="image/gif"/>
  <Override PartName="/ppt/media/image1.jpeg" ContentType="image/jpeg"/>
  <Override PartName="/ppt/media/image10.png" ContentType="image/png"/>
  <Override PartName="/ppt/media/image4.wmf" ContentType="image/x-wmf"/>
  <Override PartName="/ppt/media/image5.png" ContentType="image/png"/>
  <Override PartName="/ppt/media/image25.jpeg" ContentType="image/jpeg"/>
  <Override PartName="/ppt/media/image2.png" ContentType="image/png"/>
  <Override PartName="/ppt/media/image22.gif" ContentType="image/gif"/>
  <Override PartName="/ppt/media/image15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29.gif" ContentType="image/gif"/>
  <Override PartName="/ppt/media/image12.png" ContentType="image/png"/>
  <Override PartName="/ppt/media/image42.jpeg" ContentType="image/jpeg"/>
  <Override PartName="/ppt/media/image32.gif" ContentType="image/gif"/>
  <Override PartName="/ppt/media/image34.jpeg" ContentType="image/jpeg"/>
  <Override PartName="/ppt/media/image38.wmf" ContentType="image/x-wmf"/>
  <Override PartName="/ppt/media/image18.png" ContentType="image/png"/>
  <Override PartName="/ppt/media/image24.jpeg" ContentType="image/jpeg"/>
  <Override PartName="/ppt/media/image35.wmf" ContentType="image/x-wmf"/>
  <Override PartName="/ppt/media/image39.gif" ContentType="image/gif"/>
  <Override PartName="/ppt/media/image45.jpeg" ContentType="image/jpeg"/>
  <Override PartName="/ppt/media/image37.gif" ContentType="image/gif"/>
  <Override PartName="/ppt/media/image33.wmf" ContentType="image/x-wmf"/>
  <Override PartName="/ppt/media/image13.png" ContentType="image/png"/>
  <Override PartName="/ppt/media/image41.wmf" ContentType="image/x-wmf"/>
  <Override PartName="/ppt/media/image8.png" ContentType="image/png"/>
  <Override PartName="/ppt/media/image28.gif" ContentType="image/gif"/>
  <Override PartName="/ppt/media/image11.png" ContentType="image/png"/>
  <Override PartName="/ppt/media/image7.jpeg" ContentType="image/jpeg"/>
  <Override PartName="/ppt/media/image31.wmf" ContentType="image/x-wmf"/>
  <Override PartName="/ppt/media/image20.png" ContentType="image/png"/>
  <Override PartName="/ppt/media/image36.jpeg" ContentType="image/jpeg"/>
  <Override PartName="/ppt/media/image43.gif" ContentType="image/gif"/>
  <Override PartName="/ppt/media/image6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73B-077B-4DEC-AFF5-C6F8BA57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891-F8B9-4B4F-84C5-ED4A51EB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ACE-C8CB-45CF-8FA3-09E5701B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580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52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580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52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486-8E3B-4A1B-81D9-573183ED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B18-B99A-4838-8F5E-1E54DFAB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2D5-F329-472A-8CE4-7E93B1B1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B76-8F9B-4898-904E-7D3C48B9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851-1D99-43FA-9016-06D8692B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25080"/>
            <a:ext cx="9744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41B-752D-421A-9652-76F316FE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16B-A80C-45FA-A185-0CDD3B0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53E-C183-4656-9830-455C945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B22-6AC7-4635-9001-7F4C33A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27000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6820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35400" indent="-2700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35400" indent="-2700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35400" indent="-2700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8640" y="7394400"/>
            <a:ext cx="342900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980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E543-C7FD-428F-9872-C4E480D921D4}" type="slidenum">
              <a:rPr b="0" lang="ru-RU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png"/><Relationship Id="rId5" Type="http://schemas.openxmlformats.org/officeDocument/2006/relationships/image" Target="../media/image31.wm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2.gif"/><Relationship Id="rId14" Type="http://schemas.openxmlformats.org/officeDocument/2006/relationships/image" Target="../media/image37.gif"/><Relationship Id="rId15" Type="http://schemas.openxmlformats.org/officeDocument/2006/relationships/image" Target="../media/image38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42.jpeg"/><Relationship Id="rId5" Type="http://schemas.openxmlformats.org/officeDocument/2006/relationships/image" Target="../media/image43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412920" y="1201680"/>
            <a:ext cx="10056600" cy="483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клеты 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  правилам   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рожного   движения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  пожарной   безопасности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5"/>
          <p:cNvSpPr/>
          <p:nvPr/>
        </p:nvSpPr>
        <p:spPr>
          <a:xfrm>
            <a:off x="0" y="3559320"/>
            <a:ext cx="10810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езентацию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«Буклеты по правилам дорожного движе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 пожарной безопасност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ставила Тагирова Светлана –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agirova@dv-com.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0" y="6489720"/>
            <a:ext cx="10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ы скачали эту презентацию на сайте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0" y="1701720"/>
            <a:ext cx="10826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мое главное при изготовлении буклетов правильно распечатать их с обеих сторон, поэтому каждый четный слайд перевернут на 180 градусов, потом загнуть в два сложения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Группа 21"/>
          <p:cNvGrpSpPr/>
          <p:nvPr/>
        </p:nvGrpSpPr>
        <p:grpSpPr>
          <a:xfrm>
            <a:off x="341280" y="272880"/>
            <a:ext cx="10258920" cy="7697520"/>
            <a:chOff x="341280" y="272880"/>
            <a:chExt cx="10258920" cy="7697520"/>
          </a:xfrm>
        </p:grpSpPr>
        <p:pic>
          <p:nvPicPr>
            <p:cNvPr id="43" name="Picture 10" descr="1215_13"/>
            <p:cNvPicPr/>
            <p:nvPr/>
          </p:nvPicPr>
          <p:blipFill>
            <a:blip r:embed="rId1"/>
            <a:srcRect l="67303" t="70239" r="6772" b="0"/>
            <a:stretch/>
          </p:blipFill>
          <p:spPr>
            <a:xfrm>
              <a:off x="7704000" y="5708880"/>
              <a:ext cx="2613600" cy="206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19"/>
            <p:cNvGrpSpPr/>
            <p:nvPr/>
          </p:nvGrpSpPr>
          <p:grpSpPr>
            <a:xfrm>
              <a:off x="7548480" y="2307600"/>
              <a:ext cx="2942280" cy="2767320"/>
              <a:chOff x="7548480" y="2307600"/>
              <a:chExt cx="2942280" cy="2767320"/>
            </a:xfrm>
          </p:grpSpPr>
          <p:sp>
            <p:nvSpPr>
              <p:cNvPr id="45" name="WordArt 11"/>
              <p:cNvSpPr txBox="1"/>
              <p:nvPr/>
            </p:nvSpPr>
            <p:spPr>
              <a:xfrm>
                <a:off x="7548480" y="2307600"/>
                <a:ext cx="2825280" cy="801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38160">
                      <a:solidFill>
                        <a:srgbClr val="cc0000"/>
                      </a:solidFill>
                      <a:miter/>
                    </a:ln>
                    <a:solidFill>
                      <a:srgbClr val="ff6600"/>
                    </a:solidFill>
                    <a:effectLst>
                      <a:outerShdw dist="53966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Times New Roman"/>
                  </a:rPr>
                  <a:t>Внимание!</a:t>
                </a:r>
                <a:endParaRPr b="1" lang="en-US" sz="2800" spc="1" strike="noStrike">
                  <a:ln w="38160">
                    <a:solidFill>
                      <a:srgbClr val="cc00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6" name="WordArt 14"/>
              <p:cNvSpPr txBox="1"/>
              <p:nvPr/>
            </p:nvSpPr>
            <p:spPr>
              <a:xfrm>
                <a:off x="7760160" y="3471840"/>
                <a:ext cx="2613240" cy="50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8160">
                      <a:solidFill>
                        <a:srgbClr val="ff99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Дети </a:t>
                </a:r>
                <a:endParaRPr b="0" lang="en-US" sz="2800" spc="1" strike="noStrike">
                  <a:ln w="381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7" name="WordArt 15"/>
              <p:cNvSpPr txBox="1"/>
              <p:nvPr/>
            </p:nvSpPr>
            <p:spPr>
              <a:xfrm>
                <a:off x="7548480" y="4419720"/>
                <a:ext cx="2942280" cy="655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1" strike="noStrike">
                    <a:ln w="38160">
                      <a:solidFill>
                        <a:srgbClr val="336600"/>
                      </a:solidFill>
                      <a:miter/>
                    </a:ln>
                    <a:solidFill>
                      <a:srgbClr val="00cc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на дорогах.</a:t>
                </a:r>
                <a:endParaRPr b="0" lang="en-US" sz="2100" spc="1" strike="noStrike">
                  <a:ln w="38160">
                    <a:solidFill>
                      <a:srgbClr val="336600"/>
                    </a:solidFill>
                    <a:miter/>
                  </a:ln>
                  <a:solidFill>
                    <a:srgbClr val="00cc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48" name="Rectangle 2"/>
            <p:cNvSpPr/>
            <p:nvPr/>
          </p:nvSpPr>
          <p:spPr>
            <a:xfrm>
              <a:off x="3874680" y="272880"/>
              <a:ext cx="3038760" cy="1329840"/>
            </a:xfrm>
            <a:prstGeom prst="rect">
              <a:avLst/>
            </a:prstGeom>
            <a:gradFill rotWithShape="0">
              <a:gsLst>
                <a:gs pos="0">
                  <a:srgbClr val="ef5611"/>
                </a:gs>
                <a:gs pos="50000">
                  <a:srgbClr val="ffff99"/>
                </a:gs>
                <a:gs pos="100000">
                  <a:srgbClr val="ef56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7800" spc="-1" strike="noStrike">
                  <a:solidFill>
                    <a:srgbClr val="008000"/>
                  </a:solidFill>
                  <a:latin typeface="Comic Sans MS"/>
                </a:rPr>
                <a:t>ТЕСТ</a:t>
              </a:r>
              <a:endParaRPr b="0" lang="en-US" sz="7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3804120" y="2020680"/>
              <a:ext cx="3532320" cy="45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   </a:t>
              </a: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Какие автомоби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       </a:t>
              </a: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могут ех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    </a:t>
              </a: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на красный све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1.  Папина и мамин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2. Такс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3. Пожарная, милицейская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         </a:t>
              </a: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скорая помощь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          </a:t>
              </a: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спецмашины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25" descr="pozarnaja"/>
            <p:cNvPicPr/>
            <p:nvPr/>
          </p:nvPicPr>
          <p:blipFill>
            <a:blip r:embed="rId2"/>
            <a:stretch/>
          </p:blipFill>
          <p:spPr>
            <a:xfrm>
              <a:off x="4651560" y="5520240"/>
              <a:ext cx="134244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282"/>
            <p:cNvPicPr/>
            <p:nvPr/>
          </p:nvPicPr>
          <p:blipFill>
            <a:blip r:embed="rId3"/>
            <a:stretch/>
          </p:blipFill>
          <p:spPr>
            <a:xfrm>
              <a:off x="5782320" y="4936680"/>
              <a:ext cx="113076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0" descr="MCj04262280000[1]"/>
            <p:cNvPicPr/>
            <p:nvPr/>
          </p:nvPicPr>
          <p:blipFill>
            <a:blip r:embed="rId4"/>
            <a:stretch/>
          </p:blipFill>
          <p:spPr>
            <a:xfrm>
              <a:off x="4157640" y="4936320"/>
              <a:ext cx="1130760" cy="7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5"/>
            <p:cNvSpPr/>
            <p:nvPr/>
          </p:nvSpPr>
          <p:spPr>
            <a:xfrm>
              <a:off x="3944520" y="6539760"/>
              <a:ext cx="2896920" cy="115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400" spc="-1" strike="noStrike">
                  <a:solidFill>
                    <a:srgbClr val="336600"/>
                  </a:solidFill>
                  <a:latin typeface="Comic Sans MS"/>
                </a:rPr>
                <a:t>Переходя дорогу на зелёный сигнал светофора, смотри внимательно: все ли машины остановились, не движется ли спецтранспор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37" descr="пешеходный переход 2"/>
            <p:cNvPicPr/>
            <p:nvPr/>
          </p:nvPicPr>
          <p:blipFill>
            <a:blip r:embed="rId5"/>
            <a:stretch/>
          </p:blipFill>
          <p:spPr>
            <a:xfrm>
              <a:off x="625320" y="1074600"/>
              <a:ext cx="120060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38"/>
            <p:cNvSpPr/>
            <p:nvPr/>
          </p:nvSpPr>
          <p:spPr>
            <a:xfrm>
              <a:off x="553680" y="273240"/>
              <a:ext cx="2896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Перв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  </a:t>
              </a: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пешеход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       </a:t>
              </a: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перехо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0"/>
            <p:cNvSpPr/>
            <p:nvPr/>
          </p:nvSpPr>
          <p:spPr>
            <a:xfrm>
              <a:off x="341280" y="1853280"/>
              <a:ext cx="3108960" cy="611712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Comic Sans MS"/>
                </a:rPr>
                <a:t>Первый такой переход появился на Парламент сквер в Лондоне в декабре 1926 года. Инициатором нововведения стал Лондонский комитет надзора за городским движением. Переход был обозначен квадратным белым знаком на металлической табличке с нарисованным крестом, стрелкой и надписью: «Просьба переходить здесь». Очередные 16 переходов появились в Лондоне в августе следующего года. Важнейшие переходы были обозначены двумя параллельными линиями поперек дороги. В 1933-1934 годах этот рисунок был заменен белой «елочкой», а белая квадратная табличка уступила место большому круглому знаку с буквой «С».</a:t>
              </a:r>
              <a:br>
                <a:rPr sz="1200"/>
              </a:br>
              <a:r>
                <a:rPr b="1" lang="ru-RU" sz="1200" spc="-1" strike="noStrike">
                  <a:solidFill>
                    <a:srgbClr val="000099"/>
                  </a:solidFill>
                  <a:latin typeface="Comic Sans MS"/>
                </a:rPr>
                <a:t>В 1934 году министр транспорта распорядился ввести новый стандарт обозначения пешеходных переходов. В поверхность дороги вбивались гвозди с широкой шляпкой, а на тротуарах устанавливались предостерегающие желтые фонари.</a:t>
              </a:r>
              <a:br>
                <a:rPr sz="1200"/>
              </a:br>
              <a:r>
                <a:rPr b="1" lang="ru-RU" sz="1200" spc="-1" strike="noStrike">
                  <a:solidFill>
                    <a:srgbClr val="000099"/>
                  </a:solidFill>
                  <a:latin typeface="Comic Sans MS"/>
                </a:rPr>
                <a:t>Переход типа «зебра» появился впервые в Лондоне в 1951 году по распоряжению от 31 октября.</a:t>
              </a:r>
              <a:r>
                <a:rPr b="0" i="1" lang="ru-RU" sz="12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4" descr="F:\Мои рисунки\Новая папка\cont.gif"/>
            <p:cNvPicPr/>
            <p:nvPr/>
          </p:nvPicPr>
          <p:blipFill>
            <a:blip r:embed="rId6"/>
            <a:srcRect l="6582" t="0" r="6816" b="0"/>
            <a:stretch/>
          </p:blipFill>
          <p:spPr>
            <a:xfrm>
              <a:off x="7236000" y="638280"/>
              <a:ext cx="3364200" cy="9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36"/>
          <p:cNvGrpSpPr/>
          <p:nvPr/>
        </p:nvGrpSpPr>
        <p:grpSpPr>
          <a:xfrm>
            <a:off x="216000" y="360360"/>
            <a:ext cx="10598040" cy="7561440"/>
            <a:chOff x="216000" y="360360"/>
            <a:chExt cx="10598040" cy="7561440"/>
          </a:xfrm>
        </p:grpSpPr>
        <p:sp>
          <p:nvSpPr>
            <p:cNvPr id="59" name="Text Box 22"/>
            <p:cNvSpPr/>
            <p:nvPr/>
          </p:nvSpPr>
          <p:spPr>
            <a:xfrm>
              <a:off x="216000" y="360360"/>
              <a:ext cx="34686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Треугольные знаки с красным ободком – </a:t>
              </a:r>
              <a:r>
                <a:rPr b="1" i="1" lang="ru-RU" sz="1700" spc="-1" strike="noStrike">
                  <a:solidFill>
                    <a:srgbClr val="cc0000"/>
                  </a:solidFill>
                  <a:latin typeface="Arial"/>
                </a:rPr>
                <a:t>предупреждающие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3"/>
            <p:cNvSpPr/>
            <p:nvPr/>
          </p:nvSpPr>
          <p:spPr>
            <a:xfrm>
              <a:off x="3745080" y="360360"/>
              <a:ext cx="34686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Круглые с красным ободком -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700" spc="-1" strike="noStrike">
                  <a:solidFill>
                    <a:srgbClr val="cc0000"/>
                  </a:solidFill>
                  <a:latin typeface="Arial"/>
                </a:rPr>
                <a:t>              </a:t>
              </a:r>
              <a:r>
                <a:rPr b="1" i="1" lang="ru-RU" sz="1700" spc="-1" strike="noStrike">
                  <a:solidFill>
                    <a:srgbClr val="cc0000"/>
                  </a:solidFill>
                  <a:latin typeface="Arial"/>
                </a:rPr>
                <a:t>запрещающие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4"/>
            <p:cNvSpPr/>
            <p:nvPr/>
          </p:nvSpPr>
          <p:spPr>
            <a:xfrm>
              <a:off x="7345440" y="360360"/>
              <a:ext cx="3468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    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Прямоугольной формы – </a:t>
              </a:r>
              <a:r>
                <a:rPr b="1" i="1" lang="ru-RU" sz="1600" spc="-1" strike="noStrike">
                  <a:solidFill>
                    <a:srgbClr val="cc0000"/>
                  </a:solidFill>
                  <a:latin typeface="Arial"/>
                </a:rPr>
                <a:t>информационно-указательные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                       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зна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7" descr="звижение пешеходов запрещено1"/>
            <p:cNvPicPr/>
            <p:nvPr/>
          </p:nvPicPr>
          <p:blipFill>
            <a:blip r:embed="rId1"/>
            <a:stretch/>
          </p:blipFill>
          <p:spPr>
            <a:xfrm>
              <a:off x="3960720" y="1008000"/>
              <a:ext cx="100800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движение на велосипедах запрещено1"/>
            <p:cNvPicPr/>
            <p:nvPr/>
          </p:nvPicPr>
          <p:blipFill>
            <a:blip r:embed="rId2"/>
            <a:stretch/>
          </p:blipFill>
          <p:spPr>
            <a:xfrm>
              <a:off x="5616720" y="1008000"/>
              <a:ext cx="100800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въезд запрещен1"/>
            <p:cNvPicPr/>
            <p:nvPr/>
          </p:nvPicPr>
          <p:blipFill>
            <a:blip r:embed="rId3"/>
            <a:stretch/>
          </p:blipFill>
          <p:spPr>
            <a:xfrm>
              <a:off x="4176720" y="626436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9" descr="49"/>
            <p:cNvPicPr/>
            <p:nvPr/>
          </p:nvPicPr>
          <p:blipFill>
            <a:blip r:embed="rId4"/>
            <a:stretch/>
          </p:blipFill>
          <p:spPr>
            <a:xfrm>
              <a:off x="5905440" y="626436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3"/>
            <p:cNvSpPr/>
            <p:nvPr/>
          </p:nvSpPr>
          <p:spPr>
            <a:xfrm>
              <a:off x="5761080" y="7128360"/>
              <a:ext cx="122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преще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4"/>
            <p:cNvSpPr/>
            <p:nvPr/>
          </p:nvSpPr>
          <p:spPr>
            <a:xfrm>
              <a:off x="4032360" y="712836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ъез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прещ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5"/>
            <p:cNvSpPr/>
            <p:nvPr/>
          </p:nvSpPr>
          <p:spPr>
            <a:xfrm>
              <a:off x="3887640" y="2014560"/>
              <a:ext cx="129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жение пешеходов запреще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6"/>
            <p:cNvSpPr/>
            <p:nvPr/>
          </p:nvSpPr>
          <p:spPr>
            <a:xfrm>
              <a:off x="5400720" y="2014560"/>
              <a:ext cx="180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велосипед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преще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22" descr="Untitled-1 copy"/>
            <p:cNvPicPr/>
            <p:nvPr/>
          </p:nvPicPr>
          <p:blipFill>
            <a:blip r:embed="rId5">
              <a:lum contrast="60000"/>
            </a:blip>
            <a:stretch/>
          </p:blipFill>
          <p:spPr>
            <a:xfrm>
              <a:off x="7416720" y="6769440"/>
              <a:ext cx="3240000" cy="115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Group 76"/>
            <p:cNvGrpSpPr/>
            <p:nvPr/>
          </p:nvGrpSpPr>
          <p:grpSpPr>
            <a:xfrm>
              <a:off x="7345440" y="936360"/>
              <a:ext cx="3468240" cy="2030760"/>
              <a:chOff x="7345440" y="936360"/>
              <a:chExt cx="3468240" cy="2030760"/>
            </a:xfrm>
          </p:grpSpPr>
          <p:pic>
            <p:nvPicPr>
              <p:cNvPr id="72" name="Picture 12" descr="подземный пешеходный переход1"/>
              <p:cNvPicPr/>
              <p:nvPr/>
            </p:nvPicPr>
            <p:blipFill>
              <a:blip r:embed="rId6"/>
              <a:stretch/>
            </p:blipFill>
            <p:spPr>
              <a:xfrm>
                <a:off x="7480440" y="936360"/>
                <a:ext cx="951840" cy="93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3" descr="пешеходный переход1"/>
              <p:cNvPicPr/>
              <p:nvPr/>
            </p:nvPicPr>
            <p:blipFill>
              <a:blip r:embed="rId7"/>
              <a:stretch/>
            </p:blipFill>
            <p:spPr>
              <a:xfrm>
                <a:off x="8501400" y="1544760"/>
                <a:ext cx="928080" cy="94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27" descr="47"/>
              <p:cNvPicPr/>
              <p:nvPr/>
            </p:nvPicPr>
            <p:blipFill>
              <a:blip r:embed="rId8"/>
              <a:srcRect l="51755" t="51890" r="27458" b="29058"/>
              <a:stretch/>
            </p:blipFill>
            <p:spPr>
              <a:xfrm>
                <a:off x="9590040" y="936360"/>
                <a:ext cx="883440" cy="87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Rectangle 49"/>
              <p:cNvSpPr/>
              <p:nvPr/>
            </p:nvSpPr>
            <p:spPr>
              <a:xfrm>
                <a:off x="8432280" y="2477160"/>
                <a:ext cx="1360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шеходный 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реход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51"/>
              <p:cNvSpPr/>
              <p:nvPr/>
            </p:nvSpPr>
            <p:spPr>
              <a:xfrm>
                <a:off x="7345440" y="1862640"/>
                <a:ext cx="13600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одзем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шеход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реход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52"/>
              <p:cNvSpPr/>
              <p:nvPr/>
            </p:nvSpPr>
            <p:spPr>
              <a:xfrm>
                <a:off x="9453600" y="1794600"/>
                <a:ext cx="13600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Надзем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шеход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реход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ectangle 61"/>
            <p:cNvSpPr/>
            <p:nvPr/>
          </p:nvSpPr>
          <p:spPr>
            <a:xfrm>
              <a:off x="216000" y="2521080"/>
              <a:ext cx="3109680" cy="2376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В красном треугольн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Знаки осторожные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Они предупреждают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К вниманью призываю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3" descr="дорожные работы1"/>
            <p:cNvPicPr/>
            <p:nvPr/>
          </p:nvPicPr>
          <p:blipFill>
            <a:blip r:embed="rId9"/>
            <a:stretch/>
          </p:blipFill>
          <p:spPr>
            <a:xfrm>
              <a:off x="2087640" y="1008000"/>
              <a:ext cx="115236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4" descr="ДЕТИ1"/>
            <p:cNvPicPr/>
            <p:nvPr/>
          </p:nvPicPr>
          <p:blipFill>
            <a:blip r:embed="rId10"/>
            <a:stretch/>
          </p:blipFill>
          <p:spPr>
            <a:xfrm>
              <a:off x="287280" y="1079280"/>
              <a:ext cx="108108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5" descr="опасный поворот"/>
            <p:cNvPicPr/>
            <p:nvPr/>
          </p:nvPicPr>
          <p:blipFill>
            <a:blip r:embed="rId11"/>
            <a:stretch/>
          </p:blipFill>
          <p:spPr>
            <a:xfrm>
              <a:off x="287280" y="6121800"/>
              <a:ext cx="10810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66"/>
            <p:cNvSpPr/>
            <p:nvPr/>
          </p:nvSpPr>
          <p:spPr>
            <a:xfrm>
              <a:off x="1728720" y="71283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ветофорное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гул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67" descr="image014"/>
            <p:cNvPicPr/>
            <p:nvPr/>
          </p:nvPicPr>
          <p:blipFill>
            <a:blip r:embed="rId12"/>
            <a:stretch/>
          </p:blipFill>
          <p:spPr>
            <a:xfrm>
              <a:off x="1944720" y="6121800"/>
              <a:ext cx="1079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68"/>
            <p:cNvSpPr/>
            <p:nvPr/>
          </p:nvSpPr>
          <p:spPr>
            <a:xfrm>
              <a:off x="504720" y="208656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9"/>
            <p:cNvSpPr/>
            <p:nvPr/>
          </p:nvSpPr>
          <p:spPr>
            <a:xfrm>
              <a:off x="287280" y="7128360"/>
              <a:ext cx="102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пасный повор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0"/>
            <p:cNvSpPr/>
            <p:nvPr/>
          </p:nvSpPr>
          <p:spPr>
            <a:xfrm>
              <a:off x="2087640" y="2014560"/>
              <a:ext cx="122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орожные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1"/>
            <p:cNvSpPr/>
            <p:nvPr/>
          </p:nvSpPr>
          <p:spPr>
            <a:xfrm>
              <a:off x="3887640" y="2736720"/>
              <a:ext cx="3025800" cy="14655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Запрещают зна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Разное движение: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обгоны, поворот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И в красные кружоч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Обводит их народ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2"/>
            <p:cNvSpPr/>
            <p:nvPr/>
          </p:nvSpPr>
          <p:spPr>
            <a:xfrm>
              <a:off x="7488360" y="4464000"/>
              <a:ext cx="3168720" cy="228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А ещё есть знаки- добрые друзь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Укажут направления вашего движен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Где поесть, заправиться, поспать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И как в деревню к бабушке попаст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5"/>
            <p:cNvSpPr/>
            <p:nvPr/>
          </p:nvSpPr>
          <p:spPr>
            <a:xfrm>
              <a:off x="7488360" y="2952720"/>
              <a:ext cx="3108240" cy="20142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Только я для пешех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Знак на месте перехо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В голубом иду квадрате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Переходоуказател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7"/>
            <p:cNvSpPr/>
            <p:nvPr/>
          </p:nvSpPr>
          <p:spPr>
            <a:xfrm>
              <a:off x="3960720" y="4464000"/>
              <a:ext cx="3025800" cy="2014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Круглый знак, а в нём- окошк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Не спешите с горяч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А подумайте немножко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Что здесь- свалка кирпич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8"/>
            <p:cNvSpPr/>
            <p:nvPr/>
          </p:nvSpPr>
          <p:spPr>
            <a:xfrm>
              <a:off x="287280" y="4537080"/>
              <a:ext cx="3097080" cy="1465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В треугольнике шагаю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Транспорт я предупреждаю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Скоро место переход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Берегите пешехо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25"/>
          <p:cNvGrpSpPr/>
          <p:nvPr/>
        </p:nvGrpSpPr>
        <p:grpSpPr>
          <a:xfrm>
            <a:off x="270000" y="416160"/>
            <a:ext cx="10557000" cy="7373880"/>
            <a:chOff x="270000" y="416160"/>
            <a:chExt cx="10557000" cy="7373880"/>
          </a:xfrm>
        </p:grpSpPr>
        <p:grpSp>
          <p:nvGrpSpPr>
            <p:cNvPr id="93" name="Group 7"/>
            <p:cNvGrpSpPr/>
            <p:nvPr/>
          </p:nvGrpSpPr>
          <p:grpSpPr>
            <a:xfrm>
              <a:off x="7686720" y="2030760"/>
              <a:ext cx="3027240" cy="2735280"/>
              <a:chOff x="7686720" y="2030760"/>
              <a:chExt cx="3027240" cy="2735280"/>
            </a:xfrm>
          </p:grpSpPr>
          <p:sp>
            <p:nvSpPr>
              <p:cNvPr id="94" name="WordArt 8"/>
              <p:cNvSpPr txBox="1"/>
              <p:nvPr/>
            </p:nvSpPr>
            <p:spPr>
              <a:xfrm>
                <a:off x="7686720" y="2030760"/>
                <a:ext cx="290700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38160">
                      <a:solidFill>
                        <a:srgbClr val="cc0000"/>
                      </a:solidFill>
                      <a:miter/>
                    </a:ln>
                    <a:solidFill>
                      <a:srgbClr val="ff6600"/>
                    </a:solidFill>
                    <a:effectLst>
                      <a:outerShdw dist="53966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Times New Roman"/>
                  </a:rPr>
                  <a:t>Внимание!</a:t>
                </a:r>
                <a:endParaRPr b="1" lang="en-US" sz="2800" spc="1" strike="noStrike">
                  <a:ln w="38160">
                    <a:solidFill>
                      <a:srgbClr val="cc00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5" name="WordArt 9"/>
              <p:cNvSpPr txBox="1"/>
              <p:nvPr/>
            </p:nvSpPr>
            <p:spPr>
              <a:xfrm>
                <a:off x="7904520" y="3181680"/>
                <a:ext cx="2689200" cy="5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8160">
                      <a:solidFill>
                        <a:srgbClr val="ff99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Дети </a:t>
                </a:r>
                <a:endParaRPr b="0" lang="en-US" sz="2800" spc="1" strike="noStrike">
                  <a:ln w="381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6" name="WordArt 10"/>
              <p:cNvSpPr txBox="1"/>
              <p:nvPr/>
            </p:nvSpPr>
            <p:spPr>
              <a:xfrm>
                <a:off x="7686720" y="4118400"/>
                <a:ext cx="302724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1" strike="noStrike">
                    <a:ln w="38160">
                      <a:solidFill>
                        <a:srgbClr val="336600"/>
                      </a:solidFill>
                      <a:miter/>
                    </a:ln>
                    <a:solidFill>
                      <a:srgbClr val="00cc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на дорогах.</a:t>
                </a:r>
                <a:endParaRPr b="0" lang="en-US" sz="2100" spc="1" strike="noStrike">
                  <a:ln w="38160">
                    <a:solidFill>
                      <a:srgbClr val="336600"/>
                    </a:solidFill>
                    <a:miter/>
                  </a:ln>
                  <a:solidFill>
                    <a:srgbClr val="00cc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pic>
          <p:nvPicPr>
            <p:cNvPr id="97" name="Picture 15" descr=""/>
            <p:cNvPicPr/>
            <p:nvPr/>
          </p:nvPicPr>
          <p:blipFill>
            <a:blip r:embed="rId1"/>
            <a:stretch/>
          </p:blipFill>
          <p:spPr>
            <a:xfrm>
              <a:off x="7468200" y="5141880"/>
              <a:ext cx="32313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3"/>
            <p:cNvSpPr/>
            <p:nvPr/>
          </p:nvSpPr>
          <p:spPr>
            <a:xfrm>
              <a:off x="3977280" y="1424160"/>
              <a:ext cx="3054960" cy="388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fffcc"/>
                </a:gs>
                <a:gs pos="100000">
                  <a:srgbClr val="ff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18252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9900cc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Бежать нельзя на красный с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Сказал медведь еж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Я знаю, - буркнул ёж в ответ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Но очень я спеш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Куда же ёж спешишь ты так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А я спешу в больниц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Тогда беги, и красный свет тебе вполне сгодитс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"/>
            <p:cNvSpPr/>
            <p:nvPr/>
          </p:nvSpPr>
          <p:spPr>
            <a:xfrm>
              <a:off x="3833640" y="487080"/>
              <a:ext cx="319932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Шутк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23" descr="Untitled-1 copy"/>
            <p:cNvPicPr/>
            <p:nvPr/>
          </p:nvPicPr>
          <p:blipFill>
            <a:blip r:embed="rId2">
              <a:lum contrast="30000"/>
            </a:blip>
            <a:stretch/>
          </p:blipFill>
          <p:spPr>
            <a:xfrm>
              <a:off x="3858840" y="6177240"/>
              <a:ext cx="11908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0" descr="Untitled-1 copy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5794920" y="6825240"/>
              <a:ext cx="116352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4"/>
            <p:cNvSpPr/>
            <p:nvPr/>
          </p:nvSpPr>
          <p:spPr>
            <a:xfrm>
              <a:off x="270000" y="416160"/>
              <a:ext cx="3053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С</a:t>
              </a:r>
              <a:r>
                <a:rPr b="1" lang="ru-RU" sz="4400" spc="-1" strike="noStrike">
                  <a:solidFill>
                    <a:srgbClr val="ffff00"/>
                  </a:solidFill>
                  <a:latin typeface="Comic Sans MS"/>
                </a:rPr>
                <a:t>в</a:t>
              </a:r>
              <a:r>
                <a:rPr b="1" lang="ru-RU" sz="4400" spc="-1" strike="noStrike">
                  <a:solidFill>
                    <a:srgbClr val="008000"/>
                  </a:solidFill>
                  <a:latin typeface="Comic Sans MS"/>
                </a:rPr>
                <a:t>е</a:t>
              </a: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т</a:t>
              </a:r>
              <a:r>
                <a:rPr b="1" lang="ru-RU" sz="4400" spc="-1" strike="noStrike">
                  <a:solidFill>
                    <a:srgbClr val="ffff00"/>
                  </a:solidFill>
                  <a:latin typeface="Comic Sans MS"/>
                </a:rPr>
                <a:t>о</a:t>
              </a:r>
              <a:r>
                <a:rPr b="1" lang="ru-RU" sz="4400" spc="-1" strike="noStrike">
                  <a:solidFill>
                    <a:srgbClr val="008000"/>
                  </a:solidFill>
                  <a:latin typeface="Comic Sans MS"/>
                </a:rPr>
                <a:t>ф</a:t>
              </a: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о</a:t>
              </a:r>
              <a:r>
                <a:rPr b="1" lang="ru-RU" sz="4400" spc="-1" strike="noStrike">
                  <a:solidFill>
                    <a:srgbClr val="ffff00"/>
                  </a:solidFill>
                  <a:latin typeface="Comic Sans MS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"/>
            <p:cNvSpPr/>
            <p:nvPr/>
          </p:nvSpPr>
          <p:spPr>
            <a:xfrm>
              <a:off x="270360" y="1208160"/>
              <a:ext cx="2981160" cy="1728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omic Sans MS"/>
                </a:rPr>
  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</a:t>
              </a:r>
              <a:r>
                <a:rPr b="0" lang="ru-RU" sz="1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012"/>
            <p:cNvPicPr/>
            <p:nvPr/>
          </p:nvPicPr>
          <p:blipFill>
            <a:blip r:embed="rId4"/>
            <a:stretch/>
          </p:blipFill>
          <p:spPr>
            <a:xfrm>
              <a:off x="5214960" y="5385600"/>
              <a:ext cx="67464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4"/>
            <p:cNvSpPr/>
            <p:nvPr/>
          </p:nvSpPr>
          <p:spPr>
            <a:xfrm>
              <a:off x="270360" y="2722680"/>
              <a:ext cx="2981160" cy="1857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62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omic Sans MS"/>
                </a:rPr>
                <a:t>5 августа 1914 года, 95 лет назад, на перекрестке авеню Эвклида и 105-й Восточной улицы в американском городе Кливленде появились первые в мире светофоры, регулирующие дорожное движение. Они имели переключающиеся красный и зеленый свет и издавали предупреждающий сигнал.</a:t>
              </a:r>
              <a:r>
                <a:rPr b="0" lang="ru-RU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70360" y="4456080"/>
              <a:ext cx="2981160" cy="32745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omic Sans MS"/>
                </a:rPr>
                <a:t>Пальму первенства у американцев пытаются отнять англичане. И у них есть повод для этого – прадедушка современного светофора был установлен 10 декабря 1868 года в Лондоне возле здания Британского парламента. Его изобретатель — Дж. П. Найт — был специалистом по железнодорожным семафорам. Светофор управлялся вручную и имел два семафорных крыла: поднятые горизонтально означали сигнал «стоп», а опущенные под углом в 45° — движение с осторожностью. В тёмное время суток использовался вращающийся газовый фонарь, с помощью которого подавались, соответственно, сигналы красного и зелёного цветов</a:t>
              </a:r>
              <a:r>
                <a:rPr b="0" lang="ru-RU" sz="11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F:\Мои рисунки\Новая папка\cont.gif"/>
            <p:cNvPicPr/>
            <p:nvPr/>
          </p:nvPicPr>
          <p:blipFill>
            <a:blip r:embed="rId5"/>
            <a:srcRect l="6582" t="0" r="6816" b="0"/>
            <a:stretch/>
          </p:blipFill>
          <p:spPr>
            <a:xfrm>
              <a:off x="7364880" y="777240"/>
              <a:ext cx="3462120" cy="9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Группа 16"/>
          <p:cNvGrpSpPr/>
          <p:nvPr/>
        </p:nvGrpSpPr>
        <p:grpSpPr>
          <a:xfrm>
            <a:off x="228600" y="387360"/>
            <a:ext cx="10369440" cy="7326360"/>
            <a:chOff x="228600" y="387360"/>
            <a:chExt cx="10369440" cy="7326360"/>
          </a:xfrm>
        </p:grpSpPr>
        <p:pic>
          <p:nvPicPr>
            <p:cNvPr id="109" name="Picture 15" descr="logo_phpBB"/>
            <p:cNvPicPr/>
            <p:nvPr/>
          </p:nvPicPr>
          <p:blipFill>
            <a:blip r:embed="rId1"/>
            <a:stretch/>
          </p:blipFill>
          <p:spPr>
            <a:xfrm>
              <a:off x="555480" y="6489720"/>
              <a:ext cx="9937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7"/>
            <p:cNvSpPr/>
            <p:nvPr/>
          </p:nvSpPr>
          <p:spPr>
            <a:xfrm>
              <a:off x="3913200" y="396000"/>
              <a:ext cx="3025800" cy="192348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Arial"/>
                  <a:ea typeface="Arial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ила движения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ажная нау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облюдать их  все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    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олж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 бабушки и внуки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loorlamp"/>
            <p:cNvSpPr/>
            <p:nvPr/>
          </p:nvSpPr>
          <p:spPr>
            <a:xfrm>
              <a:off x="444240" y="460080"/>
              <a:ext cx="718920" cy="71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9718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228600" y="1251000"/>
              <a:ext cx="3097080" cy="947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Загорелся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«КРАСНЫЙ»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цве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Стоп, вперед дороги нет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loorlamp"/>
            <p:cNvSpPr/>
            <p:nvPr/>
          </p:nvSpPr>
          <p:spPr>
            <a:xfrm>
              <a:off x="1309680" y="2403360"/>
              <a:ext cx="718920" cy="718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9718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228600" y="3268800"/>
              <a:ext cx="3097080" cy="947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Яркий</a:t>
              </a: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2000" spc="-1" strike="noStrike" u="sng">
                  <a:solidFill>
                    <a:srgbClr val="ff9900"/>
                  </a:solidFill>
                  <a:uFillTx/>
                  <a:latin typeface="Arial"/>
                </a:rPr>
                <a:t>«ЖЕЛТЫЙ»</a:t>
              </a: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гонек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одожди ещё, дружок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loorlamp"/>
            <p:cNvSpPr/>
            <p:nvPr/>
          </p:nvSpPr>
          <p:spPr>
            <a:xfrm>
              <a:off x="2173320" y="4419720"/>
              <a:ext cx="792000" cy="7920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9718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299880" y="5285520"/>
              <a:ext cx="3024000" cy="94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      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Св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9900"/>
                  </a:solidFill>
                  <a:latin typeface="Arial"/>
                </a:rPr>
                <a:t>«</a:t>
              </a:r>
              <a:r>
                <a:rPr b="1" lang="ru-RU" sz="2000" spc="-1" strike="noStrike" u="sng">
                  <a:solidFill>
                    <a:srgbClr val="009900"/>
                  </a:solidFill>
                  <a:uFillTx/>
                  <a:latin typeface="Arial"/>
                </a:rPr>
                <a:t>ЗЕЛЕНЫЙ»</a:t>
              </a: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загоритс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Тут уж надо торопиться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7574040" y="2116080"/>
              <a:ext cx="2952720" cy="1067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Подземный, надземн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Похожий на зебр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Знай, что только пере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От беды тебя спасёт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6"/>
            <p:cNvSpPr/>
            <p:nvPr/>
          </p:nvSpPr>
          <p:spPr>
            <a:xfrm>
              <a:off x="3980520" y="4709160"/>
              <a:ext cx="2960280" cy="1554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С паровозом красный зн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Нам понять не сложно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Говорит он детям так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Будьте осторожны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Здесь проходят поезд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Попадёшь под них – беда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27" descr="6"/>
            <p:cNvPicPr/>
            <p:nvPr/>
          </p:nvPicPr>
          <p:blipFill>
            <a:blip r:embed="rId2"/>
            <a:srcRect l="0" t="15156" r="0" b="1422"/>
            <a:stretch/>
          </p:blipFill>
          <p:spPr>
            <a:xfrm>
              <a:off x="4189320" y="2187720"/>
              <a:ext cx="22971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28"/>
            <p:cNvSpPr/>
            <p:nvPr/>
          </p:nvSpPr>
          <p:spPr>
            <a:xfrm>
              <a:off x="7500960" y="4996440"/>
              <a:ext cx="3097080" cy="1739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ы ребята наша смен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ам не мало брать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                        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ершин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о играйте непремен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Там, где нет автомашин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0" descr="01"/>
            <p:cNvPicPr/>
            <p:nvPr/>
          </p:nvPicPr>
          <p:blipFill>
            <a:blip r:embed="rId3"/>
            <a:srcRect l="3780" t="12634" r="2973" b="13001"/>
            <a:stretch/>
          </p:blipFill>
          <p:spPr>
            <a:xfrm>
              <a:off x="7574040" y="387360"/>
              <a:ext cx="294012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1" descr="1215_3"/>
            <p:cNvPicPr/>
            <p:nvPr/>
          </p:nvPicPr>
          <p:blipFill>
            <a:blip r:embed="rId4"/>
            <a:srcRect l="2657" t="15294" r="4646" b="15176"/>
            <a:stretch/>
          </p:blipFill>
          <p:spPr>
            <a:xfrm>
              <a:off x="7500960" y="3411720"/>
              <a:ext cx="3095640" cy="15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23"/>
          <p:cNvGrpSpPr/>
          <p:nvPr/>
        </p:nvGrpSpPr>
        <p:grpSpPr>
          <a:xfrm>
            <a:off x="144000" y="387000"/>
            <a:ext cx="10495440" cy="7342560"/>
            <a:chOff x="144000" y="387000"/>
            <a:chExt cx="10495440" cy="7342560"/>
          </a:xfrm>
        </p:grpSpPr>
        <p:pic>
          <p:nvPicPr>
            <p:cNvPr id="124" name="Picture 26" descr="20010c66dbff6bccbb0b0301cb7628c0"/>
            <p:cNvPicPr/>
            <p:nvPr/>
          </p:nvPicPr>
          <p:blipFill>
            <a:blip r:embed="rId1"/>
            <a:stretch/>
          </p:blipFill>
          <p:spPr>
            <a:xfrm>
              <a:off x="575640" y="6508800"/>
              <a:ext cx="20160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7" descr="393dab163a1fddc5d060948992881b7d"/>
            <p:cNvPicPr/>
            <p:nvPr/>
          </p:nvPicPr>
          <p:blipFill>
            <a:blip r:embed="rId2"/>
            <a:stretch/>
          </p:blipFill>
          <p:spPr>
            <a:xfrm>
              <a:off x="8010000" y="5641200"/>
              <a:ext cx="186048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Группа 21"/>
            <p:cNvGrpSpPr/>
            <p:nvPr/>
          </p:nvGrpSpPr>
          <p:grpSpPr>
            <a:xfrm>
              <a:off x="7344720" y="2326320"/>
              <a:ext cx="3209760" cy="2730600"/>
              <a:chOff x="7344720" y="2326320"/>
              <a:chExt cx="3209760" cy="2730600"/>
            </a:xfrm>
          </p:grpSpPr>
          <p:sp>
            <p:nvSpPr>
              <p:cNvPr id="127" name="WordArt 23"/>
              <p:cNvSpPr txBox="1"/>
              <p:nvPr/>
            </p:nvSpPr>
            <p:spPr>
              <a:xfrm>
                <a:off x="7344720" y="2326320"/>
                <a:ext cx="3209760" cy="5713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22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993366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Безопасность</a:t>
                </a:r>
                <a:endParaRPr b="0" lang="en-US" sz="40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8" name="WordArt 25"/>
              <p:cNvSpPr txBox="1"/>
              <p:nvPr/>
            </p:nvSpPr>
            <p:spPr>
              <a:xfrm>
                <a:off x="7344720" y="4485600"/>
                <a:ext cx="3209760" cy="5713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993366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при пожаре.</a:t>
                </a:r>
                <a:endParaRPr b="0" lang="en-US" sz="40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29" name="Picture 28" descr="phone000"/>
              <p:cNvPicPr/>
              <p:nvPr/>
            </p:nvPicPr>
            <p:blipFill>
              <a:blip r:embed="rId3"/>
              <a:stretch/>
            </p:blipFill>
            <p:spPr>
              <a:xfrm>
                <a:off x="8137440" y="2685240"/>
                <a:ext cx="143964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WordArt 29"/>
              <p:cNvSpPr txBox="1"/>
              <p:nvPr/>
            </p:nvSpPr>
            <p:spPr>
              <a:xfrm>
                <a:off x="7921080" y="3692880"/>
                <a:ext cx="1800000" cy="828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19080">
                      <a:solidFill>
                        <a:srgbClr val="ff0000"/>
                      </a:solidFill>
                      <a:miter/>
                    </a:ln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f6600"/>
                        </a:gs>
                        <a:gs pos="100000">
                          <a:srgbClr val="ffff99"/>
                        </a:gs>
                      </a:gsLst>
                      <a:lin ang="16200000"/>
                    </a:gra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"101"</a:t>
                </a:r>
                <a:endParaRPr b="0" lang="en-US" sz="5400" spc="1" strike="noStrike">
                  <a:ln w="1908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99"/>
                      </a:gs>
                      <a:gs pos="50000">
                        <a:srgbClr val="ff6600"/>
                      </a:gs>
                      <a:gs pos="100000">
                        <a:srgbClr val="ffff99"/>
                      </a:gs>
                    </a:gsLst>
                    <a:lin ang="16200000"/>
                  </a:gra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1" name="Text Box 39"/>
            <p:cNvSpPr/>
            <p:nvPr/>
          </p:nvSpPr>
          <p:spPr>
            <a:xfrm>
              <a:off x="144000" y="387000"/>
              <a:ext cx="327168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</a:t>
              </a: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Каждые 5 секунд – новый пожар. Горят предприятия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больницы, магазины, корабли, самолёты. Огонь 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щадит музеи и библиотеки, театры и дворцы, памятники культуры, школы, леса, хлебные поля.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0"/>
            <p:cNvSpPr/>
            <p:nvPr/>
          </p:nvSpPr>
          <p:spPr>
            <a:xfrm>
              <a:off x="144360" y="3772080"/>
              <a:ext cx="316836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 </a:t>
              </a: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Страдают люди, дети. Чтобы этого не было, дети всегда должны осторожно обращаться с огнём, бы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внимательными. Пожар может возникнуть от телевизора, утюга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других электроприборов. Очень часто пожар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возникают на новогодних праздниках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1" descr="house_fire"/>
            <p:cNvPicPr/>
            <p:nvPr/>
          </p:nvPicPr>
          <p:blipFill>
            <a:blip r:embed="rId4"/>
            <a:stretch/>
          </p:blipFill>
          <p:spPr>
            <a:xfrm>
              <a:off x="792000" y="247644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2"/>
            <p:cNvSpPr/>
            <p:nvPr/>
          </p:nvSpPr>
          <p:spPr>
            <a:xfrm>
              <a:off x="3673080" y="819360"/>
              <a:ext cx="3313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Ленту гладила Аню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И увидела подр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Отвлеклась на три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                               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ину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И забыла про утюг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Тут уж дело не до шутки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Вот что значит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три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                             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инутк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Ленты нет, кругом угар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Чуть не сделался пожар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44"/>
            <p:cNvGrpSpPr/>
            <p:nvPr/>
          </p:nvGrpSpPr>
          <p:grpSpPr>
            <a:xfrm>
              <a:off x="3960360" y="4132440"/>
              <a:ext cx="2519280" cy="2808360"/>
              <a:chOff x="3960360" y="4132440"/>
              <a:chExt cx="2519280" cy="2808360"/>
            </a:xfrm>
          </p:grpSpPr>
          <p:pic>
            <p:nvPicPr>
              <p:cNvPr id="136" name="Picture 45" descr="MCj02960020000[1]"/>
              <p:cNvPicPr/>
              <p:nvPr/>
            </p:nvPicPr>
            <p:blipFill>
              <a:blip r:embed="rId5"/>
              <a:stretch/>
            </p:blipFill>
            <p:spPr>
              <a:xfrm>
                <a:off x="3960360" y="4132440"/>
                <a:ext cx="2512800" cy="28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46" descr="MMj02363570000[1]"/>
              <p:cNvPicPr/>
              <p:nvPr/>
            </p:nvPicPr>
            <p:blipFill>
              <a:blip r:embed="rId6"/>
              <a:stretch/>
            </p:blipFill>
            <p:spPr>
              <a:xfrm>
                <a:off x="6014520" y="5407920"/>
                <a:ext cx="3099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47" descr="MMj02363570000[1]"/>
              <p:cNvPicPr/>
              <p:nvPr/>
            </p:nvPicPr>
            <p:blipFill>
              <a:blip r:embed="rId7"/>
              <a:stretch/>
            </p:blipFill>
            <p:spPr>
              <a:xfrm>
                <a:off x="5549400" y="5567400"/>
                <a:ext cx="23256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AutoShape 48"/>
              <p:cNvSpPr/>
              <p:nvPr/>
            </p:nvSpPr>
            <p:spPr>
              <a:xfrm>
                <a:off x="5665680" y="4172040"/>
                <a:ext cx="813960" cy="996480"/>
              </a:xfrm>
              <a:prstGeom prst="cloudCallout">
                <a:avLst>
                  <a:gd name="adj1" fmla="val -42856"/>
                  <a:gd name="adj2" fmla="val 87583"/>
                </a:avLst>
              </a:prstGeom>
              <a:solidFill>
                <a:srgbClr val="c0c0c0">
                  <a:alpha val="4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" name="Picture 4" descr="F:\Мои рисунки\Новая папка\cont.gif"/>
            <p:cNvPicPr/>
            <p:nvPr/>
          </p:nvPicPr>
          <p:blipFill>
            <a:blip r:embed="rId8"/>
            <a:srcRect l="6582" t="0" r="6816" b="0"/>
            <a:stretch/>
          </p:blipFill>
          <p:spPr>
            <a:xfrm>
              <a:off x="7210440" y="672120"/>
              <a:ext cx="3429000" cy="9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Группа 33"/>
          <p:cNvGrpSpPr/>
          <p:nvPr/>
        </p:nvGrpSpPr>
        <p:grpSpPr>
          <a:xfrm>
            <a:off x="157320" y="468360"/>
            <a:ext cx="10453680" cy="7337520"/>
            <a:chOff x="157320" y="468360"/>
            <a:chExt cx="10453680" cy="7337520"/>
          </a:xfrm>
        </p:grpSpPr>
        <p:sp>
          <p:nvSpPr>
            <p:cNvPr id="142" name="Rectangle 25"/>
            <p:cNvSpPr/>
            <p:nvPr/>
          </p:nvSpPr>
          <p:spPr>
            <a:xfrm>
              <a:off x="157320" y="1537560"/>
              <a:ext cx="33130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.  Если огонь небольшой, можно  попробовать сразу же затушить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его, набросив, например, на него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лотную ткань, одеяло или вылив кастрюлю вод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6"/>
            <p:cNvSpPr/>
            <p:nvPr/>
          </p:nvSpPr>
          <p:spPr>
            <a:xfrm>
              <a:off x="157320" y="3698280"/>
              <a:ext cx="3311280" cy="13726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2.  Если огонь сразу не погас,  немедленно убегай из дом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безопасное место. И только посл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этого звони в пожарную охрану п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телефону «101» или попроси об этом сосед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9"/>
            <p:cNvSpPr/>
            <p:nvPr/>
          </p:nvSpPr>
          <p:spPr>
            <a:xfrm>
              <a:off x="7285320" y="2546280"/>
              <a:ext cx="331308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8.  Ожидая приезда пожарных, не теряй головы, не выпрыгивай из окна. Тебя обязательно спасу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757680" y="4849920"/>
              <a:ext cx="3168720" cy="733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.  Если горит твоя одежда надо упасть  на пол и кататься, сбивая плам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7285320" y="1682640"/>
              <a:ext cx="3325680" cy="7333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00"/>
                  </a:solidFill>
                  <a:latin typeface="Arial"/>
                </a:rPr>
                <a:t>7.  При пожаре в подъезде никогда не садись в лифт. Он может отключиться и ты задохнешьс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3757680" y="1681920"/>
              <a:ext cx="3168720" cy="1372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4.  Если чувствуешь, что задыхаешься от дыма, опустись на корточки или продвигайся к выходу ползком – внизу меньше дыма. Рот и нос закрой влажной тряпко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8"/>
            <p:cNvSpPr/>
            <p:nvPr/>
          </p:nvSpPr>
          <p:spPr>
            <a:xfrm>
              <a:off x="3757680" y="5786280"/>
              <a:ext cx="3168720" cy="946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00"/>
                  </a:solidFill>
                  <a:latin typeface="Arial"/>
                </a:rPr>
                <a:t>6.  Если загорелся электроприбор, надо выключить его из розетки и накрыть его толстым одеял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39" descr="MCj02903820000[1]"/>
            <p:cNvPicPr/>
            <p:nvPr/>
          </p:nvPicPr>
          <p:blipFill>
            <a:blip r:embed="rId1"/>
            <a:stretch/>
          </p:blipFill>
          <p:spPr>
            <a:xfrm>
              <a:off x="444600" y="2619000"/>
              <a:ext cx="961920" cy="10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0"/>
            <p:cNvGrpSpPr/>
            <p:nvPr/>
          </p:nvGrpSpPr>
          <p:grpSpPr>
            <a:xfrm>
              <a:off x="2054520" y="2469240"/>
              <a:ext cx="712080" cy="1013400"/>
              <a:chOff x="2054520" y="2469240"/>
              <a:chExt cx="712080" cy="1013400"/>
            </a:xfrm>
          </p:grpSpPr>
          <p:sp>
            <p:nvSpPr>
              <p:cNvPr id="151" name="AutoShape 41"/>
              <p:cNvSpPr/>
              <p:nvPr/>
            </p:nvSpPr>
            <p:spPr>
              <a:xfrm>
                <a:off x="2100240" y="2970000"/>
                <a:ext cx="552600" cy="51264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2"/>
              <p:cNvSpPr/>
              <p:nvPr/>
            </p:nvSpPr>
            <p:spPr>
              <a:xfrm>
                <a:off x="2100240" y="2879280"/>
                <a:ext cx="552240" cy="1522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rc 43"/>
              <p:cNvSpPr/>
              <p:nvPr/>
            </p:nvSpPr>
            <p:spPr>
              <a:xfrm rot="17518200">
                <a:off x="2117880" y="2574000"/>
                <a:ext cx="585000" cy="53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4"/>
            <p:cNvGrpSpPr/>
            <p:nvPr/>
          </p:nvGrpSpPr>
          <p:grpSpPr>
            <a:xfrm>
              <a:off x="3829320" y="3700440"/>
              <a:ext cx="1441440" cy="1008000"/>
              <a:chOff x="3829320" y="3700440"/>
              <a:chExt cx="1441440" cy="1008000"/>
            </a:xfrm>
          </p:grpSpPr>
          <p:pic>
            <p:nvPicPr>
              <p:cNvPr id="155" name="Picture 45" descr="MCj04284330000[1]"/>
              <p:cNvPicPr/>
              <p:nvPr/>
            </p:nvPicPr>
            <p:blipFill>
              <a:blip r:embed="rId3"/>
              <a:stretch/>
            </p:blipFill>
            <p:spPr>
              <a:xfrm>
                <a:off x="3829320" y="3700440"/>
                <a:ext cx="144144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Oval 46"/>
              <p:cNvSpPr/>
              <p:nvPr/>
            </p:nvSpPr>
            <p:spPr>
              <a:xfrm>
                <a:off x="4893120" y="4168080"/>
                <a:ext cx="156960" cy="57600"/>
              </a:xfrm>
              <a:prstGeom prst="ellipse">
                <a:avLst/>
              </a:prstGeom>
              <a:solidFill>
                <a:srgbClr val="f3151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7" name="Picture 51" descr="MPj04096380000[1]"/>
            <p:cNvPicPr/>
            <p:nvPr/>
          </p:nvPicPr>
          <p:blipFill>
            <a:blip r:embed="rId4"/>
            <a:stretch/>
          </p:blipFill>
          <p:spPr>
            <a:xfrm>
              <a:off x="8222040" y="3339720"/>
              <a:ext cx="14889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2" descr="MMj02363570000[1]"/>
            <p:cNvPicPr/>
            <p:nvPr/>
          </p:nvPicPr>
          <p:blipFill>
            <a:blip r:embed="rId5"/>
            <a:stretch/>
          </p:blipFill>
          <p:spPr>
            <a:xfrm>
              <a:off x="2676600" y="6724800"/>
              <a:ext cx="1008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5"/>
            <p:cNvSpPr/>
            <p:nvPr/>
          </p:nvSpPr>
          <p:spPr>
            <a:xfrm>
              <a:off x="7285320" y="5642280"/>
              <a:ext cx="3313080" cy="733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9.  Когда приедут пожарные, во всём их слушайся и не бойся. Они лучше знают. Как тебя спа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57320" y="5138280"/>
              <a:ext cx="3313080" cy="1585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00"/>
                  </a:solidFill>
                  <a:latin typeface="Arial"/>
                </a:rPr>
                <a:t>3. Если не можешь убежать из горящей квартиры, сражу же позвони по телефону «101» и сообщи пожарным точный адрес и номер своей квартиры. После этого из окна зови на помощь соседей и прохожи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59"/>
            <p:cNvSpPr/>
            <p:nvPr/>
          </p:nvSpPr>
          <p:spPr>
            <a:xfrm>
              <a:off x="4837320" y="3195360"/>
              <a:ext cx="2306520" cy="720720"/>
            </a:xfrm>
            <a:prstGeom prst="cloudCallout">
              <a:avLst>
                <a:gd name="adj1" fmla="val -88402"/>
                <a:gd name="adj2" fmla="val -17620"/>
              </a:avLst>
            </a:prstGeom>
            <a:solidFill>
              <a:srgbClr val="c0c0c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60" descr="MMj02363570000[1]"/>
            <p:cNvPicPr/>
            <p:nvPr/>
          </p:nvPicPr>
          <p:blipFill>
            <a:blip r:embed="rId6"/>
            <a:stretch/>
          </p:blipFill>
          <p:spPr>
            <a:xfrm>
              <a:off x="3613320" y="6508800"/>
              <a:ext cx="9522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1" descr="MMj02363570000[1]"/>
            <p:cNvPicPr/>
            <p:nvPr/>
          </p:nvPicPr>
          <p:blipFill>
            <a:blip r:embed="rId7"/>
            <a:stretch/>
          </p:blipFill>
          <p:spPr>
            <a:xfrm>
              <a:off x="4550040" y="6508800"/>
              <a:ext cx="9522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2" descr="MMj02363570000[1]"/>
            <p:cNvPicPr/>
            <p:nvPr/>
          </p:nvPicPr>
          <p:blipFill>
            <a:blip r:embed="rId8"/>
            <a:stretch/>
          </p:blipFill>
          <p:spPr>
            <a:xfrm>
              <a:off x="1668600" y="6364440"/>
              <a:ext cx="111096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3" descr="MMj02363570000[1]"/>
            <p:cNvPicPr/>
            <p:nvPr/>
          </p:nvPicPr>
          <p:blipFill>
            <a:blip r:embed="rId9"/>
            <a:stretch/>
          </p:blipFill>
          <p:spPr>
            <a:xfrm>
              <a:off x="1092240" y="6869160"/>
              <a:ext cx="68724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5" descr="MMj02363570000[1]"/>
            <p:cNvPicPr/>
            <p:nvPr/>
          </p:nvPicPr>
          <p:blipFill>
            <a:blip r:embed="rId10"/>
            <a:stretch/>
          </p:blipFill>
          <p:spPr>
            <a:xfrm>
              <a:off x="5326200" y="6293160"/>
              <a:ext cx="11109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6" descr="MMj02363570000[1]"/>
            <p:cNvPicPr/>
            <p:nvPr/>
          </p:nvPicPr>
          <p:blipFill>
            <a:blip r:embed="rId11"/>
            <a:stretch/>
          </p:blipFill>
          <p:spPr>
            <a:xfrm>
              <a:off x="7358400" y="6724800"/>
              <a:ext cx="79200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7" descr="MMj02363570000[1]"/>
            <p:cNvPicPr/>
            <p:nvPr/>
          </p:nvPicPr>
          <p:blipFill>
            <a:blip r:embed="rId12"/>
            <a:stretch/>
          </p:blipFill>
          <p:spPr>
            <a:xfrm>
              <a:off x="6350040" y="6508800"/>
              <a:ext cx="107928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8" descr="MMj02363570000[1]"/>
            <p:cNvPicPr/>
            <p:nvPr/>
          </p:nvPicPr>
          <p:blipFill>
            <a:blip r:embed="rId13"/>
            <a:stretch/>
          </p:blipFill>
          <p:spPr>
            <a:xfrm>
              <a:off x="8006040" y="6508800"/>
              <a:ext cx="9507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69" descr="FIREFGTR"/>
            <p:cNvPicPr/>
            <p:nvPr/>
          </p:nvPicPr>
          <p:blipFill>
            <a:blip r:embed="rId14"/>
            <a:stretch/>
          </p:blipFill>
          <p:spPr>
            <a:xfrm flipH="1">
              <a:off x="8292960" y="6364440"/>
              <a:ext cx="208908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73" descr="MCj02873330000[1]"/>
            <p:cNvPicPr/>
            <p:nvPr/>
          </p:nvPicPr>
          <p:blipFill>
            <a:blip r:embed="rId15"/>
            <a:stretch/>
          </p:blipFill>
          <p:spPr>
            <a:xfrm flipH="1">
              <a:off x="228240" y="6651720"/>
              <a:ext cx="10062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WordArt 13"/>
            <p:cNvSpPr txBox="1"/>
            <p:nvPr/>
          </p:nvSpPr>
          <p:spPr>
            <a:xfrm>
              <a:off x="627120" y="468360"/>
              <a:ext cx="97873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Как вести себя при пожаре</a:t>
              </a:r>
              <a:endParaRPr b="1" lang="en-US" sz="21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Группа 21"/>
          <p:cNvGrpSpPr/>
          <p:nvPr/>
        </p:nvGrpSpPr>
        <p:grpSpPr>
          <a:xfrm>
            <a:off x="144360" y="344520"/>
            <a:ext cx="10682280" cy="7443720"/>
            <a:chOff x="144360" y="344520"/>
            <a:chExt cx="10682280" cy="7443720"/>
          </a:xfrm>
        </p:grpSpPr>
        <p:pic>
          <p:nvPicPr>
            <p:cNvPr id="174" name="Picture 36" descr="b27613a00757a089d56b1e315871194b"/>
            <p:cNvPicPr/>
            <p:nvPr/>
          </p:nvPicPr>
          <p:blipFill>
            <a:blip r:embed="rId1"/>
            <a:stretch/>
          </p:blipFill>
          <p:spPr>
            <a:xfrm>
              <a:off x="4841640" y="6274080"/>
              <a:ext cx="1438200" cy="142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Группа 22"/>
            <p:cNvGrpSpPr/>
            <p:nvPr/>
          </p:nvGrpSpPr>
          <p:grpSpPr>
            <a:xfrm>
              <a:off x="7696440" y="2126160"/>
              <a:ext cx="2972880" cy="3170160"/>
              <a:chOff x="7696440" y="2126160"/>
              <a:chExt cx="2972880" cy="3170160"/>
            </a:xfrm>
          </p:grpSpPr>
          <p:sp>
            <p:nvSpPr>
              <p:cNvPr id="176" name="WordArt 7"/>
              <p:cNvSpPr txBox="1"/>
              <p:nvPr/>
            </p:nvSpPr>
            <p:spPr>
              <a:xfrm>
                <a:off x="7770240" y="2126160"/>
                <a:ext cx="2682000" cy="86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16200000"/>
                    </a:gradFill>
                    <a:latin typeface="Impact"/>
                  </a:rPr>
                  <a:t>Правила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162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77" name="WordArt 8"/>
              <p:cNvSpPr txBox="1"/>
              <p:nvPr/>
            </p:nvSpPr>
            <p:spPr>
              <a:xfrm>
                <a:off x="7915680" y="3278520"/>
                <a:ext cx="253656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16200000"/>
                    </a:gradFill>
                    <a:latin typeface="Impact"/>
                  </a:rPr>
                  <a:t>пожарной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162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78" name="WordArt 9"/>
              <p:cNvSpPr txBox="1"/>
              <p:nvPr/>
            </p:nvSpPr>
            <p:spPr>
              <a:xfrm>
                <a:off x="7696440" y="4431240"/>
                <a:ext cx="2972880" cy="865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16200000"/>
                    </a:gradFill>
                    <a:latin typeface="Impact"/>
                  </a:rPr>
                  <a:t>безопасности.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16200000"/>
                  </a:gradFill>
                  <a:latin typeface="Impact"/>
                  <a:ea typeface="Impact"/>
                </a:endParaRPr>
              </a:p>
            </p:txBody>
          </p:sp>
        </p:grpSp>
        <p:pic>
          <p:nvPicPr>
            <p:cNvPr id="179" name="Picture 10" descr="9"/>
            <p:cNvPicPr/>
            <p:nvPr/>
          </p:nvPicPr>
          <p:blipFill>
            <a:blip r:embed="rId2"/>
            <a:srcRect l="0" t="13923" r="0" b="0"/>
            <a:stretch/>
          </p:blipFill>
          <p:spPr>
            <a:xfrm>
              <a:off x="3927600" y="1568520"/>
              <a:ext cx="333396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1"/>
            <p:cNvSpPr/>
            <p:nvPr/>
          </p:nvSpPr>
          <p:spPr>
            <a:xfrm>
              <a:off x="3853800" y="415800"/>
              <a:ext cx="347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cc00"/>
                  </a:solidFill>
                  <a:latin typeface="Arial Black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cc0000"/>
                  </a:solidFill>
                  <a:latin typeface="Arial Black"/>
                  <a:ea typeface="Arial"/>
                </a:rPr>
                <a:t>Не разжигай костёр в лесу без взрослы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4" descr="MCj02328160000[1]"/>
            <p:cNvPicPr/>
            <p:nvPr/>
          </p:nvPicPr>
          <p:blipFill>
            <a:blip r:embed="rId3"/>
            <a:stretch/>
          </p:blipFill>
          <p:spPr>
            <a:xfrm>
              <a:off x="302400" y="5097600"/>
              <a:ext cx="10882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19"/>
            <p:cNvSpPr/>
            <p:nvPr/>
          </p:nvSpPr>
          <p:spPr>
            <a:xfrm>
              <a:off x="144360" y="344520"/>
              <a:ext cx="363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Comic Sans MS"/>
                </a:rPr>
                <a:t>Без огня жизнь человека на земле не возможн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302400" y="992160"/>
              <a:ext cx="3407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ткрытие и «приручение» огня стало одним из величайших изобретений человек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23" descr="File0616"/>
            <p:cNvPicPr/>
            <p:nvPr/>
          </p:nvPicPr>
          <p:blipFill>
            <a:blip r:embed="rId4"/>
            <a:srcRect l="0" t="5492" r="0" b="0"/>
            <a:stretch/>
          </p:blipFill>
          <p:spPr>
            <a:xfrm>
              <a:off x="665280" y="1712880"/>
              <a:ext cx="26816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25"/>
            <p:cNvSpPr/>
            <p:nvPr/>
          </p:nvSpPr>
          <p:spPr>
            <a:xfrm>
              <a:off x="374400" y="3800520"/>
              <a:ext cx="31773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Нам без доброго огня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бойтись нельзя ни дня.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н надёжно дружит с нами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Гонит холод, гонит мрак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н приветливое пламя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Поднимает будто фла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665280" y="5097600"/>
              <a:ext cx="3407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Всем огонь хороший нужен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И за то ему почёт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Что ребятам греет ужин, 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Режет сталь и хлеб печё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9"/>
            <p:cNvSpPr/>
            <p:nvPr/>
          </p:nvSpPr>
          <p:spPr>
            <a:xfrm>
              <a:off x="302400" y="5961240"/>
              <a:ext cx="2899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гонь всем друг, 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Надёжный и испытанный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Но если дружба дорога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То будьте осторожны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Будьте бдительны -</a:t>
              </a:r>
              <a:r>
                <a:rPr b="1" lang="ru-RU" sz="1400" spc="-1" strike="noStrike">
                  <a:solidFill>
                    <a:srgbClr val="003300"/>
                  </a:solidFill>
                  <a:latin typeface="Comic Sans MS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2"/>
            <p:cNvSpPr/>
            <p:nvPr/>
          </p:nvSpPr>
          <p:spPr>
            <a:xfrm>
              <a:off x="144360" y="6969240"/>
              <a:ext cx="363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Comic Sans MS"/>
                </a:rPr>
                <a:t>НЕ ПРЕВРАЩАЙТЕ </a:t>
              </a:r>
              <a:br>
                <a:rPr sz="2000"/>
              </a:br>
              <a:r>
                <a:rPr b="1" lang="ru-RU" sz="2000" spc="-1" strike="noStrike">
                  <a:solidFill>
                    <a:srgbClr val="3333cc"/>
                  </a:solidFill>
                  <a:latin typeface="Comic Sans MS"/>
                </a:rPr>
                <a:t>ДРУГА ВО ВРАГ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33" descr="cefab070b8ea90d14f7113efdc2327e7"/>
            <p:cNvPicPr/>
            <p:nvPr/>
          </p:nvPicPr>
          <p:blipFill>
            <a:blip r:embed="rId5"/>
            <a:stretch/>
          </p:blipFill>
          <p:spPr>
            <a:xfrm>
              <a:off x="8316360" y="6089040"/>
              <a:ext cx="188424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4"/>
            <p:cNvSpPr/>
            <p:nvPr/>
          </p:nvSpPr>
          <p:spPr>
            <a:xfrm>
              <a:off x="3841560" y="3584520"/>
              <a:ext cx="3500280" cy="32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Без взрослых с огнём развлекаться  опасно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Закончиться может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забава ужасно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В лесу очень сухо бывает порой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Костёр обернётс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серьёзной бедой!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Представьт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что пламя легко разгорится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Начнёт полыхать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разбегаться, искриться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Его потушить невозможно тогда… Пожары лесные – большая беда!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F:\Мои рисунки\Новая папка\cont.gif"/>
            <p:cNvPicPr/>
            <p:nvPr/>
          </p:nvPicPr>
          <p:blipFill>
            <a:blip r:embed="rId6"/>
            <a:srcRect l="6582" t="0" r="6816" b="0"/>
            <a:stretch/>
          </p:blipFill>
          <p:spPr>
            <a:xfrm>
              <a:off x="7398000" y="659520"/>
              <a:ext cx="3428640" cy="9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Группа 15"/>
          <p:cNvGrpSpPr/>
          <p:nvPr/>
        </p:nvGrpSpPr>
        <p:grpSpPr>
          <a:xfrm>
            <a:off x="0" y="243000"/>
            <a:ext cx="10826640" cy="7634160"/>
            <a:chOff x="0" y="243000"/>
            <a:chExt cx="10826640" cy="7634160"/>
          </a:xfrm>
        </p:grpSpPr>
        <p:sp>
          <p:nvSpPr>
            <p:cNvPr id="193" name="Rectangle 5"/>
            <p:cNvSpPr/>
            <p:nvPr/>
          </p:nvSpPr>
          <p:spPr>
            <a:xfrm>
              <a:off x="156960" y="2619360"/>
              <a:ext cx="36129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Уходя из дома,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гаси свет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и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выключа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электроприборы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6" descr="дошкольников"/>
            <p:cNvPicPr/>
            <p:nvPr/>
          </p:nvPicPr>
          <p:blipFill>
            <a:blip r:embed="rId1"/>
            <a:srcRect l="7685" t="55762" r="70431" b="10800"/>
            <a:stretch/>
          </p:blipFill>
          <p:spPr>
            <a:xfrm>
              <a:off x="660240" y="315720"/>
              <a:ext cx="2232000" cy="22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8"/>
            <p:cNvSpPr/>
            <p:nvPr/>
          </p:nvSpPr>
          <p:spPr>
            <a:xfrm>
              <a:off x="0" y="6077160"/>
              <a:ext cx="315432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04640" indent="-404640" algn="ctr">
                <a:spcBef>
                  <a:spcPts val="499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Не трогай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провода электроприборов и сами электроприборы мокрыми руками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1" descr="1000862655"/>
            <p:cNvPicPr/>
            <p:nvPr/>
          </p:nvPicPr>
          <p:blipFill>
            <a:blip r:embed="rId2"/>
            <a:srcRect l="37669" t="13953" r="37814" b="52770"/>
            <a:stretch/>
          </p:blipFill>
          <p:spPr>
            <a:xfrm>
              <a:off x="588960" y="3700440"/>
              <a:ext cx="2376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12"/>
            <p:cNvSpPr/>
            <p:nvPr/>
          </p:nvSpPr>
          <p:spPr>
            <a:xfrm>
              <a:off x="7297560" y="2476440"/>
              <a:ext cx="3529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Не играй</a:t>
              </a:r>
              <a:br>
                <a:rPr sz="2000"/>
              </a:b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с розетками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3" descr="1000862655"/>
            <p:cNvPicPr/>
            <p:nvPr/>
          </p:nvPicPr>
          <p:blipFill>
            <a:blip r:embed="rId3"/>
            <a:srcRect l="70060" t="13382" r="6734" b="53172"/>
            <a:stretch/>
          </p:blipFill>
          <p:spPr>
            <a:xfrm>
              <a:off x="7790040" y="315720"/>
              <a:ext cx="223668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4"/>
            <p:cNvSpPr/>
            <p:nvPr/>
          </p:nvSpPr>
          <p:spPr>
            <a:xfrm>
              <a:off x="7142040" y="6292800"/>
              <a:ext cx="34574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04640" indent="-404640" algn="ctr">
                <a:spcBef>
                  <a:spcPts val="499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Пользуйся электроприб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04640" indent="-404640" algn="ctr">
                <a:spcBef>
                  <a:spcPts val="499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только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под присмотром взрослых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5" descr="1000862655"/>
            <p:cNvPicPr/>
            <p:nvPr/>
          </p:nvPicPr>
          <p:blipFill>
            <a:blip r:embed="rId4"/>
            <a:srcRect l="6923" t="14242" r="70602" b="52658"/>
            <a:stretch/>
          </p:blipFill>
          <p:spPr>
            <a:xfrm>
              <a:off x="7574040" y="3484440"/>
              <a:ext cx="265572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7"/>
            <p:cNvSpPr/>
            <p:nvPr/>
          </p:nvSpPr>
          <p:spPr>
            <a:xfrm>
              <a:off x="3468600" y="243000"/>
              <a:ext cx="386064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Не играй со спичками – это опасно 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18" descr="1000862655"/>
            <p:cNvPicPr/>
            <p:nvPr/>
          </p:nvPicPr>
          <p:blipFill>
            <a:blip r:embed="rId5"/>
            <a:srcRect l="37650" t="55577" r="38205" b="11074"/>
            <a:stretch/>
          </p:blipFill>
          <p:spPr>
            <a:xfrm>
              <a:off x="4118040" y="1755720"/>
              <a:ext cx="2590560" cy="25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1" descr="23б"/>
            <p:cNvPicPr/>
            <p:nvPr/>
          </p:nvPicPr>
          <p:blipFill>
            <a:blip r:embed="rId6"/>
            <a:srcRect l="3714" t="0" r="0" b="2982"/>
            <a:stretch/>
          </p:blipFill>
          <p:spPr>
            <a:xfrm>
              <a:off x="4118040" y="5284800"/>
              <a:ext cx="257148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24"/>
            <p:cNvSpPr/>
            <p:nvPr/>
          </p:nvSpPr>
          <p:spPr>
            <a:xfrm>
              <a:off x="3757680" y="4348080"/>
              <a:ext cx="36129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Не зажигай без взросл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фейерверки, свечи и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бенгальские огни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20:39:23Z</dcterms:created>
  <dc:creator>*</dc:creator>
  <dc:description/>
  <dc:language>en-US</dc:language>
  <cp:lastModifiedBy>Admin</cp:lastModifiedBy>
  <dcterms:modified xsi:type="dcterms:W3CDTF">2010-10-18T09:00:39Z</dcterms:modified>
  <cp:revision>36</cp:revision>
  <dc:subject/>
  <dc:title>Слайд 1</dc:title>
</cp:coreProperties>
</file>