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12.gif" ContentType="image/gif"/>
  <Override PartName="/ppt/media/image8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C320-B92F-4DDF-BD43-9974E0FB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082D-0552-4755-AA44-7E0155DF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1307-04FC-4D14-A2C1-082B57D4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C74-7071-4D22-A0A5-50577C62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CFC3-1540-4FA0-B9B9-7DD7E00D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A03C-FF41-4541-A6C2-1040F2F5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25D9-326C-4CB2-99C8-4146046F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61D9-58F0-4C98-9D8D-875C614B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4668-1E29-4E4F-B965-7C889782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82D4-716E-438F-819B-A24B7442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70D5-A4ED-4CB6-B984-03550191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1D35-81A6-4087-9DA4-A4B2A5CB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87A3-E6A0-4493-A748-5205F5AE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69AA-EA73-4631-A8C4-3D33F112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6B41-86BA-410E-8B77-DDF8A122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CD8B-75BE-4295-B1B9-6C5D5A23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9A87-1A62-485C-8C43-0A0B7CB3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89FC-8621-40DC-B05C-F5F53FD5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7D39-1724-49B2-9CAB-5BE369BF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786-B0E5-43BF-BA1D-C15FDDDE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99AE-8E8C-4AF0-84CE-211E938B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D00-67CE-4B51-8BD4-5D5D565B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6A98-76AE-4813-924F-DB7F2507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EEE-A1C5-48E5-9027-45C162F0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4B6B-E837-4854-A5F9-1C164A99D5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FE79-D919-4635-B165-70F4AF45B3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етские каприз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55640" y="5516280"/>
            <a:ext cx="44895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резентацию составила воспитатель:Болотина М.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8007480" cy="3576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1125000"/>
            <a:ext cx="800748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Arial"/>
              </a:rPr>
              <a:t>Правило седьмое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Когда ребенок перестанет капризничать, когда буря утихнет, обязательно поговорите с ребенком ласково. Скажите, что вас огорчило его поведение. Уверьте ребенка, что вы все равно его любите и убеждены, что он будет стараться вести себя хорошо. Подобный разговор необходим, чтобы у ребенка не возникло стойкого чувства вины, как это случается после бурных вспышек гнева. А маленькие дети не умеют управлять ни своим возмущением, ни чувством вины. Поэтому, когда уже все прошло, не упрекайте, не угрожайте – помните, что в каком-то смысле ребенок сам себя наказа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26920" y="765000"/>
            <a:ext cx="76219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Всех родителей волнует вопрос наказаний. Будьте внимательны к мелочам, никогда не наказывайте, не разобравшись, несправедливо. Добивайтесь того, чтобы в вашей семье в наказаниях просто не было необходимости. Должно быть достаточно строгого взгляда, холодного тона, искреннего огорчения, то есть простой человеческой реакции на капризы и плохое поведение. Никогда не пытайтесь сделать вид, будто за провинность, плохой поступок вы разлюбили своего ребенка. Напротив, у малыша важно создать уверенность: он любим, просто необходим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843280" y="4221000"/>
            <a:ext cx="3672000" cy="24274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765000"/>
            <a:ext cx="74059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Дорогие родители, побольше юмора, доброго расположения, и поменьше сердитости в отношениях с детьми! Пусть это станет вашим девизом. Современный ритм жизни диктует свои условия, и у нас так мало времени остается на то, чтобы должным образом общаться со своими малышами. Помните, что детские капризы - это, в большинстве случаев призыв и способ обратить к себе ваше внимание, которого нашим деткам так не хватает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627280" y="4076640"/>
            <a:ext cx="36720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817640" y="404640"/>
            <a:ext cx="5721480" cy="5832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56000" y="476280"/>
            <a:ext cx="658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Сколько неприятностей порой доставляют нам детские капризы! Иногда они становятся началом серьезных семейных конфликтов. Как только вы почувствуете, что назревает очередной из них, вспомните, дети не рождаются капризными и упрямыми. И это даже не их возрастная особенность. Это родительская вина или беда. Капризным ребенок становится оттого, что мы ошибаемся, воспитывая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5y27" descr="Как реагировать на капризы ребенка"/>
          <p:cNvPicPr/>
          <p:nvPr/>
        </p:nvPicPr>
        <p:blipFill>
          <a:blip r:embed="rId2"/>
          <a:stretch/>
        </p:blipFill>
        <p:spPr>
          <a:xfrm>
            <a:off x="468360" y="1989000"/>
            <a:ext cx="220032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03640" y="333360"/>
            <a:ext cx="52466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У маленьких деток второго и третьего года жизни, например, капризы часто связаны с неудовлетворенностью естественных потребностей (хочется пить, есть или спать) или с ощущением телесного дискомфорта (жарко, жмут туфли, неудобная постель). В большинстве случаев достаточно устранить причины, создающие неудобства, и ребенок спокоен. Для этого важно не раздражаться на внезапные крики или нытье, а терпеливо выяснить причину капризного поведения ребенк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558880" cy="35877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00000" y="691920"/>
            <a:ext cx="7118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Arial"/>
              </a:rPr>
              <a:t>Первое правило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которое должны помнить родители: нужно постараться четко понять причину детского гнева. Если малыш вдруг увидел в витрине игрушку и визжит, требуя, чтобы ее немедленно купили, - это, естественно, необоснованный каприз. Если ребенок вдруг решил сам потребовать завязать себе шнурки на ботинках, но маме некогда, она спешит, ребенок начинает настаивать: « Я сам!», крики, слезы, ссора – здесь вина лежит целиком на взрослом. Ведь нет ничего плохого в том, что ребенок хочет стать самостоятельным, научиться что-то делать сам. Немного терпения – и конфликта можно избежать!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12000" y="4797360"/>
            <a:ext cx="25524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800748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Второе правило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Если «сцена» только начинается, надо постараться отвлечь ребенка. Изображайте удивление, говорите что-то, главное, чтобы крикун переключился. Скажите, например: «Ой, посмотри, какая удивительная птица прилетела к нам на балкон. А вдруг она волшебная? Пойдем, попробуем с ней познакомиться…». Если ребенок еще вменяем, но с удовольствием включится в игру и позабудет о предыдущих проблемах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00720" y="4535640"/>
            <a:ext cx="3024000" cy="2322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360" y="1453680"/>
            <a:ext cx="8007120" cy="54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Arial"/>
              </a:rPr>
              <a:t>Третье правило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Если не удалось отвлечь ребенка, попробуйте на какое-то время оставить его в покое, не обращать на него внимания. Заядлые крикуны обычно очень любят поскандалить именно на публику и довольно быстро затихают, если их никто не видит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Старайтесь оставаться абсолютно спокойными – ребенка обезоруживает тот факт, что вы всерьез не воспринимаете его причуды, и что криком и истерикой он ничего не добьется. И не паникуйте, если кто-то видит истерику ребенка и ваше якобы равнодушие к ней. Ведь вам важнее не то, что о вас подумают посторонние люди, а ваши будущие взаимоотношения с ребенком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765000"/>
            <a:ext cx="80074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Arial"/>
              </a:rPr>
              <a:t>Правило четвертое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Психологи советуют: выберите правильную тактику поведения и придерживайтесь ее, начиная с первых капризов вашего младенца. Таким образом, вы хоть немного застрахуетесь от неприятных сцен в будущем. Так или иначе, первые несколько лет малыш проводит дома, и первые конфликты происходят в семье. Если малышу удается добиться своего с помощью капризов, он будет прибегать к этому способу все чаще и чаще. Таким образом, неправильная реакция родителей на капризы ребенка – наиболее частая причина, из-за которой они повторяются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708360" y="4508640"/>
            <a:ext cx="2087640" cy="2160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771640" y="836640"/>
            <a:ext cx="60026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9900"/>
                </a:solidFill>
                <a:uFillTx/>
                <a:latin typeface="Arial"/>
              </a:rPr>
              <a:t>Правило пятое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Обращайте внимание на свое эмоциональное состояние. Нервозность родителей быстро передается и ребенку, только он, в отличие от взрослых, не умеет долго сдерживать эмоции, и ему проще всего устроить сцену. Если ребенок уже «завелся», не поддерживайте его: если вы хмуритесь – он станет дерзким, вы повысили голос – он закричал, вы ругаете его, а он – уже невменяем. Не создавайте такую цепную реакцию. Спокойный тон или даже молчание куда действеннее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2070000" cy="2711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26560" y="907560"/>
            <a:ext cx="7479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Правило шестое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Никогда не шантажируйте детей. Нельзя утверждать: «Если ты сейчас не замолчишь, я не буду тебя любить…», или: «Если будешь меня доводить, я умру…». Таким образом, вы научите говорить ребенка неправду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3927240" cy="2584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8T19:04:31Z</dcterms:created>
  <dc:creator>A10</dc:creator>
  <dc:description/>
  <dc:language>en-US</dc:language>
  <cp:lastModifiedBy>User</cp:lastModifiedBy>
  <dcterms:modified xsi:type="dcterms:W3CDTF">2017-10-14T19:10:35Z</dcterms:modified>
  <cp:revision>3</cp:revision>
  <dc:subject/>
  <dc:title>Детские капризы</dc:title>
</cp:coreProperties>
</file>