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gif" ContentType="image/gif"/>
  <Override PartName="/ppt/media/image6.gif" ContentType="image/gif"/>
  <Override PartName="/ppt/media/image10.jpeg" ContentType="image/jpeg"/>
  <Override PartName="/ppt/media/image7.gif" ContentType="image/gif"/>
  <Override PartName="/ppt/media/image12.gif" ContentType="image/gif"/>
  <Override PartName="/ppt/media/image8.png" ContentType="image/pn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0496-2198-4A07-A7F0-A2C19E102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573A-7A32-4538-B4D3-C027C6B0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607A-BA4D-4CEF-B5A9-F0A6F29CA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B116-3901-41AE-8D53-ED1197D3A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3BEB-F8E0-4E2B-9FAF-78B31478A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7BD4-279B-437B-AB81-D0486E9C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B8503-47F8-4BC3-BC13-9E245168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F1D54-6D29-4087-9109-662E6D7C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13D4-D5A3-4B9D-A314-004D3080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8F7B-1682-4B03-8977-C919F336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B24C1-173A-4A3F-8C40-2F689E9A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E353-57DB-49D5-9E35-7FE9BC30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8C0E-0FFB-497D-9157-485EBA3E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675A6-3647-4984-ABC0-07715645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1E1B-1723-41C5-885E-79374418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F449-D4E4-4C61-BEA8-5D220090A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9CC5E-75A6-461F-94D5-309C301C0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C7D2-727C-416D-B718-522F4AE4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D7DF-D0A7-42D0-9F21-A8CB840F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0E9A-24EA-45B1-B2E8-3C757CB8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B294-5F0D-4A5F-840A-6E69B372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706E-5175-4695-B793-FE5285C2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215F-35E6-4ED6-B8F6-ECD0C68F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AC0D-7AC8-4820-9522-E4E7E60A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6028-E2F9-44C9-A41F-96F3D329F7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9B53-9B78-4478-886F-30417DC1DDF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етские каприз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355640" y="5516280"/>
            <a:ext cx="44895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Презентацию составила воспитатель:Болотина М.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26920" y="1700280"/>
            <a:ext cx="8007480" cy="35766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7720" y="1125000"/>
            <a:ext cx="800748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Arial"/>
              </a:rPr>
              <a:t>Правило седьмое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Когда ребенок перестанет капризничать, когда буря утихнет, обязательно поговорите с ребенком ласково. Скажите, что вас огорчило его поведение. Уверьте ребенка, что вы все равно его любите и убеждены, что он будет стараться вести себя хорошо. Подобный разговор необходим, чтобы у ребенка не возникло стойкого чувства вины, как это случается после бурных вспышек гнева. А маленькие дети не умеют управлять ни своим возмущением, ни чувством вины. Поэтому, когда уже все прошло, не упрекайте, не угрожайте – помните, что в каком-то смысле ребенок сам себя наказа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26920" y="765000"/>
            <a:ext cx="762192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Всех родителей волнует вопрос наказаний. Будьте внимательны к мелочам, никогда не наказывайте, не разобравшись, несправедливо. Добивайтесь того, чтобы в вашей семье в наказаниях просто не было необходимости. Должно быть достаточно строгого взгляда, холодного тона, искреннего огорчения, то есть простой человеческой реакции на капризы и плохое поведение. Никогда не пытайтесь сделать вид, будто за провинность, плохой поступок вы разлюбили своего ребенка. Напротив, у малыша важно создать уверенность: он любим, просто необходим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843280" y="4221000"/>
            <a:ext cx="3672000" cy="242748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765000"/>
            <a:ext cx="740592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Дорогие родители, побольше юмора, доброго расположения, и поменьше сердитости в отношениях с детьми! Пусть это станет вашим девизом. Современный ритм жизни диктует свои условия, и у нас так мало времени остается на то, чтобы должным образом общаться со своими малышами. Помните, что детские капризы - это, в большинстве случаев призыв и способ обратить к себе ваше внимание, которого нашим деткам так не хватает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627280" y="4076640"/>
            <a:ext cx="3672000" cy="244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817640" y="404640"/>
            <a:ext cx="5721480" cy="58327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556000" y="476280"/>
            <a:ext cx="6588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Сколько неприятностей порой доставляют нам детские капризы! Иногда они становятся началом серьезных семейных конфликтов. Как только вы почувствуете, что назревает очередной из них, вспомните, дети не рождаются капризными и упрямыми. И это даже не их возрастная особенность. Это родительская вина или беда. Капризным ребенок становится оттого, что мы ошибаемся, воспитывая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5y27" descr="Как реагировать на капризы ребенка"/>
          <p:cNvPicPr/>
          <p:nvPr/>
        </p:nvPicPr>
        <p:blipFill>
          <a:blip r:embed="rId2"/>
          <a:stretch/>
        </p:blipFill>
        <p:spPr>
          <a:xfrm>
            <a:off x="468360" y="1989000"/>
            <a:ext cx="220032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203640" y="333360"/>
            <a:ext cx="524664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У маленьких деток второго и третьего года жизни, например, капризы часто связаны с неудовлетворенностью естественных потребностей (хочется пить, есть или спать) или с ощущением телесного дискомфорта (жарко, жмут туфли, неудобная постель). В большинстве случаев достаточно устранить причины, создающие неудобства, и ребенок спокоен. Для этого важно не раздражаться на внезапные крики или нытье, а терпеливо выяснить причину капризного поведения ребенка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2558880" cy="35877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00000" y="691920"/>
            <a:ext cx="7118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66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9900"/>
                </a:solidFill>
                <a:uFillTx/>
                <a:latin typeface="Arial"/>
              </a:rPr>
              <a:t>Первое правило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которое должны помнить родители: нужно постараться четко понять причину детского гнева. Если малыш вдруг увидел в витрине игрушку и визжит, требуя, чтобы ее немедленно купили, - это, естественно, необоснованный каприз. Если ребенок вдруг решил сам потребовать завязать себе шнурки на ботинках, но маме некогда, она спешит, ребенок начинает настаивать: « Я сам!», крики, слезы, ссора – здесь вина лежит целиком на взрослом. Ведь нет ничего плохого в том, что ребенок хочет стать самостоятельным, научиться что-то делать сам. Немного терпения – и конфликта можно избежать!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012000" y="4797360"/>
            <a:ext cx="255240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99640" y="907920"/>
            <a:ext cx="800748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Второе правило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Если «сцена» только начинается, надо постараться отвлечь ребенка. Изображайте удивление, говорите что-то, главное, чтобы крикун переключился. Скажите, например: «Ой, посмотри, какая удивительная птица прилетела к нам на балкон. А вдруг она волшебная? Пойдем, попробуем с ней познакомиться…». Если ребенок еще вменяем, но с удовольствием включится в игру и позабудет о предыдущих проблемах.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00720" y="4535640"/>
            <a:ext cx="3024000" cy="2322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4360" y="1453680"/>
            <a:ext cx="8007120" cy="54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9900"/>
                </a:solidFill>
                <a:uFillTx/>
                <a:latin typeface="Arial"/>
              </a:rPr>
              <a:t>Третье правило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Если не удалось отвлечь ребенка, попробуйте на какое-то время оставить его в покое, не обращать на него внимания. Заядлые крикуны обычно очень любят поскандалить именно на публику и довольно быстро затихают, если их никто не видит.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Старайтесь оставаться абсолютно спокойными – ребенка обезоруживает тот факт, что вы всерьез не воспринимаете его причуды, и что криком и истерикой он ничего не добьется. И не паникуйте, если кто-то видит истерику ребенка и ваше якобы равнодушие к ней. Ведь вам важнее не то, что о вас подумают посторонние люди, а ваши будущие взаимоотношения с ребенком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7720" y="765000"/>
            <a:ext cx="800748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00"/>
                </a:solidFill>
                <a:uFillTx/>
                <a:latin typeface="Arial"/>
              </a:rPr>
              <a:t>Правило четвертое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Психологи советуют: выберите правильную тактику поведения и придерживайтесь ее, начиная с первых капризов вашего младенца. Таким образом, вы хоть немного застрахуетесь от неприятных сцен в будущем. Так или иначе, первые несколько лет малыш проводит дома, и первые конфликты происходят в семье. Если малышу удается добиться своего с помощью капризов, он будет прибегать к этому способу все чаще и чаще. Таким образом, неправильная реакция родителей на капризы ребенка – наиболее частая причина, из-за которой они повторяются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708360" y="4508640"/>
            <a:ext cx="2087640" cy="2160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771640" y="836640"/>
            <a:ext cx="600264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9900"/>
                </a:solidFill>
                <a:uFillTx/>
                <a:latin typeface="Arial"/>
              </a:rPr>
              <a:t>Правило пятое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Обращайте внимание на свое эмоциональное состояние. Нервозность родителей быстро передается и ребенку, только он, в отличие от взрослых, не умеет долго сдерживать эмоции, и ему проще всего устроить сцену. Если ребенок уже «завелся», не поддерживайте его: если вы хмуритесь – он станет дерзким, вы повысили голос – он закричал, вы ругаете его, а он – уже невменяем. Не создавайте такую цепную реакцию. Спокойный тон или даже молчание куда действеннее.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84360" y="1773360"/>
            <a:ext cx="2070000" cy="27111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26560" y="907560"/>
            <a:ext cx="7479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Правило шестое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 Никогда не шантажируйте детей. Нельзя утверждать: «Если ты сейчас не замолчишь, я не буду тебя любить…», или: «Если будешь меня доводить, я умру…». Таким образом, вы научите говорить ребенка неправду.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556000" y="3933720"/>
            <a:ext cx="3927240" cy="25844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8T19:04:31Z</dcterms:created>
  <dc:creator>A10</dc:creator>
  <dc:description/>
  <dc:language>en-US</dc:language>
  <cp:lastModifiedBy>User</cp:lastModifiedBy>
  <dcterms:modified xsi:type="dcterms:W3CDTF">2017-10-14T19:10:35Z</dcterms:modified>
  <cp:revision>3</cp:revision>
  <dc:subject/>
  <dc:title>Детские капризы</dc:title>
</cp:coreProperties>
</file>