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DA-5C17-4FBB-BB6B-5594240D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EF4-4C64-4A4E-A901-884E6D1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E9F-BE31-49E1-A8BC-36FAEED7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FF6-F418-483B-9361-E506F5A9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C9C2-5621-4459-8417-30A20A93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4D76-23ED-4A29-A563-A6C43DD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D3E-0969-405D-95C8-0D49DC6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8E1E-5F23-4E2D-B406-0D792017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2AD-5C70-46BA-86A7-9DC928A2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981-0B26-48F7-891F-2F23F62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4BE-2D7F-4E49-A4F1-306C38E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4A9-3B6B-4389-AF3B-D2F50C7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206-0891-4B25-9467-BF55E0A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D64-2189-4437-8200-C81BF9D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94C7-18C3-4712-A4CD-7B90B0B3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F9B-590D-4A92-A655-FFF1371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E36-69D3-42A3-AF4B-0FB93363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3EB-F355-439E-88A8-46206FC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EEA-0ACD-4117-9C26-FEB0D80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0C7-AC77-4651-A29D-4B79E60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C36-38BD-421B-9471-B95EA6E1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9AB-0529-4E32-AD89-224FB13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8A3-D9FB-422B-82DC-98844B0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1CE-BF61-4946-959F-608795D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698-888B-4212-8648-E20BC9B2CC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E274-231A-48CD-B1D2-CA74DD09AF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1828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7030a0"/>
                </a:solidFill>
                <a:latin typeface="Verdana"/>
              </a:rPr>
              <a:t>Химическая кинет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6280" y="3657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Калугина Н.В. - учитель химии МОУ «Киришский лицей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 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2016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Скорость реакции при повышении температуры  на 40°С</a:t>
            </a: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и</a:t>
            </a: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температурном коэффициенте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реакции, равном 2, увеличится 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2437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16 раз              2) 8 ра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2 раза              4) 4 раз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Химическое равновесие сместится вправо при увеличении давления в систем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H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+ Cl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HCl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О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+ C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CO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2NO + 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N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FeO + CO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Fe + C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Химическое равновесие в системе                    С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8 </a:t>
            </a:r>
            <a:r>
              <a:rPr b="1" i="1" lang="ru-RU" sz="24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С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6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– Q можно сместить в сторону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продуктов реакц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) уменьшении температуры и увелич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2) увеличении температуры и уменьш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3) увеличении температуры и увелич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4) уменьшении температуры и уменьш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В соответствии с термохимическим уравнением 3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Fe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8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Al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=9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Fe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4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Al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 3330кДж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при образовании 2 моль оксида алюми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выделяется 1655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глощается 1655 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выделяется 3330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глощается 3330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Укажите все возможные способы смещения химического равновесия в сторону прямой реакции: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г)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г) </a:t>
            </a:r>
            <a:r>
              <a:rPr b="1" i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N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S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тв)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повышение давл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нижение давления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повышение температу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нижение температур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5) повышение концентрац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6) понижение концентраци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Химическое равновесие в системе  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+ 3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</a:t>
            </a:r>
            <a:r>
              <a:rPr b="0" lang="ru-RU" sz="3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2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 установилось при равновесных концентрациях: [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4моль/л, [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3моль/л, [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6моль/л. Найдите констант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равновесия и исходные концентрации азота и водор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В химической реакци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O + 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 </a:t>
            </a:r>
            <a:r>
              <a:rPr b="0" lang="ru-RU" sz="3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 2N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исходная концентр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NO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4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O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3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К моменту наступления равнове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NO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1,6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Рассчитайте равновесные концен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кислорода и оксида азота (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I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Реакцию, уравнение которой                </a:t>
            </a: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+ 3Н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</a:t>
            </a:r>
            <a:r>
              <a:rPr b="1" i="1" lang="ru-RU" sz="2800" spc="-1" strike="noStrike">
                <a:solidFill>
                  <a:srgbClr val="990033"/>
                </a:solidFill>
                <a:latin typeface="Wingdings 3"/>
                <a:ea typeface="Wingdings 3"/>
              </a:rPr>
              <a:t>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 2</a:t>
            </a: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Н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3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+ Q   относят к реакция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братимым, экзотермическим                                  2) необратимым, экзотермически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) обратимым, эндотермическим                    4) необратимым, эндотермически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К обратимым реакциям не относя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MgC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MgO + C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C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aOH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N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NaN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+ Н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2NO + 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2N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800000"/>
                </a:solidFill>
                <a:latin typeface="Verdana"/>
              </a:rPr>
              <a:t>К реакциям замещения относится взаимодействие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метана и кислорода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брома и водорода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бутана и брома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ропилена и во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80520"/>
            <a:ext cx="8001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Простое вещество может быть получено в реакция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соединения и замещ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замещения и разлож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разложения и обм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обмена и соеди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Verdana"/>
              </a:rPr>
              <a:t>Окислительно-восстановительная реакция соединения протекает меж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хлороводородом и аммиак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аммиаком и кислород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кислородом и сернистым газ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сернистым газом и оксидом каль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Скорость химической реакции горения угля в кислороде уменьшится пр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увеличении концентрации кислород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вышении температу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понижении температуры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вышении давл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С наибольшей скоростью при комнатной температуре протекает реакц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1%ный р-р)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30%ный р-р)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10%ный р-р)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Cl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(р-р)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AgNO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р-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Скорость прямой реакции в системе:          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S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S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Q при увеличении 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            давления в 3 раз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а) увеличится в 3 раз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б) уменьшится в 3 раз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в) увеличится в 27 раз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г) уменьшится в 27 ра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2:57:06Z</dcterms:created>
  <dc:creator>ПК</dc:creator>
  <dc:description/>
  <dc:language>en-US</dc:language>
  <cp:lastModifiedBy>user</cp:lastModifiedBy>
  <dcterms:modified xsi:type="dcterms:W3CDTF">2017-10-14T12:08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