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B96-89F7-4AE0-8C5E-34EA8693C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1975-DF37-41B5-9B27-27EFA731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0CF5-D95F-44E3-A958-A89859C2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C34-F40B-440B-AA57-E7331230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684D-B88F-4FC6-8BE8-78EF0DE0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1A98-DB1C-4810-9677-5E9579FF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ACE7-CE6C-44EA-B963-DD7F0A94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580E-93D2-4BB2-89D1-F2D27323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5BCAD-5376-4D39-BB1C-2C5BBD1C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CD45-195D-47A0-A10B-92F1651E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9FDD-764F-404C-B8B8-B8574FC3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4902-6D67-4AB0-B5B8-D0AB55FA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4788-AB23-47B3-9536-FDE1741E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A509-EDCC-47A6-AC89-ECE66ADB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BB29-88E9-4E45-9CBD-11061165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536C-00AC-4BFE-B1E6-8E556991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881E-3D1A-4B0A-A58A-E173CC49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05A0-F403-44E4-AC51-E2B279D0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1BC-F70A-46E3-B6C4-B4A3D6D5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2F0-9BE3-4BD8-895C-235344CA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D98-54F7-404E-B7FE-77C734E0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FDC3-2D19-4613-AC08-155CDD7D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778D-A332-47A9-8F1E-F4163886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CB7-C5F7-4C71-90FE-D5946153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046F-F86E-469A-8DA0-73C3582CB5E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F8B7B-8319-4DC4-A5EA-BB73B6EA2F8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18288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3800" spc="-1" strike="noStrike">
                <a:solidFill>
                  <a:srgbClr val="7030a0"/>
                </a:solidFill>
                <a:latin typeface="Verdana"/>
              </a:rPr>
              <a:t>Химическая кинет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66280" y="36576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Калугина Н.В. - учитель химии МОУ «Киришский лицей»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Verdana"/>
              </a:rPr>
              <a:t>                                         </a:t>
            </a:r>
            <a:r>
              <a:rPr b="0" lang="ru-RU" sz="2400" spc="-1" strike="noStrike">
                <a:solidFill>
                  <a:srgbClr val="0000ff"/>
                </a:solidFill>
                <a:latin typeface="Verdana"/>
              </a:rPr>
              <a:t>2016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Скорость реакции при повышении температуры  на 40°С</a:t>
            </a:r>
            <a:r>
              <a:rPr b="1" i="1" lang="ru-RU" sz="3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и</a:t>
            </a:r>
            <a:r>
              <a:rPr b="1" i="1" lang="ru-RU" sz="3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температурном коэффициенте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реакции, равном 2, увеличится в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2437920"/>
            <a:ext cx="80010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) 16 раз              2) 8 раз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3) 2 раза              4) 4 раз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Химическое равновесие сместится вправо при увеличении давления в систем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) H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+ Cl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Wingdings 3"/>
                <a:ea typeface="Wingdings 3"/>
              </a:rPr>
              <a:t>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2HCl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)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СО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+ C </a:t>
            </a:r>
            <a:r>
              <a:rPr b="0" lang="en-US" sz="3600" spc="-1" strike="noStrike">
                <a:solidFill>
                  <a:srgbClr val="003366"/>
                </a:solidFill>
                <a:latin typeface="Wingdings 3"/>
                <a:ea typeface="Wingdings 3"/>
              </a:rPr>
              <a:t>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2CO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) 2NO + O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Wingdings 3"/>
                <a:ea typeface="Wingdings 3"/>
              </a:rPr>
              <a:t>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2NO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) FeO + CO </a:t>
            </a:r>
            <a:r>
              <a:rPr b="0" lang="en-US" sz="3600" spc="-1" strike="noStrike">
                <a:solidFill>
                  <a:srgbClr val="003366"/>
                </a:solidFill>
                <a:latin typeface="Wingdings 3"/>
                <a:ea typeface="Wingdings 3"/>
              </a:rPr>
              <a:t>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 Fe + CO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Химическое равновесие в системе                    С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3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Н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8 </a:t>
            </a:r>
            <a:r>
              <a:rPr b="1" i="1" lang="ru-RU" sz="2400" spc="-1" strike="noStrike">
                <a:solidFill>
                  <a:srgbClr val="800000"/>
                </a:solidFill>
                <a:latin typeface="Wingdings 3"/>
                <a:ea typeface="Wingdings 3"/>
              </a:rPr>
              <a:t>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С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3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Н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6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+ Н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– Q можно сместить в сторону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продуктов реакци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) уменьшении температуры и увеличении дав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2) увеличении температуры и уменьшении дав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3) увеличении температуры и увеличении дав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4) уменьшении температуры и уменьшении давл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3408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В соответствии с термохимическим уравнением 3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Fe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3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O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4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+8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Al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=9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Fe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+4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Al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O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3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+ 3330кДж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при образовании 2 моль оксида алюми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) выделяется 1655 кДж тепл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2) поглощается 1655  кДж тепл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3) выделяется 3330 кДж тепл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4) поглощается 3330 кДж тепло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Укажите все возможные способы смещения химического равновесия в сторону прямой реакции: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NH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(г)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(г) </a:t>
            </a:r>
            <a:r>
              <a:rPr b="1" i="1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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NH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HS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(тв) +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) повышение давлени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2) понижение давления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3) повышение температу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4) понижение температур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5) повышение концентрац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6) понижение концентрации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Химическое равновесие в системе  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N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(г) + 3Н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(г) </a:t>
            </a:r>
            <a:r>
              <a:rPr b="0" lang="ru-RU" sz="3000" spc="-1" strike="noStrike">
                <a:solidFill>
                  <a:srgbClr val="003366"/>
                </a:solidFill>
                <a:latin typeface="Wingdings 3"/>
                <a:ea typeface="Wingdings 3"/>
              </a:rPr>
              <a:t>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2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N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Н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(г)  установилось при равновесных концентрациях: [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N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Н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] = 0,4моль/л, [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N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] = 0,3моль/л, [Н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] = 0,6моль/л. Найдите констант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равновесия и исходные концентрации азота и водоро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В химической реакции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NO + O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2 </a:t>
            </a:r>
            <a:r>
              <a:rPr b="0" lang="ru-RU" sz="3000" spc="-1" strike="noStrike">
                <a:solidFill>
                  <a:srgbClr val="003366"/>
                </a:solidFill>
                <a:latin typeface="Wingdings 3"/>
                <a:ea typeface="Wingdings 3"/>
              </a:rPr>
              <a:t></a:t>
            </a:r>
            <a:r>
              <a:rPr b="0" lang="en-US" sz="3000" spc="-1" strike="noStrike">
                <a:solidFill>
                  <a:srgbClr val="003366"/>
                </a:solidFill>
                <a:latin typeface="Verdana"/>
              </a:rPr>
              <a:t> 2NO</a:t>
            </a:r>
            <a:r>
              <a:rPr b="0" lang="en-US" sz="1800" spc="-1" strike="noStrike">
                <a:solidFill>
                  <a:srgbClr val="003366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исходная концентр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[NO] =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 4 моль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л 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[O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] =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 3 моль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К моменту наступления равнове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[NO] =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 1,6 моль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Рассчитайте равновесные концен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кислорода и оксида азота (</a:t>
            </a:r>
            <a:r>
              <a:rPr b="0" lang="en-US" sz="3200" spc="-1" strike="noStrike">
                <a:solidFill>
                  <a:srgbClr val="003366"/>
                </a:solidFill>
                <a:latin typeface="Verdana"/>
              </a:rPr>
              <a:t>II</a:t>
            </a:r>
            <a:r>
              <a:rPr b="0" lang="ru-RU" sz="3200" spc="-1" strike="noStrike">
                <a:solidFill>
                  <a:srgbClr val="003366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Verdana"/>
              </a:rPr>
              <a:t>Реакцию, уравнение которой                </a:t>
            </a:r>
            <a:r>
              <a:rPr b="1" i="1" lang="en-US" sz="2800" spc="-1" strike="noStrike">
                <a:solidFill>
                  <a:srgbClr val="990033"/>
                </a:solidFill>
                <a:latin typeface="Verdana"/>
              </a:rPr>
              <a:t>N</a:t>
            </a:r>
            <a:r>
              <a:rPr b="1" i="1" lang="ru-RU" sz="1600" spc="-1" strike="noStrike">
                <a:solidFill>
                  <a:srgbClr val="990033"/>
                </a:solidFill>
                <a:latin typeface="Verdana"/>
              </a:rPr>
              <a:t>2</a:t>
            </a:r>
            <a:r>
              <a:rPr b="1" i="1" lang="ru-RU" sz="2800" spc="-1" strike="noStrike">
                <a:solidFill>
                  <a:srgbClr val="990033"/>
                </a:solidFill>
                <a:latin typeface="Verdana"/>
              </a:rPr>
              <a:t>(г) + 3Н</a:t>
            </a:r>
            <a:r>
              <a:rPr b="1" i="1" lang="ru-RU" sz="1600" spc="-1" strike="noStrike">
                <a:solidFill>
                  <a:srgbClr val="990033"/>
                </a:solidFill>
                <a:latin typeface="Verdana"/>
              </a:rPr>
              <a:t>2</a:t>
            </a:r>
            <a:r>
              <a:rPr b="1" i="1" lang="ru-RU" sz="2800" spc="-1" strike="noStrike">
                <a:solidFill>
                  <a:srgbClr val="990033"/>
                </a:solidFill>
                <a:latin typeface="Verdana"/>
              </a:rPr>
              <a:t>(г) </a:t>
            </a:r>
            <a:r>
              <a:rPr b="1" i="1" lang="ru-RU" sz="2800" spc="-1" strike="noStrike">
                <a:solidFill>
                  <a:srgbClr val="990033"/>
                </a:solidFill>
                <a:latin typeface="Wingdings 3"/>
                <a:ea typeface="Wingdings 3"/>
              </a:rPr>
              <a:t></a:t>
            </a:r>
            <a:r>
              <a:rPr b="1" i="1" lang="ru-RU" sz="2800" spc="-1" strike="noStrike">
                <a:solidFill>
                  <a:srgbClr val="990033"/>
                </a:solidFill>
                <a:latin typeface="Verdana"/>
              </a:rPr>
              <a:t> 2</a:t>
            </a:r>
            <a:r>
              <a:rPr b="1" i="1" lang="en-US" sz="2800" spc="-1" strike="noStrike">
                <a:solidFill>
                  <a:srgbClr val="990033"/>
                </a:solidFill>
                <a:latin typeface="Verdana"/>
              </a:rPr>
              <a:t>N</a:t>
            </a:r>
            <a:r>
              <a:rPr b="1" i="1" lang="ru-RU" sz="2800" spc="-1" strike="noStrike">
                <a:solidFill>
                  <a:srgbClr val="990033"/>
                </a:solidFill>
                <a:latin typeface="Verdana"/>
              </a:rPr>
              <a:t>Н</a:t>
            </a:r>
            <a:r>
              <a:rPr b="1" i="1" lang="ru-RU" sz="1600" spc="-1" strike="noStrike">
                <a:solidFill>
                  <a:srgbClr val="990033"/>
                </a:solidFill>
                <a:latin typeface="Verdana"/>
              </a:rPr>
              <a:t>3</a:t>
            </a:r>
            <a:r>
              <a:rPr b="1" i="1" lang="ru-RU" sz="2800" spc="-1" strike="noStrike">
                <a:solidFill>
                  <a:srgbClr val="990033"/>
                </a:solidFill>
                <a:latin typeface="Verdana"/>
              </a:rPr>
              <a:t>(г) + Q   относят к реакциям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24382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)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братимым, экзотермическим                                  2) необратимым, экзотермически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3) обратимым, эндотермическим                    4) необратимым, эндотермически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23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800000"/>
                </a:solidFill>
                <a:latin typeface="Verdana"/>
              </a:rPr>
              <a:t>К обратимым реакциям не относятс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) MgCO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Wingdings 3"/>
                <a:ea typeface="Wingdings 3"/>
              </a:rPr>
              <a:t>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 MgO + CO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) C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6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Wingdings 3"/>
                <a:ea typeface="Wingdings 3"/>
              </a:rPr>
              <a:t>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 C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 + H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3)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NaOH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+ 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HNO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Wingdings 3"/>
                <a:ea typeface="Wingdings 3"/>
              </a:rPr>
              <a:t>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NaNO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+ Н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4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) 2NO + O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3366"/>
                </a:solidFill>
                <a:latin typeface="Wingdings 3"/>
                <a:ea typeface="Wingdings 3"/>
              </a:rPr>
              <a:t></a:t>
            </a: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3366"/>
                </a:solidFill>
                <a:latin typeface="Arial"/>
              </a:rPr>
              <a:t>2NO</a:t>
            </a: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800000"/>
                </a:solidFill>
                <a:latin typeface="Verdana"/>
              </a:rPr>
              <a:t>К реакциям замещения относится взаимодействие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) метана и кислорода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2) брома и водорода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3) бутана и брома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4) пропилена и вод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80520"/>
            <a:ext cx="80010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Простое вещество может быть получено в реакциях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905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) соединения и замещ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2) замещения и разлож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3) разложения и обмен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4) обмена и соедин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800000"/>
                </a:solidFill>
                <a:latin typeface="Verdana"/>
              </a:rPr>
              <a:t>Окислительно-восстановительная реакция соединения протекает между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) хлороводородом и аммиак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2) аммиаком и кислород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3) кислородом и сернистым газ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4) сернистым газом и оксидом каль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Скорость химической реакции горения угля в кислороде уменьшится при: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) увеличении концентрации кислород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2) повышении температу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3) понижении температуры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4) повышении давл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Verdana"/>
              </a:rPr>
              <a:t>С наибольшей скоростью при комнатной температуре протекает реакция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1) 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Zn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и 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HCl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(1%ный р-р) 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2) 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Zn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и 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HCl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(30%ный р-р)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3) 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Zn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и 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HCl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(10%ный р-р)            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4) 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ZnCl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(р-р) и </a:t>
            </a:r>
            <a:r>
              <a:rPr b="0" lang="en-US" sz="3600" spc="-1" strike="noStrike">
                <a:solidFill>
                  <a:srgbClr val="003366"/>
                </a:solidFill>
                <a:latin typeface="Verdana"/>
              </a:rPr>
              <a:t>AgNO</a:t>
            </a:r>
            <a:r>
              <a:rPr b="0" lang="ru-RU" sz="18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(р-р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Скорость прямой реакции в системе:          2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SO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+ 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O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2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Wingdings 3"/>
                <a:ea typeface="Wingdings 3"/>
              </a:rPr>
              <a:t>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2</a:t>
            </a:r>
            <a:r>
              <a:rPr b="1" i="1" lang="en-US" sz="2400" spc="-1" strike="noStrike">
                <a:solidFill>
                  <a:srgbClr val="800000"/>
                </a:solidFill>
                <a:latin typeface="Verdana"/>
              </a:rPr>
              <a:t>SO</a:t>
            </a:r>
            <a:r>
              <a:rPr b="1" i="1" lang="ru-RU" sz="1800" spc="-1" strike="noStrike">
                <a:solidFill>
                  <a:srgbClr val="800000"/>
                </a:solidFill>
                <a:latin typeface="Verdana"/>
              </a:rPr>
              <a:t>3</a:t>
            </a: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+ Q при увеличении </a:t>
            </a:r>
            <a:br>
              <a:rPr sz="2400"/>
            </a:br>
            <a:r>
              <a:rPr b="1" i="1" lang="ru-RU" sz="2400" spc="-1" strike="noStrike">
                <a:solidFill>
                  <a:srgbClr val="800000"/>
                </a:solidFill>
                <a:latin typeface="Verdana"/>
              </a:rPr>
              <a:t>             давления в 3 раз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а) увеличится в 3 раз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б) уменьшится в 3 раз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в) увеличится в 27 раз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3366"/>
                </a:solidFill>
                <a:latin typeface="Verdana"/>
              </a:rPr>
              <a:t>г) уменьшится в 27 раз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12:57:06Z</dcterms:created>
  <dc:creator>ПК</dc:creator>
  <dc:description/>
  <dc:language>en-US</dc:language>
  <cp:lastModifiedBy>user</cp:lastModifiedBy>
  <dcterms:modified xsi:type="dcterms:W3CDTF">2017-10-14T12:08:43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