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A1D-2FB5-4DF2-9091-4586AA9C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52A-80AB-407D-9B7D-3A6F9E15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7BFA-3739-475A-81DC-5C7B9A1B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1BB-4B4D-4EB2-93B3-387AA9DF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024B6-5A81-45BB-954F-3FEC8BA4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04443-A8C1-45DD-95D0-423BD639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765B4-DC83-4CF0-BCB6-658AC00A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FB00E5-9103-44FA-9377-389A6836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0B360-418E-46D4-A78A-FA54C9A3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2C4531-1A0B-4D81-8FEF-654F6C31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B1A39-0207-4E44-9A32-0D9AA5E1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E6CE-E34A-4E36-817B-B09A3DA6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67E0B-18AF-40C6-B4DA-821DB69D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CBFD1-3BCF-4EDC-8707-6520CCE6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DABC7-0517-40C1-A9A8-012E639A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49B02-A028-43B2-8980-4BAF7F7C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90F4F-3681-4B52-B640-6B2E952B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8DD95-A5D9-4A6A-937D-502496A3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E167-F3BB-484F-B08C-38033D98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5E7B1-A6A2-4B08-B6EA-20735371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9C2A7-B8E3-411F-A1DF-354676C5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DDEAC-AA5B-4500-A902-E50E7B24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F065-5AFC-45AC-9C9C-75BF2D98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1C35C-97B8-40F1-8312-DED48567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D16F-B030-491A-ADA7-C30D9653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4E65E-8F37-467C-996C-DC8E8174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EBF71-8DAB-4282-A5E7-5CA26684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9FAA-CFD2-44AC-B47F-D96092BA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62DDB-69B0-42AF-8C1E-FFDCA6DD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C50FD-78DA-4EE8-89AD-756F77EF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56EBDF-A57E-4930-9351-17735631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BB73AD-C03F-46DE-BCA8-9EB7A269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8DCFC6-3775-4826-AC55-794572B5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0A49-B216-43CD-ABC7-C1B7ED02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5E334-91F0-49B1-A034-3F9D0293B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6CF97-FFF9-4C03-BE64-76F3A3CA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618850-78F3-40EA-8E87-B39B06DC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BCAB0-07F8-40A9-A777-0D43379F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035DF-976E-4968-91B1-EC8EAE3B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50C42A-C7BC-4A2E-A907-4F741431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C138D-3742-4C1C-B970-4A18E1A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CB51D-7498-4FD7-873E-0AFA4B63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57148C-2448-4F83-AAA6-D21BF029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62EF-4D9A-4065-AD8D-401BF707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696-8B9F-4D94-BFDA-D4A6BEE3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EB5-812C-49C0-B0A0-110AB1FD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57F-239E-4CA3-9047-FE0FEF46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D122-9A15-4AD8-B112-8314A743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78F8-296E-429C-94D9-B1E67D10019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594A-14B5-4959-AA30-42EFCCDB24F2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D912-63F4-49E5-8577-D8DC138BCE5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4CE0-D507-4862-9F57-2FB33A8BA93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076720" y="1915920"/>
            <a:ext cx="3913200" cy="25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efac9"/>
                </a:solidFill>
                <a:latin typeface="Constantia"/>
              </a:rPr>
              <a:t>Однажды, в далёком будущем, где-то в 21 веке, через волшебную таблетку переместилась Фитля в 1811 год. Во время, когда Пушкин пошёл в царский лицей для дворян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63680" y="231840"/>
            <a:ext cx="8315280" cy="1536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4" descr="12.png"/>
          <p:cNvPicPr/>
          <p:nvPr/>
        </p:nvPicPr>
        <p:blipFill>
          <a:blip r:embed="rId2"/>
          <a:stretch/>
        </p:blipFill>
        <p:spPr>
          <a:xfrm>
            <a:off x="395280" y="1844640"/>
            <a:ext cx="4681440" cy="2908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5"/>
          <p:cNvSpPr/>
          <p:nvPr/>
        </p:nvSpPr>
        <p:spPr>
          <a:xfrm>
            <a:off x="250920" y="5300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тор: Исакова Елизавета Фёдоровна, ученица 6 класса ГБОУ Школа № 9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еред тем как пойти на правописание, она подошла к выходу и спросила: «А можно выйти?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Нет, только когда лицей окончишь», - ответили ей в ответ охранни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- А когда закончится лицей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О) - Через 6 ле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– Через 6 лет! Нет, я столько не вытерплю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Немного подумав, Фитля пошла на ур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ужина, когда все спали, охрана тоже стала засыпать, и все услышали пронзительный крик. Фитля раздвинула  спящих охранников со словами: «СВОБОДА!», и взяв в руки волшебную таблетку, вдохнула воздух, съела таблетку и переместилась в своё врем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                 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  <a:ea typeface="Aharoni"/>
              </a:rPr>
              <a:t>КОНЕЦ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1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Итак, куда я попала?» - спросила Фит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О, я же в 1811 году, а не пойти ли мне в царский лицей?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пришла она к воротам лицея, а там стоит охрана и говорит ей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Проход после сдачи экзаменов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Это с чего вдруг!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?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» - спросила Фит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Дайте мне экзаменационный лист», - сказала охране Фит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- «Передайте это своему брату», - сказала ей вслед охран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вот сдала она экзамен, назвав себя Фителёк Иванович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ошла она ко двору и сказала: «Я сдала Ваш экзамен, теперь дайте мне пройти в лицей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28760" y="1000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храна пропустила Фитлю, но глазами провожала её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сле торжественного праздника лицеистов отправили спать, в том числе и Фитлю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Когда Фитля зашла в комнату, она сказала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И это комната? Нет это не комната! Что это за стол?  Так можно занозу получить, от стула тоже самое, комод слишком маленький, умывальник и зеркало совсем грязные. Хотя в остальном все нормально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Так, надо всё менять», - подумала Фит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ерез некоторое время она преобразила свою  комнату до неузнаваемости. Кровать стала мягкой, розового цвета, стол убрали и комод тоже, на столе-конторке появилась стирающая ручка, красивая тетрадка и лампа с регулируемым светом. Умывальник стал белоснежно белым, а у зеркала появились пол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Вот теперь порядок», - сказала Фитля и легла спа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Фитля проснулась от грохота в её дверь и спросила: «Кто там?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Вставай молиться», - сказал кто-то из-за двери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А если я не религиозная», - ответила Фитля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Всё равно вставай», - ответили на это из-за двер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огласившись, Фитля вышла из своей комнаты, одетая не как мальчик, а как девочка, в белой кофточке, поверх которой был одет чёрный пиджак. На ее шее была надета бабочка и юбка до колен. И под смотрящими от удивления глазами учителя пошла на урок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ойдя к классу, Фитля услышала голос незнакомого ей мальчика: «Привет, а как тебя зовут?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ернувшись, она увидела кудрявого мальчика и сказала ему: «Фитля, а тебя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Александр», - ответил ей мальчик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И в это момент она поняла, что перед ней стоит Пушкин. И в этот момент прозвенел звоно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Уроки с 7 до 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- можно вый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У) - нет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Чай с 9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- можно мне мёда побольше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У) - у тебя и так мног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 - мне мал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нова занятии с 9 до 12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Ф) - можно ещё чаю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У) - мы уже на уроке и чай уже закончилс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час обед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Ф) – Ура, я наконец-то покушаю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 двух до трех чистописание и рисовани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Ф) - У меня искусство рисовать еду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У) - Мы сейчас рисуем гжел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Ф) - Скучн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С трех до пяти другие урок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У) - В пять чай, а затем прогулк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Ф) - Зачем нам гулять в Петербурге, если тут холодно и сыро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У) - Чтобы дышать свежим воздухом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Заголовок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12:11:31Z</dcterms:created>
  <dc:creator>Admin</dc:creator>
  <dc:description/>
  <dc:language>en-US</dc:language>
  <cp:lastModifiedBy>Настя</cp:lastModifiedBy>
  <dcterms:modified xsi:type="dcterms:W3CDTF">2017-10-14T17:13:32Z</dcterms:modified>
  <cp:revision>21</cp:revision>
  <dc:subject/>
  <dc:title>Как фитля попала в Царский лицей и сбежала от тудого</dc:title>
</cp:coreProperties>
</file>