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228-3F6D-4F3D-9B21-2727582A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E54-6B82-4135-9929-65C948CA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66A-AAF4-40E3-B827-769F75DF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2E6-C69B-46F8-B903-4AE5C2DC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C6AE-7061-4FF6-A50A-F2D91A36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8BE6-A87F-489E-B67F-F28CF8A1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B094D-4E90-46EF-AFC4-3261608A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B2CCE-A058-4E44-81D0-2C23EF5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12A13-DC83-4479-9CF5-58BE3A6C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9CE5-FE3E-4D51-8ACE-6AD0369E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F4EC-98C7-41BE-9B17-C324D39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5ED-DDB5-41D2-915E-E86E5B4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B4F0-C2BD-4FF4-8E3B-7D1902B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B5CF2-5974-474B-9EC4-72729CA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5B4E2-BA45-4FBA-B4F9-6C3C86A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9E26-6311-4303-BBF3-4B905CA2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4C25-8F5F-48BC-9B2A-EE521E3B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58E1-2B8D-4075-9D9C-1A30598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738A-09BD-4D42-9388-ECD3E51C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177F-66C5-48D5-A3DA-C3FBA41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AE47-DD1E-4CDB-8444-3462E37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4C3C-A60E-4A9D-8713-6A4744D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E5A-7FC7-43B0-9C32-CA8E73B9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420A-781B-45B7-BA13-6E8EEB8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132C-7E95-4ACE-8807-687CD66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6B2D-D41F-4C92-8314-E916F64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B173-FCF7-47A4-ADED-F6FE404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A993-4B00-474A-9E5E-77618B5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9882-B0DA-4113-9B0A-BBDD427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FB25-4FD9-4B37-A4E6-546BE9BC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F2F38-BAA0-430A-BC6F-722DF3E2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B0932-647D-4787-B3E0-637AF0BC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04905-D16D-4BD7-80C9-EB64D9AE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96E-989D-45F5-8D90-973CDDEF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F13D5-6CEC-4CEA-8612-16EE5712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11217-8BD8-4863-B440-FC4BE9D1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1EAD6-12AD-425E-B359-5447A5C1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D7CB3-6D7E-40A7-B04F-B2393CA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F9ED2-E9D2-468D-9DAD-09F7FDD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54C4F-74B9-4DB9-A551-5A471A59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CCB56-78B9-461E-A795-6C11248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BCC5D-FCDA-407D-B306-3CB0820A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DA885-02F0-461D-98EC-15B95028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3CC-F577-4635-A5AF-70B428A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0CF-430A-4B2A-9721-D08AE38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2D6-5216-4AEE-9969-74BDF9F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EFD-811B-4AA4-94D1-524EA8F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C75-B35F-435B-B08A-D2FEB13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82D-09D1-435C-89D7-8055D4FF74A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804E-5041-485C-B867-D0DFBF89E3C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72A3-1DE4-47DA-8800-7B092FB7EFD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68A-4482-45A3-904D-31BA1BBEA54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76720" y="1915920"/>
            <a:ext cx="391320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fac9"/>
                </a:solidFill>
                <a:latin typeface="Constantia"/>
              </a:rPr>
              <a:t>Однажды, в далёком будущем, где-то в 21 веке, через волшебную таблетку переместилась Фитля в 1811 год. Во время, когда Пушкин пошёл в царский лицей для дворян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315280" cy="1536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12.png"/>
          <p:cNvPicPr/>
          <p:nvPr/>
        </p:nvPicPr>
        <p:blipFill>
          <a:blip r:embed="rId2"/>
          <a:stretch/>
        </p:blipFill>
        <p:spPr>
          <a:xfrm>
            <a:off x="395280" y="1844640"/>
            <a:ext cx="4681440" cy="2908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50920" y="5300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Исакова Елизавета Фёдоровна, ученица 6 класса ГБОУ Школа № 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д тем как пойти на правописание, она подошла к выходу и спросила: «А можно выйти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Нет, только когда лицей окончишь», - ответили ей в ответ охранни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А когда закончится лицей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О) - Через 6 л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– Через 6 лет! Нет, я столько не вытерпл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много подумав, Фитля пошла на у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ужина, когда все спали, охрана тоже стала засыпать, и все услышали пронзительный крик. Фитля раздвинула  спящих охранников со словами: «СВОБОДА!», и взяв в руки волшебную таблетку, вдохнула воздух, съела таблетку и переместилась в своё врем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haroni"/>
              </a:rPr>
              <a:t>КОНЕЦ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Итак, куда я попала?» - спроси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О, я же в 1811 году, а не пойти ли мне в царский лицей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пришла она к воротам лицея, а там стоит охрана и говорит е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Проход после сдачи экзамен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Это с чего вдруг!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» - спроси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Дайте мне экзаменационный лист», - сказала охране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Передайте это своему брату», - сказала ей вслед охра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от сдала она экзамен, назвав себя Фителёк Иванови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шла она ко двору и сказала: «Я сдала Ваш экзамен, теперь дайте мне пройти в лицей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28760" y="1000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храна пропустила Фитлю, но глазами провожала её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торжественного праздника лицеистов отправили спать, в том числе и Фитл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гда Фитля зашла в комнату, она сказа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И это комната? Нет это не комната! Что это за стол?  Так можно занозу получить, от стула тоже самое, комод слишком маленький, умывальник и зеркало совсем грязные. Хотя в остальном все нормально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Так, надо всё менять», - подума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рез некоторое время она преобразила свою  комнату до неузнаваемости. Кровать стала мягкой, розового цвета, стол убрали и комод тоже, на столе-конторке появилась стирающая ручка, красивая тетрадка и лампа с регулируемым светом. Умывальник стал белоснежно белым, а у зеркала появились пол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от теперь порядок», - сказала Фитля и легла спа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тля проснулась от грохота в её дверь и спросила: «Кто там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ставай молиться», - сказал кто-то из-за двер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 если я не религиозная», - ответила Фитл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сё равно вставай», - ответили на это из-за двер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ившись, Фитля вышла из своей комнаты, одетая не как мальчик, а как девочка, в белой кофточке, поверх которой был одет чёрный пиджак. На ее шее была надета бабочка и юбка до колен. И под смотрящими от удивления глазами учителя пошла на уро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йдя к классу, Фитля услышала голос незнакомого ей мальчика: «Привет, а как тебя зовут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рнувшись, она увидела кудрявого мальчика и сказала ему: «Фитля, а тебя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лександр», - ответил ей мальчи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 это момент она поняла, что перед ней стоит Пушкин. И в этот момент прозвенел звон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и с 7 до 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вый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нет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й с 9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мне мёда побольш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у тебя и так мно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 - мне ма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нова занятии с 9 до 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ещё чаю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мы уже на уроке и чай уже закончил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час об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– Ура, я наконец-то покуша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 двух до трех чистописание и рисова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У меня искусство рисовать ед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Мы сейчас рисуем гжел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Скучн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 трех до пяти другие уро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В пять чай, а затем прогул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Зачем нам гулять в Петербурге, если тут холодно и сыр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Чтобы дышать свежим воздух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12:11:31Z</dcterms:created>
  <dc:creator>Admin</dc:creator>
  <dc:description/>
  <dc:language>en-US</dc:language>
  <cp:lastModifiedBy>Настя</cp:lastModifiedBy>
  <dcterms:modified xsi:type="dcterms:W3CDTF">2017-10-14T17:13:32Z</dcterms:modified>
  <cp:revision>21</cp:revision>
  <dc:subject/>
  <dc:title>Как фитля попала в Царский лицей и сбежала от тудого</dc:title>
</cp:coreProperties>
</file>