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2.jpeg" ContentType="image/jpeg"/>
  <Override PartName="/ppt/media/image39.png" ContentType="image/png"/>
  <Override PartName="/ppt/media/image1.jpeg" ContentType="image/jpeg"/>
  <Override PartName="/ppt/media/image10.png" ContentType="image/png"/>
  <Override PartName="/ppt/media/image25.png" ContentType="image/png"/>
  <Override PartName="/ppt/media/image19.jpeg" ContentType="image/jpeg"/>
  <Override PartName="/ppt/media/image20.png" ContentType="image/png"/>
  <Override PartName="/ppt/media/image18.png" ContentType="image/png"/>
  <Override PartName="/ppt/media/image36.png" ContentType="image/png"/>
  <Override PartName="/ppt/media/image6.png" ContentType="image/png"/>
  <Override PartName="/ppt/media/image35.png" ContentType="image/png"/>
  <Override PartName="/ppt/media/image5.jpeg" ContentType="image/jpeg"/>
  <Override PartName="/ppt/media/image13.png" ContentType="image/png"/>
  <Override PartName="/ppt/media/image37.png" ContentType="image/png"/>
  <Override PartName="/ppt/media/image40.png" ContentType="image/png"/>
  <Override PartName="/ppt/media/image31.jpeg" ContentType="image/jpeg"/>
  <Override PartName="/ppt/media/image41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38.png" ContentType="image/png"/>
  <Override PartName="/ppt/media/image8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9.jpeg" ContentType="image/jpeg"/>
  <Override PartName="/ppt/media/image11.png" ContentType="image/png"/>
  <Override PartName="/ppt/media/image2.png" ContentType="image/png"/>
  <Override PartName="/ppt/media/image3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2999-A0C1-4E83-BF4E-6E3BD398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27C8-4E2E-4D08-B688-5BD9E644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D37A15-548F-4EDE-ADAD-EE14193D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91F7A5-CAE0-4656-9C84-D3284F2B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422A05-4871-4649-9091-B27D8802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F23AC6-F6CC-48E9-9575-17785B90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40FA0B-42AA-4C20-AAEA-DEC52EFD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B8BEE7-6590-406A-9664-95D72AB5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07DBEC-7C22-4030-BD87-A473D58E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C943B1-3FD3-423E-916F-D80FCC90D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9F29CE-4FB6-4B67-B362-19913F7B3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3D06-2E00-4C28-95C5-AB2A556BE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ACC4-2034-4A7F-B5D7-AC2EE135A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303E9-AD67-4B5A-83B8-FD2D759D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1102B-F8D2-4BB1-A28D-9CAAC095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E7982-C75C-4D21-931C-F03E8396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6A1BE-7D2A-49BA-A2A3-10E3F5D1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EC7A7-CF97-4CED-AB0F-903136FC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5A311-6E6F-44BA-82AE-4B3E9711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20FD7-22CB-4395-A763-4E419282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105C-F63C-4933-A517-704E4814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FC73A-85CD-46F8-942E-A0DEFACD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72BD7-BC3F-412B-BCBF-2EDBFA63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2126B-4B83-4639-9040-C54CB40B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598A0-FD52-4EBB-B502-FB06FBE5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83A0B-33A8-47F3-B327-DD73B246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EF6CF-0EBC-4CFE-9341-059C648E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F7B7B-A5A4-4189-928D-4447305B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D570E-5AC8-4E91-A3ED-D9A081CB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60AA8-AE53-4729-A45F-95A51685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637A5-1D8D-4BF8-B433-D7F08090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F666-8283-4699-B9A4-A310F62B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A19D7-7014-430C-9EF1-6A58730A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F1059-1104-4C99-A547-01BF1300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75841-E05C-4C13-A32C-2B79B9E0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8F5C9-E518-463C-B686-4B671217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C13C0-5897-49D9-A9C1-9FC66944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33C70-54E4-4F03-9C18-430DB10F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FFA1E-36BB-4A64-9030-C2685E25C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471EF3-E390-4508-878A-2515E68F2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E0CC8C-E185-4786-9774-B2FD23AE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B16B49-B4A0-4F33-8E6D-16038716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BDA5-5AEC-46EA-A69D-204185D7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7CA805-4D06-4B41-B071-C92C9101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655C2C-1CB3-4A7D-B12A-440807DE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D7D6A0-8FB2-4A5B-87FC-45634C22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789CDC-E858-49F7-85DA-68CCB058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F54A7D-0746-45CD-B25C-9A796F08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00378C-E571-4B5B-8E3C-048E2D99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340B40-5B26-4FB0-870C-E5199906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98819B-C6DB-484F-B0B7-D6C34B93E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A4CE39-B8E7-4820-81A7-C4C13059B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C729E-9F1A-4F83-92EC-35AF6870B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1985-FC42-4016-8CFB-F1E494A6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D9B7F-162E-4858-9547-90784FE0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46986-81EB-47C9-873E-46EAD374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F68E6-6232-4017-B20B-5746B624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C0F85-16D0-48E7-B476-5CA1073D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87310-3BCC-4490-82BA-D13C7708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190F1-8003-4F0B-A575-00FE0B71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813CF-2CD9-4EA8-A495-74012C6A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80192-A963-461C-9108-BEAF09A3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00D8D-9F32-4417-9ACB-48F19CD3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DFE10-BA6A-4A5D-8ED3-29FF2F982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4137-07E6-4303-972A-6F766513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94B2D-F4B5-40B2-8545-2CBB0FF55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9ABE5-DDEE-4F00-B256-948E280A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469DE-C753-4D55-9783-136A3CAB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2FD44-190F-49FA-B663-2E8012A3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B8130-4351-4CCA-8144-A8C57F14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48D49-51AF-44B1-A9C7-C8905C02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B4C73-F84E-49D1-BBD9-9A4A10CA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CEA66-A802-491A-8B26-F254A1B9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03C63-D80B-4BCE-B76F-0C075805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4B7E6-413A-4BEE-8D1F-8D48E4B0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A74A-82EA-4343-80CF-EAFB8253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7EB5F-FE4E-4CD4-9D35-58546E67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596F6-04D7-4DAE-8AB1-9F6F6C52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D924B-BFB3-4182-8F92-5FC53783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E3949-92F0-4A02-9345-E115406F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F0AA8-2178-4B22-A8C0-2CE90098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2B3E0-E136-4B47-AD9D-B7718030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AE6EE-C69A-4AE0-80A0-3B604988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27E78-624B-4756-91B7-5EC4768F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9322C-C7C8-4A8C-8BE8-4951856E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50FDB-4785-492A-BDAC-10A57D6A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3985-0B5F-4ECF-A0DA-643242E2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91D33-9B66-42CE-9205-F8434B40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6410A-59B2-45CD-9490-6F86CBF9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498F6-AC98-4AF8-9F0D-C0A6DF61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DF428-6BB4-4658-939C-83021E75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31529-EAC5-4C8E-85DF-20206BAA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5C5E81-DF14-4E4D-8C14-98B816AB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BE6284-A33B-4AF2-97AF-4A0E5AAC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5681AB-82B2-49D1-A18E-35BE8D4A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BE0709-603B-40D2-9CB2-9B2BF550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00E98A-6C0E-485C-AA71-BBD03E48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9628-FC52-4EAE-BB79-81C3D434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FF4558-36AD-45F9-A368-C5323183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D77A54-F80A-40C3-94A9-CF622286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FE195E-8294-49EE-8EFF-189CDBA2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4E3672-F45F-44DB-A84A-421DF9EA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ED7AA9-DFCF-46D6-A328-742872AF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FD0D73-2BF8-4E80-811D-A4F250928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AA50DF-B627-4A19-B9C6-6EB24CA41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040B32-92DE-4783-A1E8-8D1C1A4E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F86B24-3748-4532-9D82-69A36F00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0892AE-87D9-4436-B548-CE30418B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3A6F-230B-4F44-9629-6CEDBC4EB6C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3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0AA3-63D9-43D3-8037-6252B1F75A7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77BE-194D-457A-AFDA-1336728690B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E041-1344-40DC-BD6F-9E63A5AD425F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AC6A-BAE6-4FA6-AD48-F43DC401DE7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150B-8E30-4456-AD52-D693F73AD4A3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29F8-B3E0-4421-B25D-08AA3D5D1FA7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B40A-B04B-4BA6-A5E3-28B42D2EA15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37AB-5CD7-42B8-983C-6AD921C8617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680320" cy="22428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МБДОУ д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/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 №11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едагог д/о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Яковенко Л.А 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3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3306960" cy="3006720"/>
          </a:xfrm>
          <a:prstGeom prst="rect">
            <a:avLst/>
          </a:prstGeom>
          <a:ln w="0">
            <a:noFill/>
          </a:ln>
        </p:spPr>
      </p:pic>
      <p:sp>
        <p:nvSpPr>
          <p:cNvPr id="426" name="Прямоугольник 3"/>
          <p:cNvSpPr/>
          <p:nvPr/>
        </p:nvSpPr>
        <p:spPr>
          <a:xfrm>
            <a:off x="395280" y="2205000"/>
            <a:ext cx="264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емёновские матреш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2"/>
          <a:stretch/>
        </p:blipFill>
        <p:spPr>
          <a:xfrm>
            <a:off x="4716360" y="3933720"/>
            <a:ext cx="3254400" cy="2481480"/>
          </a:xfrm>
          <a:prstGeom prst="rect">
            <a:avLst/>
          </a:prstGeom>
          <a:ln w="0">
            <a:noFill/>
          </a:ln>
        </p:spPr>
      </p:pic>
      <p:sp>
        <p:nvSpPr>
          <p:cNvPr id="428" name="Прямоугольник 5"/>
          <p:cNvSpPr/>
          <p:nvPr/>
        </p:nvSpPr>
        <p:spPr>
          <a:xfrm>
            <a:off x="4284720" y="2492280"/>
            <a:ext cx="428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лхов-майданские матреш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Rectangle 2" descr=""/>
          <p:cNvPicPr/>
          <p:nvPr/>
        </p:nvPicPr>
        <p:blipFill>
          <a:blip r:embed="rId3"/>
          <a:stretch/>
        </p:blipFill>
        <p:spPr>
          <a:xfrm>
            <a:off x="-468360" y="189000"/>
            <a:ext cx="8650440" cy="12380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208080" y="249120"/>
            <a:ext cx="2315880" cy="11588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2" descr=""/>
          <p:cNvPicPr/>
          <p:nvPr/>
        </p:nvPicPr>
        <p:blipFill>
          <a:blip r:embed="rId2"/>
          <a:stretch/>
        </p:blipFill>
        <p:spPr>
          <a:xfrm>
            <a:off x="357120" y="2143080"/>
            <a:ext cx="1963800" cy="26892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" descr=""/>
          <p:cNvPicPr/>
          <p:nvPr/>
        </p:nvPicPr>
        <p:blipFill>
          <a:blip r:embed="rId3"/>
          <a:stretch/>
        </p:blipFill>
        <p:spPr>
          <a:xfrm>
            <a:off x="2571840" y="2143080"/>
            <a:ext cx="2921040" cy="2608200"/>
          </a:xfrm>
          <a:prstGeom prst="rect">
            <a:avLst/>
          </a:prstGeom>
          <a:ln w="0">
            <a:noFill/>
          </a:ln>
        </p:spPr>
      </p:pic>
      <p:sp>
        <p:nvSpPr>
          <p:cNvPr id="433" name="Прямоугольник 4"/>
          <p:cNvSpPr/>
          <p:nvPr/>
        </p:nvSpPr>
        <p:spPr>
          <a:xfrm>
            <a:off x="2643120" y="428760"/>
            <a:ext cx="307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горская или сергиево-посадская матреш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4"/>
          <a:stretch/>
        </p:blipFill>
        <p:spPr>
          <a:xfrm>
            <a:off x="6286680" y="2214720"/>
            <a:ext cx="2428560" cy="3417840"/>
          </a:xfrm>
          <a:prstGeom prst="rect">
            <a:avLst/>
          </a:prstGeom>
          <a:ln w="0">
            <a:noFill/>
          </a:ln>
        </p:spPr>
      </p:pic>
      <p:sp>
        <p:nvSpPr>
          <p:cNvPr id="435" name="Прямоугольник 7"/>
          <p:cNvSpPr/>
          <p:nvPr/>
        </p:nvSpPr>
        <p:spPr>
          <a:xfrm>
            <a:off x="6675840" y="642960"/>
            <a:ext cx="206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торск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треш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3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3960720" cy="29718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" descr=""/>
          <p:cNvPicPr/>
          <p:nvPr/>
        </p:nvPicPr>
        <p:blipFill>
          <a:blip r:embed="rId2"/>
          <a:stretch/>
        </p:blipFill>
        <p:spPr>
          <a:xfrm>
            <a:off x="5076720" y="3213000"/>
            <a:ext cx="3583080" cy="2105280"/>
          </a:xfrm>
          <a:prstGeom prst="rect">
            <a:avLst/>
          </a:prstGeom>
          <a:ln w="0">
            <a:noFill/>
          </a:ln>
        </p:spPr>
      </p:pic>
      <p:pic>
        <p:nvPicPr>
          <p:cNvPr id="438" name="Rectangle 2" descr=""/>
          <p:cNvPicPr/>
          <p:nvPr/>
        </p:nvPicPr>
        <p:blipFill>
          <a:blip r:embed="rId3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"/>
          <p:cNvPicPr/>
          <p:nvPr/>
        </p:nvPicPr>
        <p:blipFill>
          <a:blip r:embed="rId1"/>
          <a:stretch/>
        </p:blipFill>
        <p:spPr>
          <a:xfrm>
            <a:off x="500040" y="928800"/>
            <a:ext cx="3673440" cy="48560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" descr=""/>
          <p:cNvPicPr/>
          <p:nvPr/>
        </p:nvPicPr>
        <p:blipFill>
          <a:blip r:embed="rId2"/>
          <a:stretch/>
        </p:blipFill>
        <p:spPr>
          <a:xfrm>
            <a:off x="4500720" y="1643040"/>
            <a:ext cx="4254480" cy="36212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Заголовок 1" descr=""/>
          <p:cNvPicPr/>
          <p:nvPr/>
        </p:nvPicPr>
        <p:blipFill>
          <a:blip r:embed="rId1"/>
          <a:stretch/>
        </p:blipFill>
        <p:spPr>
          <a:xfrm>
            <a:off x="-757080" y="1700280"/>
            <a:ext cx="8532720" cy="1800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56760" y="356760"/>
            <a:ext cx="81392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На Руси во что играют в доме или на подворье?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Там, где люди обитают в мире русского раздолья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-как давно, так и недавно на груди земли бескрайней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-детям мастерят забавных куколок с начинкой тайной.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Ах, давайте приглядимся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к вере предков, их понятьям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К ним с вниманьем обратимся,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распахнём для них объятья.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7" name="Picture 6" descr=""/>
          <p:cNvPicPr/>
          <p:nvPr/>
        </p:nvPicPr>
        <p:blipFill>
          <a:blip r:embed="rId1"/>
          <a:stretch/>
        </p:blipFill>
        <p:spPr>
          <a:xfrm>
            <a:off x="4788000" y="3429000"/>
            <a:ext cx="3450960" cy="23526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3144960" cy="20415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игрушка  кукла народная []"/>
          <p:cNvPicPr/>
          <p:nvPr/>
        </p:nvPicPr>
        <p:blipFill>
          <a:blip r:embed="rId2"/>
          <a:stretch/>
        </p:blipFill>
        <p:spPr>
          <a:xfrm>
            <a:off x="468360" y="3429000"/>
            <a:ext cx="2735280" cy="27352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2"/>
          <p:cNvPicPr/>
          <p:nvPr/>
        </p:nvPicPr>
        <p:blipFill>
          <a:blip r:embed="rId3"/>
          <a:stretch/>
        </p:blipFill>
        <p:spPr>
          <a:xfrm>
            <a:off x="3851280" y="3284640"/>
            <a:ext cx="2022480" cy="29527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401" name="TextBox 7"/>
          <p:cNvSpPr/>
          <p:nvPr/>
        </p:nvSpPr>
        <p:spPr>
          <a:xfrm>
            <a:off x="3276720" y="1484280"/>
            <a:ext cx="300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Cambria"/>
              </a:rPr>
              <a:t>десятируч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Picture 5" descr="DSCN1742"/>
          <p:cNvPicPr/>
          <p:nvPr/>
        </p:nvPicPr>
        <p:blipFill>
          <a:blip r:embed="rId4"/>
          <a:stretch/>
        </p:blipFill>
        <p:spPr>
          <a:xfrm>
            <a:off x="6443640" y="3141720"/>
            <a:ext cx="2316240" cy="3095640"/>
          </a:xfrm>
          <a:prstGeom prst="rect">
            <a:avLst/>
          </a:prstGeom>
          <a:ln w="9360">
            <a:solidFill>
              <a:srgbClr val="b0ccb0"/>
            </a:solidFill>
            <a:miter/>
          </a:ln>
        </p:spPr>
      </p:pic>
      <p:sp>
        <p:nvSpPr>
          <p:cNvPr id="403" name="TextBox 9"/>
          <p:cNvSpPr/>
          <p:nvPr/>
        </p:nvSpPr>
        <p:spPr>
          <a:xfrm>
            <a:off x="6300720" y="1628640"/>
            <a:ext cx="257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пеленаш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Заголовок 1" descr=""/>
          <p:cNvPicPr/>
          <p:nvPr/>
        </p:nvPicPr>
        <p:blipFill>
          <a:blip r:embed="rId5"/>
          <a:stretch/>
        </p:blipFill>
        <p:spPr>
          <a:xfrm>
            <a:off x="-612720" y="0"/>
            <a:ext cx="8540640" cy="11653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523800" y="1413000"/>
            <a:ext cx="8620200" cy="14810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2"/>
          <a:stretch/>
        </p:blipFill>
        <p:spPr>
          <a:xfrm>
            <a:off x="4643280" y="3716280"/>
            <a:ext cx="3929400" cy="27100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"/>
          <p:cNvPicPr/>
          <p:nvPr/>
        </p:nvPicPr>
        <p:blipFill>
          <a:blip r:embed="rId3"/>
          <a:stretch/>
        </p:blipFill>
        <p:spPr>
          <a:xfrm>
            <a:off x="250920" y="3068640"/>
            <a:ext cx="2496960" cy="3436920"/>
          </a:xfrm>
          <a:prstGeom prst="rect">
            <a:avLst/>
          </a:prstGeom>
          <a:ln w="0">
            <a:noFill/>
          </a:ln>
        </p:spPr>
      </p:pic>
      <p:pic>
        <p:nvPicPr>
          <p:cNvPr id="408" name="Заголовок 1" descr=""/>
          <p:cNvPicPr/>
          <p:nvPr/>
        </p:nvPicPr>
        <p:blipFill>
          <a:blip r:embed="rId4"/>
          <a:stretch/>
        </p:blipFill>
        <p:spPr>
          <a:xfrm>
            <a:off x="603360" y="260280"/>
            <a:ext cx="8540640" cy="11653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620200" cy="14810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900000" y="234936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"/>
          <p:cNvPicPr/>
          <p:nvPr/>
        </p:nvPicPr>
        <p:blipFill>
          <a:blip r:embed="rId3"/>
          <a:stretch/>
        </p:blipFill>
        <p:spPr>
          <a:xfrm>
            <a:off x="5786280" y="178596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755640" y="2060640"/>
            <a:ext cx="2700360" cy="33336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3"/>
          <a:stretch/>
        </p:blipFill>
        <p:spPr>
          <a:xfrm>
            <a:off x="4788000" y="2276640"/>
            <a:ext cx="3143160" cy="31017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540640" cy="11653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игрушка погремушка народная []"/>
          <p:cNvPicPr/>
          <p:nvPr/>
        </p:nvPicPr>
        <p:blipFill>
          <a:blip r:embed="rId2"/>
          <a:stretch/>
        </p:blipFill>
        <p:spPr>
          <a:xfrm>
            <a:off x="5435640" y="2997360"/>
            <a:ext cx="2678040" cy="34970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игрушка свистульки народная []"/>
          <p:cNvPicPr/>
          <p:nvPr/>
        </p:nvPicPr>
        <p:blipFill>
          <a:blip r:embed="rId3"/>
          <a:stretch/>
        </p:blipFill>
        <p:spPr>
          <a:xfrm>
            <a:off x="755640" y="3068640"/>
            <a:ext cx="3311640" cy="3371760"/>
          </a:xfrm>
          <a:prstGeom prst="rect">
            <a:avLst/>
          </a:prstGeom>
          <a:ln w="0">
            <a:noFill/>
          </a:ln>
        </p:spPr>
      </p:pic>
      <p:pic>
        <p:nvPicPr>
          <p:cNvPr id="418" name="Заголовок 1" descr=""/>
          <p:cNvPicPr/>
          <p:nvPr/>
        </p:nvPicPr>
        <p:blipFill>
          <a:blip r:embed="rId4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5" descr=""/>
          <p:cNvPicPr/>
          <p:nvPr/>
        </p:nvPicPr>
        <p:blipFill>
          <a:blip r:embed="rId2"/>
          <a:stretch/>
        </p:blipFill>
        <p:spPr>
          <a:xfrm>
            <a:off x="6300720" y="2781360"/>
            <a:ext cx="2139840" cy="32209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"/>
          <p:cNvPicPr/>
          <p:nvPr/>
        </p:nvPicPr>
        <p:blipFill>
          <a:blip r:embed="rId3"/>
          <a:stretch/>
        </p:blipFill>
        <p:spPr>
          <a:xfrm>
            <a:off x="1143000" y="2786040"/>
            <a:ext cx="3346560" cy="31687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438120" y="249120"/>
            <a:ext cx="8553600" cy="11653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бирюльки игрушка дети []"/>
          <p:cNvPicPr/>
          <p:nvPr/>
        </p:nvPicPr>
        <p:blipFill>
          <a:blip r:embed="rId2"/>
          <a:stretch/>
        </p:blipFill>
        <p:spPr>
          <a:xfrm>
            <a:off x="5148360" y="2928960"/>
            <a:ext cx="3208320" cy="32385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птица счастья игрушка дети []"/>
          <p:cNvPicPr/>
          <p:nvPr/>
        </p:nvPicPr>
        <p:blipFill>
          <a:blip r:embed="rId3"/>
          <a:stretch/>
        </p:blipFill>
        <p:spPr>
          <a:xfrm>
            <a:off x="642960" y="3429000"/>
            <a:ext cx="3351240" cy="25210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3:48:06Z</dcterms:created>
  <dc:creator>методист</dc:creator>
  <dc:description/>
  <dc:language>en-US</dc:language>
  <cp:lastModifiedBy>admin</cp:lastModifiedBy>
  <dcterms:modified xsi:type="dcterms:W3CDTF">2017-09-23T15:36:43Z</dcterms:modified>
  <cp:revision>21</cp:revision>
  <dc:subject/>
  <dc:title>Русская народная игрушка</dc:title>
</cp:coreProperties>
</file>