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1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10.png" ContentType="image/png"/>
  <Override PartName="/ppt/media/image25.png" ContentType="image/png"/>
  <Override PartName="/ppt/media/image19.jpeg" ContentType="image/jpeg"/>
  <Override PartName="/ppt/media/image20.png" ContentType="image/png"/>
  <Override PartName="/ppt/media/image18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jpeg" ContentType="image/jpeg"/>
  <Override PartName="/ppt/media/image13.png" ContentType="image/png"/>
  <Override PartName="/ppt/media/image37.png" ContentType="image/png"/>
  <Override PartName="/ppt/media/image40.png" ContentType="image/png"/>
  <Override PartName="/ppt/media/image31.jpeg" ContentType="image/jpeg"/>
  <Override PartName="/ppt/media/image41.png" ContentType="image/png"/>
  <Override PartName="/ppt/media/image42.png" ContentType="image/png"/>
  <Override PartName="/ppt/media/image30.jpeg" ContentType="image/jpeg"/>
  <Override PartName="/ppt/media/image43.png" ContentType="image/png"/>
  <Override PartName="/ppt/media/image38.png" ContentType="image/png"/>
  <Override PartName="/ppt/media/image8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9.jpeg" ContentType="image/jpeg"/>
  <Override PartName="/ppt/media/image11.png" ContentType="image/png"/>
  <Override PartName="/ppt/media/image2.png" ContentType="image/png"/>
  <Override PartName="/ppt/media/image3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331-6934-492C-BAAB-F3548CD8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68CA-E6A5-47E7-8B4A-0CFB3ACE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77B234-420E-41E3-818D-377EFDF5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BCB44A-FB93-4B5D-B517-C7D3C300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1FEA1E-E444-49CB-B0D9-131C7064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01FBE1-09AF-468F-B390-FDDE0E5A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8B879A-A8ED-4E01-9AD4-447C8240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736A82-0BFE-41E1-AD3A-33AC5A3D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462E94-C281-4C87-82C0-CC6B3D13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3C256E-6988-4242-9892-F926E8A67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BAA27D-FA41-4CEE-BD41-B26FC617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CF5B-477D-4FCC-88BA-8A4B88268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125F-F205-4FD5-AB45-0CF641AB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A81EE-247E-4D55-A046-C358B086C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4E4C1-4417-4D26-B51D-A3DCBE2A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25EEC6-5D45-4E52-A414-D07C1F42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74B39-74C4-47C6-BA31-5A8D9574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21A93-A453-4D7C-8C20-5364BDC0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18027-455B-4B54-808E-78E36CD4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98E545-BD18-4EFE-8CCB-7CFA3896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17C5-2A86-4CFD-BA29-D0579BEF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3A502-D24F-4C1A-9B23-F797E48A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D3FCD-061B-4A14-B16A-08C426C8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79C9C5-06AA-4D36-A0A8-027FBC20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FC36E-67A6-4C97-A6F7-527B0B5B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729B0-9144-4CED-AEC3-9DC533991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85F0C-B03A-4996-B73E-364E7DD5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FFF44-54AA-4C34-9626-7B0EF0DE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C2457-31E4-48B3-9664-25544161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EAC30-254F-4112-95E7-8B528CA5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E29DD-981E-4C71-9649-41474179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7A8-D69F-4291-8F89-C8A5F324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0175B-44C4-4C35-A4DE-17708930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10B82-C295-40AC-A362-CD498387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F5C5A-1A3B-42EB-92F8-E4EED7B9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CB2A2-4D0F-4645-AC0B-3A25DF15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D0282-951D-40EA-8475-501F1B45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ACCE6-A61B-4EF7-A497-AE1E1C5E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7B1A5-968D-4F01-A82C-6218758D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F8A0FB-FF87-4D8E-9EEB-6A28D67C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CFF7D6-038B-48FD-8ECC-4D948D65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B7C348-1430-4C0D-8DF4-A1604FA5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25F-27C1-4CDD-9C86-2625FBB4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90D851-0343-4315-9E36-1CB84D81F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F74811-25F6-4F49-9231-91FDEE2C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4F941E-6E7D-4840-878F-8439BDF1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622633-6F21-4DE9-B86F-5FCCD863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5F3166-8A74-430F-A5D4-31D29F18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91375C-9DF7-42B2-93D5-CAA094B7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6470E6-4E2D-4662-AFEF-034419AC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9D4067-4754-4D95-ABD1-EFCBA67B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B1865D-828A-4B9F-BCD8-CB1F562D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1B3E1-CA3A-407C-9521-BC820BEE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9626-6208-481F-8D4C-5495237A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0BF71-2465-430B-A165-5C520F6E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66529-733F-4DDE-A412-830A83B9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D2B84-F9A4-4792-9D15-49CD0C19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E85DE-7BBC-4663-B3A5-A1504391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55B8F-FB33-4745-8930-645C5C54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ECA74-C00B-4B17-9A05-A2386EE5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AE410-2B64-43BB-A785-64B5A596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EB6C0-77BA-46F9-9417-385943DC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F46BB-84A9-46AA-8340-F91ED35F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B1E0E-6510-4FEA-8D5A-1C3E0C62F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5B7-E2F7-488C-B3F3-1618EE7E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9C583-C171-434E-9FC0-1C2C32315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F009B-A7D5-47AC-A8FE-4C6C7D6B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551915-09BA-4292-B4B1-E256FA1D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93AD8-1485-4F35-B3E0-9C187A54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E6713-867D-43E4-94BB-9A24207E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CFC10-26E9-4C83-8A10-3A2AFDA6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D1BEA-2575-41FD-8BD7-AECA61F3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6D41D-A658-4086-B15A-80646E18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341D0-7EFF-44B0-8F1E-0B778411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BFC31-BB3D-46A9-9D7E-55A96609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134B-C98D-44AF-B5EB-E011D5BF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40ADE-E0F0-48CB-9DBA-C20E46B9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010C22-859B-4B5C-B5A1-033746C5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790FB-61F7-4833-BED6-11E00256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19F9AD-EE70-4FDA-971E-DC5F6A3DA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EFBFD-98F3-4EA8-9677-5D6BDC2C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617D3-87E1-4B04-95E7-68D04930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7F455-F2F7-438E-A9C2-B8D543B3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04959-43D6-41C4-A870-B9216DAA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080B7-7CF6-4B6E-AE55-667CFAA5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058701-CC7C-49AD-89B7-083F96EF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968-F92A-425A-BDDB-AD52F382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FDA35-CCE1-4963-B665-08AE808A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E5F39-463C-4893-A219-74833E6B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E76EA-FBF1-48DB-8473-E086F3530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1F956-A3A2-4644-9429-747CE314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59A24-B529-489A-AD50-14A592B3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9272D0-AA9A-4B41-AB23-9E02848A3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0093CD1-C538-40F6-9EE8-CAB0C061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761D0C-1AB9-4792-AFEE-D7D35690D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E79E92-8A4A-48A1-9384-D45ECA32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6B304D-07D3-4BCD-8FDD-27E6C7945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333E-B3A6-465B-869C-0A800167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3D6656-4D65-4E89-B77B-57FAD368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8522D2-03E7-4133-964F-D79EF50C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74C166-3532-49CB-8781-DAAB594A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812B44-75F3-4E6A-AA36-69D9326B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EAEBB2-1E69-40A6-A5AD-C71ED47A1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F7B390-89A3-461B-9F99-05629FF52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05F829-7393-4D3D-89CF-8F3047830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C54D30-070C-4803-B73B-7560642D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85B605-F8A4-40F9-82B0-C2DDFB20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9DBBB0-8D61-4A35-A9E6-14D9FA22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9416-0FA1-4642-A522-02FEC9E5A03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 Box 3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08B9-F57E-4A63-ADC3-39D880CFFCC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8E94-2B2D-4245-8FBD-3E12709399A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70D1-E81B-43DD-941B-A361C9AE7AA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9F880-EC84-4DD1-B8FD-7900D3CE888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A604-5FC8-40EC-B091-125593A907D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5638-0CC6-45D0-864E-FD828F32462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B2A3-5E4C-4C88-83B2-40277B4BBB7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7E6D-1D70-49A8-B791-A622BD181FD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680320" cy="22428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МБДОУ д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 №11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едагог д/о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Яковенко Л.А 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3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3306960" cy="3006720"/>
          </a:xfrm>
          <a:prstGeom prst="rect">
            <a:avLst/>
          </a:prstGeom>
          <a:ln w="0">
            <a:noFill/>
          </a:ln>
        </p:spPr>
      </p:pic>
      <p:sp>
        <p:nvSpPr>
          <p:cNvPr id="426" name="Прямоугольник 3"/>
          <p:cNvSpPr/>
          <p:nvPr/>
        </p:nvSpPr>
        <p:spPr>
          <a:xfrm>
            <a:off x="395280" y="2205000"/>
            <a:ext cx="264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емёновские матреш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2"/>
          <a:stretch/>
        </p:blipFill>
        <p:spPr>
          <a:xfrm>
            <a:off x="4716360" y="3933720"/>
            <a:ext cx="3254400" cy="2481480"/>
          </a:xfrm>
          <a:prstGeom prst="rect">
            <a:avLst/>
          </a:prstGeom>
          <a:ln w="0">
            <a:noFill/>
          </a:ln>
        </p:spPr>
      </p:pic>
      <p:sp>
        <p:nvSpPr>
          <p:cNvPr id="428" name="Прямоугольник 5"/>
          <p:cNvSpPr/>
          <p:nvPr/>
        </p:nvSpPr>
        <p:spPr>
          <a:xfrm>
            <a:off x="4284720" y="249228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олхов-майданские матреш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Rectangle 2" descr=""/>
          <p:cNvPicPr/>
          <p:nvPr/>
        </p:nvPicPr>
        <p:blipFill>
          <a:blip r:embed="rId3"/>
          <a:stretch/>
        </p:blipFill>
        <p:spPr>
          <a:xfrm>
            <a:off x="-468360" y="189000"/>
            <a:ext cx="8650440" cy="12380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1"/>
          <a:stretch/>
        </p:blipFill>
        <p:spPr>
          <a:xfrm>
            <a:off x="208080" y="249120"/>
            <a:ext cx="2315880" cy="115884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2" descr=""/>
          <p:cNvPicPr/>
          <p:nvPr/>
        </p:nvPicPr>
        <p:blipFill>
          <a:blip r:embed="rId2"/>
          <a:stretch/>
        </p:blipFill>
        <p:spPr>
          <a:xfrm>
            <a:off x="357120" y="2143080"/>
            <a:ext cx="1963800" cy="268920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2" descr=""/>
          <p:cNvPicPr/>
          <p:nvPr/>
        </p:nvPicPr>
        <p:blipFill>
          <a:blip r:embed="rId3"/>
          <a:stretch/>
        </p:blipFill>
        <p:spPr>
          <a:xfrm>
            <a:off x="2571840" y="2143080"/>
            <a:ext cx="2921040" cy="2608200"/>
          </a:xfrm>
          <a:prstGeom prst="rect">
            <a:avLst/>
          </a:prstGeom>
          <a:ln w="0">
            <a:noFill/>
          </a:ln>
        </p:spPr>
      </p:pic>
      <p:sp>
        <p:nvSpPr>
          <p:cNvPr id="433" name="Прямоугольник 4"/>
          <p:cNvSpPr/>
          <p:nvPr/>
        </p:nvSpPr>
        <p:spPr>
          <a:xfrm>
            <a:off x="2643120" y="428760"/>
            <a:ext cx="30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горская или сергиево-посадская матре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4"/>
          <a:stretch/>
        </p:blipFill>
        <p:spPr>
          <a:xfrm>
            <a:off x="6286680" y="2214720"/>
            <a:ext cx="2428560" cy="3417840"/>
          </a:xfrm>
          <a:prstGeom prst="rect">
            <a:avLst/>
          </a:prstGeom>
          <a:ln w="0">
            <a:noFill/>
          </a:ln>
        </p:spPr>
      </p:pic>
      <p:sp>
        <p:nvSpPr>
          <p:cNvPr id="435" name="Прямоугольник 7"/>
          <p:cNvSpPr/>
          <p:nvPr/>
        </p:nvSpPr>
        <p:spPr>
          <a:xfrm>
            <a:off x="6675840" y="642960"/>
            <a:ext cx="206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вторс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треш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3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4" descr=""/>
          <p:cNvPicPr/>
          <p:nvPr/>
        </p:nvPicPr>
        <p:blipFill>
          <a:blip r:embed="rId2"/>
          <a:stretch/>
        </p:blipFill>
        <p:spPr>
          <a:xfrm>
            <a:off x="5076720" y="3213000"/>
            <a:ext cx="3583080" cy="2105280"/>
          </a:xfrm>
          <a:prstGeom prst="rect">
            <a:avLst/>
          </a:prstGeom>
          <a:ln w="0">
            <a:noFill/>
          </a:ln>
        </p:spPr>
      </p:pic>
      <p:pic>
        <p:nvPicPr>
          <p:cNvPr id="438" name="Rectangle 2" descr=""/>
          <p:cNvPicPr/>
          <p:nvPr/>
        </p:nvPicPr>
        <p:blipFill>
          <a:blip r:embed="rId3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2" descr=""/>
          <p:cNvPicPr/>
          <p:nvPr/>
        </p:nvPicPr>
        <p:blipFill>
          <a:blip r:embed="rId1"/>
          <a:stretch/>
        </p:blipFill>
        <p:spPr>
          <a:xfrm>
            <a:off x="500040" y="928800"/>
            <a:ext cx="3673440" cy="48560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4500720" y="1643040"/>
            <a:ext cx="4254480" cy="36212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Заголовок 1" descr=""/>
          <p:cNvPicPr/>
          <p:nvPr/>
        </p:nvPicPr>
        <p:blipFill>
          <a:blip r:embed="rId1"/>
          <a:stretch/>
        </p:blipFill>
        <p:spPr>
          <a:xfrm>
            <a:off x="-757080" y="1700280"/>
            <a:ext cx="8532720" cy="1800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56760" y="356760"/>
            <a:ext cx="81392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На Руси во что играют в доме или на подворье?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Там, где люди обитают в мире русского раздолья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как давно, так и недавно на груди земли бескрайней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-детям мастерят забавных куколок с начинкой тайной. 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Ах, давайте приглядимс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к вере предков, их понятьям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К ним с вниманьем обратимся,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распахнём для них объятья.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7" name="Picture 6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3450960" cy="23526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3144960" cy="20415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игрушка  кукла народная []"/>
          <p:cNvPicPr/>
          <p:nvPr/>
        </p:nvPicPr>
        <p:blipFill>
          <a:blip r:embed="rId2"/>
          <a:stretch/>
        </p:blipFill>
        <p:spPr>
          <a:xfrm>
            <a:off x="468360" y="3429000"/>
            <a:ext cx="2735280" cy="2735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2"/>
          <p:cNvPicPr/>
          <p:nvPr/>
        </p:nvPicPr>
        <p:blipFill>
          <a:blip r:embed="rId3"/>
          <a:stretch/>
        </p:blipFill>
        <p:spPr>
          <a:xfrm>
            <a:off x="3851280" y="3284640"/>
            <a:ext cx="2022480" cy="2952720"/>
          </a:xfrm>
          <a:prstGeom prst="rect">
            <a:avLst/>
          </a:prstGeom>
          <a:ln w="9360">
            <a:solidFill>
              <a:srgbClr val="663300"/>
            </a:solidFill>
            <a:miter/>
          </a:ln>
        </p:spPr>
      </p:pic>
      <p:sp>
        <p:nvSpPr>
          <p:cNvPr id="401" name="TextBox 7"/>
          <p:cNvSpPr/>
          <p:nvPr/>
        </p:nvSpPr>
        <p:spPr>
          <a:xfrm>
            <a:off x="3276720" y="148428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Cambria"/>
              </a:rPr>
              <a:t>десятируч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2" name="Picture 5" descr="DSCN1742"/>
          <p:cNvPicPr/>
          <p:nvPr/>
        </p:nvPicPr>
        <p:blipFill>
          <a:blip r:embed="rId4"/>
          <a:stretch/>
        </p:blipFill>
        <p:spPr>
          <a:xfrm>
            <a:off x="6443640" y="3141720"/>
            <a:ext cx="2316240" cy="3095640"/>
          </a:xfrm>
          <a:prstGeom prst="rect">
            <a:avLst/>
          </a:prstGeom>
          <a:ln w="9360">
            <a:solidFill>
              <a:srgbClr val="b0ccb0"/>
            </a:solidFill>
            <a:miter/>
          </a:ln>
        </p:spPr>
      </p:pic>
      <p:sp>
        <p:nvSpPr>
          <p:cNvPr id="403" name="TextBox 9"/>
          <p:cNvSpPr/>
          <p:nvPr/>
        </p:nvSpPr>
        <p:spPr>
          <a:xfrm>
            <a:off x="6300720" y="162864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mbria"/>
              </a:rPr>
              <a:t>пеленашк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4" name="Заголовок 1" descr=""/>
          <p:cNvPicPr/>
          <p:nvPr/>
        </p:nvPicPr>
        <p:blipFill>
          <a:blip r:embed="rId5"/>
          <a:stretch/>
        </p:blipFill>
        <p:spPr>
          <a:xfrm>
            <a:off x="-612720" y="0"/>
            <a:ext cx="8540640" cy="11653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Заголовок 1" descr=""/>
          <p:cNvPicPr/>
          <p:nvPr/>
        </p:nvPicPr>
        <p:blipFill>
          <a:blip r:embed="rId1"/>
          <a:stretch/>
        </p:blipFill>
        <p:spPr>
          <a:xfrm>
            <a:off x="523800" y="1413000"/>
            <a:ext cx="8620200" cy="1481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3929400" cy="2710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"/>
          <p:cNvPicPr/>
          <p:nvPr/>
        </p:nvPicPr>
        <p:blipFill>
          <a:blip r:embed="rId3"/>
          <a:stretch/>
        </p:blipFill>
        <p:spPr>
          <a:xfrm>
            <a:off x="250920" y="3068640"/>
            <a:ext cx="2496960" cy="3436920"/>
          </a:xfrm>
          <a:prstGeom prst="rect">
            <a:avLst/>
          </a:prstGeom>
          <a:ln w="0">
            <a:noFill/>
          </a:ln>
        </p:spPr>
      </p:pic>
      <p:pic>
        <p:nvPicPr>
          <p:cNvPr id="408" name="Заголовок 1" descr=""/>
          <p:cNvPicPr/>
          <p:nvPr/>
        </p:nvPicPr>
        <p:blipFill>
          <a:blip r:embed="rId4"/>
          <a:stretch/>
        </p:blipFill>
        <p:spPr>
          <a:xfrm>
            <a:off x="603360" y="260280"/>
            <a:ext cx="8540640" cy="11653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1"/>
          <a:stretch/>
        </p:blipFill>
        <p:spPr>
          <a:xfrm>
            <a:off x="450720" y="-73080"/>
            <a:ext cx="8620200" cy="14810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2857680" cy="28576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"/>
          <p:cNvPicPr/>
          <p:nvPr/>
        </p:nvPicPr>
        <p:blipFill>
          <a:blip r:embed="rId3"/>
          <a:stretch/>
        </p:blipFill>
        <p:spPr>
          <a:xfrm>
            <a:off x="5786280" y="178596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2700360" cy="33336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"/>
          <p:cNvPicPr/>
          <p:nvPr/>
        </p:nvPicPr>
        <p:blipFill>
          <a:blip r:embed="rId3"/>
          <a:stretch/>
        </p:blipFill>
        <p:spPr>
          <a:xfrm>
            <a:off x="4788000" y="2276640"/>
            <a:ext cx="3143160" cy="31017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540640" cy="11653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игрушка погремушка народная []"/>
          <p:cNvPicPr/>
          <p:nvPr/>
        </p:nvPicPr>
        <p:blipFill>
          <a:blip r:embed="rId2"/>
          <a:stretch/>
        </p:blipFill>
        <p:spPr>
          <a:xfrm>
            <a:off x="5435640" y="2997360"/>
            <a:ext cx="2678040" cy="34970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игрушка свистульки народная []"/>
          <p:cNvPicPr/>
          <p:nvPr/>
        </p:nvPicPr>
        <p:blipFill>
          <a:blip r:embed="rId3"/>
          <a:stretch/>
        </p:blipFill>
        <p:spPr>
          <a:xfrm>
            <a:off x="755640" y="3068640"/>
            <a:ext cx="3311640" cy="3371760"/>
          </a:xfrm>
          <a:prstGeom prst="rect">
            <a:avLst/>
          </a:prstGeom>
          <a:ln w="0">
            <a:noFill/>
          </a:ln>
        </p:spPr>
      </p:pic>
      <p:pic>
        <p:nvPicPr>
          <p:cNvPr id="418" name="Заголовок 1" descr=""/>
          <p:cNvPicPr/>
          <p:nvPr/>
        </p:nvPicPr>
        <p:blipFill>
          <a:blip r:embed="rId4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"/>
          <p:cNvPicPr/>
          <p:nvPr/>
        </p:nvPicPr>
        <p:blipFill>
          <a:blip r:embed="rId2"/>
          <a:stretch/>
        </p:blipFill>
        <p:spPr>
          <a:xfrm>
            <a:off x="6300720" y="2781360"/>
            <a:ext cx="2139840" cy="3220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"/>
          <p:cNvPicPr/>
          <p:nvPr/>
        </p:nvPicPr>
        <p:blipFill>
          <a:blip r:embed="rId3"/>
          <a:stretch/>
        </p:blipFill>
        <p:spPr>
          <a:xfrm>
            <a:off x="1143000" y="2786040"/>
            <a:ext cx="3346560" cy="31687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1"/>
          <a:stretch/>
        </p:blipFill>
        <p:spPr>
          <a:xfrm>
            <a:off x="438120" y="249120"/>
            <a:ext cx="8553600" cy="11653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бирюльки игрушка дети []"/>
          <p:cNvPicPr/>
          <p:nvPr/>
        </p:nvPicPr>
        <p:blipFill>
          <a:blip r:embed="rId2"/>
          <a:stretch/>
        </p:blipFill>
        <p:spPr>
          <a:xfrm>
            <a:off x="5148360" y="2928960"/>
            <a:ext cx="3208320" cy="32385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птица счастья игрушка дети []"/>
          <p:cNvPicPr/>
          <p:nvPr/>
        </p:nvPicPr>
        <p:blipFill>
          <a:blip r:embed="rId3"/>
          <a:stretch/>
        </p:blipFill>
        <p:spPr>
          <a:xfrm>
            <a:off x="642960" y="3429000"/>
            <a:ext cx="3351240" cy="25210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3:48:06Z</dcterms:created>
  <dc:creator>методист</dc:creator>
  <dc:description/>
  <dc:language>en-US</dc:language>
  <cp:lastModifiedBy>admin</cp:lastModifiedBy>
  <dcterms:modified xsi:type="dcterms:W3CDTF">2017-09-23T15:36:43Z</dcterms:modified>
  <cp:revision>21</cp:revision>
  <dc:subject/>
  <dc:title>Русская народная игрушка</dc:title>
</cp:coreProperties>
</file>