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3.png" ContentType="image/pn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4.png" ContentType="image/png"/>
  <Override PartName="/ppt/media/image24.gif" ContentType="image/gif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7F9B-61C9-447E-AAFA-08401C097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964320"/>
            <a:ext cx="693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B212-E96B-4E8D-9DDF-B2945EFA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56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568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7FD1-E766-42E9-937D-1FF30FD85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97160" y="160020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1840" y="160020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96432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97160" y="396432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1840" y="396432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2716-A23F-455B-ABBC-A9B2FCB47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03EC9-42E4-4FA2-BDE4-04BB65787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B110-5145-49BF-BFB5-14C38925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CCB5-0DA2-48F3-90A5-3ADD5953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568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67D89-E7C8-4B2D-891B-96D93031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01757-BB2B-41B0-A838-D6C386D63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27432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D329-1206-45A1-A789-85CBCDA2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568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06A2-AC04-4B89-9EFC-D6CBEF0B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28EA-60BB-49D7-BA95-28D5F7AD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56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568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0857-5B71-46D7-92E1-517B0680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56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693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59A3-9118-4B87-BC92-4A2EF17A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964320"/>
            <a:ext cx="693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B4114-6E1D-4533-8533-FC2B2E25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56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568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81A5-1FAC-4CCB-9D92-60B189D81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97160" y="160020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41840" y="160020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96432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97160" y="396432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41840" y="3964320"/>
            <a:ext cx="223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027D-E3E6-4F87-ADEF-5D3288A9F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3E5D-D8C5-4F8D-9EC7-8CEC3C24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568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AC05-FBE4-49CE-A142-0448D5B3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7D20-D1A3-4508-A8B3-C1D1CFEF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274320"/>
            <a:ext cx="693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54C9-2D0D-4B73-A706-44CF5215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568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222C-2510-4496-8413-E1FF55AA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38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56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5680" y="396432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F702-DB5D-4DC5-BF78-FA4F025D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5680" y="1600200"/>
            <a:ext cx="338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964320"/>
            <a:ext cx="6934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B811-2051-4EC6-8B3C-76923690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A13E-BB83-4180-B7A5-FA43163243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Majestic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C89F-98E8-463A-B6B1-3B7ABEC951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otoramky.narod.ru/images/ramka230.jpg" TargetMode="External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352680" y="1904760"/>
            <a:ext cx="5486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84080"/>
                </a:solidFill>
                <a:latin typeface="Times New Roman"/>
              </a:rPr>
              <a:t>Использование приемов мнемотехники  в процессе ознакомления</a:t>
            </a:r>
            <a:br>
              <a:rPr sz="3200"/>
            </a:br>
            <a:r>
              <a:rPr b="1" lang="ru-RU" sz="3200" spc="-1" strike="noStrike">
                <a:solidFill>
                  <a:srgbClr val="e84080"/>
                </a:solidFill>
                <a:latin typeface="Times New Roman"/>
              </a:rPr>
              <a:t> с художественной литературой детей старшего дошкольного возраста</a:t>
            </a:r>
            <a:endParaRPr b="0" lang="en-US" sz="3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343400" y="4647960"/>
            <a:ext cx="44956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0000"/>
                </a:solidFill>
                <a:latin typeface="Times New Roman"/>
              </a:rPr>
              <a:t>Учитель-логопе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0000"/>
                </a:solidFill>
                <a:latin typeface="Times New Roman"/>
              </a:rPr>
              <a:t>Васильева Светлана Геннад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0000"/>
                </a:solidFill>
                <a:latin typeface="Times New Roman"/>
              </a:rPr>
              <a:t>Чебокса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20000"/>
                </a:solidFill>
                <a:latin typeface="Times New Roman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3352680" y="228600"/>
            <a:ext cx="54864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20000"/>
                </a:solidFill>
                <a:latin typeface="Times New Roman"/>
              </a:rPr>
              <a:t>Муниципальное бюджетное дошкольное образовательное учреждение «Детский сад № 160 общеразвивающего  вида с приоритетным осуществлением деятельности по художественно-эстетическому развитию детей» города Чебоксары  Чувашской Республ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70578130"/>
          <p:cNvPicPr/>
          <p:nvPr/>
        </p:nvPicPr>
        <p:blipFill>
          <a:blip r:embed="rId1"/>
          <a:stretch/>
        </p:blipFill>
        <p:spPr>
          <a:xfrm>
            <a:off x="8458200" y="12600"/>
            <a:ext cx="76212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84080"/>
                </a:solidFill>
                <a:latin typeface="Times New Roman"/>
              </a:rPr>
              <a:t>Требования, предъявляемые к работе по мнемотехнике</a:t>
            </a:r>
            <a:endParaRPr b="0" lang="en-US" sz="3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601"/>
              </a:spcBef>
              <a:buSzPct val="1542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ки и символы должны быть хорошо знакомы дет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601"/>
              </a:spcBef>
              <a:buSzPct val="1541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ки и символы предварительно обсуждаются с детьми и принимаются как веду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80000"/>
              </a:lnSpc>
              <a:spcBef>
                <a:spcPts val="601"/>
              </a:spcBef>
              <a:buSzPct val="1541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начальных этапах заучивания лучше рисовать их совместно с ребен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lnSpc>
                <a:spcPct val="80000"/>
              </a:lnSpc>
              <a:spcBef>
                <a:spcPts val="601"/>
              </a:spcBef>
              <a:buSzPct val="15415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ки и символы должны отображать обобщённый образ предм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84080"/>
                </a:solidFill>
                <a:latin typeface="Times New Roman"/>
              </a:rPr>
              <a:t>Этапы работы</a:t>
            </a:r>
            <a:endParaRPr b="0" lang="en-US" sz="3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52480" y="1371240"/>
            <a:ext cx="69343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601"/>
              </a:spcBef>
              <a:buSzPct val="15415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товые схемы (составленные самим педагогом в присутствии детей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SzPct val="1541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ллективное обсуждение и  выдвижение  различных версий , отбор наиболее удачных вариантов (педагог выступает как равноправный партнер, который незаметно помогает ребенку находить и выбирать наиболее удачные решения, оформлять их в целостное произведени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SzPct val="1541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амостоятельное проявление детьми творческой  инициативы в создании мнемотаблиц  в программ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wer P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84080"/>
                </a:solidFill>
                <a:latin typeface="Times New Roman"/>
              </a:rPr>
              <a:t>Заучивание стихотворений</a:t>
            </a:r>
            <a:endParaRPr b="0" lang="en-US" sz="3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жно использовать опорные рису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buSzPct val="1542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анный прием увлекает детей, превращает занятие в иг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428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рительный образ, сохранившийся у ребенка после прослушивания, сопровождающегося просмотром рисунков, позволяет значительно быстрее запомнить тек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752480" y="3733920"/>
            <a:ext cx="69343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0000"/>
                </a:solidFill>
                <a:latin typeface="Times New Roman"/>
              </a:rPr>
              <a:t>Приходил Борис к  Барбос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0000"/>
                </a:solidFill>
                <a:latin typeface="Times New Roman"/>
              </a:rPr>
              <a:t>Карамель Барбосу броси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0000"/>
                </a:solidFill>
                <a:latin typeface="Times New Roman"/>
              </a:rPr>
              <a:t>Карамельку «Барбарис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0000"/>
                </a:solidFill>
                <a:latin typeface="Times New Roman"/>
              </a:rPr>
              <a:t>Барбос быстренько разгры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борис и барбос"/>
          <p:cNvPicPr/>
          <p:nvPr/>
        </p:nvPicPr>
        <p:blipFill>
          <a:blip r:embed="rId1"/>
          <a:stretch/>
        </p:blipFill>
        <p:spPr>
          <a:xfrm>
            <a:off x="2666880" y="304920"/>
            <a:ext cx="5334120" cy="3333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золотая"/>
          <p:cNvPicPr/>
          <p:nvPr/>
        </p:nvPicPr>
        <p:blipFill>
          <a:blip r:embed="rId2"/>
          <a:stretch/>
        </p:blipFill>
        <p:spPr>
          <a:xfrm>
            <a:off x="2590920" y="228600"/>
            <a:ext cx="5410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00"/>
                </a:solidFill>
                <a:latin typeface="Times New Roman"/>
              </a:rPr>
              <a:t>В огороде Прок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00"/>
                </a:solidFill>
                <a:latin typeface="Times New Roman"/>
              </a:rPr>
              <a:t>Собирает укро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00"/>
                </a:solidFill>
                <a:latin typeface="Times New Roman"/>
              </a:rPr>
              <a:t>Уже у Проко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00"/>
                </a:solidFill>
                <a:latin typeface="Times New Roman"/>
              </a:rPr>
              <a:t>Короб укро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прокоп"/>
          <p:cNvPicPr/>
          <p:nvPr/>
        </p:nvPicPr>
        <p:blipFill>
          <a:blip r:embed="rId1"/>
          <a:stretch/>
        </p:blipFill>
        <p:spPr>
          <a:xfrm>
            <a:off x="2438280" y="533520"/>
            <a:ext cx="5143680" cy="3214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золотая"/>
          <p:cNvPicPr/>
          <p:nvPr/>
        </p:nvPicPr>
        <p:blipFill>
          <a:blip r:embed="rId2"/>
          <a:stretch/>
        </p:blipFill>
        <p:spPr>
          <a:xfrm>
            <a:off x="2362320" y="457200"/>
            <a:ext cx="52578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52480" y="3886200"/>
            <a:ext cx="693432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0000"/>
                </a:solidFill>
                <a:latin typeface="Times New Roman"/>
              </a:rPr>
              <a:t>Барсучиха с барсучон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0000"/>
                </a:solidFill>
                <a:latin typeface="Times New Roman"/>
              </a:rPr>
              <a:t>Причесались гребеш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0000"/>
                </a:solidFill>
                <a:latin typeface="Times New Roman"/>
              </a:rPr>
              <a:t>Барсучонку для приче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0000"/>
                </a:solidFill>
                <a:latin typeface="Times New Roman"/>
              </a:rPr>
              <a:t>Подарили три расче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барсучиха"/>
          <p:cNvPicPr/>
          <p:nvPr/>
        </p:nvPicPr>
        <p:blipFill>
          <a:blip r:embed="rId1"/>
          <a:stretch/>
        </p:blipFill>
        <p:spPr>
          <a:xfrm>
            <a:off x="2514600" y="380880"/>
            <a:ext cx="4952880" cy="3095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золотая"/>
          <p:cNvPicPr/>
          <p:nvPr/>
        </p:nvPicPr>
        <p:blipFill>
          <a:blip r:embed="rId2"/>
          <a:stretch/>
        </p:blipFill>
        <p:spPr>
          <a:xfrm>
            <a:off x="2438280" y="380880"/>
            <a:ext cx="50292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52480" y="4190760"/>
            <a:ext cx="6934320" cy="19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0000"/>
                </a:solidFill>
                <a:latin typeface="Arial"/>
              </a:rPr>
              <a:t>Промурлыкал рыжий к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0000"/>
                </a:solidFill>
                <a:latin typeface="Arial"/>
              </a:rPr>
              <a:t>Попросил он бутербр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0000"/>
                </a:solidFill>
                <a:latin typeface="Arial"/>
              </a:rPr>
              <a:t>Бутербродик с сы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20000"/>
                </a:solidFill>
                <a:latin typeface="Arial"/>
              </a:rPr>
              <a:t>И пирог с кефи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рыжий кот"/>
          <p:cNvPicPr/>
          <p:nvPr/>
        </p:nvPicPr>
        <p:blipFill>
          <a:blip r:embed="rId1"/>
          <a:stretch/>
        </p:blipFill>
        <p:spPr>
          <a:xfrm>
            <a:off x="2209680" y="228600"/>
            <a:ext cx="6096240" cy="3809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золотая"/>
          <p:cNvPicPr/>
          <p:nvPr/>
        </p:nvPicPr>
        <p:blipFill>
          <a:blip r:embed="rId2"/>
          <a:stretch/>
        </p:blipFill>
        <p:spPr>
          <a:xfrm>
            <a:off x="2133720" y="152280"/>
            <a:ext cx="6172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.Заходер. КАВОТ и КАМУ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предшествующая работа)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257440" y="16002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00"/>
                </a:solidFill>
                <a:latin typeface="Times New Roman"/>
              </a:rPr>
              <a:t>Коля о  Кавоте : «я его люблю, мы с ним играем в разные игр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buSzPct val="15415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IMG_6470"/>
          <p:cNvPicPr/>
          <p:nvPr/>
        </p:nvPicPr>
        <p:blipFill>
          <a:blip r:embed="rId2"/>
          <a:stretch/>
        </p:blipFill>
        <p:spPr>
          <a:xfrm>
            <a:off x="1676520" y="914400"/>
            <a:ext cx="3538440" cy="2452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IMG_6471"/>
          <p:cNvPicPr/>
          <p:nvPr/>
        </p:nvPicPr>
        <p:blipFill>
          <a:blip r:embed="rId3"/>
          <a:stretch/>
        </p:blipFill>
        <p:spPr>
          <a:xfrm>
            <a:off x="4495680" y="4038480"/>
            <a:ext cx="2826000" cy="2614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золотая"/>
          <p:cNvPicPr/>
          <p:nvPr/>
        </p:nvPicPr>
        <p:blipFill>
          <a:blip r:embed="rId4"/>
          <a:stretch/>
        </p:blipFill>
        <p:spPr>
          <a:xfrm>
            <a:off x="1676520" y="914400"/>
            <a:ext cx="3581280" cy="25146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золотая"/>
          <p:cNvPicPr/>
          <p:nvPr/>
        </p:nvPicPr>
        <p:blipFill>
          <a:blip r:embed="rId5"/>
          <a:stretch/>
        </p:blipFill>
        <p:spPr>
          <a:xfrm>
            <a:off x="4724280" y="3809880"/>
            <a:ext cx="28958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80720" y="30492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057040" y="380520"/>
            <a:ext cx="66294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00"/>
                </a:solidFill>
                <a:latin typeface="Times New Roman"/>
              </a:rPr>
              <a:t>Максим : «Он умеет: играть со мной, пе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00"/>
                </a:solidFill>
                <a:latin typeface="Times New Roman"/>
              </a:rPr>
              <a:t>смотреть телевизор, лет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00"/>
                </a:solidFill>
                <a:latin typeface="Times New Roman"/>
              </a:rPr>
              <a:t>у него есть кнопочки, как у пуль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00"/>
                </a:solidFill>
                <a:latin typeface="Times New Roman"/>
              </a:rPr>
              <a:t>Я нажимаю, он выполняет вс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00"/>
                </a:solidFill>
                <a:latin typeface="Times New Roman"/>
              </a:rPr>
              <a:t>когда он сердится, шерсть превращается в игол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IMG_6465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828800" y="3352680"/>
            <a:ext cx="2768760" cy="2568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IMG_6466"/>
          <p:cNvPicPr/>
          <p:nvPr/>
        </p:nvPicPr>
        <p:blipFill>
          <a:blip r:embed="rId2"/>
          <a:stretch/>
        </p:blipFill>
        <p:spPr>
          <a:xfrm>
            <a:off x="4648320" y="3352680"/>
            <a:ext cx="3429000" cy="2573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золотая"/>
          <p:cNvPicPr/>
          <p:nvPr/>
        </p:nvPicPr>
        <p:blipFill>
          <a:blip r:embed="rId3"/>
          <a:stretch/>
        </p:blipFill>
        <p:spPr>
          <a:xfrm>
            <a:off x="1803240" y="3352680"/>
            <a:ext cx="2768760" cy="2667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золотая"/>
          <p:cNvPicPr/>
          <p:nvPr/>
        </p:nvPicPr>
        <p:blipFill>
          <a:blip r:embed="rId4"/>
          <a:stretch/>
        </p:blipFill>
        <p:spPr>
          <a:xfrm>
            <a:off x="4648320" y="3325680"/>
            <a:ext cx="342900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6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00"/>
                </a:solidFill>
                <a:latin typeface="Times New Roman"/>
              </a:rPr>
              <a:t>Кат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00"/>
                </a:solidFill>
                <a:latin typeface="Times New Roman"/>
              </a:rPr>
              <a:t>« Он добрый, я с ним дружу, когда раду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20000"/>
                </a:solidFill>
                <a:latin typeface="Times New Roman"/>
              </a:rPr>
              <a:t>он виляет мне  двумя хвостикам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buSzPct val="15415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IMG_6472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2057400" y="228600"/>
            <a:ext cx="2827440" cy="2538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IMG_6473"/>
          <p:cNvPicPr/>
          <p:nvPr/>
        </p:nvPicPr>
        <p:blipFill>
          <a:blip r:embed="rId3">
            <a:lum contrast="-12000"/>
          </a:blip>
          <a:stretch/>
        </p:blipFill>
        <p:spPr>
          <a:xfrm>
            <a:off x="3657600" y="4191120"/>
            <a:ext cx="2822400" cy="2303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золотая"/>
          <p:cNvPicPr/>
          <p:nvPr/>
        </p:nvPicPr>
        <p:blipFill>
          <a:blip r:embed="rId4"/>
          <a:stretch/>
        </p:blipFill>
        <p:spPr>
          <a:xfrm>
            <a:off x="1981080" y="228600"/>
            <a:ext cx="2971800" cy="2590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золотая"/>
          <p:cNvPicPr/>
          <p:nvPr/>
        </p:nvPicPr>
        <p:blipFill>
          <a:blip r:embed="rId5"/>
          <a:stretch/>
        </p:blipFill>
        <p:spPr>
          <a:xfrm>
            <a:off x="3505320" y="4191120"/>
            <a:ext cx="30477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286000" y="106632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Учите ребёнка каким-нибудь неизвестным ему пяти словам – он будет долго и напрасно мучиться, но свяжите двадцать таких слов с картинками, и он их усвоит на лету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. Д. Уш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золотая"/>
          <p:cNvPicPr/>
          <p:nvPr/>
        </p:nvPicPr>
        <p:blipFill>
          <a:blip r:embed="rId1"/>
          <a:stretch/>
        </p:blipFill>
        <p:spPr>
          <a:xfrm>
            <a:off x="2362320" y="838080"/>
            <a:ext cx="6476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84080"/>
                </a:solidFill>
                <a:latin typeface="Times New Roman"/>
              </a:rPr>
              <a:t>Пересказ текстов</a:t>
            </a:r>
            <a:endParaRPr b="0" lang="en-US" sz="3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buSzPct val="17625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сказу принадлежит особая роль в формировании связной ре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buSzPct val="1541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первых этапах его формирования, можно использовать иллюстрированные панно и опорные картинки, условные схемы, которые помогают детям учиться составлять план переска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541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более поздних этапах можно использовать простые рисунки-схемы, которые составляют са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20000"/>
              </a:solidFill>
              <a:latin typeface="Majestic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676520" y="3657600"/>
            <a:ext cx="72388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920000"/>
                </a:solidFill>
                <a:latin typeface="Times New Roman"/>
              </a:rPr>
              <a:t>Как медведь сам себя напугал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20000"/>
                </a:solidFill>
                <a:latin typeface="Times New Roman"/>
              </a:rPr>
              <a:t>Вошел медведь в лес. Хрустнула под тяжелой лапой веточка. Испугалась белка на ветке — выронила из лапок шишк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20000"/>
                </a:solidFill>
                <a:latin typeface="Times New Roman"/>
              </a:rPr>
              <a:t>              </a:t>
            </a:r>
            <a:r>
              <a:rPr b="1" lang="ru-RU" sz="1400" spc="-1" strike="noStrike">
                <a:solidFill>
                  <a:srgbClr val="920000"/>
                </a:solidFill>
                <a:latin typeface="Times New Roman"/>
              </a:rPr>
              <a:t>Упала шишка — угодила зайцу в лоб. Вскочил заяц и помчался в гущу леса. Наскочил на сороку, из кустов выпугнул. Та крик подняла на весь лес. Услышали лоси, пошли по лесу кусты ломать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20000"/>
                </a:solidFill>
                <a:latin typeface="Times New Roman"/>
              </a:rPr>
              <a:t>               </a:t>
            </a:r>
            <a:r>
              <a:rPr b="1" lang="ru-RU" sz="1400" spc="-1" strike="noStrike">
                <a:solidFill>
                  <a:srgbClr val="920000"/>
                </a:solidFill>
                <a:latin typeface="Times New Roman"/>
              </a:rPr>
              <a:t>Тут остановился медведь, насторожил уши. Белка лопочет, сорока кричит, лоси кусты ломают. И позади кто-то топает! «Не уйти ли лучше?» — подумал медведь. Рявкнул медведь и дал стрекач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20000"/>
                </a:solidFill>
                <a:latin typeface="Times New Roman"/>
              </a:rPr>
              <a:t>               </a:t>
            </a:r>
            <a:r>
              <a:rPr b="1" lang="ru-RU" sz="1400" spc="-1" strike="noStrike">
                <a:solidFill>
                  <a:srgbClr val="920000"/>
                </a:solidFill>
                <a:latin typeface="Times New Roman"/>
              </a:rPr>
              <a:t>Эх, знать бы ему, что позади заяц топал, белка ему шишкой в лоб угодила. Так сам себя медведь напуга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золотая"/>
          <p:cNvPicPr/>
          <p:nvPr/>
        </p:nvPicPr>
        <p:blipFill>
          <a:blip r:embed="rId2"/>
          <a:stretch/>
        </p:blipFill>
        <p:spPr>
          <a:xfrm>
            <a:off x="2743200" y="152280"/>
            <a:ext cx="4724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84080"/>
                </a:solidFill>
                <a:latin typeface="Times New Roman"/>
              </a:rPr>
              <a:t>Результаты  работы</a:t>
            </a:r>
            <a:endParaRPr b="0" lang="en-US" sz="3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80000"/>
              </a:lnSpc>
              <a:spcBef>
                <a:spcPts val="601"/>
              </a:spcBef>
              <a:buSzPct val="15415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еличивается   круг знаний об окружающем ми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80000"/>
              </a:lnSpc>
              <a:spcBef>
                <a:spcPts val="601"/>
              </a:spcBef>
              <a:buSzPct val="1541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вышается  мотивация к  пересказу текстов, придумыванию  интересных истор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80000"/>
              </a:lnSpc>
              <a:spcBef>
                <a:spcPts val="601"/>
              </a:spcBef>
              <a:buSzPct val="1541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еличивается интерес к заучиванию стихов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80000"/>
              </a:lnSpc>
              <a:spcBef>
                <a:spcPts val="601"/>
              </a:spcBef>
              <a:buSzPct val="15415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чительно обогащается  словарный запа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80000"/>
              </a:lnSpc>
              <a:spcBef>
                <a:spcPts val="601"/>
              </a:spcBef>
              <a:buSzPct val="15415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вивается связная реч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80000"/>
              </a:lnSpc>
              <a:spcBef>
                <a:spcPts val="601"/>
              </a:spcBef>
              <a:buSzPct val="15415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величиваются  показатели умственных способностей ребен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5415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блюдается высокая готовность к школьному обуче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6934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200" spc="-1" strike="noStrike">
                <a:solidFill>
                  <a:srgbClr val="e84080"/>
                </a:solidFill>
                <a:latin typeface="Times New Roman"/>
              </a:rPr>
              <a:t>Литература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52120" y="990360"/>
            <a:ext cx="66294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300"/>
              </a:spcBef>
              <a:buSzPct val="15434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ольшакова Т. В. Учимся по сказке. - Спб, 200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300"/>
              </a:spcBef>
              <a:buSzPct val="15434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ородич А. М. Методика развития речи детей. М.: Просвещение, 1981. 256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300"/>
              </a:spcBef>
              <a:buSzPct val="15434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орякова Н. Ю. Нарушения речи детей с ЗПР // Воспитание и обучение детей с нарушенным развитием. 2004. № 1. С. 15-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300"/>
              </a:spcBef>
              <a:buSzPct val="15434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урьева Н. А. Год до школы. Развиваем память: Рабочая тетрадь упражнений по мнемотехнике. – СПб., ДЕТСТВО-ПРЕСС., 2000. – 21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300"/>
              </a:spcBef>
              <a:buSzPct val="15434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авидович Л. Р., Резниченко Т. С. Ребенок плохо говорит? Почему? Что делать? – М. : Гном и Д.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300"/>
              </a:spcBef>
              <a:buSzPct val="15434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Ефименко Л. Н. Формирование речи у дошкольников. -М. :Дрофа, 198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300"/>
              </a:spcBef>
              <a:buSzPct val="15434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заренко В. А. Учебник мнемотехники. Система запоминания «Джордано». М. : Самиздат, 2007. 350 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300"/>
              </a:spcBef>
              <a:buSzPct val="15434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. Е. Кыласова. Коррекция звукопроизношения у детей: дидактические материалы.-Волгоград: Учитель,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300"/>
              </a:spcBef>
              <a:buSzPct val="15434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мельченко Л. В. Использование приёмов мнемотехники в развитии связной речи//Логопед. М., 2008.-№4.-С. 102-1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300"/>
              </a:spcBef>
              <a:buSzPct val="15434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лейник Н. А. Технология “Формирование связи слова и образа при запоминании и воспроизведении поэтического текста у детей с общим недоразвитием речи посредством мнемотехники”, Новосибирск, 2008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300"/>
              </a:spcBef>
              <a:buSzPct val="15434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лянская Т. Б. Использование метода мнемотехники в обучении рассказыванию детей дошкольного возрастаСанкт-Петербург. - Детство-Пресс,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300"/>
              </a:spcBef>
              <a:buSzPct val="15434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ташко И. А. Использование мнемотаблиц в развитии первичных естественно-научных представлений у дошкольников. //Дошкольная педагогика. М, 2006.- №7.- С. 18-2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300"/>
              </a:spcBef>
              <a:buSzPct val="15434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каченко Т. А. Учим говорить правильно. Система коррекции общего недоразвития речи у детей 6 лет. М.: ГНОМ и Д, 2003. 32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300"/>
              </a:spcBef>
              <a:buSzPct val="15434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Широких Т. Т. Учим стихи-развиваем память//Ребёнок в детском саду. -2004.-№2.-С. 59-6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05120" y="1219320"/>
            <a:ext cx="6705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980720" y="5943600"/>
            <a:ext cx="6782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Ссылка на шаблон http://fotoramky.narod.ru/images/ramka230.jpg</a:t>
            </a:r>
            <a:r>
              <a:rPr b="0" lang="ru-RU" sz="1400" spc="-1" strike="noStrike">
                <a:solidFill>
                  <a:srgbClr val="7f7f7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Изображение для плейкаста"/>
          <p:cNvPicPr/>
          <p:nvPr/>
        </p:nvPicPr>
        <p:blipFill>
          <a:blip r:embed="rId3"/>
          <a:stretch/>
        </p:blipFill>
        <p:spPr>
          <a:xfrm>
            <a:off x="3352680" y="4114800"/>
            <a:ext cx="29894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84080"/>
                </a:solidFill>
                <a:latin typeface="Times New Roman"/>
              </a:rPr>
              <a:t>Технология   «МНЕМОТЕХНИКА»</a:t>
            </a:r>
            <a:endParaRPr b="0" lang="en-US" sz="3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SzPct val="15415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лова «мнемотехника» и «мнемоника» обозначают одно и тоже - техника запоми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541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кусство запоминания названо словом «mnemonikon» по имени древнегреческой богини памяти Мнемозины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тери девяти Му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541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немотехника использует естественные механизмы памяти мозга и позволяет полностью контролировать процесс запоминания, сохранения и припоминания информ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84080"/>
                </a:solidFill>
                <a:latin typeface="Times New Roman"/>
              </a:rPr>
              <a:t>Мнемотехника </a:t>
            </a:r>
            <a:br>
              <a:rPr sz="3200"/>
            </a:br>
            <a:r>
              <a:rPr b="1" lang="ru-RU" sz="3200" spc="-1" strike="noStrike">
                <a:solidFill>
                  <a:srgbClr val="e84080"/>
                </a:solidFill>
                <a:latin typeface="Times New Roman"/>
              </a:rPr>
              <a:t>в специальной дошкольной педагогике</a:t>
            </a:r>
            <a:endParaRPr b="0" lang="en-US" sz="3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601"/>
              </a:spcBef>
              <a:buSzPct val="15415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. К. Воробьева называет эту методику сенсорно-графическими схем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601"/>
              </a:spcBef>
              <a:buSzPct val="1541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. А. Ткаченко - предметно-схематическими мод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lnSpc>
                <a:spcPct val="80000"/>
              </a:lnSpc>
              <a:spcBef>
                <a:spcPts val="601"/>
              </a:spcBef>
              <a:buSzPct val="1541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. П. Глухов - блоками-квадра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601"/>
              </a:spcBef>
              <a:buSzPct val="15415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. В Большева – коллаж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SzPct val="15415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. Н. Ефименкова - схемой составления расск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480" y="3805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e84080"/>
                </a:solidFill>
                <a:latin typeface="Times New Roman"/>
              </a:rPr>
              <a:t>Основные цели </a:t>
            </a:r>
            <a:br>
              <a:rPr sz="3200"/>
            </a:br>
            <a:r>
              <a:rPr b="1" lang="ru-RU" sz="3200" spc="-1" strike="noStrike">
                <a:solidFill>
                  <a:srgbClr val="e84080"/>
                </a:solidFill>
                <a:latin typeface="Times New Roman"/>
              </a:rPr>
              <a:t>использования технологии  мнемотехник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52480" y="1828440"/>
            <a:ext cx="69343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buSzPct val="15415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витие умения устанавливать причинно-следственные связи в событиях, пересказах, рассказ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SzPct val="1541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воение методов и приёмов запоминания, их осознанное приме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buSzPct val="1541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витие основных психических процессов: памяти, внимания, образного мыш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SzPct val="15415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витие творческих способностей: фантазии, вообра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SzPct val="15415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звитие мелкой моторики рук при частичном или полном графическом воспроизвед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84080"/>
                </a:solidFill>
                <a:latin typeface="Times New Roman"/>
              </a:rPr>
              <a:t>Последовательность работы</a:t>
            </a:r>
            <a:br>
              <a:rPr sz="3200"/>
            </a:br>
            <a:r>
              <a:rPr b="1" lang="ru-RU" sz="3200" spc="-1" strike="noStrike">
                <a:solidFill>
                  <a:srgbClr val="e84080"/>
                </a:solidFill>
                <a:latin typeface="Times New Roman"/>
              </a:rPr>
              <a:t> по мнемотехнике</a:t>
            </a:r>
            <a:endParaRPr b="0" lang="en-US" sz="3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5428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немоквадр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428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немодорожки,  мнемоцеп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541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немотабл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5428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немотаблицы-сх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52480" y="228600"/>
            <a:ext cx="693432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SzPct val="15415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немотехника  использует  не изображения предметов, а символы. Символизм характерен для детского рисунка в дошкольном возрасте и не вызывает трудностей в восприят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дактическим материалом служат мнемотаблицы - схемы, в которых заложена определённая информ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SzPct val="1541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немотаблица - это средство, орудие, которое помогает детям выделить в предметах или их отношениях те существенные признаки, которые должны войти в содержание пересказа, рассказ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на учит фиксировать полученный результат в доступной детям схематичной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52480" y="27432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84080"/>
                </a:solidFill>
                <a:latin typeface="Times New Roman"/>
              </a:rPr>
              <a:t>Этапы работы с мнемотаблицами</a:t>
            </a:r>
            <a:endParaRPr b="0" lang="en-US" sz="3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52480" y="1371240"/>
            <a:ext cx="69343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601"/>
              </a:spcBef>
              <a:buSzPct val="2056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сматривание таблицы и разбор того,   что на ней изображ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541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ерекодировка информации, т. е. преобразование из абстрактных символов в обра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SzPct val="1541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сле перекодировки осуществляется пересказ, составление рассказа по заданной теме и др., то есть происходит отработка метода запоми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SzPct val="15415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рисовка мнемотаблиц деть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в старших группа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415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сказывание по мнемотаблицам, созданными самими деть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480" y="274680"/>
            <a:ext cx="69343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84080"/>
                </a:solidFill>
                <a:latin typeface="Times New Roman"/>
              </a:rPr>
              <a:t>Особенности   детей-логопатов </a:t>
            </a:r>
            <a:br>
              <a:rPr sz="3200"/>
            </a:br>
            <a:r>
              <a:rPr b="1" lang="ru-RU" sz="3200" spc="-1" strike="noStrike">
                <a:solidFill>
                  <a:srgbClr val="e84080"/>
                </a:solidFill>
                <a:latin typeface="Times New Roman"/>
              </a:rPr>
              <a:t>(коррекционные  задачи)</a:t>
            </a:r>
            <a:endParaRPr b="0" lang="en-US" sz="3200" spc="-1" strike="noStrike">
              <a:solidFill>
                <a:srgbClr val="000000"/>
              </a:solidFill>
              <a:latin typeface="Majest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52480" y="1371240"/>
            <a:ext cx="69343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>
              <a:lnSpc>
                <a:spcPct val="80000"/>
              </a:lnSpc>
              <a:spcBef>
                <a:spcPts val="499"/>
              </a:spcBef>
              <a:buSzPct val="15418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лительный  периоде автоматизации и дифференциации  поставленных зву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lnSpc>
                <a:spcPct val="80000"/>
              </a:lnSpc>
              <a:spcBef>
                <a:spcPts val="499"/>
              </a:spcBef>
              <a:buSzPct val="1541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сутствие мотивации к заучиванию и запоминанию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lnSpc>
                <a:spcPct val="80000"/>
              </a:lnSpc>
              <a:spcBef>
                <a:spcPts val="499"/>
              </a:spcBef>
              <a:buSzPct val="15418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рушения  памяти, низкий уровень вним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lnSpc>
                <a:spcPct val="80000"/>
              </a:lnSpc>
              <a:spcBef>
                <a:spcPts val="499"/>
              </a:spcBef>
              <a:buSzPct val="15418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лоподвижность психических проце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lnSpc>
                <a:spcPct val="80000"/>
              </a:lnSpc>
              <a:spcBef>
                <a:spcPts val="499"/>
              </a:spcBef>
              <a:buSzPct val="15418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сутствие интереса к поисков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lnSpc>
                <a:spcPct val="80000"/>
              </a:lnSpc>
              <a:spcBef>
                <a:spcPts val="499"/>
              </a:spcBef>
              <a:buSzPct val="15418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сутствие готовности к выполнению зад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lnSpc>
                <a:spcPct val="80000"/>
              </a:lnSpc>
              <a:spcBef>
                <a:spcPts val="499"/>
              </a:spcBef>
              <a:buSzPct val="15418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изкая работоспособность и быстрая утомляем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lnSpc>
                <a:spcPct val="80000"/>
              </a:lnSpc>
              <a:spcBef>
                <a:spcPts val="499"/>
              </a:spcBef>
              <a:buSzPct val="15418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сутствие желания  заучивать  стихи, пересказы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lnSpc>
                <a:spcPct val="80000"/>
              </a:lnSpc>
              <a:spcBef>
                <a:spcPts val="499"/>
              </a:spcBef>
              <a:buSzPct val="15418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сутствие навыков владения  приёмами и методами запомин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80000"/>
              </a:lnSpc>
              <a:spcBef>
                <a:spcPts val="499"/>
              </a:spcBef>
              <a:buSzPct val="15418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личие больших трудностей и превалирование отрицательных эмоций на предложение заучить небольшой текст или стихотвор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SzPct val="15418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нижение самоконтроля за собственной речью на этапе автоматизации звуков в стихотворных текс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</cp:lastModifiedBy>
  <dcterms:modified xsi:type="dcterms:W3CDTF">2017-10-14T11:53:46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