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4E8-9AFA-4F2E-9E4C-E72CF587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BED-1F24-4F9F-BF40-458BE03B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236-0ACD-45B2-837E-FCFD85F0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C23-D9D8-456E-A53A-E62277AF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466D-04BF-4FBD-9693-46F26A71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046E-9B33-4787-956E-6E361475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639B-BE88-4B2A-A71B-B3EE8E60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927F-6ED2-427A-9F52-2210BBBE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B911-BEAD-4B65-B602-27214863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1A1F-B464-49C4-B5C9-9BA9FED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0041-DA06-40B4-B008-54668328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E59-F72E-4238-A6F8-31857FC8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2229-D4B5-4E4D-B59C-D6CEEDF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CAD1-FB16-4B96-BC5A-BB6F527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16C3-808D-4175-B4C7-F5C9431E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474B-8458-4AE0-8A9A-6CB039D5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F4EE-2588-4E1B-B7F2-16D5B78D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5FE-1A9E-4201-A9B1-26784727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D9E-69C5-4F5A-AE4D-6A88728E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69E-9FF0-40EA-B48F-FA2AA0E2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91E-F379-41B1-997D-1BDD10D0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272-69E3-44DA-A909-E9989BDD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25D-78E8-4135-8118-46A16D0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E1E-C596-4A9C-9D9C-0800272F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7D0A-DDE2-4ACE-93BA-1C597890A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3CFD-F503-4001-A5F9-4150E251AD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ramky.narod.ru/images/ramka230.jpg" TargetMode="Externa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2680" y="190476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Использование приемов мнемотехники  в процессе ознакомления</a:t>
            </a: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 с художественной литературой детей старшего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43400" y="4647960"/>
            <a:ext cx="4495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</a:rPr>
              <a:t>Учитель-логопе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</a:rPr>
              <a:t>Васильева Светлана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</a:rPr>
              <a:t>Чебокса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352680" y="228600"/>
            <a:ext cx="5486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20000"/>
                </a:solidFill>
                <a:latin typeface="Times New Roman"/>
              </a:rPr>
              <a:t>Муниципальное бюджетное дошкольное образовательное учреждение «Детский сад № 160 общеразвивающего  вида с приоритетным осуществлением деятельности по художественно-эстетическому развитию детей» города Чебоксары  Чувашской Республ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70578130"/>
          <p:cNvPicPr/>
          <p:nvPr/>
        </p:nvPicPr>
        <p:blipFill>
          <a:blip r:embed="rId1"/>
          <a:stretch/>
        </p:blipFill>
        <p:spPr>
          <a:xfrm>
            <a:off x="8458200" y="12600"/>
            <a:ext cx="7621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Требования, предъявляемые к работе по мнемотехнике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ки и символы должны быть хорошо знакомы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ки и символы предварительно обсуждаются с детьми и принимаются как веду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ачальных этапах заучивания лучше рисовать их совместно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ки и символы должны отображать обобщённый образ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Этапы работы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ые схемы (составленные самим педагогом в присутствии детей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лективное обсуждение и  выдвижение  различных версий , отбор наиболее удачных вариантов (педагог выступает как равноправный партнер, который незаметно помогает ребенку находить и выбирать наиболее удачные решения, оформлять их в целостное произведени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ое проявление детьми творческой  инициативы в создании мнемотаблиц  в программ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Заучивание стихотворений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но использовать опорные рису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ный прием увлекает детей, превращает занятие в иг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рительный образ, сохранившийся у ребенка после прослушивания, сопровождающегося просмотром рисунков, позволяет значительно быстрее запомнить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52480" y="3733920"/>
            <a:ext cx="6934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Times New Roman"/>
              </a:rPr>
              <a:t>Приходил Борис к  Барбо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Times New Roman"/>
              </a:rPr>
              <a:t>Карамель Барбосу бро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Times New Roman"/>
              </a:rPr>
              <a:t>Карамельку «Барбари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Times New Roman"/>
              </a:rPr>
              <a:t>Барбос быстренько разгры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борис и барбос"/>
          <p:cNvPicPr/>
          <p:nvPr/>
        </p:nvPicPr>
        <p:blipFill>
          <a:blip r:embed="rId1"/>
          <a:stretch/>
        </p:blipFill>
        <p:spPr>
          <a:xfrm>
            <a:off x="2666880" y="304920"/>
            <a:ext cx="5334120" cy="333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золотая"/>
          <p:cNvPicPr/>
          <p:nvPr/>
        </p:nvPicPr>
        <p:blipFill>
          <a:blip r:embed="rId2"/>
          <a:stretch/>
        </p:blipFill>
        <p:spPr>
          <a:xfrm>
            <a:off x="2590920" y="228600"/>
            <a:ext cx="5410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В огороде Про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Собирает укр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Уже у Про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Короб укр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прокоп"/>
          <p:cNvPicPr/>
          <p:nvPr/>
        </p:nvPicPr>
        <p:blipFill>
          <a:blip r:embed="rId1"/>
          <a:stretch/>
        </p:blipFill>
        <p:spPr>
          <a:xfrm>
            <a:off x="2438280" y="533520"/>
            <a:ext cx="5143680" cy="32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золотая"/>
          <p:cNvPicPr/>
          <p:nvPr/>
        </p:nvPicPr>
        <p:blipFill>
          <a:blip r:embed="rId2"/>
          <a:stretch/>
        </p:blipFill>
        <p:spPr>
          <a:xfrm>
            <a:off x="2362320" y="457200"/>
            <a:ext cx="5257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93432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</a:rPr>
              <a:t>Барсучиха с барсучо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</a:rPr>
              <a:t>Причесались гребеш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</a:rPr>
              <a:t>Барсучонку для при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</a:rPr>
              <a:t>Подарили три рас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барсучиха"/>
          <p:cNvPicPr/>
          <p:nvPr/>
        </p:nvPicPr>
        <p:blipFill>
          <a:blip r:embed="rId1"/>
          <a:stretch/>
        </p:blipFill>
        <p:spPr>
          <a:xfrm>
            <a:off x="2514600" y="380880"/>
            <a:ext cx="495288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золотая"/>
          <p:cNvPicPr/>
          <p:nvPr/>
        </p:nvPicPr>
        <p:blipFill>
          <a:blip r:embed="rId2"/>
          <a:stretch/>
        </p:blipFill>
        <p:spPr>
          <a:xfrm>
            <a:off x="2438280" y="380880"/>
            <a:ext cx="5029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52480" y="4190760"/>
            <a:ext cx="69343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Arial"/>
              </a:rPr>
              <a:t>Промурлыкал рыжий 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Arial"/>
              </a:rPr>
              <a:t>Попросил он бутерб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Arial"/>
              </a:rPr>
              <a:t>Бутербродик с сы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Arial"/>
              </a:rPr>
              <a:t>И пирог с кеф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рыжий кот"/>
          <p:cNvPicPr/>
          <p:nvPr/>
        </p:nvPicPr>
        <p:blipFill>
          <a:blip r:embed="rId1"/>
          <a:stretch/>
        </p:blipFill>
        <p:spPr>
          <a:xfrm>
            <a:off x="2209680" y="228600"/>
            <a:ext cx="609624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золотая"/>
          <p:cNvPicPr/>
          <p:nvPr/>
        </p:nvPicPr>
        <p:blipFill>
          <a:blip r:embed="rId2"/>
          <a:stretch/>
        </p:blipFill>
        <p:spPr>
          <a:xfrm>
            <a:off x="2133720" y="152280"/>
            <a:ext cx="6172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Заходер. КАВОТ и КАМУ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редшествующая работа)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Коля о  Кавоте : «я его люблю, мы с ним играем в разные иг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IMG_6470"/>
          <p:cNvPicPr/>
          <p:nvPr/>
        </p:nvPicPr>
        <p:blipFill>
          <a:blip r:embed="rId2"/>
          <a:stretch/>
        </p:blipFill>
        <p:spPr>
          <a:xfrm>
            <a:off x="1676520" y="914400"/>
            <a:ext cx="3538440" cy="2452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MG_6471"/>
          <p:cNvPicPr/>
          <p:nvPr/>
        </p:nvPicPr>
        <p:blipFill>
          <a:blip r:embed="rId3"/>
          <a:stretch/>
        </p:blipFill>
        <p:spPr>
          <a:xfrm>
            <a:off x="4495680" y="4038480"/>
            <a:ext cx="2826000" cy="261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золотая"/>
          <p:cNvPicPr/>
          <p:nvPr/>
        </p:nvPicPr>
        <p:blipFill>
          <a:blip r:embed="rId4"/>
          <a:stretch/>
        </p:blipFill>
        <p:spPr>
          <a:xfrm>
            <a:off x="1676520" y="91440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золотая"/>
          <p:cNvPicPr/>
          <p:nvPr/>
        </p:nvPicPr>
        <p:blipFill>
          <a:blip r:embed="rId5"/>
          <a:stretch/>
        </p:blipFill>
        <p:spPr>
          <a:xfrm>
            <a:off x="4724280" y="3809880"/>
            <a:ext cx="2895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057040" y="380520"/>
            <a:ext cx="6629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Максим : «Он умеет: играть со мной, п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смотреть телевизор, ле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у него есть кнопочки, как у пуль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Я нажимаю, он выполняет вс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когда он сердится, шерсть превращается в игол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MG_646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28800" y="3352680"/>
            <a:ext cx="2768760" cy="256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IMG_6466"/>
          <p:cNvPicPr/>
          <p:nvPr/>
        </p:nvPicPr>
        <p:blipFill>
          <a:blip r:embed="rId2"/>
          <a:stretch/>
        </p:blipFill>
        <p:spPr>
          <a:xfrm>
            <a:off x="4648320" y="335268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золотая"/>
          <p:cNvPicPr/>
          <p:nvPr/>
        </p:nvPicPr>
        <p:blipFill>
          <a:blip r:embed="rId3"/>
          <a:stretch/>
        </p:blipFill>
        <p:spPr>
          <a:xfrm>
            <a:off x="1803240" y="3352680"/>
            <a:ext cx="2768760" cy="2667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золотая"/>
          <p:cNvPicPr/>
          <p:nvPr/>
        </p:nvPicPr>
        <p:blipFill>
          <a:blip r:embed="rId4"/>
          <a:stretch/>
        </p:blipFill>
        <p:spPr>
          <a:xfrm>
            <a:off x="4648320" y="3325680"/>
            <a:ext cx="3429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Кат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« Он добрый, я с ним дружу, когда раду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он виляет мне  двумя хвости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MG_647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057400" y="228600"/>
            <a:ext cx="2827440" cy="2538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MG_6473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3657600" y="4191120"/>
            <a:ext cx="2822400" cy="230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золотая"/>
          <p:cNvPicPr/>
          <p:nvPr/>
        </p:nvPicPr>
        <p:blipFill>
          <a:blip r:embed="rId4"/>
          <a:stretch/>
        </p:blipFill>
        <p:spPr>
          <a:xfrm>
            <a:off x="1981080" y="2286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золотая"/>
          <p:cNvPicPr/>
          <p:nvPr/>
        </p:nvPicPr>
        <p:blipFill>
          <a:blip r:embed="rId5"/>
          <a:stretch/>
        </p:blipFill>
        <p:spPr>
          <a:xfrm>
            <a:off x="3505320" y="4191120"/>
            <a:ext cx="304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0" y="10663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Учите ребёнка каким-нибудь неизвестным ему пяти словам – он будет долго и напрасно мучиться, но свяжите двадцать таких слов с картинками, и он их усвоит на лету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. Д. 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золотая"/>
          <p:cNvPicPr/>
          <p:nvPr/>
        </p:nvPicPr>
        <p:blipFill>
          <a:blip r:embed="rId1"/>
          <a:stretch/>
        </p:blipFill>
        <p:spPr>
          <a:xfrm>
            <a:off x="2362320" y="838080"/>
            <a:ext cx="647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Пересказ текстов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сказу принадлежит особая роль в формировании связной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первых этапах его формирования, можно использовать иллюстрированные панно и опорные картинки, условные схемы, которые помогают детям учиться составлять план пере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более поздних этапах можно использовать простые рисунки-схемы, которые составляют с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20000"/>
              </a:solidFill>
              <a:latin typeface="Majesti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76520" y="365760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Как медведь сам себя напуга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Вошел медведь в лес. Хрустнула под тяжелой лапой веточка. Испугалась белка на ветке — выронила из лапок шиш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              </a:t>
            </a: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Упала шишка — угодила зайцу в лоб. Вскочил заяц и помчался в гущу леса. Наскочил на сороку, из кустов выпугнул. Та крик подняла на весь лес. Услышали лоси, пошли по лесу кусты лом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               </a:t>
            </a: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Тут остановился медведь, насторожил уши. Белка лопочет, сорока кричит, лоси кусты ломают. И позади кто-то топает! «Не уйти ли лучше?» — подумал медведь. Рявкнул медведь и дал стрека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               </a:t>
            </a: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Эх, знать бы ему, что позади заяц топал, белка ему шишкой в лоб угодила. Так сам себя медведь напуг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золотая"/>
          <p:cNvPicPr/>
          <p:nvPr/>
        </p:nvPicPr>
        <p:blipFill>
          <a:blip r:embed="rId2"/>
          <a:stretch/>
        </p:blipFill>
        <p:spPr>
          <a:xfrm>
            <a:off x="2743200" y="152280"/>
            <a:ext cx="4724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Результаты  работы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ся   круг знаний об окружающем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ается  мотивация к  пересказу текстов, придумыванию  интересных ис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ся интерес к заучиванию стих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тельно обогащается  словарный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вается связная 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ются  показатели умственных способностей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блюдается высокая готовность к школьному обуч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Литература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66294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акова Т. В. Учимся по сказке. - Спб,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одич А. М. Методика развития речи детей. М.: Просвещение, 1981. 25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якова Н. Ю. Нарушения речи детей с ЗПР // Воспитание и обучение детей с нарушенным развитием. 2004. № 1. С. 15-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урьева Н. А. Год до школы. Развиваем память: Рабочая тетрадь упражнений по мнемотехнике. – СПб., ДЕТСТВО-ПРЕСС., 2000. – 2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видович Л. Р., Резниченко Т. С. Ребенок плохо говорит? Почему? Что делать? – М. : Гном и 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фименко Л. Н. Формирование речи у дошкольников. -М. :Дрофа,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заренко В. А. Учебник мнемотехники. Система запоминания «Джордано». М. : Самиздат, 2007. 350 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. Е. Кыласова. Коррекция звукопроизношения у детей: дидактические материалы.-Волгоград: Учитель,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ельченко Л. В. Использование приёмов мнемотехники в развитии связной речи//Логопед. М., 2008.-№4.-С. 102-1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лейник Н. А. Технология “Формирование связи слова и образа при запоминании и воспроизведении поэтического текста у детей с общим недоразвитием речи посредством мнемотехники”, Новосибирск, 2008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янская Т. Б. Использование метода мнемотехники в обучении рассказыванию детей дошкольного возрастаСанкт-Петербург. - Детство-Пресс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ташко И. А. Использование мнемотаблиц в развитии первичных естественно-научных представлений у дошкольников. //Дошкольная педагогика. М, 2006.- №7.- С. 18-2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каченко Т. А. Учим говорить правильно. Система коррекции общего недоразвития речи у детей 6 лет. М.: ГНОМ и Д, 2003. 3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ироких Т. Т. Учим стихи-развиваем память//Ребёнок в детском саду. -2004.-№2.-С. 59-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5120" y="1219320"/>
            <a:ext cx="6705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980720" y="5943600"/>
            <a:ext cx="6782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сылка на шаблон http://fotoramky.narod.ru/images/ramka230.jpg</a:t>
            </a:r>
            <a:r>
              <a:rPr b="0" lang="ru-RU" sz="14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Изображение для плейкаста"/>
          <p:cNvPicPr/>
          <p:nvPr/>
        </p:nvPicPr>
        <p:blipFill>
          <a:blip r:embed="rId3"/>
          <a:stretch/>
        </p:blipFill>
        <p:spPr>
          <a:xfrm>
            <a:off x="3352680" y="4114800"/>
            <a:ext cx="2989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Технология   «МНЕМОТЕХНИКА»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 «мнемотехника» и «мнемоника» обозначают одно и тоже - техника запоми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кусство запоминания названо словом «mnemonikon» по имени древнегреческой богини памяти Мнемозин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ри девяти М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ехника использует естественные механизмы памяти мозга и позволяет полностью контролировать процесс запоминания, сохранения и припоминания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Мнемотехника </a:t>
            </a: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в специальной дошкольной педагогике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 К. Воробьева называет эту методику сенсорно-графическими сх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. А. Ткаченко - предметно-схематическими мод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 П. Глухов - блоками-квадр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. В Большева – колла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. Н. Ефименкова - схемой составления расс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Основные цели </a:t>
            </a: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использования технологии  мнемотехни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умения устанавливать причинно-следственные связи в событиях, пересказах, расска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воение методов и приёмов запоминания, их осознанное при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основных психических процессов: памяти, внимания, образного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творческих способностей: фантазии, во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мелкой моторики рук при частичном или полном графическом воспроизве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Последовательность работы</a:t>
            </a: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 по мнемотехнике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квад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дорожки,  мнемоце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аблицы-сх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228600"/>
            <a:ext cx="69343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ехника  использует  не изображения предметов, а символы. Символизм характерен для детского рисунка в дошкольном возрасте и не вызывает трудностей в восприя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дактическим материалом служат мнемотаблицы - схемы, в которых заложена определённа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аблица - это средство, орудие, которое помогает детям выделить в предметах или их отношениях те существенные признаки, которые должны войти в содержание пересказа, расск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а учит фиксировать полученный результат в доступной детям схематич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Этапы работы с мнемотаблицами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атривание таблицы и разбор того,   что на ней изображ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кодировка информации, т. е. преобразование из абстрактных символов в обр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 перекодировки осуществляется пересказ, составление рассказа по заданной теме и др., то есть происходит отработка метода запоми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исовка мнемотаблиц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 старших групп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казывание по мнемотаблицам, созданными самими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Особенности   детей-логопатов </a:t>
            </a: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(коррекционные  задачи)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ительный  периоде автоматизации и дифференциации  поставленных зв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мотивации к заучиванию и запоминанию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ения  памяти, низкий уровень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лоподвижность психических 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интереса к поиско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готовности к выполнению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работоспособность и быстрая утомляем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желания  заучивать  стихи, пересказ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навыков владения  приёмами и методами запомин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личие больших трудностей и превалирование отрицательных эмоций на предложение заучить небольшой текст или стихотвор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ижение самоконтроля за собственной речью на этапе автоматизации звуков в стихотворных тек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7-10-14T11:53:46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