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6C4-9E3D-4697-8DE2-8563094E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6C9-430D-437C-9F5E-EB37FD52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5D2-CFCC-4666-941E-3B93AC7C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81E-0B02-4C1B-8F25-DAB3F7EE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D577-CA15-4F45-B80E-C9CA52DF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BF78-4081-47E5-9658-5A2ED125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0AEE-8A2B-4D62-8D2D-E6D02E1D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650B-2930-495E-BFBC-A71F27BC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FB99-2A61-4A08-9A30-6AC1CEDC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3AB1-B5BF-4BE2-AF46-4971D62B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692D-90CE-4192-9842-23DD0D12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31B-82B1-4843-9985-1D8C6229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1D3F-8DEC-4CF7-AB49-5FDF145B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1B89-C456-4A18-8B53-57C12D9C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E596-FCF4-49D6-BACB-E6FEE684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86C8-2A39-48B0-9C07-C86BBE8B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773E-80C8-46B8-8ABA-78EC943A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233-DD17-499B-86E8-ED569B39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FD0-7BE4-4AF2-951F-B3743906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377-E8F4-44CD-9F1F-CFFF0705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F81-D125-442F-86D4-EB84B571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F00-A041-4500-B27F-A15C1BE0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153-427F-4A00-BE77-DA475D3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A29-0F73-49CD-8DA1-DE484EE0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D2F1-10DA-48F7-A3C5-6AAE67E0B2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9553-3179-44B3-B11C-7B5C4884C9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Проблемное обучение учащихся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у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равнительный график качества знаний 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о математике среди 2-х и 3-х класс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5840" y="1600200"/>
          <a:ext cx="77677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7677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блемное обуч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979640" y="1628640"/>
            <a:ext cx="172872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1628640"/>
            <a:ext cx="136836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3573360"/>
            <a:ext cx="3168720" cy="194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еб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3573360"/>
            <a:ext cx="3024360" cy="194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блем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Этапы решения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блемной ситуаци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знание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условий, выделение того, что известно и неизвестно, в результате  чего проблема превращается в задач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раничение зоны поиска исходя из прошлого опыта субъ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оложения о способах решения задачи, выдвижение гипоте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лизация гипотезы, решение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а гипотезы, приложение полученных результатов к реальному ми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Главный психологический смыс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я проблемной ситуации состоит в порождении у учащих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тив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 усвоению нового пон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ть проблемную ситуацию означает ввест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тиворечи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торое состоит в необходимости выполнить практическое задание и невозможностью это сделать без нов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сьма полезное практическое значение при обучении имею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ё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здания проблемн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о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роблемной ситу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стоит в осознании противоречия (сути затруднения) и формулировании проблемы (вопроса о новом знании или темы урока) чере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буждающий диал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оторый представляет собой стимулирующие вопросы и побудительные пред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Алгоритм создания проблемной ситуации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динён в 6 блоков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блок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ить тему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блок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яснить новое знание и его тип: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оня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вычислительный приём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пособ действия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блок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уществить отбор устных упражнений для актуализации зна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одержательная область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дания, воспроизводящие ЗУН, необходимые и достаточные для изучения нов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ыслительная область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дания, направленные на развитие мыслительных  опера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блок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брать приём создания проблемной ситу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ём 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выполнимое практическое зад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ём 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ктическое задание, несходное с предыдущ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ём 3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ктическое задание, невыполнимое на уровне актуальных знаний, но сходное с предыдущ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Алгоритм создания проблемной ситу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бл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обрать практическое задание (пример, задача, геометрический материал), вызывающее познавательное затруднение в индивидуальной деятельности каждого учащего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блок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исать побуждающий диалог  от проблемной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Шаг 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осознанию противоречия (сути возникшего затруднения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алог №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Вы можете выполнить задание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В чём затрудне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алог №2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ы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могли выполнить   задани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Почему не получает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Чем это задание не похоже на предыдущие?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алог №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 вы хотели сдел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Какие знания применил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Задание выполне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равнительный график уровня обученности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о русскому языку среди 2-х и 3-х класс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16000" y="1989000"/>
          <a:ext cx="74167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89000"/>
                    <a:ext cx="74167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равнительный график качества знаний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о русскому языку среди 2-х и 3-х класс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0000" y="1628640"/>
          <a:ext cx="7767720" cy="45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76772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равнительный график уровня обученности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о математике 2-х и 3-х класс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5840" y="1600200"/>
          <a:ext cx="77677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7677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0:04Z</dcterms:created>
  <dc:creator>Nanolet</dc:creator>
  <dc:description/>
  <dc:language>en-US</dc:language>
  <cp:lastModifiedBy>Костя</cp:lastModifiedBy>
  <dcterms:modified xsi:type="dcterms:W3CDTF">2008-04-24T18:15:54Z</dcterms:modified>
  <cp:revision>39</cp:revision>
  <dc:subject/>
  <dc:title>Анализ деятельности школы 1 ступени</dc:title>
</cp:coreProperties>
</file>