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5415-D040-466E-83D5-95B7BEF0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0076-2A06-49A7-B677-A388D2FF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717A-1195-4456-8F6D-A17DA1AC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E647-1258-43BB-85E7-CA3C1C75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89A3-93DD-415C-900C-E31BD06E2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A7CB-5419-4992-B368-1B691399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FB9E-41E1-4503-AA3F-D0E66513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3D763-9316-4765-A20B-852764CC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9F0D-81B2-4D3E-A8D5-5D8AAC258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0562-FAA7-4889-B2CD-16E96C78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C1AF-07B0-4D45-8684-A581ACD1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9E24-6140-49C2-AEC6-A4331094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3F943-56CF-4BB3-8364-9DD684D7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B97B-673B-4DC2-ABAD-5FAEE09D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3DE4-8180-472D-9154-C5406EE8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35BC-F2E8-401E-8911-A143923D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2127-3981-4D02-9657-3B475C7E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DBD7-280F-476D-B9C6-98975657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09B-58E4-4077-9403-0372DA96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8EB5-209E-4BB5-8F09-F0967A25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CCF1-2844-47C2-8EEA-CAF68E70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142-5168-4BE8-BDCC-89B6F7A3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559A-1239-4E93-9839-E43F4FA3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B6EC-2645-4FA5-8BB4-2A7FFC6B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AE37-F426-4F8C-8365-E316A4D190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DF60-EC37-4DAA-944E-AF8FFCCFE9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Проблемное обучение учащихся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ко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уп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Сравнительный график качества знаний 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по математике среди 2-х и 3-х классов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915840" y="1600200"/>
          <a:ext cx="77677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7677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облемное обуч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979640" y="1628640"/>
            <a:ext cx="172872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35640" y="1628640"/>
            <a:ext cx="1368360" cy="172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32000" y="3573360"/>
            <a:ext cx="3168720" cy="194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чеб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бл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64000" y="3573360"/>
            <a:ext cx="3024360" cy="1943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блемна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Этапы решения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облемной ситуаци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знание проблемн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из условий, выделение того, что известно и неизвестно, в результате  чего проблема превращается в задач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граничение зоны поиска исходя из прошлого опыта субъ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дположения о способах решения задачи, выдвижение гипотез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ализация гипотезы, решение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ка гипотезы, приложение полученных результатов к реальному ми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Главный психологический смыс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ния проблемной ситуации состоит в порождении у учащих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отив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 усвоению нового поня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здать проблемную ситуацию означает ввест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тиворечие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оторое состоит в необходимости выполнить практическое задание и невозможностью это сделать без нов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сьма полезное практическое значение при обучении имею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иём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оздания проблемной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еников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проблемной ситуац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состоит в осознании противоречия (сути затруднения) и формулировании проблемы (вопроса о новом знании или темы урока) чере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буждающий диал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который представляет собой стимулирующие вопросы и побудительные предло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Алгоритм создания проблемной ситуации</a:t>
            </a:r>
            <a:br>
              <a:rPr sz="3200"/>
            </a:b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объединён в 6 блоков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 блок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пределить тему уро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блок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яснить новое знание и его тип: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онят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прави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вычислительный приём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пособ действия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блок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уществить отбор устных упражнений для актуализации знан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Содержательная область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дания, воспроизводящие ЗУН, необходимые и достаточные для изучения нов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ыслительная область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: 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дания, направленные на развитие мыслительных  операц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блок.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брать приём создания проблемной ситу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риём 1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выполнимое практическое зад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риём 2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ктическое задание, несходное с предыдущ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риём 3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актическое задание, невыполнимое на уровне актуальных знаний, но сходное с предыдущи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Алгоритм создания проблемной ситуа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бло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добрать практическое задание (пример, задача, геометрический материал), вызывающее познавательное затруднение в индивидуальной деятельности каждого учащего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 блок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писать побуждающий диалог  от проблемной ситу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Шаг 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 осознанию противоречия (сути возникшего затруднения)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иалог №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Вы можете выполнить задание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В чём затруднени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иалог №2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Вы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могли выполнить   задани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Почему не получаетс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Чем это задание не похоже на предыдущие?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Диалог №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то вы хотели сделать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Какие знания применил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Задание выполне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Сравнительный график уровня обученности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по русскому языку среди 2-х и 3-х классов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116000" y="1989000"/>
          <a:ext cx="741672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89000"/>
                    <a:ext cx="741672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Сравнительный график качества знаний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по русскому языку среди 2-х и 3-х классов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00000" y="1628640"/>
          <a:ext cx="7767720" cy="453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28640"/>
                    <a:ext cx="7767720" cy="45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Сравнительный график уровня обученности </a:t>
            </a:r>
            <a:br>
              <a:rPr sz="2800"/>
            </a:b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по математике 2-х и 3-х классов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15840" y="1600200"/>
          <a:ext cx="776772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7677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0:04Z</dcterms:created>
  <dc:creator>Nanolet</dc:creator>
  <dc:description/>
  <dc:language>en-US</dc:language>
  <cp:lastModifiedBy>Костя</cp:lastModifiedBy>
  <dcterms:modified xsi:type="dcterms:W3CDTF">2008-04-24T18:15:54Z</dcterms:modified>
  <cp:revision>39</cp:revision>
  <dc:subject/>
  <dc:title>Анализ деятельности школы 1 ступени</dc:title>
</cp:coreProperties>
</file>