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dt" idx="13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ftr" idx="14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 type="sldNum" idx="15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AC86-3356-4BBC-95DB-52E426927D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93F-D469-48DC-A087-B59C80838A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CC4-15BA-4E57-9DE5-9F21DA1D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A40F-B0BC-4DDA-A824-9DC23B69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6EC-AB1B-4AF3-93DD-D02F7329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9854-B573-408A-8B11-E8CAAEAB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5629-6FD1-4427-BA84-8763D546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1C44-82A8-4CD6-A39D-FA32075C3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03EB-8EEE-4B0D-8E30-1F6726FA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FE80-4BE8-40F8-9EFB-89F2272E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55988-EB63-42E6-9359-0FA482A2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AAB-BB61-47AD-BA0C-1BABEC09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9CDD-D1C8-4455-81B0-7383F2E00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E8EE-A486-4D04-8643-F5E1ED25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7325-106C-4850-A00D-8CCD08B3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42875-F209-40DA-8D1A-B84256E4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D8C0-2BD9-44BC-AB52-83226D67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D07CB-C3E2-4390-9D3F-EDD342B2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5FA1-C3C9-4436-9263-575E0B8F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DF2158-17A8-4109-B05E-6EC0FBA9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05A76D-D682-4970-9146-02EA5F20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A3AA2B-11F0-4619-9BD9-BE061714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F0187-512A-4E59-9F53-BCAEA297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69E5B-DC67-4B34-A738-B6842C345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02EB-CA07-41C1-BBB8-995E3B56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F5BF0-B7BD-49DF-B6F0-D519AC81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B16D4-73B9-43D4-A653-DA75C0AA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9714A7-AA9A-481E-8EDE-9EF45C92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8074B5-D533-4EDB-AE09-AAF37B4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E442D-EFF9-43FD-BA31-B34AB41A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EC6B84-CDFD-4516-9D40-ACDC9F4AF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DF56E-13C3-4CA0-AEF2-292F83BC5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7F365-3015-46D4-B27C-E8FD8FC60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7ED17-DB1C-4B2F-965F-FCA94BD4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4E9EC-9C1A-4DD9-BD64-74DBA6F1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49F-4683-4298-A669-440ABE42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853AD-A6E1-40D6-91D4-C53D80F6E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383F0-CBF9-4D62-9382-2E468C22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9919-BF0E-41E1-897E-8BF73D2DD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75492-22D6-475B-8108-E77E0C22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18DF-08D9-4933-A654-EA81889B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C9080-8F39-4DDB-A1FC-7F04FABD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1CFB-9797-489A-AD8C-040C0E39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6A80-1F42-4A05-9139-1F9E371C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678D-1CE3-4E6A-99D2-7B38FAA6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4DD4-053B-477D-9E9C-8A0B0BAC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FDA6-E96C-4B00-9E51-ED5B4B96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319-DF5F-4C41-95B4-F8958DE3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A9F-50DD-4403-B9C3-DAADAE4D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DD63-B416-410C-89C6-31DE6589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6AB2-41C6-42FF-8B71-3EA4584A83A6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86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90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94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6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27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8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132" name="Rectangle 84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85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13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136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80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e67c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84DA-2E64-40D8-B70E-B43F0A7BAF8A}" type="slidenum">
              <a:rPr b="0" lang="ru-RU" sz="1200" spc="-1" strike="noStrike">
                <a:solidFill>
                  <a:srgbClr val="4e67c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210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11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212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216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220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258" name="Rectangle 80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1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2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262" name="Rectangle 77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78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79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5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A7E2-2156-4E14-B627-B819BFF52B3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ff7"/>
            </a:gs>
            <a:gs pos="100000">
              <a:srgbClr val="5386a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336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337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38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342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346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378" name="Group 44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7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380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5"/>
              <p:cNvGrpSpPr/>
              <p:nvPr/>
            </p:nvGrpSpPr>
            <p:grpSpPr>
              <a:xfrm>
                <a:off x="422280" y="0"/>
                <a:ext cx="2514600" cy="6858000"/>
                <a:chOff x="422280" y="0"/>
                <a:chExt cx="2514600" cy="6858000"/>
              </a:xfrm>
            </p:grpSpPr>
            <p:sp>
              <p:nvSpPr>
                <p:cNvPr id="384" name="Rectangle 83"/>
                <p:cNvSpPr/>
                <p:nvPr/>
              </p:nvSpPr>
              <p:spPr>
                <a:xfrm>
                  <a:off x="133668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Rectangle 84"/>
                <p:cNvSpPr/>
                <p:nvPr/>
              </p:nvSpPr>
              <p:spPr>
                <a:xfrm>
                  <a:off x="42228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85"/>
                <p:cNvSpPr/>
                <p:nvPr/>
              </p:nvSpPr>
              <p:spPr>
                <a:xfrm>
                  <a:off x="65088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9"/>
              <p:cNvGrpSpPr/>
              <p:nvPr/>
            </p:nvGrpSpPr>
            <p:grpSpPr>
              <a:xfrm>
                <a:off x="6629400" y="0"/>
                <a:ext cx="2514600" cy="6858000"/>
                <a:chOff x="6629400" y="0"/>
                <a:chExt cx="2514600" cy="6858000"/>
              </a:xfrm>
            </p:grpSpPr>
            <p:sp>
              <p:nvSpPr>
                <p:cNvPr id="388" name="Rectangle 80"/>
                <p:cNvSpPr/>
                <p:nvPr/>
              </p:nvSpPr>
              <p:spPr>
                <a:xfrm rot="10800000">
                  <a:off x="6629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81"/>
                <p:cNvSpPr/>
                <p:nvPr/>
              </p:nvSpPr>
              <p:spPr>
                <a:xfrm rot="10800000">
                  <a:off x="86868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82"/>
                <p:cNvSpPr/>
                <p:nvPr/>
              </p:nvSpPr>
              <p:spPr>
                <a:xfrm rot="10800000">
                  <a:off x="8153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78"/>
              <p:cNvSpPr/>
              <p:nvPr/>
            </p:nvSpPr>
            <p:spPr>
              <a:xfrm>
                <a:off x="289548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0d79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5ec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01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e67c8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4e67c8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5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212745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2278-30B2-40CF-827F-2823805FA582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67c8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424242"/>
              </a:solidFill>
              <a:latin typeface="Century Gothic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-1143000" y="-25560"/>
            <a:ext cx="12593520" cy="6855120"/>
          </a:xfrm>
          <a:prstGeom prst="rect">
            <a:avLst/>
          </a:prstGeom>
          <a:ln w="0">
            <a:noFill/>
          </a:ln>
        </p:spPr>
      </p:pic>
      <p:sp>
        <p:nvSpPr>
          <p:cNvPr id="471" name="WordArt 5"/>
          <p:cNvSpPr txBox="1"/>
          <p:nvPr/>
        </p:nvSpPr>
        <p:spPr>
          <a:xfrm>
            <a:off x="457200" y="2133720"/>
            <a:ext cx="8686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оект: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«Как я провел лето»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04920" y="371880"/>
            <a:ext cx="81547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3260c"/>
                </a:solidFill>
                <a:latin typeface="Arial"/>
              </a:rPr>
              <a:t>Муниципальное</a:t>
            </a:r>
            <a:r>
              <a:rPr b="1" lang="en-US" sz="1600" spc="-1" strike="noStrike">
                <a:solidFill>
                  <a:srgbClr val="c3260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c3260c"/>
                </a:solidFill>
                <a:latin typeface="Arial"/>
              </a:rPr>
              <a:t>бюджетное дошкольное образовательное учрежд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3260c"/>
                </a:solidFill>
                <a:latin typeface="Arial"/>
              </a:rPr>
              <a:t>«Детский сад комбинированного вида с группами для детей с нарушениями речи №68 «Золотые зернышки»</a:t>
            </a:r>
            <a:r>
              <a:rPr b="1" lang="ru-RU" sz="1600" spc="-1" strike="noStrike">
                <a:solidFill>
                  <a:srgbClr val="cc0099"/>
                </a:solidFill>
                <a:latin typeface="Arial"/>
              </a:rPr>
              <a:t>                                             </a:t>
            </a:r>
            <a:r>
              <a:rPr b="1" lang="ru-RU" sz="1800" spc="-1" strike="noStrike">
                <a:solidFill>
                  <a:srgbClr val="cc0099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9"/>
          <p:cNvSpPr/>
          <p:nvPr/>
        </p:nvSpPr>
        <p:spPr>
          <a:xfrm>
            <a:off x="6796440" y="5105520"/>
            <a:ext cx="24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260c"/>
                </a:solidFill>
                <a:latin typeface="Arial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260c"/>
                </a:solidFill>
                <a:latin typeface="Arial"/>
              </a:rPr>
              <a:t>Воспитатели гр№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3260c"/>
                </a:solidFill>
                <a:latin typeface="Arial"/>
              </a:rPr>
              <a:t>Охотникова А.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4"/>
          <p:cNvSpPr/>
          <p:nvPr/>
        </p:nvSpPr>
        <p:spPr>
          <a:xfrm>
            <a:off x="228600" y="922680"/>
            <a:ext cx="83818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Comic Sans MS"/>
              </a:rPr>
              <a:t>Возраст детей: 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4-5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Comic Sans MS"/>
              </a:rPr>
              <a:t>Тип проекта: 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творче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Comic Sans MS"/>
              </a:rPr>
              <a:t>Длительность: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 1 недел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             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(с 1.09 по 9.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4124"/>
                </a:solidFill>
                <a:latin typeface="Comic Sans MS"/>
              </a:rPr>
              <a:t>Цель:</a:t>
            </a: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 Формирование представлений о летнем времени года, как о периоде активного семейного отды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"/>
          <p:cNvSpPr/>
          <p:nvPr/>
        </p:nvSpPr>
        <p:spPr>
          <a:xfrm>
            <a:off x="314280" y="415080"/>
            <a:ext cx="8829720" cy="73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Воспитательные: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Воспитывать доброжелательное и уважительное отношение к товарищам в процессе совместной творческой деятельности по оформлению фотоколлажа. Формирование чувства эмпатии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Развивающие: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Развивать связную речь. Побуждать детей активно употреблять в речи простейшие виды распространенных предложений в процессе рассказа о летнем отды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Обучающие: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Формировать и закреплять знания о летнем времени года, его отличительных особенностях. Учить делиться впечатлениями с помощью рассказа о летнем отдыхе с семьей. Формировать умение слушать друг друга, задавать вопросы и отвечать на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4"/>
          <p:cNvSpPr/>
          <p:nvPr/>
        </p:nvSpPr>
        <p:spPr>
          <a:xfrm>
            <a:off x="314280" y="408960"/>
            <a:ext cx="8829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Этапы прое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Подготовительный этап: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Сбор, накопление информации. Составление плана проекта. Привлечение родителей к подготовке проекта. Подготовка дидактических, настольно печатных игр по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Основной этап: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Проведение занятия по ознакомлению с окружающим миром на тему: «Лето – чудесная пора», Вовлечение детей в игровой процесс с дидактическими и настольно печатными играми по теме в свободной деятельности. Творческое рассказывание детей о летнем отдыхе со своей семьей с опорой на фотографии. Совместное с детьми оформление фотоколлажа «Мое лето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Заключительный этап: 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Презентация фотоколлажа на родительском собр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1371600" y="3063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99"/>
                </a:solidFill>
                <a:latin typeface="Comic Sans MS"/>
              </a:rPr>
              <a:t>Оформление фотоколла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3" descr="F:\фото как я провел лето\30.jpg"/>
          <p:cNvPicPr/>
          <p:nvPr/>
        </p:nvPicPr>
        <p:blipFill>
          <a:blip r:embed="rId2"/>
          <a:stretch/>
        </p:blipFill>
        <p:spPr>
          <a:xfrm>
            <a:off x="152280" y="990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4" descr="F:\фото как я провел лето\28.jpg"/>
          <p:cNvPicPr/>
          <p:nvPr/>
        </p:nvPicPr>
        <p:blipFill>
          <a:blip r:embed="rId3"/>
          <a:stretch/>
        </p:blipFill>
        <p:spPr>
          <a:xfrm>
            <a:off x="3200400" y="99072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F:\фото как я провел лето\25.jpg"/>
          <p:cNvPicPr/>
          <p:nvPr/>
        </p:nvPicPr>
        <p:blipFill>
          <a:blip r:embed="rId4"/>
          <a:stretch/>
        </p:blipFill>
        <p:spPr>
          <a:xfrm>
            <a:off x="6019920" y="990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6" descr="F:\фото как я провел лето\26.jpg"/>
          <p:cNvPicPr/>
          <p:nvPr/>
        </p:nvPicPr>
        <p:blipFill>
          <a:blip r:embed="rId5"/>
          <a:stretch/>
        </p:blipFill>
        <p:spPr>
          <a:xfrm>
            <a:off x="3276720" y="3276720"/>
            <a:ext cx="2361960" cy="314964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" descr="F:\фото как я провел лето\27.jpg"/>
          <p:cNvPicPr/>
          <p:nvPr/>
        </p:nvPicPr>
        <p:blipFill>
          <a:blip r:embed="rId6"/>
          <a:stretch/>
        </p:blipFill>
        <p:spPr>
          <a:xfrm>
            <a:off x="152280" y="3809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F:\фото как я провел лето\31.jpg"/>
          <p:cNvPicPr/>
          <p:nvPr/>
        </p:nvPicPr>
        <p:blipFill>
          <a:blip r:embed="rId7"/>
          <a:stretch/>
        </p:blipFill>
        <p:spPr>
          <a:xfrm>
            <a:off x="6019920" y="380988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Рисунок 4" descr="E:\фоны ИЗО\f69ef0c19570.jpg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4"/>
          <p:cNvSpPr/>
          <p:nvPr/>
        </p:nvSpPr>
        <p:spPr>
          <a:xfrm>
            <a:off x="152280" y="686520"/>
            <a:ext cx="88297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14124"/>
                </a:solidFill>
                <a:latin typeface="Comic Sans MS"/>
              </a:rPr>
              <a:t>Ожидаемый результа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Были обобщены и систематизированы знания детей о летнем времени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Между родителями, детьми и педагогами были установлены доверительные и доброжелательные взаимо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Между детьми стали формироваться и устанавливаться доброжелательные и уважительные взаимоотношения, появились элементы формирования эмпатии друг к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Дети стали более открытыми, появилось желание делиться своими впечатлениями с другими людьми через рассказ и показ фотограф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52600">
              <a:lnSpc>
                <a:spcPct val="100000"/>
              </a:lnSpc>
              <a:buClr>
                <a:srgbClr val="cc0099"/>
              </a:buClr>
              <a:buFont typeface="Comic Sans MS"/>
              <a:buChar char="-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10-14T08:59:33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