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6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5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1.png" ContentType="image/png"/>
  <Override PartName="/ppt/media/image30.jpeg" ContentType="image/jpe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DBB-9089-4E7F-8361-3D69B453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444-8946-4718-9D78-DD8F20AA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879-8B5B-49F0-914E-59024C23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F9E-0C25-4158-B637-6D5F4E15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4B9-A116-4487-892A-7ED6F0CB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46D-AD86-4F04-8FB2-8B5CF325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D22-F925-46DA-82B7-FE975579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F7B-2D16-4AAA-8F86-06501702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B47B-C32B-4A47-AD65-532F001E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BC2-39F8-46C4-8AD3-E53D925B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194-C514-43D7-914C-87B0CDEC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D97-69F8-43A1-90E5-353994E6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1B1A-9920-4E01-B1D0-7A20365FFC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6.gif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6.gif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6.gif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6.gif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nachalo4ka.ru/wp-content/uploads/2014/08/obrazets-slayda-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Муниципальное автономное дошкольное образовательное учреждение  «Детский сад №21» «Золотая рыбка» с приоритетным осуществлением деятельности по физическому  развитию дете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6" descr=""/>
          <p:cNvPicPr/>
          <p:nvPr/>
        </p:nvPicPr>
        <p:blipFill>
          <a:blip r:embed="rId2"/>
          <a:stretch/>
        </p:blipFill>
        <p:spPr>
          <a:xfrm>
            <a:off x="463680" y="1768320"/>
            <a:ext cx="83516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-139680" y="1139760"/>
            <a:ext cx="1060560" cy="426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Анимация Дети"/>
          <p:cNvPicPr/>
          <p:nvPr/>
        </p:nvPicPr>
        <p:blipFill>
          <a:blip r:embed="rId3"/>
          <a:stretch/>
        </p:blipFill>
        <p:spPr>
          <a:xfrm>
            <a:off x="8021520" y="5396040"/>
            <a:ext cx="1068480" cy="14875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"/>
          <p:cNvPicPr/>
          <p:nvPr/>
        </p:nvPicPr>
        <p:blipFill>
          <a:blip r:embed="rId4"/>
          <a:stretch/>
        </p:blipFill>
        <p:spPr>
          <a:xfrm>
            <a:off x="2411280" y="2421000"/>
            <a:ext cx="4130640" cy="27493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0"/>
          <p:cNvSpPr/>
          <p:nvPr/>
        </p:nvSpPr>
        <p:spPr>
          <a:xfrm>
            <a:off x="5636520" y="5394240"/>
            <a:ext cx="236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Квест 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«Морские да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9" descr=""/>
          <p:cNvPicPr/>
          <p:nvPr/>
        </p:nvPicPr>
        <p:blipFill>
          <a:blip r:embed="rId5"/>
          <a:stretch/>
        </p:blipFill>
        <p:spPr>
          <a:xfrm>
            <a:off x="1200240" y="-201600"/>
            <a:ext cx="67309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2" descr=""/>
          <p:cNvPicPr/>
          <p:nvPr/>
        </p:nvPicPr>
        <p:blipFill>
          <a:blip r:embed="rId2"/>
          <a:stretch/>
        </p:blipFill>
        <p:spPr>
          <a:xfrm>
            <a:off x="-109440" y="1090440"/>
            <a:ext cx="4059000" cy="5121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Анимация Дети"/>
          <p:cNvPicPr/>
          <p:nvPr/>
        </p:nvPicPr>
        <p:blipFill>
          <a:blip r:embed="rId3"/>
          <a:stretch/>
        </p:blipFill>
        <p:spPr>
          <a:xfrm>
            <a:off x="8211960" y="5559480"/>
            <a:ext cx="932040" cy="12985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"/>
          <p:cNvPicPr/>
          <p:nvPr/>
        </p:nvPicPr>
        <p:blipFill>
          <a:blip r:embed="rId4"/>
          <a:stretch/>
        </p:blipFill>
        <p:spPr>
          <a:xfrm>
            <a:off x="3348000" y="1989000"/>
            <a:ext cx="3301920" cy="24638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9"/>
          <p:cNvSpPr/>
          <p:nvPr/>
        </p:nvSpPr>
        <p:spPr>
          <a:xfrm>
            <a:off x="3059280" y="4941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«Собери ко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рямоугольник 11" descr=""/>
          <p:cNvPicPr/>
          <p:nvPr/>
        </p:nvPicPr>
        <p:blipFill>
          <a:blip r:embed="rId5"/>
          <a:stretch/>
        </p:blipFill>
        <p:spPr>
          <a:xfrm>
            <a:off x="2133720" y="-231840"/>
            <a:ext cx="49132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2"/>
          <a:stretch/>
        </p:blipFill>
        <p:spPr>
          <a:xfrm>
            <a:off x="317520" y="841320"/>
            <a:ext cx="1084320" cy="5261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Анимация Дети"/>
          <p:cNvPicPr/>
          <p:nvPr/>
        </p:nvPicPr>
        <p:blipFill>
          <a:blip r:embed="rId3"/>
          <a:stretch/>
        </p:blipFill>
        <p:spPr>
          <a:xfrm>
            <a:off x="8197920" y="5538960"/>
            <a:ext cx="946080" cy="13190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4"/>
          <a:stretch/>
        </p:blipFill>
        <p:spPr>
          <a:xfrm>
            <a:off x="3292560" y="4327560"/>
            <a:ext cx="3209760" cy="240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Атася\Desktop\ФОТО\морские дали\морское путешествие\P7080132.JPG"/>
          <p:cNvPicPr/>
          <p:nvPr/>
        </p:nvPicPr>
        <p:blipFill>
          <a:blip r:embed="rId5"/>
          <a:stretch/>
        </p:blipFill>
        <p:spPr>
          <a:xfrm>
            <a:off x="2962440" y="1189080"/>
            <a:ext cx="3566880" cy="53150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8"/>
          <p:cNvSpPr/>
          <p:nvPr/>
        </p:nvSpPr>
        <p:spPr>
          <a:xfrm>
            <a:off x="2077920" y="3887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Командные сорев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9" descr=""/>
          <p:cNvPicPr/>
          <p:nvPr/>
        </p:nvPicPr>
        <p:blipFill>
          <a:blip r:embed="rId6"/>
          <a:stretch/>
        </p:blipFill>
        <p:spPr>
          <a:xfrm>
            <a:off x="969840" y="-231840"/>
            <a:ext cx="77662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82080" y="5516640"/>
            <a:ext cx="961920" cy="1341360"/>
          </a:xfrm>
          <a:prstGeom prst="rect">
            <a:avLst/>
          </a:prstGeom>
          <a:ln w="0">
            <a:noFill/>
          </a:ln>
        </p:spPr>
      </p:pic>
      <p:pic>
        <p:nvPicPr>
          <p:cNvPr id="105" name="Схема 4" descr=""/>
          <p:cNvPicPr/>
          <p:nvPr/>
        </p:nvPicPr>
        <p:blipFill>
          <a:blip r:embed="rId3"/>
          <a:stretch/>
        </p:blipFill>
        <p:spPr>
          <a:xfrm>
            <a:off x="1859040" y="201600"/>
            <a:ext cx="7169040" cy="29066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4"/>
          <a:stretch/>
        </p:blipFill>
        <p:spPr>
          <a:xfrm>
            <a:off x="2700360" y="3367080"/>
            <a:ext cx="5079960" cy="317484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7" descr=""/>
          <p:cNvPicPr/>
          <p:nvPr/>
        </p:nvPicPr>
        <p:blipFill>
          <a:blip r:embed="rId5"/>
          <a:stretch/>
        </p:blipFill>
        <p:spPr>
          <a:xfrm>
            <a:off x="-244440" y="-341280"/>
            <a:ext cx="47800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97920" y="5538960"/>
            <a:ext cx="946080" cy="1319040"/>
          </a:xfrm>
          <a:prstGeom prst="rect">
            <a:avLst/>
          </a:prstGeom>
          <a:ln w="0">
            <a:noFill/>
          </a:ln>
        </p:spPr>
      </p:pic>
      <p:pic>
        <p:nvPicPr>
          <p:cNvPr id="110" name="Схема 4" descr=""/>
          <p:cNvPicPr/>
          <p:nvPr/>
        </p:nvPicPr>
        <p:blipFill>
          <a:blip r:embed="rId3"/>
          <a:stretch/>
        </p:blipFill>
        <p:spPr>
          <a:xfrm>
            <a:off x="1743120" y="371520"/>
            <a:ext cx="7047000" cy="27684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" descr=""/>
          <p:cNvPicPr/>
          <p:nvPr/>
        </p:nvPicPr>
        <p:blipFill>
          <a:blip r:embed="rId4"/>
          <a:stretch/>
        </p:blipFill>
        <p:spPr>
          <a:xfrm>
            <a:off x="3608280" y="3203640"/>
            <a:ext cx="3319560" cy="331956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9" descr=""/>
          <p:cNvPicPr/>
          <p:nvPr/>
        </p:nvPicPr>
        <p:blipFill>
          <a:blip r:embed="rId5"/>
          <a:stretch/>
        </p:blipFill>
        <p:spPr>
          <a:xfrm>
            <a:off x="-328680" y="-378000"/>
            <a:ext cx="44928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632720" cy="595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Федеральный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государственный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разовательный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тандарт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дошкольного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инистерство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уки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российской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федерации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иказ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т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17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ктября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2013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г.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.1155 об утверждении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i077.radikal.ru/1502/63/707c88cdcf2b.gif"/>
          <p:cNvPicPr/>
          <p:nvPr/>
        </p:nvPicPr>
        <p:blipFill>
          <a:blip r:embed="rId2"/>
          <a:stretch/>
        </p:blipFill>
        <p:spPr>
          <a:xfrm>
            <a:off x="1403280" y="312840"/>
            <a:ext cx="900360" cy="10764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3"/>
          <a:stretch/>
        </p:blipFill>
        <p:spPr>
          <a:xfrm>
            <a:off x="2133720" y="695160"/>
            <a:ext cx="4833720" cy="932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Анимация Дети"/>
          <p:cNvPicPr/>
          <p:nvPr/>
        </p:nvPicPr>
        <p:blipFill>
          <a:blip r:embed="rId4"/>
          <a:stretch/>
        </p:blipFill>
        <p:spPr>
          <a:xfrm>
            <a:off x="8197920" y="5538960"/>
            <a:ext cx="9460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53280" y="5580000"/>
            <a:ext cx="990720" cy="12430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3"/>
          <a:stretch/>
        </p:blipFill>
        <p:spPr>
          <a:xfrm>
            <a:off x="2444760" y="-55440"/>
            <a:ext cx="3760920" cy="174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324000" y="1052640"/>
          <a:ext cx="8496000" cy="5087880"/>
        </p:xfrm>
        <a:graphic>
          <a:graphicData uri="http://schemas.openxmlformats.org/drawingml/2006/table">
            <a:tbl>
              <a:tblPr/>
              <a:tblGrid>
                <a:gridCol w="6027480"/>
                <a:gridCol w="1324080"/>
                <a:gridCol w="1144440"/>
              </a:tblGrid>
              <a:tr h="39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4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5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Напр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. Доля педагогических работников прошедших курсовую подготов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. Доля роста физических качеств воспитанник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. Доля родителей участвующих в мероприятиях ДО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. Недостаточное оснащение игровых площадок нетрадиционным оборудование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вышение профессиональной компетенции педагогических работников по вопросам развития физических кач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в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оспитанников, уровня физической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дготовленности (быстрота, ловкость, меткость) воспитанников, и педагогическое просвещение родителей по вопросам развития физических качеств детей в летний период в условиях федерального образовательного стандарта и приоритетного направления образовательной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90000" y="5459400"/>
            <a:ext cx="981000" cy="14842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3"/>
          <a:stretch/>
        </p:blipFill>
        <p:spPr>
          <a:xfrm>
            <a:off x="2262240" y="122400"/>
            <a:ext cx="4973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-1260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064720" cy="524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. Пройти курсовую подготовку педагогическим работникам (не менее 20%)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2. Повысить уровень физической подготовленности (быстрота, ловкость, меткость) воспитанников на 10 %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3.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Привлечь не менее 15% родителей в процесс развития физических качеств воспитанников в летний период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4. Пополнить игровые участки нетрадиционным оборудованием для развития физических качеств в летний период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94680" y="5445000"/>
            <a:ext cx="936720" cy="13035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3"/>
          <a:stretch/>
        </p:blipFill>
        <p:spPr>
          <a:xfrm>
            <a:off x="1828800" y="231840"/>
            <a:ext cx="543708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8000" y="307800"/>
            <a:ext cx="8136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4000"/>
            </a:b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088480" y="5038560"/>
            <a:ext cx="1223640" cy="17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279360" y="546120"/>
          <a:ext cx="7977240" cy="6084720"/>
        </p:xfrm>
        <a:graphic>
          <a:graphicData uri="http://schemas.openxmlformats.org/drawingml/2006/table">
            <a:tbl>
              <a:tblPr/>
              <a:tblGrid>
                <a:gridCol w="5392800"/>
                <a:gridCol w="789120"/>
                <a:gridCol w="919080"/>
                <a:gridCol w="876240"/>
              </a:tblGrid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5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6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7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. На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. Доля педагогических работников, имеющих грамоты, поощрения на уровне ДОУ в летний пери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.  Доля педагогических работников, представивших опыт через мастер-классы, для родителей и сотруд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. Доля педагогических работников прошедших курсовую подготов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. На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. Доля роста физических качеств воспитан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. Доля воспитанников, получивших призовые места на уровне ДОУ в летний пери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. Доля воспитанников посещавших спортивные кружки, секции в учебном год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. Победа в городских спортивных соревнованиях, посвященных Дню физкульту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I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. На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Доля родителей участвующих в мероприятиях Д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Прямоугольник 2" descr=""/>
          <p:cNvPicPr/>
          <p:nvPr/>
        </p:nvPicPr>
        <p:blipFill>
          <a:blip r:embed="rId3"/>
          <a:stretch/>
        </p:blipFill>
        <p:spPr>
          <a:xfrm>
            <a:off x="1054080" y="-122400"/>
            <a:ext cx="7827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5904000" y="264168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хема 2" descr=""/>
          <p:cNvPicPr/>
          <p:nvPr/>
        </p:nvPicPr>
        <p:blipFill>
          <a:blip r:embed="rId2"/>
          <a:stretch/>
        </p:blipFill>
        <p:spPr>
          <a:xfrm>
            <a:off x="-6480" y="426960"/>
            <a:ext cx="9047160" cy="6004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Анимация Дети"/>
          <p:cNvPicPr/>
          <p:nvPr/>
        </p:nvPicPr>
        <p:blipFill>
          <a:blip r:embed="rId3"/>
          <a:stretch/>
        </p:blipFill>
        <p:spPr>
          <a:xfrm>
            <a:off x="7885080" y="5103720"/>
            <a:ext cx="12589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3240" y="-87480"/>
            <a:ext cx="9144000" cy="6944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066160" y="5334120"/>
            <a:ext cx="1081080" cy="15224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" descr=""/>
          <p:cNvPicPr/>
          <p:nvPr/>
        </p:nvPicPr>
        <p:blipFill>
          <a:blip r:embed="rId3"/>
          <a:stretch/>
        </p:blipFill>
        <p:spPr>
          <a:xfrm>
            <a:off x="-182520" y="768240"/>
            <a:ext cx="1219320" cy="65167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8"/>
          <p:cNvSpPr/>
          <p:nvPr/>
        </p:nvSpPr>
        <p:spPr>
          <a:xfrm>
            <a:off x="3419640" y="522936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Пионер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9" descr=""/>
          <p:cNvPicPr/>
          <p:nvPr/>
        </p:nvPicPr>
        <p:blipFill>
          <a:blip r:embed="rId4"/>
          <a:stretch/>
        </p:blipFill>
        <p:spPr>
          <a:xfrm>
            <a:off x="1189080" y="-109440"/>
            <a:ext cx="6778440" cy="14745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"/>
          <p:cNvPicPr/>
          <p:nvPr/>
        </p:nvPicPr>
        <p:blipFill>
          <a:blip r:embed="rId5"/>
          <a:stretch/>
        </p:blipFill>
        <p:spPr>
          <a:xfrm>
            <a:off x="2556000" y="2133720"/>
            <a:ext cx="42606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3" descr=""/>
          <p:cNvPicPr/>
          <p:nvPr/>
        </p:nvPicPr>
        <p:blipFill>
          <a:blip r:embed="rId2"/>
          <a:stretch/>
        </p:blipFill>
        <p:spPr>
          <a:xfrm>
            <a:off x="171360" y="1073160"/>
            <a:ext cx="2279880" cy="483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Анимация Дети"/>
          <p:cNvPicPr/>
          <p:nvPr/>
        </p:nvPicPr>
        <p:blipFill>
          <a:blip r:embed="rId3"/>
          <a:stretch/>
        </p:blipFill>
        <p:spPr>
          <a:xfrm>
            <a:off x="7991640" y="5373720"/>
            <a:ext cx="1066680" cy="1484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"/>
          <p:cNvPicPr/>
          <p:nvPr/>
        </p:nvPicPr>
        <p:blipFill>
          <a:blip r:embed="rId4"/>
          <a:stretch/>
        </p:blipFill>
        <p:spPr>
          <a:xfrm>
            <a:off x="3059280" y="1773360"/>
            <a:ext cx="3647880" cy="27399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 flipV="1" rot="10800000">
            <a:off x="3419640" y="4604760"/>
            <a:ext cx="35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Звероаэроб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9" descr=""/>
          <p:cNvPicPr/>
          <p:nvPr/>
        </p:nvPicPr>
        <p:blipFill>
          <a:blip r:embed="rId5"/>
          <a:stretch/>
        </p:blipFill>
        <p:spPr>
          <a:xfrm>
            <a:off x="1390680" y="-60480"/>
            <a:ext cx="66196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7T04:35:01Z</dcterms:created>
  <dc:creator>D!akov RePack</dc:creator>
  <dc:description/>
  <dc:language>en-US</dc:language>
  <cp:lastModifiedBy>МБДОУДС21</cp:lastModifiedBy>
  <dcterms:modified xsi:type="dcterms:W3CDTF">2016-10-19T03:47:10Z</dcterms:modified>
  <cp:revision>122</cp:revision>
  <dc:subject/>
  <dc:title>Презентация PowerPoint</dc:title>
</cp:coreProperties>
</file>