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8F5-663D-4222-853C-7FD48DE04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179-1774-4654-89BF-392CBE3F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CAB-9795-4B3D-9608-388B9BBE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3B43-95ED-4DA5-9F1A-AC89D483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F303-8E0E-4861-AFAA-C295AEFF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10D-8F9E-4857-BBA3-51635B89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68D3-6C62-4B23-9833-9F5CEB33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F7AC-5003-4DEB-A9D7-0A960ECD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516C-ED17-4C2E-BB73-B225DDD3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98A4-C2B5-4EF8-BDCA-0D6B000E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6AB9-7294-47CD-95AF-0AA29D8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6FF-728D-44D2-A73A-398AA8F4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d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0963-06D3-44EF-B9F8-BFA137B41F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1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cc"/>
                </a:solidFill>
                <a:latin typeface="Arial"/>
              </a:rPr>
              <a:t>Психологическая готовность к обучению в шк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%D1%80%D0%B0%D0%B7%D0%B2%D0%B8%D1%82%D0%B8%D0%B5-%D1%80%D0%B5%D0%B1%D0%B5%D0%BD%D0%BA%D0%B0-%D0%BE%D1%82-3-%D0%B4%D0%BE-7-%D0%BC%D0%B8%D0%BD%D0%B8%D0%B0%D1%82%D1%8E%D1%80%D0%B0"/>
          <p:cNvPicPr/>
          <p:nvPr/>
        </p:nvPicPr>
        <p:blipFill>
          <a:blip r:embed="rId1"/>
          <a:stretch/>
        </p:blipFill>
        <p:spPr>
          <a:xfrm>
            <a:off x="1116000" y="1628640"/>
            <a:ext cx="6537240" cy="42991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442764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Подготовила Акиншина Н.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44654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сихологически готовый к школе ребенок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292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68360" y="1844640"/>
            <a:ext cx="3598920" cy="187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Личностная   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отов к общ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 взаимодействию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как  со взрослы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ак и со сверст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468360" y="4437000"/>
            <a:ext cx="3598920" cy="1800360"/>
          </a:xfrm>
          <a:prstGeom prst="rect">
            <a:avLst/>
          </a:prstGeom>
          <a:solidFill>
            <a:srgbClr val="e4644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cc"/>
                </a:solidFill>
                <a:uFillTx/>
                <a:latin typeface="Arial"/>
              </a:rPr>
              <a:t>Волевая 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Умеет контролир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эмоции и пове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4500720" y="4437000"/>
            <a:ext cx="4319280" cy="1944720"/>
          </a:xfrm>
          <a:prstGeom prst="rect">
            <a:avLst/>
          </a:prstGeom>
          <a:solidFill>
            <a:srgbClr val="f7c84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Интеллектуальная гото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меет широкий кругоз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пас конкретных зна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нимает 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закономер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0010-021-Pochemu-eto-vazhno"/>
          <p:cNvPicPr/>
          <p:nvPr/>
        </p:nvPicPr>
        <p:blipFill>
          <a:blip r:embed="rId1"/>
          <a:stretch/>
        </p:blipFill>
        <p:spPr>
          <a:xfrm>
            <a:off x="5076720" y="549360"/>
            <a:ext cx="33847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66"/>
                </a:solidFill>
                <a:latin typeface="Arial"/>
              </a:rPr>
              <a:t>Личностная готов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Malgun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Malgun Gothic"/>
              </a:rPr>
              <a:t>Умеет ли ребенок общаться с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деть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роявляет ли инициативу в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общении или ждет, когда его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позовут другие ребя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увствует ли принятые в обществе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нормы общ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Готов ли учитывать интересы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других детей ил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коллективные интересы,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меет ли отстаивать свое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мн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Чувствует ли разницу в общении с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детьми, учителями и другими 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взрослыми, родител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18034308"/>
          <p:cNvPicPr/>
          <p:nvPr/>
        </p:nvPicPr>
        <p:blipFill>
          <a:blip r:embed="rId1"/>
          <a:stretch/>
        </p:blipFill>
        <p:spPr>
          <a:xfrm>
            <a:off x="5364000" y="1989000"/>
            <a:ext cx="3456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40384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 ребенка к моменту поступления в школу должен  быть достаточно разнообразный опыт общения с незнакомыми людьми. Необходимо дать ему возможность самому установить контакты с окружающими в поликлинике, на детской площадке, в магазине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desktopwallpapers_org_ua-452(1)"/>
          <p:cNvPicPr/>
          <p:nvPr/>
        </p:nvPicPr>
        <p:blipFill>
          <a:blip r:embed="rId1"/>
          <a:stretch/>
        </p:blipFill>
        <p:spPr>
          <a:xfrm>
            <a:off x="4390920" y="1773360"/>
            <a:ext cx="475308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Умение думать, анализировать, делать вы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Развитие речи, словарный запас и способность рассказывать что-то на доступные темы, в том числе и элементарные сведения о с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99"/>
                </a:solidFill>
                <a:latin typeface="Arial"/>
              </a:rPr>
              <a:t>Способность к концентрации внимания, умение строить логические связи, развитие памяти, мелкая моторика. 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thumb_800x600_d2b2a6899f52d8fcce16f475dca0c246"/>
          <p:cNvPicPr/>
          <p:nvPr/>
        </p:nvPicPr>
        <p:blipFill>
          <a:blip r:embed="rId1"/>
          <a:stretch/>
        </p:blipFill>
        <p:spPr>
          <a:xfrm>
            <a:off x="4427640" y="1844640"/>
            <a:ext cx="445284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333000"/>
            <a:ext cx="45068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мение писать, читать, считать, решать элементарные задачки, это лишь навыки, которым можно науч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Не подавляйте исследовательский интерес юного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естествоиспытателя тогда к моменту поступления в школу ему многое удастся постичь на собственном опыте.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88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1152984490_g"/>
          <p:cNvPicPr/>
          <p:nvPr/>
        </p:nvPicPr>
        <p:blipFill>
          <a:blip r:embed="rId1"/>
          <a:stretch/>
        </p:blipFill>
        <p:spPr>
          <a:xfrm>
            <a:off x="4751280" y="1052640"/>
            <a:ext cx="439272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Учите ребенка самого искать ответы на свои бесконечные «почему»,  выстраивать причинно-следственные связи – одним словом, активно интересоваться окружающим миром. 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1363840678_5"/>
          <p:cNvPicPr/>
          <p:nvPr/>
        </p:nvPicPr>
        <p:blipFill>
          <a:blip r:embed="rId1"/>
          <a:stretch/>
        </p:blipFill>
        <p:spPr>
          <a:xfrm>
            <a:off x="4932360" y="213372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Адекватная самооценка и положительный образ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Способность делать не только то, что хочу, но и то, что надо, не бояться трудностей,</a:t>
            </a:r>
            <a:r>
              <a:rPr b="0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зрешать их самостоятельно. Умение сосредоточиться, управление эмо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042920" y="404640"/>
            <a:ext cx="725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Волевая готовность</a:t>
            </a:r>
            <a:r>
              <a:rPr b="0" lang="ru-RU" sz="2800" spc="-1" strike="noStrike" u="sng">
                <a:solidFill>
                  <a:srgbClr val="ff5050"/>
                </a:solidFill>
                <a:uFillTx/>
                <a:latin typeface="Arial"/>
                <a:hlinkClick r:id="rId1" action="ppaction://hlinksldjump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к </a:t>
            </a:r>
            <a:r>
              <a:rPr b="0" lang="ru-RU" sz="2800" spc="-1" strike="noStrike" u="sng">
                <a:solidFill>
                  <a:srgbClr val="ff5050"/>
                </a:solidFill>
                <a:uFillTx/>
                <a:latin typeface="Arial"/>
                <a:hlinkClick r:id="rId2" action="ppaction://hlinksldjump"/>
              </a:rPr>
              <a:t>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ADHDfotoARCHIWUM02_540_405_80_c1_center_center"/>
          <p:cNvPicPr/>
          <p:nvPr/>
        </p:nvPicPr>
        <p:blipFill>
          <a:blip r:embed="rId3"/>
          <a:stretch/>
        </p:blipFill>
        <p:spPr>
          <a:xfrm>
            <a:off x="4572000" y="1773360"/>
            <a:ext cx="435600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Формированию этих качеств поможет игра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Игры учат спокойно дожидаться своей очереди, своего хода, с достоинством проигрывать, выстраивать свою стратегию и при этом учитывать постоянно меняющиеся обстоятельства и т.д.</a:t>
            </a:r>
            <a:br>
              <a:rPr sz="2400"/>
            </a:b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Также необходимо приучать ребенка к смене деятельности, режиму д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0" descr="khelen-doron1"/>
          <p:cNvPicPr/>
          <p:nvPr/>
        </p:nvPicPr>
        <p:blipFill>
          <a:blip r:embed="rId1"/>
          <a:stretch/>
        </p:blipFill>
        <p:spPr>
          <a:xfrm>
            <a:off x="4572000" y="1628640"/>
            <a:ext cx="42847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216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ажно проявлять веру в ребенка, искренне поощрять, помогать  и  поддерживать. Потихоньку ребенок разовьет в себе способность к волевому усилию, но не сразу. Помогите ем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prodlenka"/>
          <p:cNvPicPr/>
          <p:nvPr/>
        </p:nvPicPr>
        <p:blipFill>
          <a:blip r:embed="rId1"/>
          <a:stretch/>
        </p:blipFill>
        <p:spPr>
          <a:xfrm>
            <a:off x="4608360" y="2421000"/>
            <a:ext cx="453564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оветы родител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Организовывайте в свободное время игры в "Школу". Устраивайте короткие (на 15-20 минут) "уроки" в которых ребенок может играть роль как ученика, так и учител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sevastopol-nachnite_obuchenie_inostrannomu_yazyku_pryamo_seychas_26667"/>
          <p:cNvPicPr/>
          <p:nvPr/>
        </p:nvPicPr>
        <p:blipFill>
          <a:blip r:embed="rId1"/>
          <a:stretch/>
        </p:blipFill>
        <p:spPr>
          <a:xfrm>
            <a:off x="4427640" y="1996920"/>
            <a:ext cx="44640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99"/>
                </a:solidFill>
                <a:latin typeface="Arial"/>
              </a:rPr>
              <a:t>Что такое «Готовность к обучению в школе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32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Готовность к школе в современных условиях рассматривается, прежде всего, как готовность к школьному обучению или учебной деятельност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47238_496371837053493_1554065074_n"/>
          <p:cNvPicPr/>
          <p:nvPr/>
        </p:nvPicPr>
        <p:blipFill>
          <a:blip r:embed="rId1"/>
          <a:stretch/>
        </p:blipFill>
        <p:spPr>
          <a:xfrm>
            <a:off x="179280" y="2421000"/>
            <a:ext cx="4932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В ходе игры нужно давать ребенку посильные задания, и обязательно хвалить его, если он их выполнил. Делать замечания в процессе игры можно, однако они должны носить характер рекомендаций и побуждать к дальнейшим действ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i?id=117204748-24-72&amp;n=21"/>
          <p:cNvPicPr/>
          <p:nvPr/>
        </p:nvPicPr>
        <p:blipFill>
          <a:blip r:embed="rId1"/>
          <a:stretch/>
        </p:blipFill>
        <p:spPr>
          <a:xfrm>
            <a:off x="4572000" y="198900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омогайте ребенку преодолевать трудности. Во время совместных занятий каким-нибудь общим делом старайтесь собственным примером показывать, как нужно доводить начатое дело до конца, даже если не все получается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8" descr="i?id=541502732-00-72&amp;n=21"/>
          <p:cNvPicPr/>
          <p:nvPr/>
        </p:nvPicPr>
        <p:blipFill>
          <a:blip r:embed="rId1"/>
          <a:stretch/>
        </p:blipFill>
        <p:spPr>
          <a:xfrm>
            <a:off x="4500720" y="1989000"/>
            <a:ext cx="403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Читайте ребенку книги и беседуйте с ним. После прочтения книги, не откладывайте ее сразу в сторону, задайте малышу несколько вопросов по содержанию только что прочитанного (например, кто главный герой, хороший он или плохой, как бы ты поступил и т.д.). Такие беседы способствуют развитию внимания, памяти и аналит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691-506-58227_796"/>
          <p:cNvPicPr/>
          <p:nvPr/>
        </p:nvPicPr>
        <p:blipFill>
          <a:blip r:embed="rId1"/>
          <a:stretch/>
        </p:blipFill>
        <p:spPr>
          <a:xfrm>
            <a:off x="4464000" y="1341360"/>
            <a:ext cx="46800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А самое главное, постарайтесь не воспринимать занятия с ребенком как тяжелый труд, радуйтесь и получайте удовольствие от процесса общения, никогда не теряйте чувство юмор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1342899213_01072012"/>
          <p:cNvPicPr/>
          <p:nvPr/>
        </p:nvPicPr>
        <p:blipFill>
          <a:blip r:embed="rId1"/>
          <a:stretch/>
        </p:blipFill>
        <p:spPr>
          <a:xfrm>
            <a:off x="4788000" y="2060640"/>
            <a:ext cx="3800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4"/>
          <p:cNvSpPr txBox="1"/>
          <p:nvPr/>
        </p:nvSpPr>
        <p:spPr>
          <a:xfrm>
            <a:off x="684360" y="1989000"/>
            <a:ext cx="79437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ю за внимание!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26028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роблемой психологической готовности ребенка к школе занимались такие исследователи как Божович Л.И, Венгер Л.А., Гуткина Н.И., Запорожец А.В., Нижегородцева Н.В., Шадриков В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Leontev"/>
          <p:cNvPicPr/>
          <p:nvPr/>
        </p:nvPicPr>
        <p:blipFill>
          <a:blip r:embed="rId1"/>
          <a:stretch/>
        </p:blipFill>
        <p:spPr>
          <a:xfrm>
            <a:off x="1763640" y="2852640"/>
            <a:ext cx="518472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Comic Sans MS"/>
              </a:rPr>
              <a:t>Каждый ребенок идет в первый класс с надеждой, что в школе все у него будет хорошо.  Учительница будет красивая и добрая,  одноклассники будут с ним дружить, и учиться он будет на пятер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Девочка с поднятой рукой"/>
          <p:cNvPicPr/>
          <p:nvPr/>
        </p:nvPicPr>
        <p:blipFill>
          <a:blip r:embed="rId1"/>
          <a:stretch/>
        </p:blipFill>
        <p:spPr>
          <a:xfrm>
            <a:off x="4788000" y="1844640"/>
            <a:ext cx="376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6000" y="1268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Оправдание детских и родительских ожида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зависят от того, как ребено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сихологически подготовлен к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Teacher"/>
          <p:cNvPicPr/>
          <p:nvPr/>
        </p:nvPicPr>
        <p:blipFill>
          <a:blip r:embed="rId1"/>
          <a:stretch/>
        </p:blipFill>
        <p:spPr>
          <a:xfrm>
            <a:off x="324000" y="404640"/>
            <a:ext cx="445752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66"/>
                </a:solidFill>
                <a:uFillTx/>
                <a:latin typeface="Arial"/>
              </a:rPr>
              <a:t>Психологическая готовность</a:t>
            </a:r>
            <a:r>
              <a:rPr b="0" i="1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это необходимый и достаточный уровень психического развития ребенка для начала освоения школьной учебной программы в условиях обучения в группе сверстников</a:t>
            </a: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dziewczynka-w-szkole322131351"/>
          <p:cNvPicPr/>
          <p:nvPr/>
        </p:nvPicPr>
        <p:blipFill>
          <a:blip r:embed="rId1"/>
          <a:stretch/>
        </p:blipFill>
        <p:spPr>
          <a:xfrm>
            <a:off x="1476360" y="2781360"/>
            <a:ext cx="57150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Психологическая готовность к школе возникает у детей не сама по себ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а образуется постепен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4716360" y="1125360"/>
            <a:ext cx="4211640" cy="5042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труд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игра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общении со взросл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и сверстник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в процессе фор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традицио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школьных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(письма, счет, чтения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Выделяют 3 вида  психологической гото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7"/>
          <p:cNvSpPr/>
          <p:nvPr/>
        </p:nvSpPr>
        <p:spPr>
          <a:xfrm>
            <a:off x="4932360" y="2060640"/>
            <a:ext cx="3529080" cy="863640"/>
          </a:xfrm>
          <a:prstGeom prst="ellipse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Личност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4859280" y="3429000"/>
            <a:ext cx="3600360" cy="8650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оле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4932360" y="4869000"/>
            <a:ext cx="3527280" cy="863640"/>
          </a:xfrm>
          <a:prstGeom prst="ellipse">
            <a:avLst/>
          </a:prstGeom>
          <a:solidFill>
            <a:srgbClr val="ff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теллект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86920" y="1557000"/>
            <a:ext cx="331956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5" descr="rodit"/>
          <p:cNvPicPr/>
          <p:nvPr/>
        </p:nvPicPr>
        <p:blipFill>
          <a:blip r:embed="rId1"/>
          <a:stretch/>
        </p:blipFill>
        <p:spPr>
          <a:xfrm>
            <a:off x="0" y="1484280"/>
            <a:ext cx="483228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сихологически не готовый к школе ребёнок</a:t>
            </a:r>
            <a:r>
              <a:rPr b="1" lang="ru-RU" sz="3200" spc="-1" strike="noStrike">
                <a:solidFill>
                  <a:srgbClr val="7777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95280" y="1700280"/>
            <a:ext cx="4248000" cy="10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может сосредоточ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а уроке, часто отвлека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00000" y="3284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готеет к шаблон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йствиям и реш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50920" y="3284640"/>
            <a:ext cx="4319640" cy="1008000"/>
          </a:xfrm>
          <a:prstGeom prst="rect">
            <a:avLst/>
          </a:prstGeom>
          <a:solidFill>
            <a:srgbClr val="ff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яготеет к шаблон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действиям и реш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324000" y="4581360"/>
            <a:ext cx="4103640" cy="1295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е может включ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общий ре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боты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716360" y="1700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Грусный мальчик"/>
          <p:cNvPicPr/>
          <p:nvPr/>
        </p:nvPicPr>
        <p:blipFill>
          <a:blip r:embed="rId1"/>
          <a:stretch/>
        </p:blipFill>
        <p:spPr>
          <a:xfrm>
            <a:off x="4753080" y="2276640"/>
            <a:ext cx="4066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4T14:14:40Z</dcterms:created>
  <dc:creator>666</dc:creator>
  <dc:description/>
  <dc:language>en-US</dc:language>
  <cp:lastModifiedBy>Оля</cp:lastModifiedBy>
  <dcterms:modified xsi:type="dcterms:W3CDTF">2017-10-14T17:31:51Z</dcterms:modified>
  <cp:revision>5</cp:revision>
  <dc:subject/>
  <dc:title>Слайд 1</dc:title>
</cp:coreProperties>
</file>