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2A9-3386-49BD-B78B-91615D2FF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427-EFDF-4CF6-B078-70BFA953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656-74A9-4BE0-B793-666DB4D9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0AEB-6D21-43EC-B6E5-E8B21A918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9C80-5FBD-4B90-B2B1-2C6AE491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CF6-8BD4-4AE3-A2A1-A4578648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642-56A8-4C84-86E7-2281039B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369-35E3-4E7B-91DF-EE5239C9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639-B955-495E-84A5-23B6705D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802-57F9-4AA1-81EF-3F75DC3F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4789-EFBB-4DF9-B3B0-E210613B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2EC0-8716-4994-9260-F82716AB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D615-0D7E-4DFF-AF96-C92819E9F0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Calibri"/>
              </a:rPr>
              <a:t>Книжная выста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2" descr=""/>
          <p:cNvPicPr/>
          <p:nvPr/>
        </p:nvPicPr>
        <p:blipFill>
          <a:blip r:embed="rId1"/>
          <a:stretch/>
        </p:blipFill>
        <p:spPr>
          <a:xfrm>
            <a:off x="811080" y="1347840"/>
            <a:ext cx="75218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testlib.meta.ua/image/308/307443/cover.jpg"/>
          <p:cNvPicPr/>
          <p:nvPr/>
        </p:nvPicPr>
        <p:blipFill>
          <a:blip r:embed="rId1"/>
          <a:stretch/>
        </p:blipFill>
        <p:spPr>
          <a:xfrm>
            <a:off x="179280" y="57240"/>
            <a:ext cx="4324320" cy="575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static.kidboooks.ru/images/148452.jpg"/>
          <p:cNvPicPr/>
          <p:nvPr/>
        </p:nvPicPr>
        <p:blipFill>
          <a:blip r:embed="rId2"/>
          <a:stretch/>
        </p:blipFill>
        <p:spPr>
          <a:xfrm>
            <a:off x="4643280" y="1268280"/>
            <a:ext cx="39657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://static.newauction.ru/offer_images/2015/08/12/04/big/D/DMv4v7oo8xs/g_snegirev_ja_puteshestvuju_khud_n_ustinov.jpg"/>
          <p:cNvPicPr/>
          <p:nvPr/>
        </p:nvPicPr>
        <p:blipFill>
          <a:blip r:embed="rId1"/>
          <a:srcRect l="2495" t="2343" r="4552" b="2392"/>
          <a:stretch/>
        </p:blipFill>
        <p:spPr>
          <a:xfrm>
            <a:off x="266760" y="333360"/>
            <a:ext cx="4164120" cy="5770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http://images.gugx.net/im/gx/105307/p/31026/ori/3wp.jpg"/>
          <p:cNvPicPr/>
          <p:nvPr/>
        </p:nvPicPr>
        <p:blipFill>
          <a:blip r:embed="rId2"/>
          <a:stretch/>
        </p:blipFill>
        <p:spPr>
          <a:xfrm>
            <a:off x="4788000" y="344520"/>
            <a:ext cx="40622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photo.qip.ru/photo/mudrayasovalux/200508893/xlarge/207254900.jpg"/>
          <p:cNvPicPr/>
          <p:nvPr/>
        </p:nvPicPr>
        <p:blipFill>
          <a:blip r:embed="rId1"/>
          <a:stretch/>
        </p:blipFill>
        <p:spPr>
          <a:xfrm>
            <a:off x="179280" y="246240"/>
            <a:ext cx="4211640" cy="563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s://cdn01.skybuy.ru/media/offer/thumbs/5d6/95a/504x504-_upl5768e68547c8e7.14254327.jpg"/>
          <p:cNvPicPr/>
          <p:nvPr/>
        </p:nvPicPr>
        <p:blipFill>
          <a:blip r:embed="rId2"/>
          <a:srcRect l="11691" t="0" r="13273" b="0"/>
          <a:stretch/>
        </p:blipFill>
        <p:spPr>
          <a:xfrm>
            <a:off x="4716360" y="374760"/>
            <a:ext cx="403236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ttps://avatars.mds.yandex.net/get-marketpic/363663/market_CpdHekYs52fGr8fFYzclfg/240x320"/>
          <p:cNvPicPr/>
          <p:nvPr/>
        </p:nvPicPr>
        <p:blipFill>
          <a:blip r:embed="rId1"/>
          <a:stretch/>
        </p:blipFill>
        <p:spPr>
          <a:xfrm>
            <a:off x="250920" y="333360"/>
            <a:ext cx="3600360" cy="529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3.bp.blogspot.com/-6SD0svlIaIs/US2hkbKsilI/AAAAAAAADWY/lWU4_ZVGBOI/s1600/%D1%82%D1%83%D0%BD%D0%B3%D1%83%D1%81+%D0%B8.jpg"/>
          <p:cNvPicPr/>
          <p:nvPr/>
        </p:nvPicPr>
        <p:blipFill>
          <a:blip r:embed="rId2"/>
          <a:stretch/>
        </p:blipFill>
        <p:spPr>
          <a:xfrm>
            <a:off x="4643280" y="907920"/>
            <a:ext cx="380052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s://img1.labirint.ru/books/603625/scrn_big_1.jpg"/>
          <p:cNvPicPr/>
          <p:nvPr/>
        </p:nvPicPr>
        <p:blipFill>
          <a:blip r:embed="rId1"/>
          <a:stretch/>
        </p:blipFill>
        <p:spPr>
          <a:xfrm>
            <a:off x="468360" y="333360"/>
            <a:ext cx="3556080" cy="554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http://rulibs.com/ru_zar/child_prose/snegirev/0/cover.jpg"/>
          <p:cNvPicPr/>
          <p:nvPr/>
        </p:nvPicPr>
        <p:blipFill>
          <a:blip r:embed="rId2"/>
          <a:stretch/>
        </p:blipFill>
        <p:spPr>
          <a:xfrm>
            <a:off x="4572000" y="1125360"/>
            <a:ext cx="360036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s://cdn.eksmo.ru/v2/ASE000000000721626/COVER/cover3d1__w137.jpg"/>
          <p:cNvPicPr/>
          <p:nvPr/>
        </p:nvPicPr>
        <p:blipFill>
          <a:blip r:embed="rId1"/>
          <a:stretch/>
        </p:blipFill>
        <p:spPr>
          <a:xfrm>
            <a:off x="250920" y="260280"/>
            <a:ext cx="3960720" cy="5985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s://img1.labirint.ru/books/212105/coverbig.jpg"/>
          <p:cNvPicPr/>
          <p:nvPr/>
        </p:nvPicPr>
        <p:blipFill>
          <a:blip r:embed="rId2"/>
          <a:stretch/>
        </p:blipFill>
        <p:spPr>
          <a:xfrm>
            <a:off x="4495680" y="260280"/>
            <a:ext cx="3888000" cy="59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4T13:53:59Z</dcterms:created>
  <dc:creator>Александр</dc:creator>
  <dc:description/>
  <dc:language>en-US</dc:language>
  <cp:lastModifiedBy>Александр</cp:lastModifiedBy>
  <dcterms:modified xsi:type="dcterms:W3CDTF">2017-10-14T14:06:30Z</dcterms:modified>
  <cp:revision>2</cp:revision>
  <dc:subject/>
  <dc:title>Презентация PowerPoint</dc:title>
</cp:coreProperties>
</file>