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AA5-35CF-49A3-AA44-AC8CCB8C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B15-2DFE-4A3B-9873-1A16C2A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A70-36F3-4B88-96D1-1B09523F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D8C-1D55-4AB9-AD44-DD2355F0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6DB-042A-4220-84C6-40D81D03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828-64CF-4747-B0CB-8D763956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1D4-0FF7-42AE-AFC8-B9FB2147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C9B-70F2-4B5B-8006-3346B045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E37-18F9-43C2-A091-C003CE91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D14-2128-4907-8278-36578DBB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BCB-C56B-47BD-B15D-BB38144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74D-A617-403A-BC42-3B9D842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C7D-C002-416D-B1FC-2B22E6D76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Книжная выст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811080" y="1347840"/>
            <a:ext cx="75218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testlib.meta.ua/image/308/307443/cover.jpg"/>
          <p:cNvPicPr/>
          <p:nvPr/>
        </p:nvPicPr>
        <p:blipFill>
          <a:blip r:embed="rId1"/>
          <a:stretch/>
        </p:blipFill>
        <p:spPr>
          <a:xfrm>
            <a:off x="179280" y="57240"/>
            <a:ext cx="4324320" cy="575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static.kidboooks.ru/images/148452.jpg"/>
          <p:cNvPicPr/>
          <p:nvPr/>
        </p:nvPicPr>
        <p:blipFill>
          <a:blip r:embed="rId2"/>
          <a:stretch/>
        </p:blipFill>
        <p:spPr>
          <a:xfrm>
            <a:off x="4643280" y="1268280"/>
            <a:ext cx="3965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tatic.newauction.ru/offer_images/2015/08/12/04/big/D/DMv4v7oo8xs/g_snegirev_ja_puteshestvuju_khud_n_ustinov.jpg"/>
          <p:cNvPicPr/>
          <p:nvPr/>
        </p:nvPicPr>
        <p:blipFill>
          <a:blip r:embed="rId1"/>
          <a:srcRect l="2495" t="2343" r="4552" b="2392"/>
          <a:stretch/>
        </p:blipFill>
        <p:spPr>
          <a:xfrm>
            <a:off x="266760" y="333360"/>
            <a:ext cx="4164120" cy="5770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images.gugx.net/im/gx/105307/p/31026/ori/3wp.jpg"/>
          <p:cNvPicPr/>
          <p:nvPr/>
        </p:nvPicPr>
        <p:blipFill>
          <a:blip r:embed="rId2"/>
          <a:stretch/>
        </p:blipFill>
        <p:spPr>
          <a:xfrm>
            <a:off x="4788000" y="344520"/>
            <a:ext cx="40622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hoto.qip.ru/photo/mudrayasovalux/200508893/xlarge/207254900.jpg"/>
          <p:cNvPicPr/>
          <p:nvPr/>
        </p:nvPicPr>
        <p:blipFill>
          <a:blip r:embed="rId1"/>
          <a:stretch/>
        </p:blipFill>
        <p:spPr>
          <a:xfrm>
            <a:off x="179280" y="246240"/>
            <a:ext cx="4211640" cy="563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s://cdn01.skybuy.ru/media/offer/thumbs/5d6/95a/504x504-_upl5768e68547c8e7.14254327.jpg"/>
          <p:cNvPicPr/>
          <p:nvPr/>
        </p:nvPicPr>
        <p:blipFill>
          <a:blip r:embed="rId2"/>
          <a:srcRect l="11691" t="0" r="13273" b="0"/>
          <a:stretch/>
        </p:blipFill>
        <p:spPr>
          <a:xfrm>
            <a:off x="4716360" y="374760"/>
            <a:ext cx="40323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avatars.mds.yandex.net/get-marketpic/363663/market_CpdHekYs52fGr8fFYzclfg/240x320"/>
          <p:cNvPicPr/>
          <p:nvPr/>
        </p:nvPicPr>
        <p:blipFill>
          <a:blip r:embed="rId1"/>
          <a:stretch/>
        </p:blipFill>
        <p:spPr>
          <a:xfrm>
            <a:off x="250920" y="333360"/>
            <a:ext cx="3600360" cy="529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3.bp.blogspot.com/-6SD0svlIaIs/US2hkbKsilI/AAAAAAAADWY/lWU4_ZVGBOI/s1600/%D1%82%D1%83%D0%BD%D0%B3%D1%83%D1%81+%D0%B8.jpg"/>
          <p:cNvPicPr/>
          <p:nvPr/>
        </p:nvPicPr>
        <p:blipFill>
          <a:blip r:embed="rId2"/>
          <a:stretch/>
        </p:blipFill>
        <p:spPr>
          <a:xfrm>
            <a:off x="4643280" y="907920"/>
            <a:ext cx="38005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img1.labirint.ru/books/603625/scrn_big_1.jpg"/>
          <p:cNvPicPr/>
          <p:nvPr/>
        </p:nvPicPr>
        <p:blipFill>
          <a:blip r:embed="rId1"/>
          <a:stretch/>
        </p:blipFill>
        <p:spPr>
          <a:xfrm>
            <a:off x="468360" y="333360"/>
            <a:ext cx="3556080" cy="554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rulibs.com/ru_zar/child_prose/snegirev/0/cover.jpg"/>
          <p:cNvPicPr/>
          <p:nvPr/>
        </p:nvPicPr>
        <p:blipFill>
          <a:blip r:embed="rId2"/>
          <a:stretch/>
        </p:blipFill>
        <p:spPr>
          <a:xfrm>
            <a:off x="4572000" y="1125360"/>
            <a:ext cx="360036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dn.eksmo.ru/v2/ASE000000000721626/COVER/cover3d1__w137.jpg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598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img1.labirint.ru/books/212105/coverbig.jpg"/>
          <p:cNvPicPr/>
          <p:nvPr/>
        </p:nvPicPr>
        <p:blipFill>
          <a:blip r:embed="rId2"/>
          <a:stretch/>
        </p:blipFill>
        <p:spPr>
          <a:xfrm>
            <a:off x="4495680" y="260280"/>
            <a:ext cx="388800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4T13:53:59Z</dcterms:created>
  <dc:creator>Александр</dc:creator>
  <dc:description/>
  <dc:language>en-US</dc:language>
  <cp:lastModifiedBy>Александр</cp:lastModifiedBy>
  <dcterms:modified xsi:type="dcterms:W3CDTF">2017-10-14T14:06:30Z</dcterms:modified>
  <cp:revision>2</cp:revision>
  <dc:subject/>
  <dc:title>Презентация PowerPoint</dc:title>
</cp:coreProperties>
</file>