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BB60-D9FC-4E8B-A755-807692789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486A-FA8A-403E-B873-2EE3EAE4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A5B9-B564-4589-B669-DC237A54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A021-1626-4DD8-8209-4B0C3C37A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4230-68AB-4218-B371-2C8AA46C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E727-C34E-4553-A06C-A60E8C02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5690-AE40-4794-8419-FA1E8DA1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1844-9F15-4C25-8B28-298B5491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206C-3FDA-4814-BD9B-8CB77A34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01FC-0145-4C96-BA54-37705B9F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3553-765F-47DB-B07A-C5ACD63C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19AA-2C19-4BD1-BA3C-C520B3DE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A5A1-A261-4B77-954A-84A7F5FCD8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1981080" y="1447920"/>
            <a:ext cx="487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2498760" y="110340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8839080" y="609480"/>
            <a:ext cx="5715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4" descr="ramka-detskaya-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5"/>
          <p:cNvSpPr/>
          <p:nvPr/>
        </p:nvSpPr>
        <p:spPr>
          <a:xfrm>
            <a:off x="1600200" y="99072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Проект «Как мы лук сажал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в первой младш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8000"/>
                </a:solidFill>
                <a:latin typeface="Times New Roman"/>
              </a:rPr>
              <a:t>групп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2362320" y="518148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Times New Roman"/>
              </a:rPr>
              <a:t>Подготовила воспитатель : Базарная Т.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Times New Roman"/>
              </a:rPr>
              <a:t>МАДОУ № 9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8000"/>
                </a:solidFill>
                <a:latin typeface="Times New Roman"/>
              </a:rPr>
              <a:t>Казань, 2017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7" descr="original"/>
          <p:cNvPicPr/>
          <p:nvPr/>
        </p:nvPicPr>
        <p:blipFill>
          <a:blip r:embed="rId2"/>
          <a:stretch/>
        </p:blipFill>
        <p:spPr>
          <a:xfrm>
            <a:off x="1981080" y="2209680"/>
            <a:ext cx="533412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ramka-detskaya-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2785320" y="914400"/>
            <a:ext cx="383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6600"/>
                </a:solidFill>
                <a:latin typeface="Times New Roman"/>
              </a:rPr>
              <a:t>Вот и вырос наш лучок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1280880" y="1514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3109680" y="1514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5091120" y="1514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6859440" y="1523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Рисунок 1" descr=""/>
          <p:cNvPicPr/>
          <p:nvPr/>
        </p:nvPicPr>
        <p:blipFill>
          <a:blip r:embed="rId2"/>
          <a:stretch/>
        </p:blipFill>
        <p:spPr>
          <a:xfrm>
            <a:off x="1739880" y="1523880"/>
            <a:ext cx="5931000" cy="33354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15"/>
          <p:cNvSpPr/>
          <p:nvPr/>
        </p:nvSpPr>
        <p:spPr>
          <a:xfrm>
            <a:off x="3084120" y="5105520"/>
            <a:ext cx="324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00"/>
                </a:solidFill>
                <a:latin typeface="Times New Roman"/>
              </a:rPr>
              <a:t>Всем спасибо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00"/>
                </a:solidFill>
                <a:latin typeface="Times New Roman"/>
              </a:rPr>
              <a:t>за внимание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ramka-detskaya-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1752480" y="1219320"/>
            <a:ext cx="57913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1 ЭТАП ПОДГОТОВИТЕЛЬНЫЙ</a:t>
            </a:r>
            <a:r>
              <a:rPr b="0" lang="ru-RU" sz="1800" spc="-1" strike="noStrike">
                <a:solidFill>
                  <a:srgbClr val="008000"/>
                </a:solidFill>
                <a:latin typeface="Times New Roman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1) Знакомство родителей с идеей проекта.</a:t>
            </a:r>
            <a:br>
              <a:rPr sz="1800"/>
            </a:b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2) Подбор художественной литературы: поговорки, стихи, сказки, загадки о луке.</a:t>
            </a:r>
            <a:br>
              <a:rPr sz="1800"/>
            </a:b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3) Подборка иллюстративного и демонстрационного материала о лук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4) Подготовка почвы для посадки лука.</a:t>
            </a:r>
            <a:br>
              <a:rPr sz="1800"/>
            </a:b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5) Подготовка посадочного материала (луковицы).</a:t>
            </a:r>
            <a:br>
              <a:rPr sz="1800"/>
            </a:b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6) Приобретение лотка и стаканчиков для посадки лука.</a:t>
            </a:r>
            <a:br>
              <a:rPr sz="1800"/>
            </a:b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7) Создание дидактических игр «Вершки – корешки», разрезные картинки «Овощи, фрукты, ягоды».</a:t>
            </a:r>
            <a:br>
              <a:rPr sz="1800"/>
            </a:b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8) Консультация для родителей «Польза лука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ramka-detskaya-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3200400" y="838080"/>
            <a:ext cx="21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Times New Roman"/>
              </a:rPr>
              <a:t>Посадка лу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Рисунок 1" descr=""/>
          <p:cNvPicPr/>
          <p:nvPr/>
        </p:nvPicPr>
        <p:blipFill>
          <a:blip r:embed="rId2"/>
          <a:stretch/>
        </p:blipFill>
        <p:spPr>
          <a:xfrm>
            <a:off x="2806560" y="1676520"/>
            <a:ext cx="347184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ramka-detskaya-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3124080" y="1143000"/>
            <a:ext cx="2759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Загадки про лу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990720" y="1752480"/>
            <a:ext cx="32763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Сидит дед во сто шуб одет,</a:t>
            </a:r>
            <a:br>
              <a:rPr sz="1400"/>
            </a:b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Кто его раздевает,</a:t>
            </a:r>
            <a:br>
              <a:rPr sz="1400"/>
            </a:b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Тот слезы проливает.</a:t>
            </a:r>
            <a:br>
              <a:rPr sz="1400"/>
            </a:b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(Лу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562720" y="1676520"/>
            <a:ext cx="266688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Сарафан не сарафан,</a:t>
            </a:r>
            <a:br>
              <a:rPr sz="1400"/>
            </a:b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платьице не платьице,</a:t>
            </a:r>
            <a:br>
              <a:rPr sz="1400"/>
            </a:b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А как станешь раздевать,</a:t>
            </a:r>
            <a:br>
              <a:rPr sz="1400"/>
            </a:b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досыта наплачешься.</a:t>
            </a:r>
            <a:br>
              <a:rPr sz="1400"/>
            </a:b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(Лу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128600" y="3048120"/>
            <a:ext cx="22640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Прежде чем его мы съели,</a:t>
            </a:r>
            <a:br>
              <a:rPr sz="1400"/>
            </a:b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Все наплакаться успели.</a:t>
            </a:r>
            <a:br>
              <a:rPr sz="1400"/>
            </a:b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(Лу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5562720" y="2895480"/>
            <a:ext cx="3352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Заставит плакать всех вокруг,</a:t>
            </a:r>
            <a:br>
              <a:rPr sz="1400"/>
            </a:b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Хоть он и не драчун, а …</a:t>
            </a:r>
            <a:br>
              <a:rPr sz="1400"/>
            </a:b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(Лук)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Что без боли и без печали доводит до слез?</a:t>
            </a:r>
            <a:br>
              <a:rPr sz="1400"/>
            </a:b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         (Лу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5181480" y="5029200"/>
            <a:ext cx="25909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Пришел барин с грядки,</a:t>
            </a:r>
            <a:br>
              <a:rPr sz="1400"/>
            </a:b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весь в заплатках,</a:t>
            </a:r>
            <a:br>
              <a:rPr sz="1400"/>
            </a:b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кто ни взглянет,</a:t>
            </a:r>
            <a:br>
              <a:rPr sz="1400"/>
            </a:b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всяк заплачет.</a:t>
            </a:r>
            <a:br>
              <a:rPr sz="1400"/>
            </a:b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(Лу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2795400" y="5029200"/>
            <a:ext cx="211608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Скинули с Егорушки</a:t>
            </a:r>
            <a:br>
              <a:rPr sz="1400"/>
            </a:b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Золотые перышки,</a:t>
            </a:r>
            <a:br>
              <a:rPr sz="1400"/>
            </a:b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Заставил Егорушка</a:t>
            </a:r>
            <a:br>
              <a:rPr sz="1400"/>
            </a:b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Плакать и без горюшка.</a:t>
            </a:r>
            <a:br>
              <a:rPr sz="1400"/>
            </a:br>
            <a:r>
              <a:rPr b="1" i="1" lang="ru-RU" sz="1400" spc="-1" strike="noStrike">
                <a:solidFill>
                  <a:srgbClr val="006600"/>
                </a:solidFill>
                <a:latin typeface="Times New Roman"/>
              </a:rPr>
              <a:t>(Лу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11" descr="8c8d32e1b46c8e2ab97dfa05595a2169"/>
          <p:cNvPicPr/>
          <p:nvPr/>
        </p:nvPicPr>
        <p:blipFill>
          <a:blip r:embed="rId2"/>
          <a:stretch/>
        </p:blipFill>
        <p:spPr>
          <a:xfrm>
            <a:off x="3276720" y="1905120"/>
            <a:ext cx="2514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ramka-detskaya-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3168000" y="121932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Пословицы о лу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295280" y="19051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Times New Roman"/>
              </a:rPr>
              <a:t>Лук от семи недугов леч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1371600" y="2438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Times New Roman"/>
              </a:rPr>
              <a:t>Ешь лук -чаще зубы буду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1219320" y="30481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Times New Roman"/>
              </a:rPr>
              <a:t>Лук и мёд кашель быстро уйдёт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2438280" y="5257800"/>
            <a:ext cx="48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Times New Roman"/>
              </a:rPr>
              <a:t>Лук с чесноком- родные брать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2732040" y="5715000"/>
            <a:ext cx="39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Лук -добро и в бою и во ща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2" descr="25799766-Onion-and-garlic-cartoon-character-on-white-background-Stock-Photo"/>
          <p:cNvPicPr/>
          <p:nvPr/>
        </p:nvPicPr>
        <p:blipFill>
          <a:blip r:embed="rId2"/>
          <a:stretch/>
        </p:blipFill>
        <p:spPr>
          <a:xfrm>
            <a:off x="6324480" y="1743120"/>
            <a:ext cx="2438640" cy="2295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04"/>
          <p:cNvPicPr/>
          <p:nvPr/>
        </p:nvPicPr>
        <p:blipFill>
          <a:blip r:embed="rId3"/>
          <a:stretch/>
        </p:blipFill>
        <p:spPr>
          <a:xfrm>
            <a:off x="2666880" y="3581280"/>
            <a:ext cx="35816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ramka-detskaya-6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1676520" y="1066680"/>
            <a:ext cx="6248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2 ЭТАП-ОСНОВН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66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Рассматривание и изучение посадочного материал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2) Опытно-экспериментальная деятельность:  «Вкус и луковые слёзы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3) Беседа «Что нужно растениям для роста?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4) Загадывание загадок, чтение стихотворений о лук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5) Совместная деятельность: посадка лука и уход за всход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6) Продуктивные виды деятельности: «Лук для супа» (лепка, раскрашивание, рисование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7) Домашнее задание родителям и детям – просмотр и обсуждение мультфильма «Лунтик. Лук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8) Коллективная работа «Луковая грядка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ramka-detskaya-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5" descr=""/>
          <p:cNvPicPr/>
          <p:nvPr/>
        </p:nvPicPr>
        <p:blipFill>
          <a:blip r:embed="rId2"/>
          <a:stretch/>
        </p:blipFill>
        <p:spPr>
          <a:xfrm>
            <a:off x="4876920" y="1295280"/>
            <a:ext cx="2536560" cy="45133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6" descr=""/>
          <p:cNvPicPr/>
          <p:nvPr/>
        </p:nvPicPr>
        <p:blipFill>
          <a:blip r:embed="rId3"/>
          <a:stretch/>
        </p:blipFill>
        <p:spPr>
          <a:xfrm>
            <a:off x="2035080" y="1295280"/>
            <a:ext cx="25369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ramka-detskaya-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2" descr=""/>
          <p:cNvPicPr/>
          <p:nvPr/>
        </p:nvPicPr>
        <p:blipFill>
          <a:blip r:embed="rId2"/>
          <a:stretch/>
        </p:blipFill>
        <p:spPr>
          <a:xfrm>
            <a:off x="1371600" y="1143000"/>
            <a:ext cx="677376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ramka-detskaya-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1676520" y="1407960"/>
            <a:ext cx="65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3 ЭТАП-ЗАКЛЮЧИТЕЛЬНЫ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1) Выставка коллективной работы «Лучок наш дружок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2) Угощаемся луком с нашего чудо – огород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3) Игра средней подвижности «Расти, лучок!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Times New Roman"/>
              </a:rPr>
              <a:t>4) Презентация на тему «Как мы лук сажали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6" descr="Onion"/>
          <p:cNvPicPr/>
          <p:nvPr/>
        </p:nvPicPr>
        <p:blipFill>
          <a:blip r:embed="rId2"/>
          <a:stretch/>
        </p:blipFill>
        <p:spPr>
          <a:xfrm>
            <a:off x="3200400" y="3352680"/>
            <a:ext cx="2819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4T07:03:13Z</dcterms:created>
  <dc:creator>Надежда</dc:creator>
  <dc:description/>
  <dc:language>en-US</dc:language>
  <cp:lastModifiedBy>Гульфина</cp:lastModifiedBy>
  <dcterms:modified xsi:type="dcterms:W3CDTF">2017-04-17T15:02:25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