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C431-2494-4197-967F-11DAD3E2E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2556-9300-4640-8BBA-E60DF6E7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3C5A-D58B-4EAA-92A5-A28602D7E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4391-ACE2-40A5-9507-D47A4151F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70E2-36C0-49B7-81EE-D9FFC550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763B-B11C-4BD4-859E-B754680D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290D-0403-4099-8E36-592DB24F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2CFC-524F-4F2D-9955-109D8EB6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51D4-6B20-4367-A0A9-28A1A2D3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2102-1E3C-4B86-9A39-2C062CAC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15E7-E213-45EC-B748-7D345DD4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60C7-1511-43D1-8E16-AD8A3EF8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AADA-4846-4A4A-95FD-C5B44E3516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1981080" y="1447920"/>
            <a:ext cx="487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2"/>
          <p:cNvSpPr/>
          <p:nvPr/>
        </p:nvSpPr>
        <p:spPr>
          <a:xfrm>
            <a:off x="2498760" y="1103400"/>
            <a:ext cx="49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8839080" y="609480"/>
            <a:ext cx="5715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4" descr="ramka-detskaya-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5"/>
          <p:cNvSpPr/>
          <p:nvPr/>
        </p:nvSpPr>
        <p:spPr>
          <a:xfrm>
            <a:off x="1600200" y="9907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Times New Roman"/>
              </a:rPr>
              <a:t>Проект «Как мы лук сажал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8000"/>
                </a:solidFill>
                <a:latin typeface="Times New Roman"/>
              </a:rPr>
              <a:t>в первой младш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Times New Roman"/>
              </a:rPr>
              <a:t>групп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6"/>
          <p:cNvSpPr/>
          <p:nvPr/>
        </p:nvSpPr>
        <p:spPr>
          <a:xfrm>
            <a:off x="2362320" y="518148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Times New Roman"/>
              </a:rPr>
              <a:t>Подготовила воспитатель : Базарная Т.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Times New Roman"/>
              </a:rPr>
              <a:t>МАДОУ № 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Times New Roman"/>
              </a:rPr>
              <a:t>Казань, 2017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7" descr="original"/>
          <p:cNvPicPr/>
          <p:nvPr/>
        </p:nvPicPr>
        <p:blipFill>
          <a:blip r:embed="rId2"/>
          <a:stretch/>
        </p:blipFill>
        <p:spPr>
          <a:xfrm>
            <a:off x="1981080" y="2209680"/>
            <a:ext cx="533412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ramka-detskaya-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2785320" y="914400"/>
            <a:ext cx="383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00"/>
                </a:solidFill>
                <a:latin typeface="Times New Roman"/>
              </a:rPr>
              <a:t>Вот и вырос наш лучок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1280880" y="1514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3109680" y="1514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5091120" y="1514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6859440" y="1523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Рисунок 1" descr=""/>
          <p:cNvPicPr/>
          <p:nvPr/>
        </p:nvPicPr>
        <p:blipFill>
          <a:blip r:embed="rId2"/>
          <a:stretch/>
        </p:blipFill>
        <p:spPr>
          <a:xfrm>
            <a:off x="1739880" y="1523880"/>
            <a:ext cx="5931000" cy="33354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5"/>
          <p:cNvSpPr/>
          <p:nvPr/>
        </p:nvSpPr>
        <p:spPr>
          <a:xfrm>
            <a:off x="3084120" y="5105520"/>
            <a:ext cx="324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00"/>
                </a:solidFill>
                <a:latin typeface="Times New Roman"/>
              </a:rPr>
              <a:t>Всем спасибо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00"/>
                </a:solidFill>
                <a:latin typeface="Times New Roman"/>
              </a:rPr>
              <a:t>за внимание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ramka-detskaya-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1752480" y="1219320"/>
            <a:ext cx="57913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1 ЭТАП ПОДГОТОВИТЕЛЬНЫЙ</a:t>
            </a: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1) Знакомство родителей с идеей проекта.</a:t>
            </a:r>
            <a:br>
              <a:rPr sz="1800"/>
            </a:b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2) Подбор художественной литературы: поговорки, стихи, сказки, загадки о луке.</a:t>
            </a:r>
            <a:br>
              <a:rPr sz="1800"/>
            </a:b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3) Подборка иллюстративного и демонстрационного материала о лук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4) Подготовка почвы для посадки лука.</a:t>
            </a:r>
            <a:br>
              <a:rPr sz="1800"/>
            </a:b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5) Подготовка посадочного материала (луковицы).</a:t>
            </a:r>
            <a:br>
              <a:rPr sz="1800"/>
            </a:b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6) Приобретение лотка и стаканчиков для посадки лука.</a:t>
            </a:r>
            <a:br>
              <a:rPr sz="1800"/>
            </a:b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7) Создание дидактических игр «Вершки – корешки», разрезные картинки «Овощи, фрукты, ягоды».</a:t>
            </a:r>
            <a:br>
              <a:rPr sz="1800"/>
            </a:b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8) Консультация для родителей «Польза лука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ramka-detskaya-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3200400" y="838080"/>
            <a:ext cx="21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00"/>
                </a:solidFill>
                <a:latin typeface="Times New Roman"/>
              </a:rPr>
              <a:t>Посадка лу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Рисунок 1" descr=""/>
          <p:cNvPicPr/>
          <p:nvPr/>
        </p:nvPicPr>
        <p:blipFill>
          <a:blip r:embed="rId2"/>
          <a:stretch/>
        </p:blipFill>
        <p:spPr>
          <a:xfrm>
            <a:off x="2806560" y="1676520"/>
            <a:ext cx="347184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ramka-detskaya-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3124080" y="1143000"/>
            <a:ext cx="2759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Загадки про лу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990720" y="1752480"/>
            <a:ext cx="3276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Сидит дед во сто шуб одет,</a:t>
            </a:r>
            <a:br>
              <a:rPr sz="1400"/>
            </a:b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Кто его раздевает,</a:t>
            </a:r>
            <a:br>
              <a:rPr sz="1400"/>
            </a:b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Тот слезы проливает.</a:t>
            </a:r>
            <a:br>
              <a:rPr sz="1400"/>
            </a:b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(Лу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5562720" y="1676520"/>
            <a:ext cx="266688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Сарафан не сарафан,</a:t>
            </a:r>
            <a:br>
              <a:rPr sz="1400"/>
            </a:b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платьице не платьице,</a:t>
            </a:r>
            <a:br>
              <a:rPr sz="1400"/>
            </a:b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А как станешь раздевать,</a:t>
            </a:r>
            <a:br>
              <a:rPr sz="1400"/>
            </a:b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досыта наплачешься.</a:t>
            </a:r>
            <a:br>
              <a:rPr sz="1400"/>
            </a:b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(Лу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128600" y="3048120"/>
            <a:ext cx="22640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Прежде чем его мы съели,</a:t>
            </a:r>
            <a:br>
              <a:rPr sz="1400"/>
            </a:b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Все наплакаться успели.</a:t>
            </a:r>
            <a:br>
              <a:rPr sz="1400"/>
            </a:b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(Лу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5562720" y="2895480"/>
            <a:ext cx="3352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Заставит плакать всех вокруг,</a:t>
            </a:r>
            <a:br>
              <a:rPr sz="1400"/>
            </a:b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Хоть он и не драчун, а …</a:t>
            </a:r>
            <a:br>
              <a:rPr sz="1400"/>
            </a:b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(Лук)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Что без боли и без печали доводит до слез?</a:t>
            </a:r>
            <a:br>
              <a:rPr sz="1400"/>
            </a:b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         (Лу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5181480" y="5029200"/>
            <a:ext cx="259092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Пришел барин с грядки,</a:t>
            </a:r>
            <a:br>
              <a:rPr sz="1400"/>
            </a:b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весь в заплатках,</a:t>
            </a:r>
            <a:br>
              <a:rPr sz="1400"/>
            </a:b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кто ни взглянет,</a:t>
            </a:r>
            <a:br>
              <a:rPr sz="1400"/>
            </a:b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всяк заплачет.</a:t>
            </a:r>
            <a:br>
              <a:rPr sz="1400"/>
            </a:b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(Лу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2795400" y="5029200"/>
            <a:ext cx="211608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Скинули с Егорушки</a:t>
            </a:r>
            <a:br>
              <a:rPr sz="1400"/>
            </a:b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Золотые перышки,</a:t>
            </a:r>
            <a:br>
              <a:rPr sz="1400"/>
            </a:b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Заставил Егорушка</a:t>
            </a:r>
            <a:br>
              <a:rPr sz="1400"/>
            </a:b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Плакать и без горюшка.</a:t>
            </a:r>
            <a:br>
              <a:rPr sz="1400"/>
            </a:b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(Лу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1" descr="8c8d32e1b46c8e2ab97dfa05595a2169"/>
          <p:cNvPicPr/>
          <p:nvPr/>
        </p:nvPicPr>
        <p:blipFill>
          <a:blip r:embed="rId2"/>
          <a:stretch/>
        </p:blipFill>
        <p:spPr>
          <a:xfrm>
            <a:off x="3276720" y="1905120"/>
            <a:ext cx="2514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ramka-detskaya-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3168000" y="1219320"/>
            <a:ext cx="25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Пословицы о лу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295280" y="19051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00"/>
                </a:solidFill>
                <a:latin typeface="Times New Roman"/>
              </a:rPr>
              <a:t>Лук от семи недугов лечи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1371600" y="2438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00"/>
                </a:solidFill>
                <a:latin typeface="Times New Roman"/>
              </a:rPr>
              <a:t>Ешь лук -чаще зубы буду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1219320" y="30481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00"/>
                </a:solidFill>
                <a:latin typeface="Times New Roman"/>
              </a:rPr>
              <a:t>Лук и мёд кашель быстро уйдёт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2438280" y="5257800"/>
            <a:ext cx="48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00"/>
                </a:solidFill>
                <a:latin typeface="Times New Roman"/>
              </a:rPr>
              <a:t>Лук с чесноком- родные брать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2732040" y="571500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Лук -добро и в бою и во щ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2" descr="25799766-Onion-and-garlic-cartoon-character-on-white-background-Stock-Photo"/>
          <p:cNvPicPr/>
          <p:nvPr/>
        </p:nvPicPr>
        <p:blipFill>
          <a:blip r:embed="rId2"/>
          <a:stretch/>
        </p:blipFill>
        <p:spPr>
          <a:xfrm>
            <a:off x="6324480" y="1743120"/>
            <a:ext cx="2438640" cy="2295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04"/>
          <p:cNvPicPr/>
          <p:nvPr/>
        </p:nvPicPr>
        <p:blipFill>
          <a:blip r:embed="rId3"/>
          <a:stretch/>
        </p:blipFill>
        <p:spPr>
          <a:xfrm>
            <a:off x="2666880" y="3581280"/>
            <a:ext cx="35816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ramka-detskaya-6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1676520" y="1066680"/>
            <a:ext cx="6248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2 ЭТАП-ОСНОВНО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Рассматривание и изучение посадочного материал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2) Опытно-экспериментальная деятельность:  «Вкус и луковые слёзы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3) Беседа «Что нужно растениям для роста?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4) Загадывание загадок, чтение стихотворений о лук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5) Совместная деятельность: посадка лука и уход за всхода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6) Продуктивные виды деятельности: «Лук для супа» (лепка, раскрашивание, рисование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7) Домашнее задание родителям и детям – просмотр и обсуждение мультфильма «Лунтик. Лук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8) Коллективная работа «Луковая грядка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ramka-detskaya-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"/>
          <p:cNvPicPr/>
          <p:nvPr/>
        </p:nvPicPr>
        <p:blipFill>
          <a:blip r:embed="rId2"/>
          <a:stretch/>
        </p:blipFill>
        <p:spPr>
          <a:xfrm>
            <a:off x="4876920" y="1295280"/>
            <a:ext cx="2536560" cy="45133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"/>
          <p:cNvPicPr/>
          <p:nvPr/>
        </p:nvPicPr>
        <p:blipFill>
          <a:blip r:embed="rId3"/>
          <a:stretch/>
        </p:blipFill>
        <p:spPr>
          <a:xfrm>
            <a:off x="2035080" y="1295280"/>
            <a:ext cx="25369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ramka-detskaya-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2" descr=""/>
          <p:cNvPicPr/>
          <p:nvPr/>
        </p:nvPicPr>
        <p:blipFill>
          <a:blip r:embed="rId2"/>
          <a:stretch/>
        </p:blipFill>
        <p:spPr>
          <a:xfrm>
            <a:off x="1371600" y="1143000"/>
            <a:ext cx="67737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ramka-detskaya-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1676520" y="1407960"/>
            <a:ext cx="65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3 ЭТАП-ЗАКЛЮЧИТЕЛЬНЫ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1) Выставка коллективной работы «Лучок наш дружок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2) Угощаемся луком с нашего чудо – огород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3) Игра средней подвижности «Расти, лучок!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4) Презентация на тему «Как мы лук сажали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6" descr="Onion"/>
          <p:cNvPicPr/>
          <p:nvPr/>
        </p:nvPicPr>
        <p:blipFill>
          <a:blip r:embed="rId2"/>
          <a:stretch/>
        </p:blipFill>
        <p:spPr>
          <a:xfrm>
            <a:off x="3200400" y="3352680"/>
            <a:ext cx="2819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4T07:03:13Z</dcterms:created>
  <dc:creator>Надежда</dc:creator>
  <dc:description/>
  <dc:language>en-US</dc:language>
  <cp:lastModifiedBy>Гульфина</cp:lastModifiedBy>
  <dcterms:modified xsi:type="dcterms:W3CDTF">2017-04-17T15:02:25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