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12A-48F4-4009-A6B9-DAF417CF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462-53B8-42CF-A4F1-5C33775F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EDA-F370-4FDC-8B0F-55C7F501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A1A-8B44-41EA-BB49-B5F05DEC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428-392E-493B-A10B-21B90F83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F24-9F53-4DF0-B5FD-11DB35AC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80A7-7069-4156-AB0A-74A4A7C0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A77-637C-4993-A46E-1FFF74E6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BCF-0472-4E6A-BE8D-2F44793B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15A-1D58-45E6-9395-CF9BB13B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230-9357-4C66-A63E-36307B5A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FE3-13DE-45EA-8A28-CDA934DA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6562-8DEF-403D-9D90-9AA1FC0450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33"/>
                </a:solidFill>
                <a:latin typeface="Georgia"/>
              </a:rPr>
              <a:t>Опроно- двигательная система организма челове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Если бы в теле человека не было костей. Оно было бы похоже на тряпичную куклу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Nd9GcQ7K9LMIES40gx6rJe-Myb4hzM8fzTXuvfWP4FmxtIemxLBPCr3WQ"/>
          <p:cNvPicPr/>
          <p:nvPr/>
        </p:nvPicPr>
        <p:blipFill>
          <a:blip r:embed="rId1"/>
          <a:stretch/>
        </p:blipFill>
        <p:spPr>
          <a:xfrm>
            <a:off x="755640" y="2852640"/>
            <a:ext cx="2376360" cy="345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3564000" y="3860640"/>
            <a:ext cx="51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Верно ли это высказы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ANd9GcT6NywNsH3rOa65t4Wj7cfIzY4W61DkVRrItIhUdk0pGYAk11AD"/>
          <p:cNvPicPr/>
          <p:nvPr/>
        </p:nvPicPr>
        <p:blipFill>
          <a:blip r:embed="rId1"/>
          <a:stretch/>
        </p:blipFill>
        <p:spPr>
          <a:xfrm>
            <a:off x="539640" y="476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Nd9GcTdhBahxcLjY7EAQZ60OYhALsHrsPr-33DAc92PLb32EKg9hXGcCg"/>
          <p:cNvPicPr/>
          <p:nvPr/>
        </p:nvPicPr>
        <p:blipFill>
          <a:blip r:embed="rId2"/>
          <a:stretch/>
        </p:blipFill>
        <p:spPr>
          <a:xfrm>
            <a:off x="6877080" y="404640"/>
            <a:ext cx="1743120" cy="261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bal_dance"/>
          <p:cNvPicPr/>
          <p:nvPr/>
        </p:nvPicPr>
        <p:blipFill>
          <a:blip r:embed="rId3"/>
          <a:stretch/>
        </p:blipFill>
        <p:spPr>
          <a:xfrm>
            <a:off x="3492360" y="1052640"/>
            <a:ext cx="2257560" cy="30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ANd9GcTFE7JT5xNo0biZmdvebFbjRqkLTHYIeqFEUUFXkCuVfPNqNek3"/>
          <p:cNvPicPr/>
          <p:nvPr/>
        </p:nvPicPr>
        <p:blipFill>
          <a:blip r:embed="rId4"/>
          <a:stretch/>
        </p:blipFill>
        <p:spPr>
          <a:xfrm>
            <a:off x="684360" y="3284640"/>
            <a:ext cx="2038320" cy="2238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2987640" y="508464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«Движение – это </a:t>
            </a:r>
            <a:r>
              <a:rPr b="1" i="1" lang="ru-RU" sz="4000" spc="-1" strike="noStrike">
                <a:solidFill>
                  <a:srgbClr val="660033"/>
                </a:solidFill>
                <a:latin typeface="Georgia"/>
              </a:rPr>
              <a:t>жиз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risunok99"/>
          <p:cNvPicPr/>
          <p:nvPr/>
        </p:nvPicPr>
        <p:blipFill>
          <a:blip r:embed="rId1"/>
          <a:stretch/>
        </p:blipFill>
        <p:spPr>
          <a:xfrm>
            <a:off x="179280" y="404640"/>
            <a:ext cx="2808360" cy="4896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"/>
          <p:cNvSpPr/>
          <p:nvPr/>
        </p:nvSpPr>
        <p:spPr>
          <a:xfrm>
            <a:off x="3203640" y="2133720"/>
            <a:ext cx="594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Костно – мышечная система нашего организма ( опорно – двигательный аппара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ANd9GcQOiRYv-Pd-XekFcBEEV5rnDkkboBUyxg-MvVl6RC4Hg2XyQ_9c"/>
          <p:cNvPicPr/>
          <p:nvPr/>
        </p:nvPicPr>
        <p:blipFill>
          <a:blip r:embed="rId1"/>
          <a:stretch/>
        </p:blipFill>
        <p:spPr>
          <a:xfrm>
            <a:off x="179280" y="476280"/>
            <a:ext cx="2519640" cy="4896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348000" y="333360"/>
            <a:ext cx="525636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Скелет – твёрдый каркас (</a:t>
            </a:r>
            <a:r>
              <a:rPr b="1" i="1" lang="ru-RU" sz="4000" spc="-1" strike="noStrike">
                <a:solidFill>
                  <a:srgbClr val="660033"/>
                </a:solidFill>
                <a:latin typeface="Georgia"/>
              </a:rPr>
              <a:t>остов</a:t>
            </a: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)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В организме более 200 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708360" y="3068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Чере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 flipV="1">
            <a:off x="1619280" y="836280"/>
            <a:ext cx="2160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780000" y="364500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Позвоно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 flipV="1">
            <a:off x="1332000" y="2060640"/>
            <a:ext cx="23032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851280" y="4292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Грудная кл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H="1" flipV="1">
            <a:off x="1403280" y="1773360"/>
            <a:ext cx="244800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3851280" y="49417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Кости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 flipV="1">
            <a:off x="684000" y="2421000"/>
            <a:ext cx="316692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851280" y="558972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Кости н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 flipH="1" flipV="1">
            <a:off x="1692000" y="4436640"/>
            <a:ext cx="21589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ANd9GcRPkPkwpxe-Ymoh1GxqDZCiYgx_BiGz4_f_12_NJ1-44B_SkBnO"/>
          <p:cNvPicPr/>
          <p:nvPr/>
        </p:nvPicPr>
        <p:blipFill>
          <a:blip r:embed="rId1"/>
          <a:stretch/>
        </p:blipFill>
        <p:spPr>
          <a:xfrm>
            <a:off x="3276720" y="549360"/>
            <a:ext cx="176184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7374_002"/>
          <p:cNvPicPr/>
          <p:nvPr/>
        </p:nvPicPr>
        <p:blipFill>
          <a:blip r:embed="rId2"/>
          <a:stretch/>
        </p:blipFill>
        <p:spPr>
          <a:xfrm>
            <a:off x="324000" y="549360"/>
            <a:ext cx="2581200" cy="4410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"/>
          <p:cNvSpPr/>
          <p:nvPr/>
        </p:nvSpPr>
        <p:spPr>
          <a:xfrm>
            <a:off x="3276720" y="3357720"/>
            <a:ext cx="568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Мышцы – гибкий скелет или </a:t>
            </a: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мягкий</a:t>
            </a: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 остов тела. В теле человека около 600 мыш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img3b"/>
          <p:cNvPicPr/>
          <p:nvPr/>
        </p:nvPicPr>
        <p:blipFill>
          <a:blip r:embed="rId1"/>
          <a:stretch/>
        </p:blipFill>
        <p:spPr>
          <a:xfrm>
            <a:off x="250920" y="189000"/>
            <a:ext cx="3529080" cy="2665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5219640" y="189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М</a:t>
            </a:r>
            <a:r>
              <a:rPr b="1" i="1" lang="ru-RU" sz="3600" spc="-1" strike="noStrike">
                <a:solidFill>
                  <a:srgbClr val="660033"/>
                </a:solidFill>
                <a:latin typeface="Georgia"/>
              </a:rPr>
              <a:t>им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H="1" flipV="1">
            <a:off x="3851280" y="62028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572000" y="1197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4932360" y="213372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995640" y="2565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Исп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ANd9GcQBdU1doPs4R84d7mCmquKwluHh8cbGNgTIzfhe2-SNpqw8e2Adkg"/>
          <p:cNvPicPr/>
          <p:nvPr/>
        </p:nvPicPr>
        <p:blipFill>
          <a:blip r:embed="rId2"/>
          <a:stretch/>
        </p:blipFill>
        <p:spPr>
          <a:xfrm>
            <a:off x="468360" y="3141720"/>
            <a:ext cx="2476440" cy="1847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3492360" y="39337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Гру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 flipH="1" flipV="1">
            <a:off x="2987640" y="349992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5"/>
          <p:cNvPicPr/>
          <p:nvPr/>
        </p:nvPicPr>
        <p:blipFill>
          <a:blip r:embed="rId3"/>
          <a:stretch/>
        </p:blipFill>
        <p:spPr>
          <a:xfrm>
            <a:off x="250920" y="522936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9"/>
          <p:cNvSpPr/>
          <p:nvPr/>
        </p:nvSpPr>
        <p:spPr>
          <a:xfrm flipV="1" rot="10800000">
            <a:off x="2916000" y="57196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Рад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0"/>
          <p:cNvSpPr/>
          <p:nvPr/>
        </p:nvSpPr>
        <p:spPr>
          <a:xfrm flipH="1" flipV="1">
            <a:off x="2268360" y="5516640"/>
            <a:ext cx="1224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ANd9GcQZplUKmb9evTiyxVSUuS8ZQ_MCq70j-26S9xrmmjJuUN4MNvDI6A"/>
          <p:cNvPicPr/>
          <p:nvPr/>
        </p:nvPicPr>
        <p:blipFill>
          <a:blip r:embed="rId4"/>
          <a:stretch/>
        </p:blipFill>
        <p:spPr>
          <a:xfrm>
            <a:off x="6804000" y="3429000"/>
            <a:ext cx="1847880" cy="2476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3"/>
          <p:cNvSpPr/>
          <p:nvPr/>
        </p:nvSpPr>
        <p:spPr>
          <a:xfrm>
            <a:off x="5867280" y="616572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Уди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4"/>
          <p:cNvSpPr/>
          <p:nvPr/>
        </p:nvSpPr>
        <p:spPr>
          <a:xfrm flipV="1">
            <a:off x="6012000" y="4797000"/>
            <a:ext cx="720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7" descr="s320x240"/>
          <p:cNvPicPr/>
          <p:nvPr/>
        </p:nvPicPr>
        <p:blipFill>
          <a:blip r:embed="rId5"/>
          <a:stretch/>
        </p:blipFill>
        <p:spPr>
          <a:xfrm>
            <a:off x="5867280" y="836640"/>
            <a:ext cx="3048120" cy="2276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5"/>
          <p:cNvSpPr/>
          <p:nvPr/>
        </p:nvSpPr>
        <p:spPr>
          <a:xfrm>
            <a:off x="3952800" y="2676600"/>
            <a:ext cx="1238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189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Кости и мышцы необходимо укреп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3300480" y="2529000"/>
            <a:ext cx="25430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ANd9GcSr_Em4Lwt4BbYalwR0JCxLbIpXulXaFY5sGDbQ-ARBwvdK5tdy"/>
          <p:cNvPicPr/>
          <p:nvPr/>
        </p:nvPicPr>
        <p:blipFill>
          <a:blip r:embed="rId1"/>
          <a:stretch/>
        </p:blipFill>
        <p:spPr>
          <a:xfrm>
            <a:off x="324000" y="134136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ANd9GcSwpKQJ43w_xqq7XDVz07QjFzz7bKaKCC2S9IDHUU7nMmSQMC90aA"/>
          <p:cNvPicPr/>
          <p:nvPr/>
        </p:nvPicPr>
        <p:blipFill>
          <a:blip r:embed="rId2"/>
          <a:stretch/>
        </p:blipFill>
        <p:spPr>
          <a:xfrm>
            <a:off x="6443640" y="1484280"/>
            <a:ext cx="1876320" cy="141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ANd9GcRgs8DOOfaF6gk_y8dXMxro9AWpjexg-se4ZQ4hYzCMVDAccv4_EQ"/>
          <p:cNvPicPr/>
          <p:nvPr/>
        </p:nvPicPr>
        <p:blipFill>
          <a:blip r:embed="rId3"/>
          <a:stretch/>
        </p:blipFill>
        <p:spPr>
          <a:xfrm>
            <a:off x="4788000" y="3429000"/>
            <a:ext cx="4032000" cy="287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ANd9GcT8x-53Rff9Uh_fv83y5XH6jyyFd8exTiKhr5KJ-_L8tTS5okCc"/>
          <p:cNvPicPr/>
          <p:nvPr/>
        </p:nvPicPr>
        <p:blipFill>
          <a:blip r:embed="rId4"/>
          <a:stretch/>
        </p:blipFill>
        <p:spPr>
          <a:xfrm>
            <a:off x="2916360" y="4724280"/>
            <a:ext cx="1050840" cy="144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ANd9GcSQkOup3eHAfKSpxKKQGRqAzONPotFxuuW5iipJERbgm6B1k7hLMQ"/>
          <p:cNvPicPr/>
          <p:nvPr/>
        </p:nvPicPr>
        <p:blipFill>
          <a:blip r:embed="rId5"/>
          <a:stretch/>
        </p:blipFill>
        <p:spPr>
          <a:xfrm>
            <a:off x="179280" y="3573360"/>
            <a:ext cx="2016360" cy="180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ANd9GcTBJ-t0djto6N__9DJC6WCVfTFPfCzOCVpcNY9Yna4MiG5C49DM"/>
          <p:cNvPicPr/>
          <p:nvPr/>
        </p:nvPicPr>
        <p:blipFill>
          <a:blip r:embed="rId6"/>
          <a:stretch/>
        </p:blipFill>
        <p:spPr>
          <a:xfrm>
            <a:off x="3348000" y="134136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Georgia"/>
              </a:rPr>
              <a:t>Давай проверим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2.Какое значение для организма человека имеет ске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 flipV="1" rot="10800000">
            <a:off x="750600" y="3645000"/>
            <a:ext cx="72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3. Назови части ске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826920" y="4437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4. Какова роль мышц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826920" y="1413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1.Что такое опорно –двигательный аппар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826920" y="53006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5. Как ты укрепляешь скелет и мыш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08:27:52Z</dcterms:created>
  <dc:creator>Егор</dc:creator>
  <dc:description/>
  <dc:language>en-US</dc:language>
  <cp:lastModifiedBy>Серый</cp:lastModifiedBy>
  <dcterms:modified xsi:type="dcterms:W3CDTF">2017-10-15T05:52:14Z</dcterms:modified>
  <cp:revision>4</cp:revision>
  <dc:subject/>
  <dc:title>Двигательная система</dc:title>
</cp:coreProperties>
</file>