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F7E-E480-4C45-8B29-98C40A95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2FF-2897-433D-9C03-848B2B9A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416F-4E80-4102-8738-727205C1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DD8-610A-49E6-ADC6-3515930A8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9FAA-C42F-4290-A6DD-16FEB899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357-C862-44FE-9C81-CEF60CF1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9B8-1E5A-4342-A618-691A7498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5290-CF21-414D-B744-7781F7EBA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7303-2622-4CCE-8B0C-A29A3A5D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D9D-25E7-46BA-B83F-647E3B01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ABAC-B33B-424A-9206-B232020B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0966-DCF1-4BF1-BFFB-C779E554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B2E7-6810-4FE7-B172-87E0F7C142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660033"/>
                </a:solidFill>
                <a:latin typeface="Georgia"/>
              </a:rPr>
              <a:t>Опроно- двигательная система организма челов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Если бы в теле человека не было костей. Оно было бы похоже на тряпичную куклу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Nd9GcQ7K9LMIES40gx6rJe-Myb4hzM8fzTXuvfWP4FmxtIemxLBPCr3WQ"/>
          <p:cNvPicPr/>
          <p:nvPr/>
        </p:nvPicPr>
        <p:blipFill>
          <a:blip r:embed="rId1"/>
          <a:stretch/>
        </p:blipFill>
        <p:spPr>
          <a:xfrm>
            <a:off x="755640" y="2852640"/>
            <a:ext cx="2376360" cy="345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3564000" y="3860640"/>
            <a:ext cx="51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Верно ли это высказыв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ANd9GcT6NywNsH3rOa65t4Wj7cfIzY4W61DkVRrItIhUdk0pGYAk11AD"/>
          <p:cNvPicPr/>
          <p:nvPr/>
        </p:nvPicPr>
        <p:blipFill>
          <a:blip r:embed="rId1"/>
          <a:stretch/>
        </p:blipFill>
        <p:spPr>
          <a:xfrm>
            <a:off x="539640" y="4762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ANd9GcTdhBahxcLjY7EAQZ60OYhALsHrsPr-33DAc92PLb32EKg9hXGcCg"/>
          <p:cNvPicPr/>
          <p:nvPr/>
        </p:nvPicPr>
        <p:blipFill>
          <a:blip r:embed="rId2"/>
          <a:stretch/>
        </p:blipFill>
        <p:spPr>
          <a:xfrm>
            <a:off x="6877080" y="404640"/>
            <a:ext cx="1743120" cy="2619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bal_dance"/>
          <p:cNvPicPr/>
          <p:nvPr/>
        </p:nvPicPr>
        <p:blipFill>
          <a:blip r:embed="rId3"/>
          <a:stretch/>
        </p:blipFill>
        <p:spPr>
          <a:xfrm>
            <a:off x="3492360" y="1052640"/>
            <a:ext cx="2257560" cy="30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ANd9GcTFE7JT5xNo0biZmdvebFbjRqkLTHYIeqFEUUFXkCuVfPNqNek3"/>
          <p:cNvPicPr/>
          <p:nvPr/>
        </p:nvPicPr>
        <p:blipFill>
          <a:blip r:embed="rId4"/>
          <a:stretch/>
        </p:blipFill>
        <p:spPr>
          <a:xfrm>
            <a:off x="684360" y="3284640"/>
            <a:ext cx="2038320" cy="2238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2"/>
          <p:cNvSpPr/>
          <p:nvPr/>
        </p:nvSpPr>
        <p:spPr>
          <a:xfrm>
            <a:off x="2987640" y="5084640"/>
            <a:ext cx="61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«Движение – это </a:t>
            </a:r>
            <a:r>
              <a:rPr b="1" i="1" lang="ru-RU" sz="4000" spc="-1" strike="noStrike">
                <a:solidFill>
                  <a:srgbClr val="660033"/>
                </a:solidFill>
                <a:latin typeface="Georgia"/>
              </a:rPr>
              <a:t>жизн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risunok99"/>
          <p:cNvPicPr/>
          <p:nvPr/>
        </p:nvPicPr>
        <p:blipFill>
          <a:blip r:embed="rId1"/>
          <a:stretch/>
        </p:blipFill>
        <p:spPr>
          <a:xfrm>
            <a:off x="179280" y="40464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1"/>
          <p:cNvSpPr/>
          <p:nvPr/>
        </p:nvSpPr>
        <p:spPr>
          <a:xfrm>
            <a:off x="3203640" y="2133720"/>
            <a:ext cx="5940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Костно – мышечная система нашего организма ( опорно – двигательный аппара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ANd9GcQOiRYv-Pd-XekFcBEEV5rnDkkboBUyxg-MvVl6RC4Hg2XyQ_9c"/>
          <p:cNvPicPr/>
          <p:nvPr/>
        </p:nvPicPr>
        <p:blipFill>
          <a:blip r:embed="rId1"/>
          <a:stretch/>
        </p:blipFill>
        <p:spPr>
          <a:xfrm>
            <a:off x="179280" y="476280"/>
            <a:ext cx="2519640" cy="4896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348000" y="333360"/>
            <a:ext cx="525636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Скелет – твёрдый каркас (</a:t>
            </a:r>
            <a:r>
              <a:rPr b="1" i="1" lang="ru-RU" sz="4000" spc="-1" strike="noStrike">
                <a:solidFill>
                  <a:srgbClr val="660033"/>
                </a:solidFill>
                <a:latin typeface="Georgia"/>
              </a:rPr>
              <a:t>остов</a:t>
            </a: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)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В организме более 200 к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708360" y="3068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Чере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 flipH="1" flipV="1">
            <a:off x="1619280" y="836280"/>
            <a:ext cx="2160720" cy="252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780000" y="3645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Позвоноч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H="1" flipV="1">
            <a:off x="1332000" y="2060640"/>
            <a:ext cx="23032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3851280" y="4292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Грудная кле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H="1" flipV="1">
            <a:off x="1403280" y="1773360"/>
            <a:ext cx="244800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3851280" y="4941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Кости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H="1" flipV="1">
            <a:off x="684000" y="2421000"/>
            <a:ext cx="316692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>
            <a:off x="3851280" y="5589720"/>
            <a:ext cx="46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Кости н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 flipH="1" flipV="1">
            <a:off x="1692000" y="4436640"/>
            <a:ext cx="215892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7" descr="ANd9GcRPkPkwpxe-Ymoh1GxqDZCiYgx_BiGz4_f_12_NJ1-44B_SkBnO"/>
          <p:cNvPicPr/>
          <p:nvPr/>
        </p:nvPicPr>
        <p:blipFill>
          <a:blip r:embed="rId1"/>
          <a:stretch/>
        </p:blipFill>
        <p:spPr>
          <a:xfrm>
            <a:off x="3276720" y="549360"/>
            <a:ext cx="176184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7374_002"/>
          <p:cNvPicPr/>
          <p:nvPr/>
        </p:nvPicPr>
        <p:blipFill>
          <a:blip r:embed="rId2"/>
          <a:stretch/>
        </p:blipFill>
        <p:spPr>
          <a:xfrm>
            <a:off x="324000" y="549360"/>
            <a:ext cx="2581200" cy="4410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2"/>
          <p:cNvSpPr/>
          <p:nvPr/>
        </p:nvSpPr>
        <p:spPr>
          <a:xfrm>
            <a:off x="3276720" y="3357720"/>
            <a:ext cx="568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Мышцы – гибкий скелет или </a:t>
            </a: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мягкий</a:t>
            </a: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 остов тела. В теле человека около 600 мыш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img3b"/>
          <p:cNvPicPr/>
          <p:nvPr/>
        </p:nvPicPr>
        <p:blipFill>
          <a:blip r:embed="rId1"/>
          <a:stretch/>
        </p:blipFill>
        <p:spPr>
          <a:xfrm>
            <a:off x="250920" y="189000"/>
            <a:ext cx="3529080" cy="26654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5219640" y="189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Georgia"/>
              </a:rPr>
              <a:t>М</a:t>
            </a:r>
            <a:r>
              <a:rPr b="1" i="1" lang="ru-RU" sz="3600" spc="-1" strike="noStrike">
                <a:solidFill>
                  <a:srgbClr val="660033"/>
                </a:solidFill>
                <a:latin typeface="Georgia"/>
              </a:rPr>
              <a:t>им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 flipH="1" flipV="1">
            <a:off x="3851280" y="62028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4572000" y="119700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4932360" y="2133720"/>
            <a:ext cx="863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3995640" y="2565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Исп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ANd9GcQBdU1doPs4R84d7mCmquKwluHh8cbGNgTIzfhe2-SNpqw8e2Adkg"/>
          <p:cNvPicPr/>
          <p:nvPr/>
        </p:nvPicPr>
        <p:blipFill>
          <a:blip r:embed="rId2"/>
          <a:stretch/>
        </p:blipFill>
        <p:spPr>
          <a:xfrm>
            <a:off x="468360" y="314172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3492360" y="393372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Гру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6"/>
          <p:cNvSpPr/>
          <p:nvPr/>
        </p:nvSpPr>
        <p:spPr>
          <a:xfrm flipH="1" flipV="1">
            <a:off x="2987640" y="349992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5"/>
          <p:cNvPicPr/>
          <p:nvPr/>
        </p:nvPicPr>
        <p:blipFill>
          <a:blip r:embed="rId3"/>
          <a:stretch/>
        </p:blipFill>
        <p:spPr>
          <a:xfrm>
            <a:off x="250920" y="522936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9"/>
          <p:cNvSpPr/>
          <p:nvPr/>
        </p:nvSpPr>
        <p:spPr>
          <a:xfrm flipV="1" rot="10800000">
            <a:off x="2916000" y="571968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Рад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0"/>
          <p:cNvSpPr/>
          <p:nvPr/>
        </p:nvSpPr>
        <p:spPr>
          <a:xfrm flipH="1" flipV="1">
            <a:off x="2268360" y="5516640"/>
            <a:ext cx="1224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2" descr="ANd9GcQZplUKmb9evTiyxVSUuS8ZQ_MCq70j-26S9xrmmjJuUN4MNvDI6A"/>
          <p:cNvPicPr/>
          <p:nvPr/>
        </p:nvPicPr>
        <p:blipFill>
          <a:blip r:embed="rId4"/>
          <a:stretch/>
        </p:blipFill>
        <p:spPr>
          <a:xfrm>
            <a:off x="6804000" y="3429000"/>
            <a:ext cx="1847880" cy="2476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3"/>
          <p:cNvSpPr/>
          <p:nvPr/>
        </p:nvSpPr>
        <p:spPr>
          <a:xfrm>
            <a:off x="5867280" y="6165720"/>
            <a:ext cx="34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Уди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4"/>
          <p:cNvSpPr/>
          <p:nvPr/>
        </p:nvSpPr>
        <p:spPr>
          <a:xfrm flipV="1">
            <a:off x="6012000" y="4797000"/>
            <a:ext cx="720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7" descr="s320x240"/>
          <p:cNvPicPr/>
          <p:nvPr/>
        </p:nvPicPr>
        <p:blipFill>
          <a:blip r:embed="rId5"/>
          <a:stretch/>
        </p:blipFill>
        <p:spPr>
          <a:xfrm>
            <a:off x="5867280" y="836640"/>
            <a:ext cx="3048120" cy="2276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5"/>
          <p:cNvSpPr/>
          <p:nvPr/>
        </p:nvSpPr>
        <p:spPr>
          <a:xfrm>
            <a:off x="3952800" y="2676600"/>
            <a:ext cx="1238400" cy="15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189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Georgia"/>
              </a:rPr>
              <a:t>Кости и мышцы необходимо укреп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8"/>
          <p:cNvSpPr/>
          <p:nvPr/>
        </p:nvSpPr>
        <p:spPr>
          <a:xfrm>
            <a:off x="3300480" y="2529000"/>
            <a:ext cx="25430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ANd9GcSr_Em4Lwt4BbYalwR0JCxLbIpXulXaFY5sGDbQ-ARBwvdK5tdy"/>
          <p:cNvPicPr/>
          <p:nvPr/>
        </p:nvPicPr>
        <p:blipFill>
          <a:blip r:embed="rId1"/>
          <a:stretch/>
        </p:blipFill>
        <p:spPr>
          <a:xfrm>
            <a:off x="324000" y="13413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ANd9GcSwpKQJ43w_xqq7XDVz07QjFzz7bKaKCC2S9IDHUU7nMmSQMC90aA"/>
          <p:cNvPicPr/>
          <p:nvPr/>
        </p:nvPicPr>
        <p:blipFill>
          <a:blip r:embed="rId2"/>
          <a:stretch/>
        </p:blipFill>
        <p:spPr>
          <a:xfrm>
            <a:off x="6443640" y="1484280"/>
            <a:ext cx="1876320" cy="1419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ANd9GcRgs8DOOfaF6gk_y8dXMxro9AWpjexg-se4ZQ4hYzCMVDAccv4_EQ"/>
          <p:cNvPicPr/>
          <p:nvPr/>
        </p:nvPicPr>
        <p:blipFill>
          <a:blip r:embed="rId3"/>
          <a:stretch/>
        </p:blipFill>
        <p:spPr>
          <a:xfrm>
            <a:off x="4788000" y="3429000"/>
            <a:ext cx="4032000" cy="2879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8" descr="ANd9GcT8x-53Rff9Uh_fv83y5XH6jyyFd8exTiKhr5KJ-_L8tTS5okCc"/>
          <p:cNvPicPr/>
          <p:nvPr/>
        </p:nvPicPr>
        <p:blipFill>
          <a:blip r:embed="rId4"/>
          <a:stretch/>
        </p:blipFill>
        <p:spPr>
          <a:xfrm>
            <a:off x="2916360" y="4724280"/>
            <a:ext cx="1050840" cy="1440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ANd9GcSQkOup3eHAfKSpxKKQGRqAzONPotFxuuW5iipJERbgm6B1k7hLMQ"/>
          <p:cNvPicPr/>
          <p:nvPr/>
        </p:nvPicPr>
        <p:blipFill>
          <a:blip r:embed="rId5"/>
          <a:stretch/>
        </p:blipFill>
        <p:spPr>
          <a:xfrm>
            <a:off x="179280" y="3573360"/>
            <a:ext cx="2016360" cy="180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2" descr="ANd9GcTBJ-t0djto6N__9DJC6WCVfTFPfCzOCVpcNY9Yna4MiG5C49DM"/>
          <p:cNvPicPr/>
          <p:nvPr/>
        </p:nvPicPr>
        <p:blipFill>
          <a:blip r:embed="rId6"/>
          <a:stretch/>
        </p:blipFill>
        <p:spPr>
          <a:xfrm>
            <a:off x="3348000" y="1341360"/>
            <a:ext cx="2736720" cy="180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33"/>
                </a:solidFill>
                <a:latin typeface="Georgia"/>
              </a:rPr>
              <a:t>Давай провери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2.Какое значение для организма человека имеет скел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 flipV="1" rot="10800000">
            <a:off x="750600" y="3645000"/>
            <a:ext cx="72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3. Назови части скел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826920" y="443700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4. Какова роль мышц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26920" y="1413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1.Что такое опорно –двигательный аппара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826920" y="5300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Georgia"/>
              </a:rPr>
              <a:t>5. Как ты укрепляешь скелет и мышц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0T08:27:52Z</dcterms:created>
  <dc:creator>Егор</dc:creator>
  <dc:description/>
  <dc:language>en-US</dc:language>
  <cp:lastModifiedBy>Серый</cp:lastModifiedBy>
  <dcterms:modified xsi:type="dcterms:W3CDTF">2017-10-15T05:52:14Z</dcterms:modified>
  <cp:revision>4</cp:revision>
  <dc:subject/>
  <dc:title>Двигательная система</dc:title>
</cp:coreProperties>
</file>