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2310-0977-49C6-ADEB-0D679055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22B-3CDA-44BB-A836-12C5DCD3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93B-74BC-46A8-B17B-489A45DD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5FE-DF9D-430C-856F-B1556C76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084A-667E-4AB4-A36A-F2560184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603C-165D-4779-BE5A-F5E71BE9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000D-0B8F-4439-AD03-4FC4EF6D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EB92-BB39-4532-B145-48D2EF77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D3B7-7CE5-468A-9E91-146AACE4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F8C8-206F-489D-8F9E-523A4933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0BC7-BC97-486F-A593-8A50FDBE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E97-31A5-4F84-8797-A7DB1362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B2B1-B503-407D-A9BD-73D32DC6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690D-C686-4813-8DE4-6B06C9BB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6BDC-7266-499A-9FA7-99D073FD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9C64-8CBA-4AAD-9674-9C7B2385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8CD7-70D7-4EF4-A1C2-39B3DB25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E8B-A618-4A8C-B629-CD682CF2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5DB-D8CC-464E-A2C7-80917038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218E-14B0-4605-9508-052D40FB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81F-9B9B-4590-84C4-6D1CDD7B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0252-7379-4FB6-B3FC-7A998E5F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011-8887-46E2-BE5D-1D7B2849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2AC-6DD6-4516-B3E7-2EAE8616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F159-9E56-483A-845F-1D39D8AA15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2AAA-D303-4B3E-AD74-5C3442EB8D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Структурное подразделения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«Детский сад №18 комбинированного вида»</a:t>
            </a:r>
            <a:endParaRPr b="1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219320" y="25146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2416320"/>
            <a:ext cx="74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Dotum"/>
              </a:rPr>
              <a:t>ПОЗНАВАТЕЛЬНО-ИССЛЕДОВАТЕЛЬСКАЯ  ДЕЯТЕЛЬНОСТЬ ДЕТЕЙ СТАРШЕГО  ДОШКОЛЬНОГО ВОЗРАСТА  В ПРОЦЕССЕ РАБОТЫ С   АВТОДИДАКТИЧЕСКИМ МАТЕРИАЛОМ  М. МОНТЕССОР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5486400" y="480060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7162920" y="1371600"/>
            <a:ext cx="1798560" cy="15987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5594400" y="4807080"/>
            <a:ext cx="294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Мухина Елена Геннадьев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Вода принимает форму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39" name="Picture 3" descr="P1100651"/>
          <p:cNvPicPr/>
          <p:nvPr/>
        </p:nvPicPr>
        <p:blipFill>
          <a:blip r:embed="rId1"/>
          <a:stretch/>
        </p:blipFill>
        <p:spPr>
          <a:xfrm>
            <a:off x="990720" y="2057400"/>
            <a:ext cx="3962160" cy="3200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P1100650"/>
          <p:cNvPicPr/>
          <p:nvPr/>
        </p:nvPicPr>
        <p:blipFill>
          <a:blip r:embed="rId2"/>
          <a:stretch/>
        </p:blipFill>
        <p:spPr>
          <a:xfrm>
            <a:off x="5029200" y="3505320"/>
            <a:ext cx="3962520" cy="30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Заполним  ячейки с помощью спринцовки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42" name="Picture 5" descr="P1100660"/>
          <p:cNvPicPr/>
          <p:nvPr/>
        </p:nvPicPr>
        <p:blipFill>
          <a:blip r:embed="rId1"/>
          <a:stretch/>
        </p:blipFill>
        <p:spPr>
          <a:xfrm>
            <a:off x="990720" y="2209680"/>
            <a:ext cx="3809880" cy="3143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P1100659"/>
          <p:cNvPicPr/>
          <p:nvPr/>
        </p:nvPicPr>
        <p:blipFill>
          <a:blip r:embed="rId2"/>
          <a:stretch/>
        </p:blipFill>
        <p:spPr>
          <a:xfrm>
            <a:off x="4876920" y="3429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Разноцветные капли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45" name="Picture 9" descr="P1100675"/>
          <p:cNvPicPr/>
          <p:nvPr/>
        </p:nvPicPr>
        <p:blipFill>
          <a:blip r:embed="rId1"/>
          <a:stretch/>
        </p:blipFill>
        <p:spPr>
          <a:xfrm>
            <a:off x="4800600" y="1905120"/>
            <a:ext cx="3886200" cy="3200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P1100674"/>
          <p:cNvPicPr/>
          <p:nvPr/>
        </p:nvPicPr>
        <p:blipFill>
          <a:blip r:embed="rId2"/>
          <a:stretch/>
        </p:blipFill>
        <p:spPr>
          <a:xfrm>
            <a:off x="990720" y="3124080"/>
            <a:ext cx="36576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477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Пересыпание зерен из кувшина в кувшин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48" name="Picture 5" descr="P1100682"/>
          <p:cNvPicPr/>
          <p:nvPr/>
        </p:nvPicPr>
        <p:blipFill>
          <a:blip r:embed="rId1"/>
          <a:stretch/>
        </p:blipFill>
        <p:spPr>
          <a:xfrm>
            <a:off x="4800600" y="1828800"/>
            <a:ext cx="3886200" cy="3200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P1100681"/>
          <p:cNvPicPr/>
          <p:nvPr/>
        </p:nvPicPr>
        <p:blipFill>
          <a:blip r:embed="rId2"/>
          <a:stretch/>
        </p:blipFill>
        <p:spPr>
          <a:xfrm>
            <a:off x="990720" y="3124080"/>
            <a:ext cx="373356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42840" y="304560"/>
            <a:ext cx="48769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Пересыпание ложкой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51" name="Picture 6" descr="P1100688"/>
          <p:cNvPicPr/>
          <p:nvPr/>
        </p:nvPicPr>
        <p:blipFill>
          <a:blip r:embed="rId1"/>
          <a:stretch/>
        </p:blipFill>
        <p:spPr>
          <a:xfrm>
            <a:off x="990720" y="2057400"/>
            <a:ext cx="3733560" cy="2971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P1100689"/>
          <p:cNvPicPr/>
          <p:nvPr/>
        </p:nvPicPr>
        <p:blipFill>
          <a:blip r:embed="rId2"/>
          <a:stretch/>
        </p:blipFill>
        <p:spPr>
          <a:xfrm>
            <a:off x="4876920" y="3505320"/>
            <a:ext cx="3962160" cy="30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Поможем Золушке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54" name="Picture 5" descr="P1100692"/>
          <p:cNvPicPr/>
          <p:nvPr/>
        </p:nvPicPr>
        <p:blipFill>
          <a:blip r:embed="rId1"/>
          <a:stretch/>
        </p:blipFill>
        <p:spPr>
          <a:xfrm>
            <a:off x="990720" y="320040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P1100694"/>
          <p:cNvPicPr/>
          <p:nvPr/>
        </p:nvPicPr>
        <p:blipFill>
          <a:blip r:embed="rId2"/>
          <a:stretch/>
        </p:blipFill>
        <p:spPr>
          <a:xfrm>
            <a:off x="5105520" y="2133720"/>
            <a:ext cx="388620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Перекладывание бусин пинцетом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57" name="Picture 5" descr="P1100705"/>
          <p:cNvPicPr/>
          <p:nvPr/>
        </p:nvPicPr>
        <p:blipFill>
          <a:blip r:embed="rId1"/>
          <a:stretch/>
        </p:blipFill>
        <p:spPr>
          <a:xfrm>
            <a:off x="4952880" y="1905120"/>
            <a:ext cx="3962520" cy="3124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P1100704"/>
          <p:cNvPicPr/>
          <p:nvPr/>
        </p:nvPicPr>
        <p:blipFill>
          <a:blip r:embed="rId2"/>
          <a:stretch/>
        </p:blipFill>
        <p:spPr>
          <a:xfrm>
            <a:off x="990720" y="3124080"/>
            <a:ext cx="388620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Подбери болт к гайке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60" name="Picture 5" descr="P1100709"/>
          <p:cNvPicPr/>
          <p:nvPr/>
        </p:nvPicPr>
        <p:blipFill>
          <a:blip r:embed="rId1"/>
          <a:stretch/>
        </p:blipFill>
        <p:spPr>
          <a:xfrm>
            <a:off x="1676520" y="2133720"/>
            <a:ext cx="5867280" cy="44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Развивающая среда М.Монтессори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6" name="Picture 4" descr="P1100711"/>
          <p:cNvPicPr/>
          <p:nvPr/>
        </p:nvPicPr>
        <p:blipFill>
          <a:blip r:embed="rId1"/>
          <a:stretch/>
        </p:blipFill>
        <p:spPr>
          <a:xfrm>
            <a:off x="1676520" y="2133720"/>
            <a:ext cx="6019560" cy="45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0199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Уголок экспериментирования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8" name="Picture 11" descr="P1100713"/>
          <p:cNvPicPr/>
          <p:nvPr/>
        </p:nvPicPr>
        <p:blipFill>
          <a:blip r:embed="rId1"/>
          <a:stretch/>
        </p:blipFill>
        <p:spPr>
          <a:xfrm>
            <a:off x="2133720" y="220968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Рисунок 31" descr="C:\Users\User\Desktop\Фото -уголок Монтессори\P1100625.JPG"/>
          <p:cNvPicPr/>
          <p:nvPr/>
        </p:nvPicPr>
        <p:blipFill>
          <a:blip r:embed="rId1"/>
          <a:stretch/>
        </p:blipFill>
        <p:spPr>
          <a:xfrm>
            <a:off x="2819520" y="2133720"/>
            <a:ext cx="3855960" cy="43956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2286000" y="990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«Вылови шарики  из воды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Переливание воды при помощи шприца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685800" y="2133720"/>
            <a:ext cx="75438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7" descr="P1100627"/>
          <p:cNvPicPr/>
          <p:nvPr/>
        </p:nvPicPr>
        <p:blipFill>
          <a:blip r:embed="rId1"/>
          <a:stretch/>
        </p:blipFill>
        <p:spPr>
          <a:xfrm>
            <a:off x="990720" y="2133720"/>
            <a:ext cx="3809880" cy="2868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P1100632"/>
          <p:cNvPicPr/>
          <p:nvPr/>
        </p:nvPicPr>
        <p:blipFill>
          <a:blip r:embed="rId2"/>
          <a:stretch/>
        </p:blipFill>
        <p:spPr>
          <a:xfrm>
            <a:off x="4952880" y="3505320"/>
            <a:ext cx="39625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09880" cy="293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P1100646"/>
          <p:cNvPicPr/>
          <p:nvPr/>
        </p:nvPicPr>
        <p:blipFill>
          <a:blip r:embed="rId2"/>
          <a:stretch/>
        </p:blipFill>
        <p:spPr>
          <a:xfrm>
            <a:off x="5029200" y="2286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304920" y="4572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106668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«Переливание воды через три воронк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Переливание  воды до условной мерки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31" name="Picture 3" descr="P1100635"/>
          <p:cNvPicPr/>
          <p:nvPr/>
        </p:nvPicPr>
        <p:blipFill>
          <a:blip r:embed="rId1"/>
          <a:stretch/>
        </p:blipFill>
        <p:spPr>
          <a:xfrm>
            <a:off x="990720" y="3276720"/>
            <a:ext cx="4114800" cy="3200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P1100638"/>
          <p:cNvPicPr/>
          <p:nvPr/>
        </p:nvPicPr>
        <p:blipFill>
          <a:blip r:embed="rId2"/>
          <a:stretch/>
        </p:blipFill>
        <p:spPr>
          <a:xfrm>
            <a:off x="5257800" y="220968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Перекладывание бусин пинцетом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34" name="Picture 3" descr="P1100705"/>
          <p:cNvPicPr/>
          <p:nvPr/>
        </p:nvPicPr>
        <p:blipFill>
          <a:blip r:embed="rId1"/>
          <a:stretch/>
        </p:blipFill>
        <p:spPr>
          <a:xfrm>
            <a:off x="4648320" y="1905120"/>
            <a:ext cx="3886200" cy="2895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P1100704"/>
          <p:cNvPicPr/>
          <p:nvPr/>
        </p:nvPicPr>
        <p:blipFill>
          <a:blip r:embed="rId2"/>
          <a:stretch/>
        </p:blipFill>
        <p:spPr>
          <a:xfrm>
            <a:off x="990720" y="3124080"/>
            <a:ext cx="35812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8120" y="304560"/>
            <a:ext cx="35812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Сделаем пузыри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37" name="Picture 3" descr="P1100642"/>
          <p:cNvPicPr/>
          <p:nvPr/>
        </p:nvPicPr>
        <p:blipFill>
          <a:blip r:embed="rId1"/>
          <a:stretch/>
        </p:blipFill>
        <p:spPr>
          <a:xfrm>
            <a:off x="2895480" y="1905120"/>
            <a:ext cx="4267440" cy="46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Дом</cp:lastModifiedBy>
  <dcterms:modified xsi:type="dcterms:W3CDTF">2017-10-15T09:42:09Z</dcterms:modified>
  <cp:revision>43</cp:revision>
  <dc:subject/>
  <dc:title>«Детское экспериментирование как средство познавательного развития дошкольников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