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A31B-915B-4222-A5AC-D81AC0C1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055-B01B-4DA4-BFE9-18D9960D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5F3-41B7-4D4D-85D3-9DED6519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CE6-DB8B-4ED3-BB2A-A2F4C253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3D96-2A01-4E62-BBC4-1596E8B2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8051-9284-48FA-900E-F2AE7357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8F14-BF1F-46C6-8A0B-C5C12C7F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EA12-E747-450A-B80E-20CC1B86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F407-B243-48CD-AB40-317CC544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3BCD-1E41-4D7A-BC64-EE40FAB8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7A0B-807C-4D25-AF5B-2500E855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8AD-7E7A-4FBE-BA77-458BF589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B163-BE2B-4FEC-80C5-A26251C7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9386-E397-4751-A32D-C6173976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0512-879B-448B-A8B2-B37BCAC2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D279-F0DA-476A-BBAF-3A5B03F9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3375-B778-4E07-8980-6A679E6D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D8D-7186-4871-AA66-0DED4AD0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A37-0EA9-487E-B906-17C28C37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20D-862D-4E4B-97A6-AF6433F3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66B-0377-40B5-8018-B5E567B8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628-26CB-464A-A12D-800AB404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263-0894-4182-A7A9-8E2463E2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0EC-67DF-42A6-ACE9-42105B64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AB26-FDF5-4C25-BE61-C92D4D24332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2225-9789-41EC-A667-D8B73AF0737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тупление- презентация  для  педагогов ДО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о- коммуникационн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ологии в системе работы ДО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598920" y="3173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нструктивно-методическое письм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инобразования РФ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 14 марта 2000 г. N 65/23-16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"О гигиенических требованиях к максимальной нагрузке на детей дошкольного возраста в организованных формах обучения"</a:t>
            </a:r>
            <a:br>
              <a:rPr sz="40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ОСОБОГО ВНИМАНИЯ ТРЕБУЕТ ОРГАНИЗАЦИЯ ЗАНЯТИЙ С ИСПОЛЬЗОВАНИЕМ КОМПЬЮТЕР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нятия с использованием компьютеров для детей 5 - 6 лет не должны проводиться чаще двух раз в недел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должительность непрерывной работы с компьютером - не более 10 минут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гиенически рациональная организация рабочего места за компьютером:    соответствие мебели росту ребенка, оптимальное освещение, соблюдение электромагнитной безопас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ная техника, которая используется в  ДОУ, обязательно должна иметь гигиеническое заключение (сертификат), подтверждающий ее безопасность для де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воение детьми основ компьютерной грамотности на ступени дошкольного образования не следует рассматривать как самоцель, а использовать как одну из составляющих образовательного проце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84438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пользование ИКТ в методической работе с педагога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лан  семинаров-практикум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о теме: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Использование информационно-коммуникационных технологий  в практике работы ДОУ»</a:t>
            </a:r>
            <a:br>
              <a:rPr sz="40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зучение информационного письма Минобразования РФ № 753/23 -16 «Об информатизации  дошкольного образования в России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зучение инструктивно-методического письма Минобразования России от 14.03.2000 г. № 65/23-16 «О гигиенических требованиях к максимальной нагрузке на детей дошкольного возраста  в организованных формах обучения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ьзование информационно-коммуникационных технологий  в деятельности   ДО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ая характеристика обучающих и развивающих компьютерных программ для дошкольни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мпьютерная поддержка занятий  по математике, развитию речи, обучению грамоте, познавательному  развитию, изобразительной деятельности, развитию движений, музы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ьзование компьютерных программ в нерегламентированной совместной  деятельности педагога с детьм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ьзование информационно-коммуникационных технологий  в процессе взаимодействия ДОУ с родителя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мпьютер в ДОУ: за и проти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ультимедийное сопровождение воспитательно-образовательного процесса в ДО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информационно-коммуникативных технологий в процессе взаимодействия ДОУ с родител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азание консультативной помощи в вопросах воспитания и развития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недр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ение методов активизации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монстрация успехов и достижений как лично ребенка, так и ДОУ в це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ормы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Сайта О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шение с родителями в режиме он- лайн через Сайт Д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зентация    организации работы в груп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зентация успехов дет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электронных  страничек для родителей в сети Интер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информационно-коммуникационных технологий в ДОУ является обогащающим и преобразующим факто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ьютерное оборудование может быть использовано в работе с детьми при безусловном соблюдении физиолого-гигиенических и психолого-педагогических норм и рекоменд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ьютерные игровые и обучающие технологии применяются в соответствии с психофизическими возможностями ребенка дошколь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еобходимо знать что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м где нет возможности оборудовать компьютерный класс, ИКТ выступают как новое средство наглядности!!!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1"/>
          <p:cNvSpPr/>
          <p:nvPr/>
        </p:nvSpPr>
        <p:spPr>
          <a:xfrm>
            <a:off x="2195640" y="1844640"/>
            <a:ext cx="3600360" cy="403236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О.Н. Таган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итерату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структивно – методическое письмо Минобразования РФ № 753/23 -16 «Об информатизации  дошкольного образования  в России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структивно-методического письма Минобразования России от 14.03.2000 г. № 65/23-16 «О гигиенических требованиях к максимальной нагрузке на детей дошкольного возраста  в организованных формах обучени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кишина Т.А. Компьютерные занятия в детском са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 .Информатика и образование  № 4 2003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лая К.Ю. Инновационная деятельность в ДО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, ТЦ Сфера 2004 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13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онно-коммуникационные  технолог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образован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комплекс  учебно-методических материалов, технических и инструментальных средств вычислительной техники в учебном процессе, формах и методах их применения для совершенствования деятельности специалистов учреждений образования (администрации, воспитателей, специалистов), а также для образования (развития, диагностики, коррекции)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правлени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я информационно-коммуникационных технологий в системе деятельности Д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Group 13"/>
          <p:cNvGrpSpPr/>
          <p:nvPr/>
        </p:nvGrpSpPr>
        <p:grpSpPr>
          <a:xfrm>
            <a:off x="250920" y="2565360"/>
            <a:ext cx="3384360" cy="2158920"/>
            <a:chOff x="250920" y="2565360"/>
            <a:chExt cx="3384360" cy="2158920"/>
          </a:xfrm>
        </p:grpSpPr>
        <p:sp>
          <p:nvSpPr>
            <p:cNvPr id="168" name="AutoShape 4"/>
            <p:cNvSpPr/>
            <p:nvPr/>
          </p:nvSpPr>
          <p:spPr>
            <a:xfrm>
              <a:off x="250920" y="2565360"/>
              <a:ext cx="3384360" cy="2158920"/>
            </a:xfrm>
            <a:prstGeom prst="horizontalScroll">
              <a:avLst>
                <a:gd name="adj" fmla="val 125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5"/>
            <p:cNvSpPr/>
            <p:nvPr/>
          </p:nvSpPr>
          <p:spPr>
            <a:xfrm>
              <a:off x="456120" y="2899800"/>
              <a:ext cx="2951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пользование ИКТ при организации воспитательно-образовательного процесса с деть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Group 14"/>
          <p:cNvGrpSpPr/>
          <p:nvPr/>
        </p:nvGrpSpPr>
        <p:grpSpPr>
          <a:xfrm>
            <a:off x="5508720" y="2349360"/>
            <a:ext cx="3455640" cy="2159280"/>
            <a:chOff x="5508720" y="2349360"/>
            <a:chExt cx="3455640" cy="2159280"/>
          </a:xfrm>
        </p:grpSpPr>
        <p:sp>
          <p:nvSpPr>
            <p:cNvPr id="171" name="AutoShape 8"/>
            <p:cNvSpPr/>
            <p:nvPr/>
          </p:nvSpPr>
          <p:spPr>
            <a:xfrm>
              <a:off x="5508720" y="2349360"/>
              <a:ext cx="3382560" cy="2159280"/>
            </a:xfrm>
            <a:prstGeom prst="horizontalScroll">
              <a:avLst>
                <a:gd name="adj" fmla="val 125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9"/>
            <p:cNvSpPr/>
            <p:nvPr/>
          </p:nvSpPr>
          <p:spPr>
            <a:xfrm>
              <a:off x="5729040" y="2686680"/>
              <a:ext cx="323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пользование ИКТ в  процессе и организации методической работы с педагогическими кадра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10"/>
          <p:cNvGrpSpPr/>
          <p:nvPr/>
        </p:nvGrpSpPr>
        <p:grpSpPr>
          <a:xfrm>
            <a:off x="2700360" y="4941720"/>
            <a:ext cx="3310920" cy="1916280"/>
            <a:chOff x="2700360" y="4941720"/>
            <a:chExt cx="3310920" cy="1916280"/>
          </a:xfrm>
        </p:grpSpPr>
        <p:sp>
          <p:nvSpPr>
            <p:cNvPr id="174" name="AutoShape 11"/>
            <p:cNvSpPr/>
            <p:nvPr/>
          </p:nvSpPr>
          <p:spPr>
            <a:xfrm>
              <a:off x="2700360" y="4941720"/>
              <a:ext cx="3309840" cy="1916280"/>
            </a:xfrm>
            <a:prstGeom prst="horizontalScroll">
              <a:avLst>
                <a:gd name="adj" fmla="val 125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2956320" y="5378760"/>
              <a:ext cx="305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пользование ИКТ в процессе взаимодействия ДОУ с родителя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AutoShape 16"/>
          <p:cNvSpPr/>
          <p:nvPr/>
        </p:nvSpPr>
        <p:spPr>
          <a:xfrm rot="16200000">
            <a:off x="3420360" y="2995920"/>
            <a:ext cx="2376360" cy="505080"/>
          </a:xfrm>
          <a:prstGeom prst="leftArrow">
            <a:avLst>
              <a:gd name="adj1" fmla="val 50000"/>
              <a:gd name="adj2" fmla="val 1176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 rot="13780800">
            <a:off x="6118920" y="1808280"/>
            <a:ext cx="1081080" cy="432000"/>
          </a:xfrm>
          <a:prstGeom prst="leftArrow">
            <a:avLst>
              <a:gd name="adj1" fmla="val 50000"/>
              <a:gd name="adj2" fmla="val 6256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9"/>
          <p:cNvSpPr/>
          <p:nvPr/>
        </p:nvSpPr>
        <p:spPr>
          <a:xfrm rot="18759000">
            <a:off x="2447280" y="1881360"/>
            <a:ext cx="1081080" cy="432000"/>
          </a:xfrm>
          <a:prstGeom prst="leftArrow">
            <a:avLst>
              <a:gd name="adj1" fmla="val 50000"/>
              <a:gd name="adj2" fmla="val 6256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539640" y="333360"/>
            <a:ext cx="8209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ИК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 предусматривае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учение детей основам школьной информатики и вычислительной тех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94920" y="3284280"/>
            <a:ext cx="8497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прежде всего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образование предметно-развивающей ср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новых средств для развития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новой нагляд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94920" y="191628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ать «видимыми» проблемы, которые предстоит реш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ть у ребенка процесс осмысления собственных навы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тарые методики» положенные на компьютерную основу, получают «второе дыхани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овые технологии и методические при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497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ьютерные технологии обеспечивают занимательную для ребенка форму экспериментирования, классификации, сравнения, модел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и менее утомляются, дольше сохраняют работоспособность, т.к. занятия им интерес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ядя на экран, ребенок сам видит результат свое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овые технологии и методические при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ие информационно-коммуникационных технологий при организации воспитательно-образовательного процесса 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6227280" y="3860640"/>
            <a:ext cx="2521080" cy="2232000"/>
            <a:chOff x="6227280" y="3860640"/>
            <a:chExt cx="2521080" cy="2232000"/>
          </a:xfrm>
        </p:grpSpPr>
        <p:sp>
          <p:nvSpPr>
            <p:cNvPr id="187" name="AutoShape 8"/>
            <p:cNvSpPr/>
            <p:nvPr/>
          </p:nvSpPr>
          <p:spPr>
            <a:xfrm rot="10800000">
              <a:off x="6227280" y="3860640"/>
              <a:ext cx="2521080" cy="2232000"/>
            </a:xfrm>
            <a:prstGeom prst="wedgeRectCallout">
              <a:avLst>
                <a:gd name="adj1" fmla="val 45273"/>
                <a:gd name="adj2" fmla="val 1239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6"/>
            <p:cNvSpPr/>
            <p:nvPr/>
          </p:nvSpPr>
          <p:spPr>
            <a:xfrm>
              <a:off x="6732720" y="4579920"/>
              <a:ext cx="151128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луб .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амостоятельная игровая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деятельно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11"/>
          <p:cNvGrpSpPr/>
          <p:nvPr/>
        </p:nvGrpSpPr>
        <p:grpSpPr>
          <a:xfrm>
            <a:off x="250560" y="3860640"/>
            <a:ext cx="2305440" cy="2160720"/>
            <a:chOff x="250560" y="3860640"/>
            <a:chExt cx="2305440" cy="2160720"/>
          </a:xfrm>
        </p:grpSpPr>
        <p:sp>
          <p:nvSpPr>
            <p:cNvPr id="190" name="AutoShape 10"/>
            <p:cNvSpPr/>
            <p:nvPr/>
          </p:nvSpPr>
          <p:spPr>
            <a:xfrm rot="10800000">
              <a:off x="250560" y="3860640"/>
              <a:ext cx="2305080" cy="2160720"/>
            </a:xfrm>
            <a:prstGeom prst="wedgeRectCallout">
              <a:avLst>
                <a:gd name="adj1" fmla="val -57990"/>
                <a:gd name="adj2" fmla="val 132291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4"/>
            <p:cNvSpPr/>
            <p:nvPr/>
          </p:nvSpPr>
          <p:spPr>
            <a:xfrm>
              <a:off x="250920" y="3933720"/>
              <a:ext cx="2305080" cy="14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Специально организованные занят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Group 12"/>
          <p:cNvGrpSpPr/>
          <p:nvPr/>
        </p:nvGrpSpPr>
        <p:grpSpPr>
          <a:xfrm>
            <a:off x="2843280" y="3860640"/>
            <a:ext cx="3024000" cy="2160720"/>
            <a:chOff x="2843280" y="3860640"/>
            <a:chExt cx="3024000" cy="2160720"/>
          </a:xfrm>
        </p:grpSpPr>
        <p:sp>
          <p:nvSpPr>
            <p:cNvPr id="193" name="AutoShape 9"/>
            <p:cNvSpPr/>
            <p:nvPr/>
          </p:nvSpPr>
          <p:spPr>
            <a:xfrm>
              <a:off x="2843280" y="3860640"/>
              <a:ext cx="3024000" cy="2160720"/>
            </a:xfrm>
            <a:prstGeom prst="wedgeRectCallout">
              <a:avLst>
                <a:gd name="adj1" fmla="val 8476"/>
                <a:gd name="adj2" fmla="val -131999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5"/>
            <p:cNvSpPr/>
            <p:nvPr/>
          </p:nvSpPr>
          <p:spPr>
            <a:xfrm>
              <a:off x="2843280" y="3933720"/>
              <a:ext cx="29527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Не регламентированная деятельность воспитателя с детьм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"/>
          <p:cNvSpPr/>
          <p:nvPr/>
        </p:nvSpPr>
        <p:spPr>
          <a:xfrm>
            <a:off x="1187280" y="404640"/>
            <a:ext cx="6553440" cy="6193080"/>
          </a:xfrm>
          <a:custGeom>
            <a:avLst/>
            <a:gdLst>
              <a:gd name="textAreaLeft" fmla="*/ 959400 w 6553440"/>
              <a:gd name="textAreaRight" fmla="*/ 5594040 w 6553440"/>
              <a:gd name="textAreaTop" fmla="*/ 906840 h 6193080"/>
              <a:gd name="textAreaBottom" fmla="*/ 5286240 h 619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2050920" y="836640"/>
            <a:ext cx="54723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тегорически запрещается использование ИКТ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строенных на АЗАРТНЫХ, АГРЕССИВНЫХ, МОНОТОННЫХ действиях и персонажа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214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пользование ИКТ в работе с детьм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5:08:14Z</dcterms:created>
  <dc:creator>1</dc:creator>
  <dc:description/>
  <dc:language>en-US</dc:language>
  <cp:lastModifiedBy>one</cp:lastModifiedBy>
  <dcterms:modified xsi:type="dcterms:W3CDTF">2017-10-10T11:19:57Z</dcterms:modified>
  <cp:revision>58</cp:revision>
  <dc:subject/>
  <dc:title>Слайд 1</dc:title>
</cp:coreProperties>
</file>