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FDC-F1BF-40A4-BE5A-E8FC2468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117-6DAD-490B-BAF2-4EAFF537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E9C0-F901-4C2E-9ACA-C4ABB99F9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B983-C208-4CAB-9904-201CF7B33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F255-4A12-4090-8EED-0BA2C5DC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4DC-747B-4D98-85D1-160D5721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CBA4-6C42-45B1-B1B1-FE9274FB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45D2-99AF-4E12-92A6-D1CA20863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85BC-3602-467F-94A0-23ACD10C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2420-F1F7-44B3-A135-A0BB3C60B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A9BA-4068-48D5-8E95-A6F1C5C9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654-849E-4323-A389-E6FF7696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AA6D-CD01-4753-8B04-ABE07A36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B8A2-C6AD-4C52-98F6-1E4CAD9C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A7E0-FF70-4023-86E3-8DDE63DF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1A34-02D7-471C-8F69-110FBEF2F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1381-C33C-43A0-AA5B-A8823444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45D-34BE-4657-BC84-4985C073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8E3C-656B-40D8-92C2-4686D555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91F-7B18-4FE8-BDE7-7F6ED7FE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A8B3-F8D5-4ECD-888B-19B38D4E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356-D55E-48E6-A171-AAFA1EE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2133-AA28-4E32-8581-66B3411E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6F31-E7B1-4BBD-B438-62319C2D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D87D-8F66-4B06-B533-0FBB9A23AB3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A7C6-50EA-46A2-81E7-1A11B91232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тупление- презентация  для  педагогов ДО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о- коммуникационны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хнологии в системе работы ДО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598920" y="3173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нструктивно-методическое письм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инобразования РФ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 14 марта 2000 г. N 65/23-16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"О гигиенических требованиях к максимальной нагрузке на детей дошкольного возраста в организованных формах обучения"</a:t>
            </a:r>
            <a:br>
              <a:rPr sz="40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5. ОСОБОГО ВНИМАНИЯ ТРЕБУЕТ ОРГАНИЗАЦИЯ ЗАНЯТИЙ С ИСПОЛЬЗОВАНИЕМ КОМПЬЮТЕРО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ятия с использованием компьютеров для детей 5 - 6 лет не должны проводиться чаще двух раз в неделю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лжительность непрерывной работы с компьютером - не более 10 минут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игиенически рациональная организация рабочего места за компьютером:    соответствие мебели росту ребенка, оптимальное освещение, соблюдение электромагнитной безопас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ная техника, которая используется в  ДОУ, обязательно должна иметь гигиеническое заключение (сертификат), подтверждающий ее безопасность для дет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воение детьми основ компьютерной грамотности на ступени дошкольного образования не следует рассматривать как самоцель, а использовать как одну из составляющих образовательного процес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4438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ие ИКТ в методической работе с педагогам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лан  семинаров-практикумов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по теме: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«Использование информационно-коммуникационных технологий  в практике работы ДОУ»</a:t>
            </a:r>
            <a:br>
              <a:rPr sz="40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учение информационного письма Минобразования РФ № 753/23 -16 «Об информатизации  дошкольного образования в России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зучение инструктивно-методического письма Минобразования России от 14.03.2000 г. № 65/23-16 «О гигиенических требованиях к максимальной нагрузке на детей дошкольного возраста  в организованных формах обучения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 в деятельности   ДО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щая характеристика обучающих и развивающих компьютерных программ для дошкольнико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пьютерная поддержка занятий  по математике, развитию речи, обучению грамоте, познавательному  развитию, изобразительной деятельности, развитию движений, музык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ование компьютерных программ в нерегламентированной совместной  деятельности педагога с детьм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 в процессе взаимодействия ДОУ с родителя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пьютер в ДОУ: за и проти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ультимедийное сопровождение воспитательно-образовательного процесса в ДО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тивных технологий в процессе взаимодействия ДОУ с родител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ание консультативной помощи в вопросах воспитания и развития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Внедр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методов активизации род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монстрация успехов и достижений как лично ребенка, так и ДОУ в цел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орм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Сайта О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шение с родителями в режиме он- лайн через Сайт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   организации работы в групп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зентация успехов дете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электронных  страничек для родителей в сети Интерн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в ДОУ является обогащающим и преобразующим факто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ное оборудование может быть использовано в работе с детьми при безусловном соблюдении физиолого-гигиенических и психолого-педагогических норм и рекоменд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ные игровые и обучающие технологии применяются в соответствии с психофизическими возможностями ребенка дошколь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обходимо знать что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ам где нет возможности оборудовать компьютерный класс, ИКТ выступают как новое средство наглядности!!!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11"/>
          <p:cNvSpPr/>
          <p:nvPr/>
        </p:nvSpPr>
        <p:spPr>
          <a:xfrm>
            <a:off x="2195640" y="1844640"/>
            <a:ext cx="3600360" cy="4032360"/>
          </a:xfrm>
          <a:prstGeom prst="verticalScroll">
            <a:avLst>
              <a:gd name="adj" fmla="val 125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Monotype Corsiva"/>
              </a:rPr>
              <a:t>О.Н. Таган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итерату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структивно – методическое письмо Минобразования РФ № 753/23 -16 «Об информатизации  дошкольного образования  в России»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структивно-методического письма Минобразования России от 14.03.2000 г. № 65/23-16 «О гигиенических требованиях к максимальной нагрузке на детей дошкольного возраста  в организованных формах обучени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кишина Т.А. Компьютерные занятия в детском са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 .Информатика и образование  № 4 2003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лая К.Ю. Инновационная деятельность в ДО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, ТЦ Сфера 2004 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13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онно-коммуникационные  технологи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образовани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комплекс  учебно-методических материалов, технических и инструментальных средств вычислительной техники в учебном процессе, формах и методах их применения для совершенствования деятельности специалистов учреждений образования (администрации, воспитателей, специалистов), а также для образования (развития, диагностики, коррекции) де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правления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я информационно-коммуникационных технологий в системе деятельности ДО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Group 13"/>
          <p:cNvGrpSpPr/>
          <p:nvPr/>
        </p:nvGrpSpPr>
        <p:grpSpPr>
          <a:xfrm>
            <a:off x="250920" y="2565360"/>
            <a:ext cx="3384360" cy="2158920"/>
            <a:chOff x="250920" y="2565360"/>
            <a:chExt cx="3384360" cy="2158920"/>
          </a:xfrm>
        </p:grpSpPr>
        <p:sp>
          <p:nvSpPr>
            <p:cNvPr id="168" name="AutoShape 4"/>
            <p:cNvSpPr/>
            <p:nvPr/>
          </p:nvSpPr>
          <p:spPr>
            <a:xfrm>
              <a:off x="250920" y="2565360"/>
              <a:ext cx="3384360" cy="2158920"/>
            </a:xfrm>
            <a:prstGeom prst="horizont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5"/>
            <p:cNvSpPr/>
            <p:nvPr/>
          </p:nvSpPr>
          <p:spPr>
            <a:xfrm>
              <a:off x="456120" y="2899800"/>
              <a:ext cx="29516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пользование ИКТ при организации воспитательно-образовательного процесса с деть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Group 14"/>
          <p:cNvGrpSpPr/>
          <p:nvPr/>
        </p:nvGrpSpPr>
        <p:grpSpPr>
          <a:xfrm>
            <a:off x="5508720" y="2349360"/>
            <a:ext cx="3455640" cy="2159280"/>
            <a:chOff x="5508720" y="2349360"/>
            <a:chExt cx="3455640" cy="2159280"/>
          </a:xfrm>
        </p:grpSpPr>
        <p:sp>
          <p:nvSpPr>
            <p:cNvPr id="171" name="AutoShape 8"/>
            <p:cNvSpPr/>
            <p:nvPr/>
          </p:nvSpPr>
          <p:spPr>
            <a:xfrm>
              <a:off x="5508720" y="2349360"/>
              <a:ext cx="3382560" cy="2159280"/>
            </a:xfrm>
            <a:prstGeom prst="horizont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Text Box 9"/>
            <p:cNvSpPr/>
            <p:nvPr/>
          </p:nvSpPr>
          <p:spPr>
            <a:xfrm>
              <a:off x="5729040" y="2686680"/>
              <a:ext cx="3235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пользование ИКТ в  процессе и организации методической работы с педагогическими кадра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3" name="Group 10"/>
          <p:cNvGrpSpPr/>
          <p:nvPr/>
        </p:nvGrpSpPr>
        <p:grpSpPr>
          <a:xfrm>
            <a:off x="2700360" y="4941720"/>
            <a:ext cx="3310920" cy="1916280"/>
            <a:chOff x="2700360" y="4941720"/>
            <a:chExt cx="3310920" cy="1916280"/>
          </a:xfrm>
        </p:grpSpPr>
        <p:sp>
          <p:nvSpPr>
            <p:cNvPr id="174" name="AutoShape 11"/>
            <p:cNvSpPr/>
            <p:nvPr/>
          </p:nvSpPr>
          <p:spPr>
            <a:xfrm>
              <a:off x="2700360" y="4941720"/>
              <a:ext cx="3309840" cy="1916280"/>
            </a:xfrm>
            <a:prstGeom prst="horizontalScroll">
              <a:avLst>
                <a:gd name="adj" fmla="val 12500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12"/>
            <p:cNvSpPr/>
            <p:nvPr/>
          </p:nvSpPr>
          <p:spPr>
            <a:xfrm>
              <a:off x="2956320" y="5378760"/>
              <a:ext cx="305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пользование ИКТ в процессе взаимодействия ДОУ с родителя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6" name="AutoShape 16"/>
          <p:cNvSpPr/>
          <p:nvPr/>
        </p:nvSpPr>
        <p:spPr>
          <a:xfrm rot="16200000">
            <a:off x="3420360" y="2995920"/>
            <a:ext cx="2376360" cy="505080"/>
          </a:xfrm>
          <a:prstGeom prst="leftArrow">
            <a:avLst>
              <a:gd name="adj1" fmla="val 50000"/>
              <a:gd name="adj2" fmla="val 11762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 rot="13780800">
            <a:off x="6118920" y="1808280"/>
            <a:ext cx="1081080" cy="432000"/>
          </a:xfrm>
          <a:prstGeom prst="lef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9"/>
          <p:cNvSpPr/>
          <p:nvPr/>
        </p:nvSpPr>
        <p:spPr>
          <a:xfrm rot="18759000">
            <a:off x="2447280" y="1881360"/>
            <a:ext cx="1081080" cy="432000"/>
          </a:xfrm>
          <a:prstGeom prst="leftArrow">
            <a:avLst>
              <a:gd name="adj1" fmla="val 50000"/>
              <a:gd name="adj2" fmla="val 6256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539640" y="333360"/>
            <a:ext cx="820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ИК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е предусматривае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учение детей основам школьной информатики и вычислительной тех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94920" y="3284280"/>
            <a:ext cx="84978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то прежде всего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образование предметно-развивающей сре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новых средств для развития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новой нагляд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4920" y="191628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ать «видимыми» проблемы, которые предстоит реш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ть у ребенка процесс осмысления собственных навы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тарые методики» положенные на компьютерную основу, получают «второе дыхание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е технологии и методически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250560" y="1773360"/>
            <a:ext cx="8497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технологии обеспечивают занимательную для ребенка форму экспериментирования, классификации, сравнения, моделир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и менее утомляются, дольше сохраняют работоспособность, т.к. занятия им интерес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ядя на экран, ребенок сам видит результат свое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овые технологии и методические прие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ие информационно-коммуникационных технологий при организации воспитательно-образовательного процесса с деть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13"/>
          <p:cNvGrpSpPr/>
          <p:nvPr/>
        </p:nvGrpSpPr>
        <p:grpSpPr>
          <a:xfrm>
            <a:off x="6227280" y="3860640"/>
            <a:ext cx="2521080" cy="2232000"/>
            <a:chOff x="6227280" y="3860640"/>
            <a:chExt cx="2521080" cy="2232000"/>
          </a:xfrm>
        </p:grpSpPr>
        <p:sp>
          <p:nvSpPr>
            <p:cNvPr id="187" name="AutoShape 8"/>
            <p:cNvSpPr/>
            <p:nvPr/>
          </p:nvSpPr>
          <p:spPr>
            <a:xfrm rot="10800000">
              <a:off x="6227280" y="3860640"/>
              <a:ext cx="2521080" cy="2232000"/>
            </a:xfrm>
            <a:prstGeom prst="wedgeRectCallout">
              <a:avLst>
                <a:gd name="adj1" fmla="val 45273"/>
                <a:gd name="adj2" fmla="val 1239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6"/>
            <p:cNvSpPr/>
            <p:nvPr/>
          </p:nvSpPr>
          <p:spPr>
            <a:xfrm>
              <a:off x="6732720" y="4579920"/>
              <a:ext cx="1511280" cy="10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луб .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амостоятельная игровая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деятельность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9" name="Group 11"/>
          <p:cNvGrpSpPr/>
          <p:nvPr/>
        </p:nvGrpSpPr>
        <p:grpSpPr>
          <a:xfrm>
            <a:off x="250560" y="3860640"/>
            <a:ext cx="2305440" cy="2160720"/>
            <a:chOff x="250560" y="3860640"/>
            <a:chExt cx="2305440" cy="2160720"/>
          </a:xfrm>
        </p:grpSpPr>
        <p:sp>
          <p:nvSpPr>
            <p:cNvPr id="190" name="AutoShape 10"/>
            <p:cNvSpPr/>
            <p:nvPr/>
          </p:nvSpPr>
          <p:spPr>
            <a:xfrm rot="10800000">
              <a:off x="250560" y="3860640"/>
              <a:ext cx="2305080" cy="2160720"/>
            </a:xfrm>
            <a:prstGeom prst="wedgeRectCallout">
              <a:avLst>
                <a:gd name="adj1" fmla="val -57990"/>
                <a:gd name="adj2" fmla="val 132291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4"/>
            <p:cNvSpPr/>
            <p:nvPr/>
          </p:nvSpPr>
          <p:spPr>
            <a:xfrm>
              <a:off x="250920" y="3933720"/>
              <a:ext cx="2305080" cy="144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Специально организованные занят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2" name="Group 12"/>
          <p:cNvGrpSpPr/>
          <p:nvPr/>
        </p:nvGrpSpPr>
        <p:grpSpPr>
          <a:xfrm>
            <a:off x="2843280" y="3860640"/>
            <a:ext cx="3024000" cy="2160720"/>
            <a:chOff x="2843280" y="3860640"/>
            <a:chExt cx="3024000" cy="2160720"/>
          </a:xfrm>
        </p:grpSpPr>
        <p:sp>
          <p:nvSpPr>
            <p:cNvPr id="193" name="AutoShape 9"/>
            <p:cNvSpPr/>
            <p:nvPr/>
          </p:nvSpPr>
          <p:spPr>
            <a:xfrm>
              <a:off x="2843280" y="3860640"/>
              <a:ext cx="3024000" cy="2160720"/>
            </a:xfrm>
            <a:prstGeom prst="wedgeRectCallout">
              <a:avLst>
                <a:gd name="adj1" fmla="val 8476"/>
                <a:gd name="adj2" fmla="val -131999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5"/>
            <p:cNvSpPr/>
            <p:nvPr/>
          </p:nvSpPr>
          <p:spPr>
            <a:xfrm>
              <a:off x="2843280" y="3933720"/>
              <a:ext cx="295272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Не регламентированная деятельность воспитателя с детьм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AutoShape 2"/>
          <p:cNvSpPr/>
          <p:nvPr/>
        </p:nvSpPr>
        <p:spPr>
          <a:xfrm>
            <a:off x="1187280" y="404640"/>
            <a:ext cx="6553440" cy="6193080"/>
          </a:xfrm>
          <a:custGeom>
            <a:avLst/>
            <a:gdLst>
              <a:gd name="textAreaLeft" fmla="*/ 959400 w 6553440"/>
              <a:gd name="textAreaRight" fmla="*/ 5594040 w 6553440"/>
              <a:gd name="textAreaTop" fmla="*/ 906840 h 6193080"/>
              <a:gd name="textAreaBottom" fmla="*/ 5286240 h 619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cc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2050920" y="836640"/>
            <a:ext cx="547236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тегорически запрещается использование ИКТ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строенных на АЗАРТНЫХ, АГРЕССИВНЫХ, МОНОТОННЫХ действиях и персонажа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ование ИКТ в работе с детьми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3T15:08:14Z</dcterms:created>
  <dc:creator>1</dc:creator>
  <dc:description/>
  <dc:language>en-US</dc:language>
  <cp:lastModifiedBy>one</cp:lastModifiedBy>
  <dcterms:modified xsi:type="dcterms:W3CDTF">2017-10-10T11:19:57Z</dcterms:modified>
  <cp:revision>58</cp:revision>
  <dc:subject/>
  <dc:title>Слайд 1</dc:title>
</cp:coreProperties>
</file>