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8FCE-B68F-40D9-947D-F7AEEBE9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5295-EB28-4488-9A10-FFA1A85F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BA67-CB84-48CD-8CEA-2F070A117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A3F-4BCA-41EB-B7B3-569C106E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B28E-4F69-456E-A8CC-60456E27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60FB-7F1A-4647-A58B-4DC2382F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40EC-E12D-4E12-BECF-2A41B171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C3E5-FA78-4A51-958C-782D129D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DCF1-B565-492D-816E-9A0050C2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7F09-7C83-4B20-B344-F4269789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6A69-0E2C-4FBC-B759-EC139D7C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46B0-3AE9-46AD-8F54-C875E9BD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E9EB-9735-4ADF-92EC-7ABAD03F64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394920"/>
            <a:ext cx="7777080" cy="18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Segoe Print"/>
                <a:ea typeface="Consolas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Segoe Print"/>
                <a:ea typeface="Consolas"/>
              </a:rPr>
              <a:t>Детско-родительский  клуб </a:t>
            </a: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Segoe Print"/>
                <a:ea typeface="Consolas"/>
              </a:rPr>
              <a:t>«Взрослые и дети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1600" spc="-1" strike="noStrike">
                <a:solidFill>
                  <a:srgbClr val="ff0066"/>
                </a:solidFill>
                <a:latin typeface="Segoe Print"/>
                <a:ea typeface="Consolas"/>
              </a:rPr>
              <a:t>руководитель клуба учитель-логопед Емельянова Е.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4895640" cy="3354120"/>
          </a:xfrm>
          <a:prstGeom prst="rect">
            <a:avLst/>
          </a:prstGeom>
          <a:ln w="57240">
            <a:solidFill>
              <a:srgbClr val="cc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784548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600" spc="-1" strike="noStrike">
                <a:solidFill>
                  <a:srgbClr val="3333cc"/>
                </a:solidFill>
                <a:latin typeface="Segoe Print"/>
                <a:ea typeface="바탕"/>
              </a:rPr>
              <a:t>Цель работы детско-родительского клуба: </a:t>
            </a:r>
            <a:br>
              <a:rPr sz="1600"/>
            </a:br>
            <a:r>
              <a:rPr b="0" lang="ru-RU" sz="1600" spc="-1" strike="noStrike">
                <a:solidFill>
                  <a:srgbClr val="3333cc"/>
                </a:solidFill>
                <a:latin typeface="Segoe Print"/>
                <a:ea typeface="바탕"/>
              </a:rPr>
              <a:t>формирование педагогической компетентности и оказание практической помощи семьям, имеющим детей дошкольного возраста посредством создания психологически комфортных условий для эмоционального общения родителей, детей и педагогов.</a:t>
            </a:r>
            <a:br>
              <a:rPr sz="1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920" y="2997360"/>
            <a:ext cx="7777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Segoe Print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cc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Segoe Print"/>
                <a:ea typeface="Calibri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Segoe Print"/>
                <a:ea typeface="Calibri"/>
              </a:rPr>
              <a:t>обеспечить эффективное взаимодействие между педагогами  ДОУ и родителями дете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cc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Segoe Print"/>
                <a:ea typeface="Calibri"/>
              </a:rPr>
              <a:t>оказывать всестороннюю педагогическую помощь родителям  в целях обеспечения всестороннего гармоничного развития ребен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3333cc"/>
              </a:buClr>
              <a:buFont typeface="Segoe Prin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Segoe Print"/>
                <a:ea typeface="Calibri"/>
              </a:rPr>
              <a:t>просвещать родителей с учетом индивидуальных особенностей, возможностей и потребностей семь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cc"/>
                </a:solidFill>
                <a:latin typeface="Segoe Print"/>
              </a:rPr>
              <a:t>План работы детско-родительского клуба «Взрослые и дети»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Объект 3" descr=""/>
          <p:cNvPicPr/>
          <p:nvPr/>
        </p:nvPicPr>
        <p:blipFill>
          <a:blip r:embed="rId1"/>
          <a:stretch/>
        </p:blipFill>
        <p:spPr>
          <a:xfrm>
            <a:off x="1182600" y="706320"/>
            <a:ext cx="699156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4" descr="G:\ЛЕНАЕМ (G)розовая\2015-16 уч.г\клуб взросл и дети 15-16 г\занятие 4\на сайт\занятие 4\фото\Изображение 656.jpg"/>
          <p:cNvPicPr/>
          <p:nvPr/>
        </p:nvPicPr>
        <p:blipFill>
          <a:blip r:embed="rId1"/>
          <a:stretch/>
        </p:blipFill>
        <p:spPr>
          <a:xfrm>
            <a:off x="5796000" y="836640"/>
            <a:ext cx="2701800" cy="2016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G:\ЛЕНАЕМ (G)розовая\2015-16 уч.г\клуб взросл и дети 15-16 г\занятие 4\на сайт\занятие 4\фото\Изображение 651.jpg"/>
          <p:cNvPicPr/>
          <p:nvPr/>
        </p:nvPicPr>
        <p:blipFill>
          <a:blip r:embed="rId2"/>
          <a:stretch/>
        </p:blipFill>
        <p:spPr>
          <a:xfrm>
            <a:off x="1341360" y="836640"/>
            <a:ext cx="2816280" cy="208764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C:\Documents and Settings\Admin\Рабочий стол\род.клуб апрель2017\20170406_175557.jpg"/>
          <p:cNvPicPr/>
          <p:nvPr/>
        </p:nvPicPr>
        <p:blipFill>
          <a:blip r:embed="rId3"/>
          <a:stretch/>
        </p:blipFill>
        <p:spPr>
          <a:xfrm>
            <a:off x="1341360" y="3997440"/>
            <a:ext cx="2809800" cy="216828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3" descr="G:\ЛЕНАЕМ (G)розовая\2015-16 уч.г\клуб взросл и дети 15-16 г\занятие 7\фото\WP_20160519_17_46_28_Pro.jpg"/>
          <p:cNvPicPr/>
          <p:nvPr/>
        </p:nvPicPr>
        <p:blipFill>
          <a:blip r:embed="rId4"/>
          <a:stretch/>
        </p:blipFill>
        <p:spPr>
          <a:xfrm>
            <a:off x="5796000" y="4011480"/>
            <a:ext cx="27367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3" descr="G:\ЛЕНАЕМ (G)розовая\архив 2014-2015\ЛЕНОЧКА\2014-15 УЧ ГОД\2014-2015 текущее\клуб взросл и дети\клуб\Изображение 2180.jpg"/>
          <p:cNvPicPr/>
          <p:nvPr/>
        </p:nvPicPr>
        <p:blipFill>
          <a:blip r:embed="rId1"/>
          <a:stretch/>
        </p:blipFill>
        <p:spPr>
          <a:xfrm>
            <a:off x="1162080" y="4005360"/>
            <a:ext cx="2905200" cy="2016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G:\ЛЕНАЕМ (G)розовая\архив 2014-2015\ЛЕНОЧКА\2014-15 УЧ ГОД\2014-2015 текущее\клуб взросл и дети\клуб\Изображение 2188.jpg"/>
          <p:cNvPicPr/>
          <p:nvPr/>
        </p:nvPicPr>
        <p:blipFill>
          <a:blip r:embed="rId2"/>
          <a:stretch/>
        </p:blipFill>
        <p:spPr>
          <a:xfrm>
            <a:off x="1177920" y="324000"/>
            <a:ext cx="2889360" cy="2168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G:\ЛЕНАЕМ (G)розовая\архив 2014-2015\ЛЕНОЧКА\2014-15 УЧ ГОД\2014-2015 текущее\клуб взросл и дети\клуб\Изображение 2196.jpg"/>
          <p:cNvPicPr/>
          <p:nvPr/>
        </p:nvPicPr>
        <p:blipFill>
          <a:blip r:embed="rId3"/>
          <a:stretch/>
        </p:blipFill>
        <p:spPr>
          <a:xfrm>
            <a:off x="5796000" y="324000"/>
            <a:ext cx="3022560" cy="2184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G:\ЛЕНАЕМ (G)розовая\2015-16 уч.г\клуб взросл и дети 15-16 г\занятие 3\клуб 3 на сайт фото\WP_20151210_17_37_10_Pro.jpg"/>
          <p:cNvPicPr/>
          <p:nvPr/>
        </p:nvPicPr>
        <p:blipFill>
          <a:blip r:embed="rId4"/>
          <a:stretch/>
        </p:blipFill>
        <p:spPr>
          <a:xfrm>
            <a:off x="5580000" y="4005360"/>
            <a:ext cx="288468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Documents and Settings\Admin\Рабочий стол\по клубу\клуб 2\WP_20161110_17_53_26_Pro.jpg"/>
          <p:cNvPicPr/>
          <p:nvPr/>
        </p:nvPicPr>
        <p:blipFill>
          <a:blip r:embed="rId1"/>
          <a:stretch/>
        </p:blipFill>
        <p:spPr>
          <a:xfrm>
            <a:off x="5508720" y="433440"/>
            <a:ext cx="2720880" cy="19065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5" descr="G:\ЛЕНАЕМ (G)розовая\2015-16 уч.г\клуб взросл и дети 15-16 г\занятие 2\фото\WP_20151126_17_50_03_Pro.jpg"/>
          <p:cNvPicPr/>
          <p:nvPr/>
        </p:nvPicPr>
        <p:blipFill>
          <a:blip r:embed="rId2"/>
          <a:stretch/>
        </p:blipFill>
        <p:spPr>
          <a:xfrm>
            <a:off x="1042920" y="404640"/>
            <a:ext cx="266220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G:\ЛЕНАЕМ (G)розовая\2015-16 уч.г\клуб взросл и дети 15-16 г\АЛЕНЕ НА САЙТ КЛУБ ВЗРОСЛЫЕ И ДЕТИ\занятие 6\фото 2016\20160428_173701.jpg"/>
          <p:cNvPicPr/>
          <p:nvPr/>
        </p:nvPicPr>
        <p:blipFill>
          <a:blip r:embed="rId3"/>
          <a:stretch/>
        </p:blipFill>
        <p:spPr>
          <a:xfrm>
            <a:off x="976320" y="3716280"/>
            <a:ext cx="2797200" cy="194472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3" descr="G:\ЛЕНАЕМ (G)розовая\2015-16 уч.г\клуб взросл и дети 15-16 г\занятие 5\Занятие №5\на сайт\Изображение 230.jpg"/>
          <p:cNvPicPr/>
          <p:nvPr/>
        </p:nvPicPr>
        <p:blipFill>
          <a:blip r:embed="rId4"/>
          <a:stretch/>
        </p:blipFill>
        <p:spPr>
          <a:xfrm>
            <a:off x="5580000" y="3716280"/>
            <a:ext cx="2664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5" descr="C:\Documents and Settings\Admin\Рабочий стол\по клубу\клуб 2\WP_20161110_18_01_56_Pro.jpg"/>
          <p:cNvPicPr/>
          <p:nvPr/>
        </p:nvPicPr>
        <p:blipFill>
          <a:blip r:embed="rId1"/>
          <a:stretch/>
        </p:blipFill>
        <p:spPr>
          <a:xfrm>
            <a:off x="1476360" y="692280"/>
            <a:ext cx="6264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RePack by Diakov</cp:lastModifiedBy>
  <dcterms:modified xsi:type="dcterms:W3CDTF">2017-10-15T13:34:40Z</dcterms:modified>
  <cp:revision>40</cp:revision>
  <dc:subject/>
  <dc:title>Слайд 1</dc:title>
</cp:coreProperties>
</file>