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81F-A8AF-4384-AFE6-AAA9CA5F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2421-9EEE-4F92-B272-A6FD092E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20FE-83BE-43DB-B9C0-E9802118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427-6816-4F0A-912A-1475FAFA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7C90-6851-45F0-AD69-FD30C6EE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94A-42BC-47EA-B403-F41C52CB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ACC-3F68-41C7-B679-968980DE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37D-23B1-44AB-B40D-5ED426C5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F05-FEDF-4DE9-A44D-0EAF5C5C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625-8A56-4E5B-BDC6-6C289C8B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DC9D-FFAD-4693-AE9F-FDE900A1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3AC-7EC4-4CB1-8446-C6E1AAD0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59CE-4360-4549-9EE3-8AC41C49CB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394920"/>
            <a:ext cx="7777080" cy="18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Segoe Print"/>
                <a:ea typeface="Consolas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Segoe Print"/>
                <a:ea typeface="Consolas"/>
              </a:rPr>
              <a:t>Детско-родительский  клуб </a:t>
            </a: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Segoe Print"/>
                <a:ea typeface="Consolas"/>
              </a:rPr>
              <a:t>«Взрослые и дети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1600" spc="-1" strike="noStrike">
                <a:solidFill>
                  <a:srgbClr val="ff0066"/>
                </a:solidFill>
                <a:latin typeface="Segoe Print"/>
                <a:ea typeface="Consolas"/>
              </a:rPr>
              <a:t>руководитель клуба учитель-логопед Емельянова Е.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4895640" cy="3354120"/>
          </a:xfrm>
          <a:prstGeom prst="rect">
            <a:avLst/>
          </a:prstGeom>
          <a:ln w="5724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78454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600" spc="-1" strike="noStrike">
                <a:solidFill>
                  <a:srgbClr val="3333cc"/>
                </a:solidFill>
                <a:latin typeface="Segoe Print"/>
                <a:ea typeface="바탕"/>
              </a:rPr>
              <a:t>Цель работы детско-родительского клуба: </a:t>
            </a:r>
            <a:br>
              <a:rPr sz="1600"/>
            </a:br>
            <a:r>
              <a:rPr b="0" lang="ru-RU" sz="1600" spc="-1" strike="noStrike">
                <a:solidFill>
                  <a:srgbClr val="3333cc"/>
                </a:solidFill>
                <a:latin typeface="Segoe Print"/>
                <a:ea typeface="바탕"/>
              </a:rPr>
              <a:t>формирование педагогической компетентности и оказание практической помощи семьям, имеющим детей дошкольного возраста посредством создания психологически комфортных условий для эмоционального общения родителей, детей и педагогов.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920" y="2997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Segoe Print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cc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Segoe Print"/>
                <a:ea typeface="Calibri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Segoe Print"/>
                <a:ea typeface="Calibri"/>
              </a:rPr>
              <a:t>обеспечить эффективное взаимодействие между педагогами  ДОУ и родителями дет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cc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Segoe Print"/>
                <a:ea typeface="Calibri"/>
              </a:rPr>
              <a:t>оказывать всестороннюю педагогическую помощь родителям  в целях обеспечения всестороннего гармоничного развития ребен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cc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Segoe Print"/>
                <a:ea typeface="Calibri"/>
              </a:rPr>
              <a:t>просвещать родителей с учетом индивидуальных особенностей, возможностей и потребностей семь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Segoe Print"/>
              </a:rPr>
              <a:t>План работы детско-родительского клуба «Взрослые и дети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1182600" y="706320"/>
            <a:ext cx="699156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4" descr="G:\ЛЕНАЕМ (G)розовая\2015-16 уч.г\клуб взросл и дети 15-16 г\занятие 4\на сайт\занятие 4\фото\Изображение 656.jpg"/>
          <p:cNvPicPr/>
          <p:nvPr/>
        </p:nvPicPr>
        <p:blipFill>
          <a:blip r:embed="rId1"/>
          <a:stretch/>
        </p:blipFill>
        <p:spPr>
          <a:xfrm>
            <a:off x="5796000" y="836640"/>
            <a:ext cx="2701800" cy="2016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G:\ЛЕНАЕМ (G)розовая\2015-16 уч.г\клуб взросл и дети 15-16 г\занятие 4\на сайт\занятие 4\фото\Изображение 651.jpg"/>
          <p:cNvPicPr/>
          <p:nvPr/>
        </p:nvPicPr>
        <p:blipFill>
          <a:blip r:embed="rId2"/>
          <a:stretch/>
        </p:blipFill>
        <p:spPr>
          <a:xfrm>
            <a:off x="1341360" y="836640"/>
            <a:ext cx="281628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C:\Documents and Settings\Admin\Рабочий стол\род.клуб апрель2017\20170406_175557.jpg"/>
          <p:cNvPicPr/>
          <p:nvPr/>
        </p:nvPicPr>
        <p:blipFill>
          <a:blip r:embed="rId3"/>
          <a:stretch/>
        </p:blipFill>
        <p:spPr>
          <a:xfrm>
            <a:off x="1341360" y="3997440"/>
            <a:ext cx="2809800" cy="216828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3" descr="G:\ЛЕНАЕМ (G)розовая\2015-16 уч.г\клуб взросл и дети 15-16 г\занятие 7\фото\WP_20160519_17_46_28_Pro.jpg"/>
          <p:cNvPicPr/>
          <p:nvPr/>
        </p:nvPicPr>
        <p:blipFill>
          <a:blip r:embed="rId4"/>
          <a:stretch/>
        </p:blipFill>
        <p:spPr>
          <a:xfrm>
            <a:off x="5796000" y="4011480"/>
            <a:ext cx="27367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G:\ЛЕНАЕМ (G)розовая\архив 2014-2015\ЛЕНОЧКА\2014-15 УЧ ГОД\2014-2015 текущее\клуб взросл и дети\клуб\Изображение 2180.jpg"/>
          <p:cNvPicPr/>
          <p:nvPr/>
        </p:nvPicPr>
        <p:blipFill>
          <a:blip r:embed="rId1"/>
          <a:stretch/>
        </p:blipFill>
        <p:spPr>
          <a:xfrm>
            <a:off x="1162080" y="4005360"/>
            <a:ext cx="2905200" cy="2016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G:\ЛЕНАЕМ (G)розовая\архив 2014-2015\ЛЕНОЧКА\2014-15 УЧ ГОД\2014-2015 текущее\клуб взросл и дети\клуб\Изображение 2188.jpg"/>
          <p:cNvPicPr/>
          <p:nvPr/>
        </p:nvPicPr>
        <p:blipFill>
          <a:blip r:embed="rId2"/>
          <a:stretch/>
        </p:blipFill>
        <p:spPr>
          <a:xfrm>
            <a:off x="1177920" y="324000"/>
            <a:ext cx="2889360" cy="2168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G:\ЛЕНАЕМ (G)розовая\архив 2014-2015\ЛЕНОЧКА\2014-15 УЧ ГОД\2014-2015 текущее\клуб взросл и дети\клуб\Изображение 2196.jpg"/>
          <p:cNvPicPr/>
          <p:nvPr/>
        </p:nvPicPr>
        <p:blipFill>
          <a:blip r:embed="rId3"/>
          <a:stretch/>
        </p:blipFill>
        <p:spPr>
          <a:xfrm>
            <a:off x="5796000" y="324000"/>
            <a:ext cx="3022560" cy="2184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G:\ЛЕНАЕМ (G)розовая\2015-16 уч.г\клуб взросл и дети 15-16 г\занятие 3\клуб 3 на сайт фото\WP_20151210_17_37_10_Pro.jpg"/>
          <p:cNvPicPr/>
          <p:nvPr/>
        </p:nvPicPr>
        <p:blipFill>
          <a:blip r:embed="rId4"/>
          <a:stretch/>
        </p:blipFill>
        <p:spPr>
          <a:xfrm>
            <a:off x="5580000" y="4005360"/>
            <a:ext cx="28846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\Рабочий стол\по клубу\клуб 2\WP_20161110_17_53_26_Pro.jpg"/>
          <p:cNvPicPr/>
          <p:nvPr/>
        </p:nvPicPr>
        <p:blipFill>
          <a:blip r:embed="rId1"/>
          <a:stretch/>
        </p:blipFill>
        <p:spPr>
          <a:xfrm>
            <a:off x="5508720" y="433440"/>
            <a:ext cx="2720880" cy="19065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G:\ЛЕНАЕМ (G)розовая\2015-16 уч.г\клуб взросл и дети 15-16 г\занятие 2\фото\WP_20151126_17_50_03_Pro.jpg"/>
          <p:cNvPicPr/>
          <p:nvPr/>
        </p:nvPicPr>
        <p:blipFill>
          <a:blip r:embed="rId2"/>
          <a:stretch/>
        </p:blipFill>
        <p:spPr>
          <a:xfrm>
            <a:off x="1042920" y="404640"/>
            <a:ext cx="266220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G:\ЛЕНАЕМ (G)розовая\2015-16 уч.г\клуб взросл и дети 15-16 г\АЛЕНЕ НА САЙТ КЛУБ ВЗРОСЛЫЕ И ДЕТИ\занятие 6\фото 2016\20160428_173701.jpg"/>
          <p:cNvPicPr/>
          <p:nvPr/>
        </p:nvPicPr>
        <p:blipFill>
          <a:blip r:embed="rId3"/>
          <a:stretch/>
        </p:blipFill>
        <p:spPr>
          <a:xfrm>
            <a:off x="976320" y="3716280"/>
            <a:ext cx="2797200" cy="194472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3" descr="G:\ЛЕНАЕМ (G)розовая\2015-16 уч.г\клуб взросл и дети 15-16 г\занятие 5\Занятие №5\на сайт\Изображение 230.jpg"/>
          <p:cNvPicPr/>
          <p:nvPr/>
        </p:nvPicPr>
        <p:blipFill>
          <a:blip r:embed="rId4"/>
          <a:stretch/>
        </p:blipFill>
        <p:spPr>
          <a:xfrm>
            <a:off x="5580000" y="3716280"/>
            <a:ext cx="2664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5" descr="C:\Documents and Settings\Admin\Рабочий стол\по клубу\клуб 2\WP_20161110_18_01_56_Pro.jpg"/>
          <p:cNvPicPr/>
          <p:nvPr/>
        </p:nvPicPr>
        <p:blipFill>
          <a:blip r:embed="rId1"/>
          <a:stretch/>
        </p:blipFill>
        <p:spPr>
          <a:xfrm>
            <a:off x="1476360" y="692280"/>
            <a:ext cx="6264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RePack by Diakov</cp:lastModifiedBy>
  <dcterms:modified xsi:type="dcterms:W3CDTF">2017-10-15T13:34:40Z</dcterms:modified>
  <cp:revision>40</cp:revision>
  <dc:subject/>
  <dc:title>Слайд 1</dc:title>
</cp:coreProperties>
</file>